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38D-7FD6-4352-89B0-75CDD0CD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6DB-28DA-491C-9379-231A4595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EC8-8E0C-42BF-AC94-67FA4DB7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9AE-6608-4C77-94ED-90A03BB8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4FEA-364F-44B7-874B-FA104872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6CE5-A076-46F2-A93F-557D51F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15E6-12B2-4BCD-B10F-1C5636E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350-9296-4788-9938-38A50960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5DC-AAD2-4A51-B9BF-59FAA7A7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AE87-2FB8-4F42-A941-D93F0598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33D7-F456-4B22-9086-B260628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5DD-FD24-4D7F-9922-E548CBBC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DF99-498B-45B0-80CE-6C93053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80C-FA03-49B8-91DA-6A54D13A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537A-3C7A-4332-9C6C-396FD98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9C0C-356F-4F0D-8604-06250B89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17A1-1FA3-41AE-A9F3-4ED0CA42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1BF-17F1-47F8-A16E-8664B4A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215-76F2-44CF-87DE-E319B18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038-06A6-4865-A925-8A7E9D2B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21F-F4F7-4D96-8B38-F9ACCC8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B0B-4153-47D0-BF85-FAD281A2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B47-3380-4371-97F4-C1601A1A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D64-9C19-475C-8C5E-3E0B7B9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AA0-5336-434D-ADFD-3B3FEB212F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7FF0-A3E9-4539-BC16-A4A89C6D264F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Bouke Cuperus</cp:lastModifiedBy>
  <dcterms:modified xsi:type="dcterms:W3CDTF">2016-12-16T13:25:15Z</dcterms:modified>
  <cp:revision>3</cp:revision>
  <dc:subject/>
  <dc:title>Hondenbeet en Tetanus</dc:title>
</cp:coreProperties>
</file>