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2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295B-0692-41D7-AD4A-C1E4A5367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E7A1-9C38-46C4-86F2-C843351D3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85E189-355C-4838-AE7B-F54BC12BA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CD3951-B1E7-498A-8590-85C75EE5A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7F4228-01D5-4A25-8612-F8B97E82D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887BDE-941B-4A62-A860-467AD1E9E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A53426-D201-4680-B52E-852B97DC7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908519-2CEA-4BD8-9265-E7347BA6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6B4BF6-B653-42CC-91DC-1EFE8B137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36003B-F94B-4EBD-B635-0D1D4C5A8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C3E165-4643-4DFB-8577-CD0ECFED5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6BB10B-1637-4FF7-9BDA-D72EC8AE8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6A33-1944-40B8-9288-7FE796E39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E50DCC-20D7-4B0C-AD96-3042A92EA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470F21-0ECE-4CBD-9E53-416C60912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02A11D-57BA-41AB-BF9D-AA301D3AB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4217D8-BC9F-401C-82EB-AD99CEB23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1C9C49-896A-4B6C-B7E6-121AD2117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422C21-28D7-48B9-A90B-9FD0465B9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6773FB-D2F8-476F-8183-61E2E827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8E0F33-7A77-4457-AE17-89FB489D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DA4D55-E204-4730-8D3F-FC0892F50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D0FFE4-A6CF-4334-84B8-9BFA5BA41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5E45-23C6-451B-963A-4D06C22E8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8131DD-A877-4397-BC5F-33781C4EA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AC2B9F-B365-440D-AF41-F11AFE4F6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979011-2AC8-4573-91CA-8BB073B70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81B129-4FD8-4AA3-880A-A6AF21746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C333C4-C240-47A0-BE1C-B32796C18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837DB0-7E6F-47A3-A4E7-28B240905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4321A0-5F9E-415B-8900-BEBCEA1B7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44D7B2-E5CC-49E0-8D1E-A3FAE14F1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1CEA38-28FD-48EB-8A98-6B9AF4B20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522895-35A2-4F69-A7B7-34D72D80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732AD-5C8E-4751-A3B7-1F10B7460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344E78-441D-44AC-A7BB-5EDE9D34F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28C7FA-B0C4-4E3F-8BC5-40CAED791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589541-981A-4375-8BF7-5C6D5D58A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D2FC11-232D-4EEE-A800-D0824EC19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21E568-F1C4-4443-B4C6-29BD773B2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20BF34-EE04-43FB-8C2A-9B1190E3E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C21B03-5F9E-4468-805C-F5327E1CA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557816-7627-4310-BE7C-A7CF762F0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3E0D40-8FE1-4DDE-8BD8-34D8F6100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275997-8C9C-4DCA-85C6-EB61E1B1B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DBD5F-77E7-4B54-95B0-B65428EAE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35D43E-0ECC-4F23-A3E4-258D534A3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304AB8-4782-4705-9A00-2E88CCCB2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3F9CB8-3BF2-46DC-ABA4-D0E7D967D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65B1E0-F52F-42EC-8EE4-5A086A3E4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EFA256-9C2D-419E-BF0C-74FF9F316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1880C-B61F-4073-BD2D-8E2FEBB79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A0D39-04A5-4A96-946B-02B6BEF43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94611-E11E-474B-8D48-B02C23BEC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9C8A8-3F7B-4CA3-A6C3-22D5427AB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C9EE0-54D9-46CC-9351-8BAB4393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2AD7-A7D6-47BE-B3FF-FDC1193C0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A283C-133A-40E4-91A2-2DBDE77C2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7845D-4585-455B-BB81-F69B9693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A5805-FFA5-4B89-9FCC-BF11840E1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FE8BE-3DE3-4C96-A60B-E9445C93D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9454B-167B-4935-B184-9DC3088C3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CB19A-A897-4EEC-8880-00E3E4F80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2B811-B576-45FC-826D-B8B0D4E52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1ACCB-E4A8-4A68-85C9-6A3CAE7CF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72932-BE03-42BF-A639-BB658582B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7CBEB-0A5C-4DB3-B02F-3C2CB0266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E2D6-B2C3-43F3-A6E6-355AB6679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4D049-2412-4879-B72D-E690601C9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EA5CC-C39C-4C93-AC87-EFCC3A65D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C1533-D854-4D44-8672-3647B3A7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FFB1C-F458-491C-9501-3A7605F26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8B3CF-8AD4-4F89-BED9-9D445FC67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02AA6-44B5-4A2F-A866-84542445D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51BF6-8136-49AA-96D6-559D2844B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495C2-429B-4199-963C-67D874180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4C8DE-386C-4A0D-9124-64F61416C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79A50-0F74-4923-AEB9-2D9BE1FB2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09F4-3ED0-4254-80F4-D1C3DFBD9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80A51-EBDE-4773-AFCD-FA59705A2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4941D-B3F5-44E0-A4A3-C154FE159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B55C5-5AA4-40CA-AB5E-D1A272FE8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17518-E953-49E2-8100-1E0A94EB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71E42-5F8E-41BC-9970-B9B36AEF0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8ED513-AA21-461B-8267-5DFEA520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03B5C-D01D-46A9-86C1-6C451F098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2D6D6-C1FA-46F8-B066-2A9992801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C306C-6C9D-498B-BD67-426A9EEE2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C3AA6-9BF0-4E72-9043-6335922A4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58EC-E8FC-4B9B-81C5-083BDC9E6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818931-6B71-4E8A-ADDE-EE2873899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6EE9D4-E088-4AD2-9C6B-4C008A416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12CCB-4B43-411D-A4D3-39776E381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255915-60F5-4A0E-91B5-F5F5109EC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71942-B568-43A3-9207-3A19FB4FE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EE5981-0DF4-4E04-8295-55B6C789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6BE0A-7ACF-45CF-B936-F320677B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4ABE4-CCA6-4552-8849-73926E61F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3878F0-3D22-4D51-BD2F-F2CAB0D08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7ADCEA-1C4A-4997-B1C5-3D4A6C60A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8E74-A942-417B-BDBE-D946471C1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EDA1C2-9E18-4395-B4A5-E610A12D4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EE78C-44A1-4E6D-AFC9-9A745538C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C72012-9719-4457-A4EF-6A69EE57D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CFD50A-B3CA-47FA-BAC6-FF6BB9A65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D5B696-BB35-49F4-80E6-4381438F4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E775E7-F59B-46E2-A4C6-C6B612332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4F6F41-BC40-4CA2-80B6-DC994935C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46A21C-0B79-4F65-84BE-89EA0065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27315A-58EE-415A-AB9E-05BBA2E29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733194-BFF9-47F9-A356-B196612E4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E17F-147D-4190-B9BE-DFEC95F95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8EAE19-E1D2-440B-87B8-77E746D00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63AD5C-A8E2-4518-AA4E-D74D1B264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BCDB1A-F0D9-4F76-AE40-938E9B57D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C635A5-1B97-43E1-975D-CFD33F2DD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89BAE9-CDC0-4A46-970E-33F83AFD0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77C162-EAA4-4E77-870B-C485E5F9C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3FAE6D-92D3-4784-96E9-43762445F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7E6B24-8040-43F0-B026-7F6CD403E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DA2D6A-911F-447D-89DD-942CEDE7D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AE5A3D-BC28-4A10-B6B0-2D614156B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41AB-6AD1-4375-977C-5F929B32B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F66315-C36C-41BB-A01F-288BF03F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565C9D-440D-4A80-AE27-9FD28D431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FF8307-E1DC-4D37-AAD0-0BB902C1B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00E426-3A01-4691-86E3-52D0C78BC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0D41B6-5FEB-4B5E-A1B9-A6DC6C1A8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98F572-A362-4A77-8523-96CAB654E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9F79E8-C102-4F55-9CD8-AAA12C5BC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15F707-1C2E-4112-A70F-A5D779EB6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E25599-575B-43DE-86A7-44B010161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55B888-0369-4F7A-B8AE-D47AD3F0D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9821-BC23-4D37-B12E-7F99047C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1B47D5-6D2F-4842-88AC-B287AACBB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7B4BC1-5B96-4473-B51A-E54DEE34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292209-D1C1-49D1-BE4D-A07E2423F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422F81-C4BD-4F31-A518-34ED76537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A13DE4-A39F-4E5B-8378-5978D7179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AADC5B-3841-48E5-947C-374A6AE58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33746E-5949-4A4B-856B-E31EE389C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16FC71-B46F-4793-9CCA-F0FFA2A6F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8601C2-054B-4D2D-8F4F-0684FF447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CA76FE-EF1A-4612-86BC-1366055A3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645A7-8641-41BC-B051-BEB723422607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hte verbindingslijn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hthoe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hthoek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hthoek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hthoek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hthoek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hthoek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hthoek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hthoek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4E319-5CC9-4E6A-A12B-52673400867F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95EF3-1FB4-48B6-8204-024A23FC8592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hthoe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hthoek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hthoek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hthoe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hthoek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hthoek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hte verbindingslijn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al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al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6EE2C-ED92-4E29-BAA4-78B82AB1E632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hthoe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hthoek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hthoek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hthoek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hthoek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hte verbindingslijn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hthoek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al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al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8A4DB-96DA-4856-9CCB-524F44C5DF56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950E8-8FAC-4824-B017-0C6541BF096D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hthoek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hthoe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hthoek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hthoek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hthoek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hthoek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hthoek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hthoek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hte verbindingslijn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al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al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9A2E3-146F-4871-94DF-64B5B6B2E8F2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hte verbindingslijn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17E1C-B6A3-42EB-B6B9-4315C8E5FEDC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hte verbindingslijn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hthoek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hthoek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hthoe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hthoek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hthoek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hthoek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hte verbindingslijn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hthoek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al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al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27F17-FFDB-4704-862C-A0A94BBAB43F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72673-210D-41D9-8F13-BCDB1FB2DF86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hthoe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hthoek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hthoek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hthoe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hthoek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hthoek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65A56-AC77-4BA0-9A9D-D05847E45E41}" type="slidenum">
              <a:rPr b="0" lang="nl-NL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hthoek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hthoe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hthoek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hthoek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hthoek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hthoek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hthoek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hte verbindingslijn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hthoek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1CFE8-50AC-4A14-BB0C-B213AA853692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st.nl/longgeneeskunde/onze_longen/astma/behandeling.doc/behandeling-1.png&amp;imgrefurl=http://www.mst.nl/longgeneeskunde/onze_longen/astma/behandeling.doc/&amp;usg=__0lTgJe4hQXkiuX3Vznhxq2EfsRY=&amp;h=190&amp;w=190&amp;sz=35&amp;hl=nl&amp;start=4&amp;um=1&amp;tbnid=lU22MlOlSrc7bM:&amp;tbnh=103&amp;tbnw=103&amp;prev=/images%3Fq%3Dpiekstroommeter%26hl%3Dnl%26rls%3Dcom.microsoft:nl:IE-SearchBox%26rlz%3D1I7SUNA%26sa%3DN%26um%3D1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physiciansofficeresource.com/images-account/product-images/5065-microlab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lmng.nl/images/bronchoscoop1.jpg&amp;imgrefurl=http://www.lmng.nl/bronchoscopie.php&amp;usg=__ynb-8_1dRkRqriyU36HVliflxNY=&amp;h=263&amp;w=350&amp;sz=5&amp;hl=nl&amp;start=1&amp;um=1&amp;tbnid=Z4j4DZBzgn2MiM:&amp;tbnh=90&amp;tbnw=120&amp;prev=/images%3Fq%3Dbronchoscoop%26hl%3Dnl%26rls%3Dcom.microsoft:nl:IE-SearchBox%26rlz%3D1I7SUNA%26sa%3DN%26um%3D1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s.google.com/imgres?imgurl=http://www.dapzoe.nl/images/user/endoscopy2.jpg&amp;imgrefurl=http://www.dapzoe.nl/index.php%3Fgo%3Dtekst%26n%3D18&amp;usg=__V0yf6lS2yueffD-9sy9xhNQw630=&amp;h=191&amp;w=200&amp;sz=10&amp;hl=nl&amp;start=18&amp;um=1&amp;tbnid=QCQhhWHmQlhDHM:&amp;tbnh=99&amp;tbnw=104&amp;prev=/images%3Fq%3Dbronchoscoop%26hl%3Dnl%26rls%3Dcom.microsoft:nl:IE-SearchBox%26rlz%3D1I7SUNA%26sa%3DN%26um%3D1" TargetMode="External"/><Relationship Id="rId4" Type="http://schemas.openxmlformats.org/officeDocument/2006/relationships/image" Target="../media/image10.jpeg"/><Relationship Id="rId5" Type="http://schemas.openxmlformats.org/officeDocument/2006/relationships/hyperlink" Target="http://images.google.com/imgres?imgurl=http://www.instituutrenata.com/images/bronchoscopie.jpg&amp;imgrefurl=http://www.instituutrenata.com/content/behandelingen.php&amp;usg=__4EKdzZXuLXHYSfZfGscnqy5YNcM=&amp;h=344&amp;w=400&amp;sz=21&amp;hl=nl&amp;start=8&amp;um=1&amp;tbnid=AuWGMtLURkYRRM:&amp;tbnh=107&amp;tbnw=124&amp;prev=/images%3Fq%3Dbronchoscoop%26hl%3Dnl%26rls%3Dcom.microsoft:nl:IE-SearchBox%26rlz%3D1I7SUNA%26sa%3DN%26um%3D1" TargetMode="External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bluefingers.files.wordpress.com/2008/03/ct-scan.jpg&amp;imgrefurl=http://bluefingers.wordpress.com/2008/03/&amp;usg=__NZKKn0rfAHYDkznJanWRmISxJfg=&amp;h=605&amp;w=901&amp;sz=54&amp;hl=nl&amp;start=1&amp;um=1&amp;tbnid=fY-O8OH8T9VcVM:&amp;tbnh=98&amp;tbnw=146&amp;prev=/images%3Fq%3Dct%2Bscan%26hl%3Dnl%26rls%3Dcom.microsoft:nl:IE-SearchBox%26rlz%3D1I7SUNA%26um%3D1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schoolplaten.com/hoesten-t11780.jpg&amp;imgrefurl=http://www.schoolplaten.com/nl-kleurplaat-kleurplaten-foto-hoesten-i11780.html&amp;usg=__cAv-bd-1F8a2IR2us5UjTQ1T1Gg=&amp;h=531&amp;w=750&amp;sz=65&amp;hl=nl&amp;start=7&amp;um=1&amp;tbnid=3l8T0xJfJLH6YM:&amp;tbnh=100&amp;tbnw=141&amp;prev=/images%3Fq%3Dhoesten%26hl%3Dnl%26rls%3Dcom.microsoft:nl:IE-SearchBox%26rlz%3D1I7SUNA%26sa%3DN%26um%3D1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Geneesmiddelen Luchtwegen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7" name="Picture 2" descr=""/>
          <p:cNvPicPr/>
          <p:nvPr/>
        </p:nvPicPr>
        <p:blipFill>
          <a:blip r:embed="rId1"/>
          <a:stretch/>
        </p:blipFill>
        <p:spPr>
          <a:xfrm>
            <a:off x="411120" y="1413000"/>
            <a:ext cx="2773440" cy="200484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3" descr=""/>
          <p:cNvPicPr/>
          <p:nvPr/>
        </p:nvPicPr>
        <p:blipFill>
          <a:blip r:embed="rId2"/>
          <a:stretch/>
        </p:blipFill>
        <p:spPr>
          <a:xfrm>
            <a:off x="4778280" y="1598760"/>
            <a:ext cx="3402000" cy="163332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5" descr=""/>
          <p:cNvPicPr/>
          <p:nvPr/>
        </p:nvPicPr>
        <p:blipFill>
          <a:blip r:embed="rId3"/>
          <a:stretch/>
        </p:blipFill>
        <p:spPr>
          <a:xfrm>
            <a:off x="2195640" y="3706920"/>
            <a:ext cx="1955520" cy="237960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6" descr=""/>
          <p:cNvPicPr/>
          <p:nvPr/>
        </p:nvPicPr>
        <p:blipFill>
          <a:blip r:embed="rId4"/>
          <a:stretch/>
        </p:blipFill>
        <p:spPr>
          <a:xfrm>
            <a:off x="5540400" y="3384720"/>
            <a:ext cx="2663640" cy="26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Soorten hoestmiddele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Georgia"/>
              </a:rPr>
              <a:t>4. Antihistaminica  (cromoglicinezuur, cetirizine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eorgia"/>
              </a:rPr>
              <a:t>Geen echte hoestmiddelen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eorgia"/>
              </a:rPr>
              <a:t>Voornamelijk in hoestsiropen vanwege hun kalmerend effect (kinderen slapen beter door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eorgia"/>
              </a:rPr>
              <a:t>Middelen: promethazine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eorgia"/>
              </a:rPr>
              <a:t>LET OP!: mogelijk betrokken bij wiegendood, dus niet aan kinderen &lt;2jaar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Triage hoeste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250560" y="1413000"/>
            <a:ext cx="88930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eorgia"/>
              </a:rPr>
              <a:t>Onschuldige hoest gaat binnen 2-3 weken vanzelf over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eorgia"/>
              </a:rPr>
              <a:t>Alarmsignalen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eorgia"/>
              </a:rPr>
              <a:t>Bloed ophoeste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eorgia"/>
              </a:rPr>
              <a:t>Kortademighei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eorgia"/>
              </a:rPr>
              <a:t>Erg ziek kin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eorgia"/>
              </a:rPr>
              <a:t>Veranderd hoestpatroon bij chronische hoeste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eorgia"/>
              </a:rPr>
              <a:t>NHG telefoonwijzer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Georgia"/>
              </a:rPr>
              <a:t>Spoe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Georgia"/>
              </a:rPr>
              <a:t>Dringen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Georgia"/>
              </a:rPr>
              <a:t>Routin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Vrage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ff0000"/>
                </a:solidFill>
                <a:latin typeface="Arial"/>
                <a:ea typeface="Arial"/>
              </a:rPr>
              <a:t>Vraag 1 :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  <a:ea typeface="Arial"/>
              </a:rPr>
              <a:t>Welke 2 soorten hoest kun je onderscheiden?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603360" indent="-603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603360" indent="-603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ff0000"/>
                </a:solidFill>
                <a:latin typeface="Arial"/>
                <a:ea typeface="Arial"/>
              </a:rPr>
              <a:t>Vraag 2: 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  <a:ea typeface="Arial"/>
              </a:rPr>
              <a:t>Noem 2 middelen die bij prikkelhoest kunnen  worden voorgeschreven, noem hun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603360" indent="-603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  <a:ea typeface="Arial"/>
              </a:rPr>
              <a:t>bijwerkingen? 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603360" indent="-603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603360" indent="-603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ff0000"/>
                </a:solidFill>
                <a:latin typeface="Arial"/>
                <a:ea typeface="Arial"/>
              </a:rPr>
              <a:t>Vraag 3: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  <a:ea typeface="Arial"/>
              </a:rPr>
              <a:t> Welke negatieve gegevens zijn er bekend over promethazine  (antihistaminicum)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603360" indent="-603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603360" indent="-603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ff0000"/>
                </a:solidFill>
                <a:latin typeface="Arial"/>
                <a:ea typeface="Arial"/>
              </a:rPr>
              <a:t>Vraag 4: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  <a:ea typeface="Arial"/>
              </a:rPr>
              <a:t> Noem 3 middelen die geschikt zijn voor productieve hoest?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603360" indent="-603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603360" indent="-603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ff0000"/>
                </a:solidFill>
                <a:latin typeface="Arial"/>
                <a:ea typeface="Arial"/>
              </a:rPr>
              <a:t>Vraag 5: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  <a:ea typeface="Arial"/>
              </a:rPr>
              <a:t> Worden hoestmiddelen door de verzekering vergoed ? 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603360" indent="-603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603360" indent="-603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ff0000"/>
                </a:solidFill>
                <a:latin typeface="Arial"/>
                <a:ea typeface="Arial"/>
              </a:rPr>
              <a:t>Vraag 6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  <a:ea typeface="Arial"/>
              </a:rPr>
              <a:t>: Waarom moet je na een inhalatie van corticosteroïden de mond spoelen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603360" indent="-603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603360" indent="-603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ff0000"/>
                </a:solidFill>
                <a:latin typeface="Arial"/>
                <a:ea typeface="Arial"/>
              </a:rPr>
              <a:t>Vraag 7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  <a:ea typeface="Arial"/>
              </a:rPr>
              <a:t> :Wat doe je dan met dat water?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603360" indent="-603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603360" indent="-603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ff0000"/>
                </a:solidFill>
                <a:latin typeface="Arial"/>
                <a:ea typeface="Arial"/>
              </a:rPr>
              <a:t>Vraag 8.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  <a:ea typeface="Arial"/>
              </a:rPr>
              <a:t> Wat is een stootkuur?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603360" indent="-603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603360" indent="-60336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  <a:ea typeface="Arial"/>
              </a:rPr>
              <a:t>Vraag 8: Wat is een stootkuur?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RAST tes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Allergietest om te kijken voor welke allergenen iemand allergisch i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ij de RAST-test wordt de hoeveelheid IgE tegen een bepaald allergeen bepaald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oor specifieke allergenen (RAST huisstofmijt, RAST katten etc) wordt bloed afgenom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Peakflow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250920" y="1916280"/>
            <a:ext cx="864216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= </a:t>
            </a:r>
            <a:r>
              <a:rPr b="0" lang="nl-NL" sz="2400" spc="-1" strike="noStrike">
                <a:solidFill>
                  <a:srgbClr val="000000"/>
                </a:solidFill>
                <a:latin typeface="Georgia"/>
              </a:rPr>
              <a:t>hoeveelheid lucht die de patiënt maximaal kan uitademen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eorgia"/>
              </a:rPr>
              <a:t>te meten met een piekstroommeter (l/min) (eenvoudig instrument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eorgia"/>
              </a:rPr>
              <a:t>kort en krachtig in het apparaat blaze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eorgia"/>
              </a:rPr>
              <a:t>redelijk goede maat voor de doorgankelijkheid van de luchtwegen (momentopname!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eorgia"/>
              </a:rPr>
              <a:t>verschil tussen waarde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646b86"/>
                </a:solidFill>
                <a:latin typeface="Georgia"/>
              </a:rPr>
              <a:t>voor en na medicijngebruik (reversibiliteit)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646b86"/>
                </a:solidFill>
                <a:latin typeface="Georgia"/>
              </a:rPr>
              <a:t>‘</a:t>
            </a:r>
            <a:r>
              <a:rPr b="0" lang="nl-NL" sz="2400" spc="-1" strike="noStrike">
                <a:solidFill>
                  <a:srgbClr val="646b86"/>
                </a:solidFill>
                <a:latin typeface="Georgia"/>
              </a:rPr>
              <a:t>s morgens en ‘s avonds (astma: ‘s morgens slechter)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646b86"/>
                </a:solidFill>
                <a:latin typeface="Georgia"/>
              </a:rPr>
              <a:t>voor en na lichamelijke inspanning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7" name="Picture 5" descr="behandeling-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189000"/>
            <a:ext cx="172908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Spirometri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voornamelijk gebruikt om COPD te diagnosticeren en controlere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de patiënt ademt maximaal krachtig in en uit in de spirometer -&gt; grafiek = spirogra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vorm van de grafiek zegt iets over de mate en ernst van de obstructi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FEV1=hoeveelheid lucht die in 1 sec kan worden uitgeblazen na maximale inadem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VC=hoeveelheid lucht die maximaal in totaal kan worden uitgeblazen na maximale inadem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0" name="Picture 5" descr="Bekijk de afbeelding op ware groot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08720" y="189000"/>
            <a:ext cx="1511280" cy="14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Bronchoscopi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= onderzoek van de luchtpijp met een bronchoscoop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3" name="Picture 5" descr="bronchoscoop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24360" y="263700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7" descr="endoscopy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76720" y="4365720"/>
            <a:ext cx="1728720" cy="164628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9" descr="bronchoscopi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979640" y="4292640"/>
            <a:ext cx="216072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CT-sca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= speciaal röntgenonderzoek, computer maakt afbeeldingen van dwarsdoorsneden door het hele lichaam (coupes, plakjes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CT= computertomografi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8" name="Picture 5" descr="ct-sc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59640" y="2781360"/>
            <a:ext cx="1751040" cy="117468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7" descr="longen"/>
          <p:cNvPicPr/>
          <p:nvPr/>
        </p:nvPicPr>
        <p:blipFill>
          <a:blip r:embed="rId3"/>
          <a:stretch/>
        </p:blipFill>
        <p:spPr>
          <a:xfrm>
            <a:off x="6886440" y="4765680"/>
            <a:ext cx="129708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Isotopensca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ijv PET sca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Radioactieve middelen worden toegedien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Worden zichtbaar in de PET scan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(kleurtje, licht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52" name="Picture 5" descr="180px-PET_scan_Parkinson%27s_Disease"/>
          <p:cNvPicPr/>
          <p:nvPr/>
        </p:nvPicPr>
        <p:blipFill>
          <a:blip r:embed="rId1"/>
          <a:stretch/>
        </p:blipFill>
        <p:spPr>
          <a:xfrm>
            <a:off x="6732720" y="3789360"/>
            <a:ext cx="171432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Verklarende woordenlijs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324000" y="1267920"/>
            <a:ext cx="8820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Georgia"/>
              </a:rPr>
              <a:t>Astma:</a:t>
            </a: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chronische luchtwegaandoening, piepen, hoesten, kortademigheid, aanvalsgewijs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Georgia"/>
              </a:rPr>
              <a:t>Atopische constitutie</a:t>
            </a: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= allergische aanleg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Georgia"/>
              </a:rPr>
              <a:t>Eosinofilie</a:t>
            </a: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= toename aantal eosinofielen in het bloed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Georgia"/>
              </a:rPr>
              <a:t>RAST</a:t>
            </a: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= specifieke allergietest, gemeten in het bloed, bepaling specifiek IgE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tbv identificatie van allergee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Georgia"/>
              </a:rPr>
              <a:t>Dyspnoe</a:t>
            </a: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= kortademigheid, benauwdheid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Georgia"/>
              </a:rPr>
              <a:t>Vesiculair ademgeruis</a:t>
            </a: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= het geluid dat bij het ademhalen wordt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geproduceerd door gezonde longen (afkomstig uit de fijne longblaasjes),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en met een stethoscoop hoorbaar i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Hoeste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468000" y="3790440"/>
            <a:ext cx="8280360" cy="23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300" spc="-1" strike="noStrike">
                <a:solidFill>
                  <a:srgbClr val="000000"/>
                </a:solidFill>
                <a:latin typeface="Georgia"/>
              </a:rPr>
              <a:t>Wat is hoesten: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Georgia"/>
              </a:rPr>
              <a:t>Hoesten is een reactie op een prikkel in de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Georgia"/>
              </a:rPr>
              <a:t>keelholte of in de luchtwegen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300" spc="-1" strike="noStrike">
                <a:solidFill>
                  <a:srgbClr val="000000"/>
                </a:solidFill>
                <a:latin typeface="Georgia"/>
              </a:rPr>
              <a:t>Functie van hoesten: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Georgia"/>
              </a:rPr>
              <a:t>verwijderen van stoffen uit de keelholte of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Georgia"/>
              </a:rPr>
              <a:t>luchtwegen die er niet thuishoren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3" name="Picture 5" descr="hoesten-t1178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16360" y="1484280"/>
            <a:ext cx="304776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Antwoorde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250560" y="1412640"/>
            <a:ext cx="8893080" cy="47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Georgia"/>
              </a:rPr>
              <a:t>1. </a:t>
            </a: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Productieve en niet-productieve hoest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2. Codeïne, noscapine, dextromethorfa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bijwerking: obstipati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3. Mogelijk betrokken bij wiegendood, dus niet aan kinderen jonger dan 2 jaar!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4. Ammoniumchloride, broomhexine (Bisolvon), acetylcysteïne (Fluimucil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5. Hoestmiddelen worden niet door de zorgverzekeraar vergoedt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6. Irritatie van keel en stembanden (hoesten, heesheid, schimmelinfectie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7. Uitspuge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8. Kortdurende behandeling met een hoge dosis geneesmidd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Picture 2" descr="http://t3.gstatic.com/images?q=tbn:ANd9GcTQA1rZxb7bOY5BQRVin8QRffs1sfX264p9B636GLC5Z7nqIjb2XjCf08URHg"/>
          <p:cNvPicPr/>
          <p:nvPr/>
        </p:nvPicPr>
        <p:blipFill>
          <a:blip r:embed="rId1"/>
          <a:stretch/>
        </p:blipFill>
        <p:spPr>
          <a:xfrm>
            <a:off x="2362320" y="1355760"/>
            <a:ext cx="370980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Soorten hoes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Productieve hoes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Met slijm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Niet-productieve hoes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Prikkelhoest, ontstaat door andere prikkel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bijv als bijwerking bij de ACE-remmers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    </a:t>
            </a: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(hartfalen, hoge bloeddruk)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Acute hoest: oorzake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Astm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ronchiolitis, aandoening bij zuigeling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Epiglottiti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aringitis subglottica (pseudokroep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Kinkhoes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ongontstek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Chronisch hoesten: oorzake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eorgia"/>
              </a:rPr>
              <a:t>Langer dan 3 weken hoesten: Oorzaken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eorgia"/>
              </a:rPr>
              <a:t>Astma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eorgia"/>
              </a:rPr>
              <a:t>Allergische rhinitis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eorgia"/>
              </a:rPr>
              <a:t>Postnasal drip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eorgia"/>
              </a:rPr>
              <a:t>Vergrote neusamand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eorgia"/>
              </a:rPr>
              <a:t>Roken of meeroken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eorgia"/>
              </a:rPr>
              <a:t>COPD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eorgia"/>
              </a:rPr>
              <a:t>Bronchuscarcinoom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eorgia"/>
              </a:rPr>
              <a:t>Reflux= terugstromend maagzuur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eorgia"/>
              </a:rPr>
              <a:t>Kortademigheid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eorgia"/>
              </a:rPr>
              <a:t>Hartaandoeningen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Hoestmiddele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Er wordt getwijfeld aan de werkzaamheid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Waarschijnlijk is er een groot placebo-effect en wordt het mede daarom </a:t>
            </a:r>
            <a:r>
              <a:rPr b="0" lang="nl-NL" sz="2700" spc="-1" strike="noStrike" u="sng">
                <a:solidFill>
                  <a:srgbClr val="000000"/>
                </a:solidFill>
                <a:uFillTx/>
                <a:latin typeface="Georgia"/>
              </a:rPr>
              <a:t>niet</a:t>
            </a: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 vergoed door de ziektekostenverzekeraar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Soorten hoestmiddele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179280" y="836640"/>
            <a:ext cx="8964720" cy="61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Hoestprikkeldempende stoffen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Vooral bij droge, niet-productieve hoest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Onderdrukken hoestprikkel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Nadeel: kan obstipatie veroorzaken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Middelen: codeïne, noscapine, dextromethorfan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Soorten hoestmiddele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-360" y="1628280"/>
            <a:ext cx="88930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1. Expectorantia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646b86"/>
                </a:solidFill>
                <a:latin typeface="Georgia"/>
              </a:rPr>
              <a:t>Vergemakkelijken het ophoesten van slijm (bewijzen voor de werking ontbreken)</a:t>
            </a:r>
            <a:endParaRPr b="0" lang="en-US" sz="1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646b86"/>
                </a:solidFill>
                <a:latin typeface="Georgia"/>
              </a:rPr>
              <a:t>Middelen: ammoniumchloride, succus liquiritiae in Mixtura resolvens FNA, drop</a:t>
            </a:r>
            <a:endParaRPr b="0" lang="en-US" sz="1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2. Mucolytica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646b86"/>
                </a:solidFill>
                <a:latin typeface="Georgia"/>
              </a:rPr>
              <a:t>Invloed op de taaiheid van het slijm in de luchtwegen </a:t>
            </a:r>
            <a:endParaRPr b="0" lang="en-US" sz="1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646b86"/>
                </a:solidFill>
                <a:latin typeface="Georgia"/>
              </a:rPr>
              <a:t>(bewijzen voor de werking ontbreken)</a:t>
            </a:r>
            <a:endParaRPr b="0" lang="en-US" sz="1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646b86"/>
                </a:solidFill>
                <a:latin typeface="Georgia"/>
              </a:rPr>
              <a:t>Middelen: broomhexine (Bisolvon), acetylcysteïne (Fluimucil)</a:t>
            </a:r>
            <a:endParaRPr b="0" lang="en-US" sz="1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3. Emollientia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646b86"/>
                </a:solidFill>
                <a:latin typeface="Georgia"/>
              </a:rPr>
              <a:t>Ter verzachting van de geprikkelde slijmvliezen </a:t>
            </a:r>
            <a:endParaRPr b="0" lang="en-US" sz="1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646b86"/>
                </a:solidFill>
                <a:latin typeface="Georgia"/>
              </a:rPr>
              <a:t>(bewijzen voor de werking ontbreken)</a:t>
            </a:r>
            <a:endParaRPr b="0" lang="en-US" sz="1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646b86"/>
                </a:solidFill>
                <a:latin typeface="Georgia"/>
              </a:rPr>
              <a:t>Middelen: stropen (tijmstroop, althaeastroop)</a:t>
            </a:r>
            <a:endParaRPr b="0" lang="en-US" sz="1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06:22:11Z</dcterms:created>
  <dc:creator>Uw naam</dc:creator>
  <dc:description/>
  <dc:language>en-US</dc:language>
  <cp:lastModifiedBy>Uw naam</cp:lastModifiedBy>
  <cp:lastPrinted>2016-01-10T15:56:28Z</cp:lastPrinted>
  <dcterms:modified xsi:type="dcterms:W3CDTF">2018-01-02T15:35:59Z</dcterms:modified>
  <cp:revision>57</cp:revision>
  <dc:subject/>
  <dc:title>Slide 1</dc:title>
</cp:coreProperties>
</file>