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BE9-CF55-4EB0-8345-A7D0F392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AC4-245B-4C53-A796-166E45B8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65F-8789-488A-975A-EEB29998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862B-FFD7-48E7-AB98-4D80631F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96D5-893E-4D33-8116-3C681BD3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1FF7-E5FC-4AA9-9F31-221E9667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4328-FA47-432B-9AC6-D4F66E71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5A44-7220-45B3-A6E6-ADC0787B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3582-056E-4D6B-B53D-DEC6D0FB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1D13-A374-482F-87F4-53851F8F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39B3-70FD-4D03-A496-44C0D950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6CEE-B5DB-4532-A6E9-8BAD134E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9B9F-9A8C-46FE-B170-7CC8289E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76A1-2120-4994-B13A-CF70B53E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35A6-619B-43A8-8CA1-66102D62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5F39-650A-457A-8248-C354C552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D737-7618-47ED-9390-DD657D82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8A6-4C57-4894-8FC5-FDBF1BFE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E8F-44E0-4371-AF68-CC88EE63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AACD-9E36-4E5F-A111-4C12E930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9ED-7F84-4B93-9694-DF33262A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352A-C4DB-4A1E-BDD6-65957798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737-EA47-4454-862F-AA0A97BB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5B49-147C-4CD5-A997-112F9821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D94E-43B5-47C5-AB71-BD0BD35234E8}" type="slidenum">
              <a:rPr b="0" lang="nl-N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14A4-66A0-436D-A19A-02889F3FFB81}" type="slidenum">
              <a:rPr b="0" lang="nl-N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ffffff"/>
                </a:solidFill>
                <a:latin typeface="Arial"/>
              </a:rPr>
              <a:t>Anafylaxi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over%20shock%20winter%20201011"/>
          <p:cNvPicPr/>
          <p:nvPr/>
        </p:nvPicPr>
        <p:blipFill>
          <a:blip r:embed="rId1"/>
          <a:stretch/>
        </p:blipFill>
        <p:spPr>
          <a:xfrm>
            <a:off x="6227640" y="2897280"/>
            <a:ext cx="2778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urticaria_thumb"/>
          <p:cNvPicPr/>
          <p:nvPr/>
        </p:nvPicPr>
        <p:blipFill>
          <a:blip r:embed="rId1"/>
          <a:stretch/>
        </p:blipFill>
        <p:spPr>
          <a:xfrm>
            <a:off x="1547640" y="1363680"/>
            <a:ext cx="58327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Therapie: ziekenhu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ie met adrena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pipen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toedienen van zuurstof en indien nodig ook intub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aanhoudend angio-oedeem soms ook zuurstof toediening of een tracheotom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rijding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ANd9GcSgmIBFG3buMw_ao_AnMkQyGROrO4n9iZv9hwycePM18_fwmE0FFA"/>
          <p:cNvPicPr/>
          <p:nvPr/>
        </p:nvPicPr>
        <p:blipFill>
          <a:blip r:embed="rId1"/>
          <a:stretch/>
        </p:blipFill>
        <p:spPr>
          <a:xfrm>
            <a:off x="5364000" y="7650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epipen2"/>
          <p:cNvPicPr/>
          <p:nvPr/>
        </p:nvPicPr>
        <p:blipFill>
          <a:blip r:embed="rId1"/>
          <a:stretch/>
        </p:blipFill>
        <p:spPr>
          <a:xfrm>
            <a:off x="4859280" y="2349360"/>
            <a:ext cx="3240000" cy="258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epipen"/>
          <p:cNvPicPr/>
          <p:nvPr/>
        </p:nvPicPr>
        <p:blipFill>
          <a:blip r:embed="rId2"/>
          <a:stretch/>
        </p:blipFill>
        <p:spPr>
          <a:xfrm>
            <a:off x="971640" y="2349360"/>
            <a:ext cx="30477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Epipen bij allergie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ts schrijft een EpiPen® voor bij mensen die eerder een acute of ernstige allergische reactie hebben geh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moet  direct ingespoten worden zodra de eerste verschijnselen optreden. 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Hoe werkt de Epipen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piP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werkzame stof in EpiPen is Adrenali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vernauwt de bloedvaten en verhoogt de   bloeddru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verwijdt de luchtwegen, waardoor de benauwdheid verminde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jectie begint na drie tot vijf minuten te werken.</a:t>
            </a:r>
            <a:br>
              <a:rPr sz="28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Tot slot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drenaline voorkomt de anafylactische reactie niet, maar is een eerste redmiddel om de ernstigste verschijnselen op te heffen. De anafylactische reactie moet altijd door een arts verder worden behande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istockphoto_2334825_puzzled_kids_cartoon"/>
          <p:cNvPicPr/>
          <p:nvPr/>
        </p:nvPicPr>
        <p:blipFill>
          <a:blip r:embed="rId1"/>
          <a:stretch/>
        </p:blipFill>
        <p:spPr>
          <a:xfrm>
            <a:off x="2627280" y="1844640"/>
            <a:ext cx="3619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afylax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Acute levensbedreigende, allergis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actie op een lichaamsvreemde 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fylaxie kan optreden na inname van het allergeen, maar ook na inademing ervan, na huidcontact of een injectie met de betreffende sto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fylaxie kan soms in enkele minuten tot de dood leiden als deze niet meteen wordt behan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Voorkomende allergenen zijn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dsel (zoals melk, noten, pinda's etc. medicijnen (zoals penicilline, aspirine en NSAID's zoals ibuprofen en diclofenac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xaller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ectensteken van bijvoorbeeld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bij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wesp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Anafylactische sh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fylactische shock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neer het lichaam door verwijding van de bloedvaten ten gevolge van het vrijgeven van een grote hoeveelheid histamine in shock geraak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Shock-verschijnsel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smoeilijkheden (door de vernauwde luchtwe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ypotensie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chycar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auwvallen/ klam aanvoelen/bl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usteloosheid/sh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Overige verschijnselen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lbul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leu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io-oedeem (opgezwollen gelaat, hals en kee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nende 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Angio-oede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ANd9GcTa39jwzSDoZ-aVnAlntN2_uzqDwZ6lLdAgQN1gDudKTpUtGaIh"/>
          <p:cNvPicPr/>
          <p:nvPr/>
        </p:nvPicPr>
        <p:blipFill>
          <a:blip r:embed="rId1"/>
          <a:stretch/>
        </p:blipFill>
        <p:spPr>
          <a:xfrm>
            <a:off x="539640" y="1341360"/>
            <a:ext cx="4050000" cy="3033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ANd9GcT_rih1wIHupN06jLHAdydW3nsYf1JE_bpCFvuZ1kNJd74PvtRa"/>
          <p:cNvPicPr/>
          <p:nvPr/>
        </p:nvPicPr>
        <p:blipFill>
          <a:blip r:embed="rId2"/>
          <a:stretch/>
        </p:blipFill>
        <p:spPr>
          <a:xfrm>
            <a:off x="4859280" y="3429000"/>
            <a:ext cx="36846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ffffff"/>
                </a:solidFill>
                <a:latin typeface="Arial"/>
              </a:rPr>
              <a:t>Galbulten(netelroos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netelroos"/>
          <p:cNvPicPr/>
          <p:nvPr/>
        </p:nvPicPr>
        <p:blipFill>
          <a:blip r:embed="rId1"/>
          <a:stretch/>
        </p:blipFill>
        <p:spPr>
          <a:xfrm>
            <a:off x="2340000" y="1052640"/>
            <a:ext cx="3779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9:53:33Z</dcterms:created>
  <dc:creator>-</dc:creator>
  <dc:description/>
  <dc:language>en-US</dc:language>
  <cp:lastModifiedBy>Cuperus,B.K.</cp:lastModifiedBy>
  <dcterms:modified xsi:type="dcterms:W3CDTF">2013-12-05T19:47:06Z</dcterms:modified>
  <cp:revision>16</cp:revision>
  <dc:subject/>
  <dc:title>Plotseling onwel na injectie of wespensteek</dc:title>
</cp:coreProperties>
</file>