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12D7-2FAE-499D-A26E-D38ED2E95407}"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6642-8E28-417F-B410-83A75E12B774}"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93E0-0C29-445B-AFA8-70F1D07E1665}"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2D1A-F4FC-4700-A2E6-A2CDC55BE9EB}"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B4D5-E9EE-4DC8-9D9E-6BE54DBDCD39}"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789A-8FDB-4CCE-9097-A04A7EA4814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C1A9-D549-4F07-BE76-AAE63FF217C8}"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514A-B6F6-4A2A-9270-230243CBE9CA}"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DA46-9232-480B-AFFA-7AF552435B99}"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C506-2433-4F81-87F8-9F7685CE1B56}"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BD0FB-B868-49E2-96DB-6C3578C90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F4C7-EE4E-41EE-9B3F-954BBC8D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AD21A82-CE3C-4B8A-9258-42D8CD49943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D4BC87B-E210-4424-B4FF-A9F0763873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3D72A5C-CFDF-46DC-A0F8-3A9F94FA970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17D1331-F026-4FBC-9D83-64C54CA96A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606AE16-7FE2-4850-9FBF-5BC87FDF62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E6AE23C-54BF-42EE-B4A8-FDF887516C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4907422-8CE6-4839-9529-0EA915FD990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5D07C58-F43D-4F9A-B9FD-6351EC5562D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6B66F6E-9978-46C3-805B-BBA34FBBF3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42F9370-64AB-4AF4-9BEF-31F1AC8951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BDC1E-0C1D-43ED-9D2A-361E0EB1A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6B15376-A66E-42DE-8F94-8736B2A94F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196CBC1-BCBB-4D79-B0A2-18FBAE4D11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46A9758-3EA5-4132-8485-E062CC8716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B7AC406-4B31-43A8-BA38-0CF7F18405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9FF01E1-C68B-469B-BFE2-BD7B11C652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8A4A5DB-834A-45B4-8B2F-B616FCD9DC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BA482F-D8A2-4318-B34E-5DF5E03D5E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B6D1A5E-ED12-414E-B31B-5C06D5BCF6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3F38EAB-675A-47EC-964F-BE64B24642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977F349-4A31-4949-A15F-18C9243E00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C0CEC-C97A-4D54-B97B-EA91697A6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6B0EB7F-C6A0-45A5-83CD-F12B890546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E46C1B-CCFD-4DF3-8247-620B0DE5EE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E6C283-15A4-4D1B-BB2B-5D9369A9F8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9CA1DF-CA4A-4531-B0FA-9991A50EAF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AF4B9C-2E15-4935-92BF-327779C8F3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BB25A5-00B5-4609-9149-0FF91A1525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0FA93C-85D8-40DE-A6C2-C15D4FDCC9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D9FFED-31D0-44B1-8826-CCD09A4EE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443450-BC56-4BC5-B281-5099E94269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A80637-C2A9-4EDC-97F4-3A5896D432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3ACB7-E8C0-4737-8C09-40049087D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1A1D0D-ED2E-4125-9750-57CB042A09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B17904-FA65-4CE0-B3ED-5F44854D97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75B1F5-8CE9-439B-AECA-81B78D6DE3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543ECFE-C9A8-4DE7-8143-934CCB6766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3DCD42F-19F5-4737-9AE4-8DAD61B6CE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26CD9E0-83C7-4689-BD12-1F743764F3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7468478-F55A-42E8-82DE-0B3604CF7B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98EA0DC-24BF-495B-B05C-18DA053C79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53D2965-A27F-44F7-92F7-F269097606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6DC3AF-FC25-4308-B53F-7D3539B499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BB5D0-0D88-4DDB-8E41-43B409806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4DBAC41-4E68-4842-8FDA-98923B862F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6F832D-3A37-4AFD-879A-774889E6C4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4FD65CE-EF95-40A9-8F68-6DCB562FF5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1040BCD-2DC3-4401-A93C-7EC0B045AD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96222B3-B1E3-4ECF-8614-30C5CDEA4A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E25F1-4B36-42F6-BBE1-A5F0E8C43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23A85-9712-4808-B351-E5A160696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FFD88-4BB2-419D-A538-8552458A0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32C90-2B01-40FC-8BAE-4F9EA29E6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C2E16-D9C5-4D0D-B566-BFCEA9CF5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18644-BB75-4F8E-BF32-B3E389BD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BD635-9F46-4966-830E-D979CD033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90348-B6E4-4A40-BC9A-DDBDC9033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F0441-85D2-42A0-8818-DA7776DA7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D41E2-2DC1-49EB-81B4-5F7773A7A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B2873-0EAA-47A8-B8E2-B2FD70CA2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9CAD33-1EA7-4DF8-8326-1D26C0A9F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97F65-08C9-4823-8B10-EAAC83A9E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04271-A642-403C-BFFB-5CD4E299D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617971-3FB6-4813-B28F-79DD29A52A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AC03F-8D6C-478F-874D-950BB2CE2D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20A2A-980B-412C-B840-5BCD5D09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27839-4A44-4F23-AC2B-CECDF7099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FFA5D-0558-44B6-852F-020E957B0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BFA05-90BC-406B-B043-E6E8BDF4D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BD9C1-9C1F-49AD-AEB2-B2D6C5C6B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59C22-6199-4D9B-94DD-36F6111E94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D1D874-63AB-4509-AE0A-77AE1E6794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635330-B821-43EA-A4C8-6EBFE97C3F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6E954AC-EFD0-420E-A8D6-E20E9568F0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FDFAE38-6D50-4316-B1CC-E97BA03E78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3713961-8A19-423D-9C38-25934493343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8B887-99BD-43B4-97ED-31D30634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92F2973-4333-4816-B58D-FD027E3076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9AC480A-34CF-4729-9173-F0A48A45658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33513E7-4249-4D51-A90C-25BF335563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437298-349E-4355-8C69-8014D6D2A4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C018F1E-3A56-47C1-9A8D-EA568F9C5D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AD1023-5C4A-4350-9D73-96695BC5C0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041C64E-BCBC-4C58-B2AA-97AFA738D4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A9D8153-E8D5-40CA-9BE3-C5EDFC907F5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A6A0FE1-D649-479A-910F-20A26D05C2E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3EF3D-3B78-403E-B87D-4CFC86E93C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F17F-F393-4D38-A583-0F2CBBDF7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BDD6E-FF06-45FB-878C-A4731A6AE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064F0-A0E8-4C62-8F97-CAC80F7F5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6E9F2-3B63-445C-B3C0-67EA633B9B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63E5A-5C66-4926-BA35-9B60ED200E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51A28-F8A9-40AD-803C-65530EFCED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0D3C1-2EC0-46CC-A75F-4AA0E7B06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27E68-D091-49CC-B92E-8BA7A2806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06F3E1-08CA-4496-A593-4F0783DC8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C2A13-1AAE-4D46-BBF0-8DAE9E188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9D1B80-617A-4A20-9EA2-86B7F84D4D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69D7-010D-440A-AD8E-2A1C5FE53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FF6689-BC65-4B84-A300-A5AA8F176D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73A274-BC07-46B0-9895-1BD4A3C673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031D31-C9E8-4A6F-ACAA-6932A5033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46C50-ABF2-4415-96BC-39546A26E9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14AF4-C818-42D3-A828-2ACB4CD0A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1AF09-19F1-4462-B673-2D95C7F63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B008C-8734-478A-82E3-40DAD18CE5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43459-A4E4-4628-B4AF-9AA63BC78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FF53B-8311-46FB-A992-167408003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4ADD9-3C13-417D-A62B-9FF18D95C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1C80-2158-4863-96BD-5C6C7FF35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E25A02-3195-4A8E-9EA6-93FA2C23C0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663953-610A-46C8-98A1-2C76CEF04C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8109BE-B950-44FA-AB7C-5C0448F3DF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79D84F-8E25-4934-A9BA-AE45E542DB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B65A9-2F06-4F4C-B877-388E238F42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A64D4-222E-4BBD-BB9C-A9FEC6F77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5DC4F-4EAC-4F4C-BC72-2E7C096D78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CF3B0-00AB-4169-A6F8-B7449361E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45A3C-DED1-4A1D-B7CE-B45FCE843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54F1A-5305-483C-9D0D-120087169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5C90-1BD1-4FE1-9F22-655B6DB1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DE019-94F4-4328-89BE-3214E02C1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560E5-49F4-4705-BBC4-9F125B17DC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0FE8C-3C8F-47D2-9148-E9369F2D16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B4C831-37B8-4177-B15E-27FDC6691C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E670CB-0D2A-45FB-98AE-46D0C37B90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755D6D-9ECE-4A0A-BD60-407226C3E6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465FE1-7963-4627-BB81-C1E4FC5B85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8BDC30-3BA1-484F-AC3D-5C20D5D3E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FB0577-A517-4A68-ADF8-B17A29615C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CB084E-C7B7-4E5E-8F29-5671825D61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8C1C-E15F-401C-827F-E547A1A5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A405D-DA69-4D4E-B7DE-29774D5F3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A6AE0-52C5-4FA3-AA10-C2367D5D1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9BED2A-AE14-4656-86BC-1405CA961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031C9-7486-4C9F-947C-68BC5D883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3A0155-3FEC-40AF-B645-CC7E7AC37D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41F2C8-2BFF-4EEE-BC45-9B8F7ACDFD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32033D-7C39-4233-826F-0DF0ADB100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A5D2D14-A03A-41AD-84CC-BE842207D1E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4DFE678-BD56-4637-8FCA-CD00621200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AECE11-002D-4F57-9313-D5C6E24CA1E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03F5-9631-48F1-881C-4991C2D6A2BC}"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B571-B10B-45E2-805F-F87DF649C2F6}"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6CF5-9F41-430E-BCC9-E77CBADD3AEF}"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6869-7454-45DC-9B7B-7825BDB9732E}"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CB0E-6AE1-4729-A2B1-1DF8EE0454D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867A-F3B2-4DD3-AA91-1C4DEBB2466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C23B-4950-447F-A5F8-BDBF98FF4D0F}"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71F1-DD99-464C-9806-4C200684581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D239-3689-4FDD-B8DC-4D48503DD64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FDDB-86E4-4D31-8515-471BFD0BDA8F}"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2FB8-8061-43C3-9C49-1CC9AB118FCA}"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1F28-5C0F-438F-8A4F-0305854D3007}"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Uw naam</cp:lastModifiedBy>
  <dcterms:modified xsi:type="dcterms:W3CDTF">2017-11-29T10:20:39Z</dcterms:modified>
  <cp:revision>24</cp:revision>
  <dc:subject/>
  <dc:title>Dermatologie</dc:title>
</cp:coreProperties>
</file>