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961-59A5-49C3-936D-F12AB85F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2C7-2CF9-41F4-B3A3-5D14DD04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19E-73A4-4DE2-9D00-076FB3A7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B88-5649-49DF-A6CA-5F4033C4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55EE-114A-401D-B02B-F7B643B0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3CBC-14C5-4975-8ECE-B7324DB3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60CD-C71E-424E-A5F4-7EECE309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6434-4FB3-49A2-9493-0ECACDB7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6086-278B-4E3C-A157-B71DEEB2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0146-96C9-4A50-B810-B0B6305D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9F17-5615-46CE-A68B-A304B1F8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4F7-4CB8-4E30-BB74-CECE7D96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AB43-1F9B-461A-B214-4AB9B1CD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F737-EB29-4733-A883-F1D8C1C0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540C-7216-4C2B-B32F-11296F22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6549-171A-4AFF-A4DF-123831CF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8FB9-733A-468E-BD7F-32BF3128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EF7-7863-4311-8853-5EB319C9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E35-3A77-43AE-BADB-F34EAA73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6B1-FF47-401A-ACF5-36034C1E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13C-1AD7-43DC-9B13-023AA36C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4637-3D69-4C33-ACC4-FEE982E2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085-D62D-4706-B1FD-DAC823E7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282-C186-4332-BBB2-55BA694B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9107-25A6-4664-A2B9-E1E20F4A02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8D65-41D1-4FEB-A45F-19913ACC5177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Hondenbeet en Tetan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l_fi" descr="hond135"/>
          <p:cNvPicPr/>
          <p:nvPr/>
        </p:nvPicPr>
        <p:blipFill>
          <a:blip r:embed="rId1"/>
          <a:stretch/>
        </p:blipFill>
        <p:spPr>
          <a:xfrm>
            <a:off x="5753160" y="3213000"/>
            <a:ext cx="2359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riagecriter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or wat/wanneer bent u gebe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rake van een open w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loedverlies, in welke m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et de wond eru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tetanusinjecti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minderde weerstand (DM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360" y="549000"/>
            <a:ext cx="686592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utine: Ontstekingsverschijnselen zoals roodheid, zwelling, pus, ko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ingend: Bijtwond, behalve oppervlakkige  kleine verwond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oed: Beet van een giftig dier zoals een slang, spin, haged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20px-PHIL_tetanus"/>
          <p:cNvPicPr/>
          <p:nvPr/>
        </p:nvPicPr>
        <p:blipFill>
          <a:blip r:embed="rId1"/>
          <a:stretch/>
        </p:blipFill>
        <p:spPr>
          <a:xfrm>
            <a:off x="1908000" y="43592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: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rabië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is een ernstige aandoening als gevolg van een infectie met het </a:t>
            </a:r>
            <a:r>
              <a:rPr b="0" i="1" lang="nl-NL" sz="3000" spc="-1" strike="noStrike">
                <a:solidFill>
                  <a:srgbClr val="000000"/>
                </a:solidFill>
                <a:latin typeface="Arial"/>
              </a:rPr>
              <a:t>rabiësviru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meestal door een beet van een door rabiës besmet dier (honden, vossen, vleermuizen). Hondsdolheid is uiterst gevaarlijk voor mensen en leidt onbehandeld tot de d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Nog vrag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vraagteken%2520poppetje"/>
          <p:cNvPicPr/>
          <p:nvPr/>
        </p:nvPicPr>
        <p:blipFill>
          <a:blip r:embed="rId1"/>
          <a:stretch/>
        </p:blipFill>
        <p:spPr>
          <a:xfrm>
            <a:off x="755640" y="1125360"/>
            <a:ext cx="1857240" cy="39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:</a:t>
            </a:r>
            <a:br>
              <a:rPr sz="4200"/>
            </a:b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24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en ontstaan door: 90 % door een hondenbeet en 6% door een k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middeld 13-20 personen op 10.000 mensen opname in een ziekenhuis noodzakelij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0 personen op 10.000 door huisarts gez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¾ is jonger dan 14 jaa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37767-hondenbeet-kan-levensgevaarlijk-zijn"/>
          <p:cNvPicPr/>
          <p:nvPr/>
        </p:nvPicPr>
        <p:blipFill>
          <a:blip r:embed="rId1"/>
          <a:stretch/>
        </p:blipFill>
        <p:spPr>
          <a:xfrm>
            <a:off x="6516720" y="40464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600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door een bekend dier: uit de buurt of eigen huisd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hebt risicohonden bijten altij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k kindvriendelijke honden kunnen bijt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 is indicatie voor 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hondenbeet"/>
          <p:cNvPicPr/>
          <p:nvPr/>
        </p:nvPicPr>
        <p:blipFill>
          <a:blip r:embed="rId1"/>
          <a:stretch/>
        </p:blipFill>
        <p:spPr>
          <a:xfrm>
            <a:off x="5508720" y="765000"/>
            <a:ext cx="2923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bservatie wond: hoe ernstig? Zegt altijd iets over de maatregelen die worden genomen(diepte/aard/bloed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iniging: Stromend water/ fysiologisch zout. Bij infecterende wonden:Povidon jo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geïnfecteerde wonden: duurt genezing lan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bijtwond wordt in het algemeen niet gehecht vanwege infectiegevaar in later stadium. Alleen wonden in gezicht worden losjes gehecht/afd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oms preventief antibiotica bij infectiegevaar of verminderde we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Complica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ondenbeet_292x237"/>
          <p:cNvPicPr/>
          <p:nvPr/>
        </p:nvPicPr>
        <p:blipFill>
          <a:blip r:embed="rId1"/>
          <a:stretch/>
        </p:blipFill>
        <p:spPr>
          <a:xfrm>
            <a:off x="5651640" y="3141720"/>
            <a:ext cx="2781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    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1640" y="2565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:”kaakklem” genoem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ordt veroorzaakt door de Bacter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lostridium Tetani. Anaerobe bacterie, waarvan de sporen in aarde, straat vuil, mest lang kunnen overleven. Deze sporen kunnen door een verwonding zich in het lichaam voortpla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79tetanus"/>
          <p:cNvPicPr/>
          <p:nvPr/>
        </p:nvPicPr>
        <p:blipFill>
          <a:blip r:embed="rId1"/>
          <a:stretch/>
        </p:blipFill>
        <p:spPr>
          <a:xfrm>
            <a:off x="7093080" y="189000"/>
            <a:ext cx="1838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58920" y="3403440"/>
            <a:ext cx="7130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lg: productie van tetanustoxine, een krachtige gifstof die pijnlijke en hevige spierkrampen veroorzaakt in het hele licha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eindelijk ook de ademhalingsspieren met hartstil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tetanus"/>
          <p:cNvPicPr/>
          <p:nvPr/>
        </p:nvPicPr>
        <p:blipFill>
          <a:blip r:embed="rId1"/>
          <a:stretch/>
        </p:blipFill>
        <p:spPr>
          <a:xfrm>
            <a:off x="2843280" y="260280"/>
            <a:ext cx="3930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profylaxe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bijtwonden: bij laatste vaccinatie &lt;10 jaar, niets. Geeft vrijwel 100% bescherming bij welke verwonding dan ook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vaccinatie &gt;10 jaar: 1 tetanus tox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nsen zijn van nature niet beschermd tegen tetanus: vormen nooit zelf antistoff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2:10:57Z</dcterms:created>
  <dc:creator>Rina</dc:creator>
  <dc:description/>
  <dc:language>en-US</dc:language>
  <cp:lastModifiedBy>Bouke Cuperus</cp:lastModifiedBy>
  <dcterms:modified xsi:type="dcterms:W3CDTF">2016-12-16T13:25:15Z</dcterms:modified>
  <cp:revision>3</cp:revision>
  <dc:subject/>
  <dc:title>Hondenbeet en Tetanus</dc:title>
</cp:coreProperties>
</file>