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493-53D1-4758-8710-314BD3BC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784-B75D-42FD-BB3A-96310E50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96F65-B476-4A36-901D-39DB051D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36AF8-855B-404B-83B4-00B6DD85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500BA-8CAA-4EFF-A1C9-F4D9CD7F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DDBF6-7E07-4017-9ECB-0F9316C6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E7911-2D3F-495C-90DF-235587A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842C7-42E7-42C6-9D19-C498B02D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915F5-0057-4AF0-9121-451050FB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CEF13-491B-4C79-8CF4-BE25FF75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149BC-290A-410E-B878-1DAAFEAC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FC60C-A5C4-47F8-884F-280B7519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0D3-5ED6-4B87-B3A9-A48E46FB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D4015-2603-47B9-A0DE-58325393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CD816-F73A-4F03-B330-33494679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2649C-81B6-4769-AD0C-4CA76032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AA038-8511-4423-8674-7C7257D4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EFBD13-5AF1-4312-A1BD-716C72C2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8D19F-0DA9-4CE1-8857-12059AD2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DD00F-39DB-4195-A4C1-849C4DC2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35D5E-BAD4-4602-BD77-040C991F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CF7E3-26AA-4C15-909F-4CC197C4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745DC-3D3F-4BDB-97FA-2658BC4F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ED9-74F9-4156-BA2F-D744D21D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F975C-571C-4EB6-B068-0E8886DF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3A823-B338-472B-8C60-1612D7A9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D8472-287A-4A33-BC1C-F3EB522D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5F038-769B-49F6-8FD1-13068C9D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0BB9C-1992-4B39-B984-BD11E933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25E18-5FD7-484C-8321-4AC91791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81B4F-1941-48BC-9F6B-35ABEC26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BBACB-BBD0-4A1E-89DA-D5F6B867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28285-BCEC-4A8F-8095-BB568DA0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1FAC8-2A3D-42A8-B618-4CA7875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91E1-E824-43F5-AD8F-560E69D1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BC993-E54C-42F3-81E6-75A2263A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695F5-B505-453A-8F58-7B6E894F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3FA74-4067-4280-9E49-CB795477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A3E79-9FD6-4A1B-ADA1-7A7E9931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C3456-7AC1-41CE-A23A-9F42DDC5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89E07-F4BC-4505-8C2A-0328D788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4E2D8-6027-44C5-B9CE-D1F4CEB0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76473-350C-427D-ABF3-3912880B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30618-29B7-4FFE-8721-0CB18177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64205-B267-41FB-B250-E3524DC9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E142-EE69-4855-8476-0DECCD18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EAE5B-24B0-4549-AA9D-3A9E7D0F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27DDDF-7BAB-4301-B399-E076B8C1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8F502-EA5C-4B4E-8EB2-42EE2DA5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6DB36-BB17-49C4-9CA2-B1F8EFC6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37D33-532E-4828-9E93-CC8395BA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CA97-01DE-4B4A-A451-C094A728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AC99-E209-4310-A7A2-0BDFEC8B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5B43-135F-44DD-A344-0B88BBA9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BCE0-7666-4965-9BD6-0522C0B6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F64F-1F11-442A-AB17-A55D10E3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9A9-9DE0-4750-9295-B9331891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65AF-0A4B-4C62-A23F-3C9774AF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FDFC-3D8B-41CC-A6CE-6489FC6D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F938-B7FA-4C91-ABAD-ED60E31C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F1D8-FC6B-4534-B0E2-124E88BF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A400-CD08-4F08-BF9A-EE36FA67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CED32-DF9C-4620-BE43-455BF6D5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A4643-BE57-4540-A529-37B0237A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AF01-615E-4E6A-8497-FC84D123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4EA80-69A9-400A-92AC-2DFFDF61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B935-2B4C-41E4-830B-E7EAFA56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37D-1548-4026-8E81-8E988275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03AE-119C-4E91-8A9E-875E7156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B10C-32E2-4239-B1D7-B97679B6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1C6C-B0C9-4173-9B8D-75DF6664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D1143-8C0E-4F66-A64C-F4107F4D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3B3F-8AA4-482D-8367-C15B26CA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B95C-2501-4CE8-A60E-5B3A2E64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505E-703A-4844-ADE2-5931E215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775F8-F405-40A9-AC5D-482CC30F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7B6CC-5024-41F2-B56B-80BECB9A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995A1-5D9D-457A-A3AD-7E7E2788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616-AB00-4206-9DE9-86AB7390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8AE51-6E2C-4C40-8F24-866BD1C8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EC1D4-34E9-42FC-98FB-9B58D142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E304-4C1E-4E4C-9340-71C24385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86038-EBB2-4546-B777-A51215B9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67AA3-913E-427A-870F-682C0F21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25B2-E44A-4787-AFB4-C81CE0B4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F50F-2555-4F78-B1BD-6181BCEC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AD502-985F-4FA9-853E-23896B73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5E2A2-36A4-4FCF-8732-8258265A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05990-5B5B-44A9-A0FA-0393B983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0DC-BD21-437D-A6F5-2D76459F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731B6-5DE3-40C0-805F-1E40EB0C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B35A3-51D7-4947-9EC1-5178EC33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8806C-57D1-49C7-B63C-CE6BAC10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42FD8-8307-41DC-B853-C8F0D804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D75DA-FE97-414E-998B-6FFBF67E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E2C80-A783-46A9-BCB1-E245A87D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B2A63-7EC5-4DBC-A47E-8CD4F942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86F52-CE54-4D97-A6D8-17ACAC76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E2894-1F18-44C0-841E-1220FA12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B3768-4993-4B9C-B57C-1CDF433F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C51-E12B-4007-A39E-2C092D3B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729C-58CB-4E71-B59F-6E5F19A4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AA0D2-8BC8-4E38-92D1-89431CCA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59CEF-978F-4E94-9516-64DB8532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F374D-F830-4967-9BA4-8A8335BD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CEACC-4475-45E5-8E8A-98C82FDD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A2377-F897-4368-8D8C-7D3D7957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D787A-E27C-4A9D-B321-1AD59B5E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C1BE2-D9E8-4909-B9E7-D4F4581D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347D7-2AED-4235-85C0-0A494D54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F102F-519A-4D1C-8F2A-340A48DA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F82-B4FC-497B-B9AF-A0116B27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4A00E-9673-4A5C-8198-94689369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86BCC-F048-4418-8BC3-CA302AFC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2385C-D338-484D-B240-5E99AE37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36667-B1C6-4492-BFA2-367DB2DE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E7488-2545-4E65-9001-1866F53F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6EF70-79DB-43D2-9638-B54CD6C9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711BD-1EC3-4B35-8686-F40526E4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66CA1-6FAE-479A-9B98-BEAE4E71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24C1F-F912-4B29-B25A-CDCC46F6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F1371-1C02-4CEF-A7B6-10B7779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2B7-F942-476F-9AB8-20F0F63B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E8478-667C-498F-8ED0-78253B9F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2EBCF-DF1E-4DBB-93A7-821D66B6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77026-BCA4-4104-8656-E880E57C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263E1-516C-4A85-AB89-9FD31760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3204B-7BC4-4F35-9A24-4141CB13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9E710-F14D-456A-8215-F576163A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77AB4-4CB7-4B36-817E-9C61206C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48C03-DE45-4C70-8038-4C97329F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9EFCC-C144-43D2-82A6-5311AADC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7309E-7619-43B9-8168-0F6E2C8D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3B3-1C49-4032-9204-FABA268A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44900-4428-4FB4-A6A5-E6C3B1D5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FD61B-7A02-478D-BFA9-71007672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2BCE6-E84B-4444-AB25-FD12AD76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A6348-44BE-4FE7-A1D4-3721DAE2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ADA1E-B08B-4D4D-B48C-D53ACDD5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34BF7-EA04-4EDF-9004-64F4B43F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5F2CB-36BD-4E84-AAA9-7A419A25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C1372-1610-4679-9C12-3507CD16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4C4A4-ED18-4E5A-812A-EF2C2473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47B24-422B-4FD5-B35E-F6C8AE38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2992-A704-438E-9EDF-49669D79F4B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B0CE-FC4A-429B-8293-23BFC064CAA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D4DD-2D4B-46DB-99B9-5EB3C99F8D9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53A7-3D82-4BAD-BD4B-7DC7438B717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9357-D7E9-4F59-A2A4-FB85E726D3B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A445-A4F5-4911-81F0-464385A7F12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D667-805B-4B20-91D0-8BC73B7B1A6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946C-C9C7-496C-8204-44653DBC0CB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8EE9-A579-4C92-A3E2-43B634ECB26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7765-113A-487B-ABB8-4DB1C16E05C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E297-A16B-40F3-A4DB-480667CAD6E7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7CF4-EC1E-468A-83A5-7E432DC4E22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dapzoe.nl/images/user/endoscopy2.jpg&amp;imgrefurl=http://www.dapzoe.nl/index.php%3Fgo%3Dtekst%26n%3D18&amp;usg=__V0yf6lS2yueffD-9sy9xhNQw630=&amp;h=191&amp;w=200&amp;sz=10&amp;hl=nl&amp;start=18&amp;um=1&amp;tbnid=QCQhhWHmQlhDHM:&amp;tbnh=99&amp;tbnw=104&amp;prev=/images%3Fq%3Dbronchoscoop%26hl%3Dnl%26rls%3Dcom.microsoft:nl:IE-SearchBox%26rlz%3D1I7SUNA%26sa%3DN%26um%3D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hoolplaten.com/hoesten-t11780.jpg&amp;imgrefurl=http://www.schoolplaten.com/nl-kleurplaat-kleurplaten-foto-hoesten-i11780.html&amp;usg=__cAv-bd-1F8a2IR2us5UjTQ1T1Gg=&amp;h=531&amp;w=750&amp;sz=65&amp;hl=nl&amp;start=7&amp;um=1&amp;tbnid=3l8T0xJfJLH6YM:&amp;tbnh=100&amp;tbnw=141&amp;prev=/images%3Fq%3Dhoesten%26hl%3Dnl%26rls%3Dcom.microsoft:nl:IE-SearchBox%26rlz%3D1I7SUNA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Geneesmiddelen Luchtwege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411120" y="1413000"/>
            <a:ext cx="2773440" cy="20048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"/>
          <p:cNvPicPr/>
          <p:nvPr/>
        </p:nvPicPr>
        <p:blipFill>
          <a:blip r:embed="rId2"/>
          <a:stretch/>
        </p:blipFill>
        <p:spPr>
          <a:xfrm>
            <a:off x="4778280" y="1598760"/>
            <a:ext cx="3402000" cy="16333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3"/>
          <a:stretch/>
        </p:blipFill>
        <p:spPr>
          <a:xfrm>
            <a:off x="2195640" y="3706920"/>
            <a:ext cx="1955520" cy="23796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4"/>
          <a:stretch/>
        </p:blipFill>
        <p:spPr>
          <a:xfrm>
            <a:off x="5540400" y="3384720"/>
            <a:ext cx="266364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Georgia"/>
              </a:rPr>
              <a:t>4. Antihistaminica  (cromoglicinezuur, cetirizin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Geen echte hoestmiddel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Voornamelijk in hoestsiropen vanwege hun kalmerend effect (kinderen slapen beter door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Middelen: promethazin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LET OP!: mogelijk betrokken bij wiegendood, dus niet aan kinderen &lt;2jaa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riage hoe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50560" y="14130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Onschuldige hoest gaat binnen 2-3 weken vanzelf ov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Alarmsignale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Bloed ophoest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Kortademighei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Erg ziek ki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Veranderd hoestpatroon bij chronische hoest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NHG telefoonwijzer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Spo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Dringe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rag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1 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Welke 2 soorten hoest kun je onderscheiden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2: 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Noem 2 middelen die bij prikkelhoest kunnen  worden voorgeschreven, noem hun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bijwerkingen?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3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elke negatieve gegevens zijn er bekend over promethazine  (antihistaminicum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4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Noem 3 middelen die geschikt zijn voor productieve hoest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5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orden hoestmiddelen door de verzekering vergoed ?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6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: Waarom moet je na een inhalatie van corticosteroïden de mond spoelen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7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:Wat doe je dan met dat wate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8.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at is een stootkuu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Vraag 8: Wat is een stootkuu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RAST t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lergietest om te kijken voor welke allergenen iemand allergisch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de RAST-test wordt de hoeveelheid IgE tegen een bepaald allergeen bepaal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 specifieke allergenen (RAST huisstofmijt, RAST katten etc) wordt bloed afgeno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Peakflo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hoeveelheid lucht die de patiënt maximaal kan uitademe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te meten met een piekstroommeter (l/min) (eenvoudig instrumen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kort en krachtig in het apparaat blaz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delijk goede maat voor de doorgankelijkheid van de luchtwegen (momentopname!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verschil tussen waard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voor en na medicijngebruik (reversibiliteit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‘</a:t>
            </a: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s morgens en ‘s avonds (astma: ‘s morgens slechter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voor en na lichamelijke inspanning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8900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pirometr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ornamelijk gebruikt om COPD te diagnosticeren en controler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5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189000"/>
            <a:ext cx="151128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ronchoscop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= onderzoek van de luchtpijp met een bronch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Picture 5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637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ndoscop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365720"/>
            <a:ext cx="1728720" cy="16462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9" descr="bronchoscop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79640" y="4292640"/>
            <a:ext cx="2160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T-s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= speciaal röntgenonderzoek, computer maakt afbeeldingen van dwarsdoorsneden door het hele lichaam (coupes, plakje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T= computertomograf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8" name="Picture 5" descr="ct-sc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781360"/>
            <a:ext cx="1751040" cy="11746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longen"/>
          <p:cNvPicPr/>
          <p:nvPr/>
        </p:nvPicPr>
        <p:blipFill>
          <a:blip r:embed="rId3"/>
          <a:stretch/>
        </p:blipFill>
        <p:spPr>
          <a:xfrm>
            <a:off x="6886440" y="47656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Isotopens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v PET sc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dioactieve middelen worden toegedie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den zichtbaar in de PET sc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(kleurtje, lich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5" descr="180px-PET_scan_Parkinson%27s_Disease"/>
          <p:cNvPicPr/>
          <p:nvPr/>
        </p:nvPicPr>
        <p:blipFill>
          <a:blip r:embed="rId1"/>
          <a:stretch/>
        </p:blipFill>
        <p:spPr>
          <a:xfrm>
            <a:off x="6732720" y="3789360"/>
            <a:ext cx="1714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erklarende woordenlij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24000" y="1267920"/>
            <a:ext cx="882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Astma: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chronische luchtwegaandoening, piepen, hoesten, kortademigheid, aanvalsgewij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Atopische constituti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allergische aanle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Eosinofili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toename aantal eosinofielen in het blo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RAST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specifieke allergietest, gemeten in het bloed, bepaling specifiek Ig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tbv identificatie van allerge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Dyspno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kortademigheid, benauwdhei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Vesiculair ademgeruis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het geluid dat bij het ademhalen word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geproduceerd door gezonde longen (afkomstig uit de fijne longblaasjes)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en met een stethoscoop hoorbaar 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8000" y="3790440"/>
            <a:ext cx="82803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Georgia"/>
              </a:rPr>
              <a:t>Wat is hoesten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Hoesten is een reactie op een prikkel in d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keelholte of in de luchtweg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Georgia"/>
              </a:rPr>
              <a:t>Functie van hoesten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verwijderen van stoffen uit de keelholte of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luchtwegen die er niet thuishor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5" descr="hoesten-t117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484280"/>
            <a:ext cx="3047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ntwoord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560" y="1412640"/>
            <a:ext cx="889308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Productieve en niet-productieve hoe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2. Codeïne, noscapine, dextromethorf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bijwerking: obstipati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3. Mogelijk betrokken bij wiegendood, dus niet aan kinderen jonger dan 2 jaar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4. Ammoniumchloride, broomhexine (Bisolvon), acetylcysteïne (Fluimuci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5. Hoestmiddelen worden niet door de zorgverzekeraar vergoed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6. Irritatie van keel en stembanden (hoesten, heesheid, schimmelinfecti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7. Uitspug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8. Kortdurende behandeling met een hoge dosis geneesmidd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http://t3.gstatic.com/images?q=tbn:ANd9GcTQA1rZxb7bOY5BQRVin8QRffs1sfX264p9B636GLC5Z7nqIjb2XjCf08URHg"/>
          <p:cNvPicPr/>
          <p:nvPr/>
        </p:nvPicPr>
        <p:blipFill>
          <a:blip r:embed="rId1"/>
          <a:stretch/>
        </p:blipFill>
        <p:spPr>
          <a:xfrm>
            <a:off x="2362320" y="1355760"/>
            <a:ext cx="3709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roductieve 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et slij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t-productieve 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rikkelhoest, ontstaat door andere prikke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bijv als bijwerking bij de ACE-remmer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    </a:t>
            </a: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(hartfalen, hoge bloeddruk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cute hoest: oorza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stm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onchiolitis, aandoening bij zuigelin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piglottit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ringitis subglottica (pseudokroep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hronisch hoesten: oorza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Langer dan 3 weken hoesten: Oorzak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Astm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Allergische rhiniti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Postnasal drip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Vergrote neusamand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Roken of meerok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COP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Bronchuscarcinoo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Reflux= terugstromend maagzuu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Kortademighei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Hartaandoening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r wordt getwijfeld aan de werkzaamhei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aarschijnlijk is er een groot placebo-effect en wordt het mede daarom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niet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vergoed door de ziektekostenverzekera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79280" y="836640"/>
            <a:ext cx="896472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oestprikkeldempende stoff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ooral bij droge, niet-productieve hoes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nderdrukken hoestprikke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Nadeel: kan obstipatie veroorzake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iddelen: codeïne, noscapine, dextromethorfa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162828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1. Expectorant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Vergemakkelijken het ophoesten van slijm 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ammoniumchloride, succus liquiritiae in Mixtura resolvens FNA, drop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2. Mucolytic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Invloed op de taaiheid van het slijm in de luchtwegen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broomhexine (Bisolvon), acetylcysteïne (Fluimucil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3. Emollient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Ter verzachting van de geprikkelde slijmvliezen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stropen (tijmstroop, althaeastroop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6:22:11Z</dcterms:created>
  <dc:creator>Uw naam</dc:creator>
  <dc:description/>
  <dc:language>en-US</dc:language>
  <cp:lastModifiedBy>Uw naam</cp:lastModifiedBy>
  <cp:lastPrinted>2016-01-10T15:56:28Z</cp:lastPrinted>
  <dcterms:modified xsi:type="dcterms:W3CDTF">2018-01-02T15:35:59Z</dcterms:modified>
  <cp:revision>57</cp:revision>
  <dc:subject/>
  <dc:title>Slide 1</dc:title>
</cp:coreProperties>
</file>