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6B4-5FBC-42A3-8E24-1ED90762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611-AAC6-472F-8529-926FEA77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A42-B284-4FCE-AA7F-42946C32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D8C-C5AB-4423-B89D-DBED93F4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094E-5D2D-4AA4-94B2-E0BB9D85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68E6-6936-4C7E-BD0F-40C3047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0232-F576-432B-9C52-845A73C0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C7CA-70A2-4B97-A94C-34402E26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BBBA-3A31-4228-89D5-5035B8B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61A0-8716-48FF-88A8-9A3D7360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5DDA-D00B-4159-AC65-7204DBDE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06C-9CD0-4601-B25F-9243F6E2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2445-2AB9-47C0-B0E4-51EFD4FB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27C6-B08F-429E-9389-0DA5F739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E3D0-7019-4BFE-93DC-DEE34DE1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5F33-C2BE-43AB-AA85-BBC7FC41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0528-724D-456C-80AB-248B4977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0C6-2237-40BC-AFC4-E761A1C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0F0-4E96-46E5-A0C3-E9C8F10B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57D-D391-4A92-B430-448D151A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2FA-2CAF-4104-95CC-6577784D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BA2-CF27-4A14-9AD0-4828ED72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C64-80AF-492C-937E-D2F08F72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844-20B9-416D-A036-6B0982F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B50F-F2C4-4962-AB1A-28B276EFEF98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CE20-2B36-4CE5-92F3-D0A88470421A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ffffff"/>
                </a:solidFill>
                <a:latin typeface="Arial"/>
              </a:rPr>
              <a:t>Anafylaxi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over%20shock%20winter%20201011"/>
          <p:cNvPicPr/>
          <p:nvPr/>
        </p:nvPicPr>
        <p:blipFill>
          <a:blip r:embed="rId1"/>
          <a:stretch/>
        </p:blipFill>
        <p:spPr>
          <a:xfrm>
            <a:off x="6227640" y="2897280"/>
            <a:ext cx="2778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urticaria_thumb"/>
          <p:cNvPicPr/>
          <p:nvPr/>
        </p:nvPicPr>
        <p:blipFill>
          <a:blip r:embed="rId1"/>
          <a:stretch/>
        </p:blipFill>
        <p:spPr>
          <a:xfrm>
            <a:off x="1547640" y="1363680"/>
            <a:ext cx="5832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herapie: ziekenhu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ie met adrena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pipen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toedienen van zuurstof en indien nodig ook intub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aanhoudend angio-oedeem soms ook zuurstof toediening of een tracheot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rijding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ANd9GcSgmIBFG3buMw_ao_AnMkQyGROrO4n9iZv9hwycePM18_fwmE0FFA"/>
          <p:cNvPicPr/>
          <p:nvPr/>
        </p:nvPicPr>
        <p:blipFill>
          <a:blip r:embed="rId1"/>
          <a:stretch/>
        </p:blipFill>
        <p:spPr>
          <a:xfrm>
            <a:off x="5364000" y="765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pipen2"/>
          <p:cNvPicPr/>
          <p:nvPr/>
        </p:nvPicPr>
        <p:blipFill>
          <a:blip r:embed="rId1"/>
          <a:stretch/>
        </p:blipFill>
        <p:spPr>
          <a:xfrm>
            <a:off x="4859280" y="2349360"/>
            <a:ext cx="3240000" cy="258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pipen"/>
          <p:cNvPicPr/>
          <p:nvPr/>
        </p:nvPicPr>
        <p:blipFill>
          <a:blip r:embed="rId2"/>
          <a:stretch/>
        </p:blipFill>
        <p:spPr>
          <a:xfrm>
            <a:off x="971640" y="2349360"/>
            <a:ext cx="3047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Epipen bij allergie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ts schrijft een EpiPen® voor bij mensen die eerder een acute of ernstige allergische reactie hebben geh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moet  direct ingespoten worden zodra de eerste verschijnselen optreden. 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Hoe werkt de Epipen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pi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werkzame stof in EpiPen is Adrenal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nauwt de bloedvaten en verhoogt de   bloeddru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wijdt de luchtwegen, waardoor de benauwdheid verminde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jectie begint na drie tot vijf minuten te werken.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ot slot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renaline voorkomt de anafylactische reactie niet, maar is een eerste redmiddel om de ernstigste verschijnselen op te heffen. De anafylactische reactie moet altijd door een arts verder worden behand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istockphoto_2334825_puzzled_kids_cartoon"/>
          <p:cNvPicPr/>
          <p:nvPr/>
        </p:nvPicPr>
        <p:blipFill>
          <a:blip r:embed="rId1"/>
          <a:stretch/>
        </p:blipFill>
        <p:spPr>
          <a:xfrm>
            <a:off x="2627280" y="1844640"/>
            <a:ext cx="361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afyla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Acute levensbedreigende, allerg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ctie op een lichaamsvreemd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optreden na inname van het allergeen, maar ook na inademing ervan, na huidcontact of een injectie met de betreffende st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soms in enkele minuten tot de dood leiden als deze niet meteen wordt behan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Voorkomende allergenen zij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 (zoals melk, noten, pinda's etc. medicijnen (zoals penicilline, aspirine en NSAID's zoals ibuprofen en diclofenac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xaller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ectensteken van bijvoorbeeld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bij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wesp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afylactische sh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ctische shock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het lichaam door verwijding van de bloedvaten ten gevolge van het vrijgeven van een grote hoeveelheid histamine in shock geraa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Shock-verschijnsel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smoeilijkheden (door de vernauwde luchtwe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ypotens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chycar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auwvallen/ klam aanvoelen/bl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eloosheid/sh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Overige verschijnsele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lbul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eu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io-oedeem (opgezwollen gelaat, hals en kee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nende 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gio-oede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Nd9GcTa39jwzSDoZ-aVnAlntN2_uzqDwZ6lLdAgQN1gDudKTpUtGaIh"/>
          <p:cNvPicPr/>
          <p:nvPr/>
        </p:nvPicPr>
        <p:blipFill>
          <a:blip r:embed="rId1"/>
          <a:stretch/>
        </p:blipFill>
        <p:spPr>
          <a:xfrm>
            <a:off x="539640" y="1341360"/>
            <a:ext cx="4050000" cy="303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ANd9GcT_rih1wIHupN06jLHAdydW3nsYf1JE_bpCFvuZ1kNJd74PvtRa"/>
          <p:cNvPicPr/>
          <p:nvPr/>
        </p:nvPicPr>
        <p:blipFill>
          <a:blip r:embed="rId2"/>
          <a:stretch/>
        </p:blipFill>
        <p:spPr>
          <a:xfrm>
            <a:off x="4859280" y="3429000"/>
            <a:ext cx="36846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Galbulten(netelroo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netelroos"/>
          <p:cNvPicPr/>
          <p:nvPr/>
        </p:nvPicPr>
        <p:blipFill>
          <a:blip r:embed="rId1"/>
          <a:stretch/>
        </p:blipFill>
        <p:spPr>
          <a:xfrm>
            <a:off x="2340000" y="1052640"/>
            <a:ext cx="377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9:53:33Z</dcterms:created>
  <dc:creator>-</dc:creator>
  <dc:description/>
  <dc:language>en-US</dc:language>
  <cp:lastModifiedBy>Cuperus,B.K.</cp:lastModifiedBy>
  <dcterms:modified xsi:type="dcterms:W3CDTF">2013-12-05T19:47:06Z</dcterms:modified>
  <cp:revision>16</cp:revision>
  <dc:subject/>
  <dc:title>Plotseling onwel na injectie of wespensteek</dc:title>
</cp:coreProperties>
</file>