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u="sng">
              <a:solidFill>
                <a:srgbClr val="000000"/>
              </a:solidFill>
              <a:uFillTx/>
              <a:latin typeface="Verdan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F878B-D9B9-4AC1-B991-E7606CC149DE}"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F05D-478B-467A-9D9D-4E4F3149A2CA}"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ED38-7501-4106-9DB3-4601DB7DF2A3}"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562B-3EF2-4F0B-B825-EA11B6C7C275}"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nam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veel wratten en op welke plaat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 de wratten al aanwezig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hinder de wrat veroorzaakt; pijn, en ongemak, of cosmetische kl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mmuunstoornis gebruik immunosuppress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heeft de patiënt gegaan met welk resul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de patiënt de wrat wil laten behan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D248-C20C-4472-B801-7037C9DFFFA7}"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4F28-A8D9-4229-AB22-6E3437ACA9B7}"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D3AC-8937-4B8C-9182-C9AABF4C115E}"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74A0-35B6-48B5-A9DD-D95A9F6388FD}"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2B93-B118-4583-9E8B-9C72F99B8298}"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1446-943D-4458-8241-5F9167A1E612}"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D4095-2BCD-493E-BDC0-11FF261BA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D1B26-4699-44E4-A486-59D102B5E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36C1039-99C7-4A78-BCD8-00B78C402B7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72F9CC4-B933-44DD-A01E-13AA870F47D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077B7DE-D9F6-428C-840E-60958ECAE58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B5C455A-A295-496B-8E7A-848A3A265B9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30E5A47-92CD-4886-A440-7B6509C2C30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BB00BD5-A3EC-4D48-939B-F0135D6B364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6F1464E-90AB-44E4-BD1E-EAA5D2967FB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E0B15C1-0906-4626-B90F-582385E9A17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668B736-2ECF-4E4E-BD02-299E949B2BC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93C221B-1721-4011-85F5-57B0E0A34F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3B9DF-E600-4862-996A-BA2563F69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F01076D-4876-4769-8D27-CE3C416BC2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CBBF9DD-A6F8-473B-BD3A-B7EDCCD578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5301B30-D43B-4624-829E-3CA2435730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14F8B9C-8430-459D-BF84-281BB0C350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73AFB5E-880B-4266-958B-433AA767E5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1EFFC91-6FA8-4985-8BDB-F3CF82A259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2734F30-E5CD-4920-AD84-E984461E8F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4C8E363-6C9D-4924-879C-A112B68742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756C456-4718-4DBC-A396-3097AB9727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E0B069F-9CCD-4F9B-9826-2FF0A1138B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FB9C8-5CBD-4DF7-91C0-E5AB4D6E3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A0C3B6E-852B-4005-BA25-A6080FEED2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E9738C-3008-4EBA-BF6A-D205FB76EB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9F8B68-A1E2-4227-ACFC-4BA5C26332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37937B-5301-45F3-9968-40DEC9AC33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F6DB54-50A1-482A-ACD1-CB4344B105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9BC735-6CA2-4AB8-844F-827F40543C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106704-1BD9-40EE-9CAB-C91420D69A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2A2E4E-8C06-4B66-BC11-990A07408D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DBB202-FADF-43EB-B4FF-D8BF02B688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A78B77-88DF-4FC4-8188-91DC729662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A4843-8B05-44C1-9288-9A5E8F0A2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C861F8-658D-411A-AADB-C8CD06788D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B58F5B6-D549-4B33-82D5-E24D6B5B85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01627D-C164-455A-80B9-832859229E1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2428B1A-23C7-48FE-9EE5-C3E8284A7E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FAF0375-07EA-4CD4-83E9-B9934D7844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315018F-C148-4631-90C9-CB0D6055EE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1080FEE-D99D-46FA-A1CC-D31D8156FC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4D81F37-1FD5-4968-8F57-E7C7CBCFAB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49570EB-2A54-4601-8627-5B48CADAC3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BADC3E2-AFEF-403B-94A0-5E131B3B57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70CBA-64A4-44B9-8724-B0EA112AF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EB07583-727B-4419-8EB6-B2DDB94836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CBF6B79-A51D-4C94-ABEC-CF29FD8924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DC018C7-4E72-4349-8EAA-D918B4C51C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21B287C-6EE5-47C5-AA9A-AFCE140636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D18E4CE-FDCC-495C-BBC8-B7DA37EF3F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7E4FA-07A1-4371-AA3E-FBAD24DA6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D7005-FFEF-4C84-BDA5-D1919A761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AD6C5-659A-4226-8444-8EE11FE58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DDF62-329F-480C-9B26-0503D971C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45EB8-7F2F-4295-ABCF-B1969CBD9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162AC-99E3-4D56-BA14-A26BE9652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E61A2-086E-49D5-B5DE-8E9E42677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83031-E282-473F-8B17-A6773A37F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8B8DD-5720-484B-BF1F-89CD194C5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60EB6-11D6-4BD4-8624-068238E681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A19F92-F384-48A6-BDF5-91B2DF0C7B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30D820-28D6-45AE-99A8-E7AFF235EE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6C40F4-097F-488B-ADA0-F209AFFA6D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8FCDB3-DBEF-4356-8FCD-B465AAA46E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CB2263-8A9B-408A-962A-446A76A2FF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A41A91-D2C7-4225-AA46-844D8E7855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0FD91-D2A0-4658-9B75-42E769A1C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896D6B-7EAD-4C22-BC12-070AA5EAD7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83BA63-57A2-4E3B-B6D1-D8EDA99BF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711D8-EA94-4C91-B9DD-C6B2E0C7C3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F588AF-CF05-4A22-A6DE-181782189E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32118B-DF2B-4FCF-B8EF-02CA08BFDD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B97A75-74C7-4AE0-AACC-877BCA9FB4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9F1973-0D1A-4373-B441-FB610CEEC7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F48089F-AC9A-4EF0-89EA-D954132E756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C849145-AE8D-4CBF-A02F-B1A9A87251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E42A032-A048-4A22-81B8-45196D5A600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B22EE-E30E-4E6B-A6D3-9FC1F88B2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CFC32F5-904B-4354-9E12-6C232C049C1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B91D651-332B-4A88-A718-8352239923A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5E79784-DBC6-4B99-8D6C-AAB59AD1187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9BC3030-5993-42B3-93F4-4E85A2CB045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1D5E943-CB62-4C97-ABA8-41DC3856FE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17BD7B5-E475-40C1-B46A-A294D9D0E5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79A1E6F-395C-46E4-B3A2-85C83EC4E65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3D35B8B-0C66-4EF1-BDDE-33D3C12683C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F62B273-F190-4A47-B545-36D58441121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F52450-2703-459F-9849-6ACF601AC0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F2295-E74A-43DB-8594-18A107B44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0F8BB8-2DC4-4434-B5C5-3D5FFB58D1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77024C-623A-4BC6-A25C-2346B488CA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24EF8F-7825-41F1-A1CA-E8A5C3402D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51B926-8A4C-4DDA-B911-C69020DC12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901E91-D65B-47E9-A7A9-9B3276DB10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23E255-7BA8-47EC-A52D-3563443C5F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D36923-CEA2-4F57-9811-083249B96C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306DA-02AA-4A6F-9078-768579AE03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EE694D-2040-496B-8C8D-D04C6FB5C9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D707EC-C98A-47F6-A3FD-8B2EBFEEDF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40805-6378-4CAD-9E7C-874FBFE36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82727C-11B5-4028-9CD5-A02CFB18FD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AE7056-9095-4461-9DE1-E9CC7DE6A1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A0E616-9446-42C3-896F-C62614A485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3CB6F5-1BA6-47A5-B48C-C2350248FE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25860E-AB0F-45C1-9800-90575600DD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5B9105-6329-4311-A7A8-89587D2C51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773A22-BED2-4CDA-BBBD-3F5E4959B4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42B8D3-1707-4897-A92B-2BA15CE630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B3F16C-69DB-4DC3-9A69-082BB6A67F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D2AABD-1FE9-45E9-9B2A-47D6AB6FA0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5B7C3-6F8D-430C-8686-B63AB9BF6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EDA7EE-750F-45A6-9719-68B31594B8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3AD183-AF54-49D3-810D-718830D719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6F547E-A56B-4DBC-A330-77AE6CE49C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DDE9CA-5F34-4804-BB5B-26CCCBC402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297052-5B0E-4DF3-A9E0-62DE71BBD4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5189BD-601C-455A-840A-B39F729995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27FF44-4A00-4FFF-816A-14BDFDBE59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7DE1B0-9A49-4D53-B061-1F897F3C2E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B339AF-F3AC-419B-80D9-713E6AB2C4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2FFE77-B152-4AD3-B0EA-F1F9CCE4F6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5ABBB-4D69-4759-B0C0-66D06E9E2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AB9EC3-848E-4474-AF83-D36E84A965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BE7B36-1E00-484E-809D-D495FD0AEE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714958-41E1-4D73-B9F8-608CAAEC23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C86CF7-07DB-4432-84F0-87A19DB6B9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5CF36A-9B1E-4076-A93A-3EAF565833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47A1D8-6206-415C-944E-21615F967A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159DB2-2B76-4BA0-994E-D495BA46F4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8A2F86-BF84-4F27-AAB2-64ABEEBC7B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6B2799-24AA-4D95-8380-22565AB4C8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5A6E4B-0341-424B-96A8-2CE0961BDB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0B860-3FDE-4B38-9A23-10E9AAABE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E6AED9-3492-44F4-BA1B-902F1D6A9E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B9FCCA-6619-4269-93E6-62729E2BA4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63566B-FD56-4BB8-B932-340E88A381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0527CF-D21B-48AE-8712-A2A18791F4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9B9A93-858F-4C3C-864B-6FBEEA85A0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429A8B-DDDD-4B9B-B433-AF19577A7C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F2FC40-12BD-43C8-9F91-D684A50DA0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03A580C-09CA-4D5B-BAD8-6D034AF3095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D1B6629-5F2E-4BCB-9B83-3A0268215B1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0CBB102-3A77-499A-8CB9-DE2280584D8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7"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8"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9"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F35A-F56D-471F-96CC-241AD2CC44A2}"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chte verbindingslijn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455"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6"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7" name="Rechthoek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8" name="Rechthoe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9" name="Rechthoek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0" name="Rechthoek 23"/>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1" name="Rechthoek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2" name="Ova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3" name="Ova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4" name="Rechthoek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E37A-72FE-4CD6-907E-1B060B257BDF}"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7"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8"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9"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0"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1"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2"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13"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4"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B7FA-01A8-4309-97D9-5649DB15C63B}"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7" name="Rechthoe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8" name="Rechthoek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9"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0"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1" name="Rechthoek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2" name="Rechte verbindingslijn 23"/>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63" name="Ovaal 24"/>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4" name="Ovaal 25"/>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D3B1-719E-486B-A8E2-62B92DD36CCD}"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 name="Rechthoe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2" name="Rechthoe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3" name="Rechthoek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4"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 name="Rechte verbindingslijn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6" name="Rechthoek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7" name="Ovaal 24"/>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8" name="Ovaal 25"/>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7C78-1061-4339-A041-6E46B93C0CEB}"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1"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2"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3"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4"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5"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6"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107"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8"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8C5F-8D0D-4708-A02C-953D4354DCBB}"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hthoe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1"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2" name="Rechthoe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3" name="Rechthoek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4" name="Rechthoek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5" name="Rechthoek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6" name="Rechthoek 23"/>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7" name="Rechthoek 24"/>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8" name="Rechte verbindingslijn 25"/>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159" name="Ovaal 26"/>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0" name="Ovaal 27"/>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5D4C-189B-4976-8147-F79DE4783FD6}"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3"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4"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5"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6"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7"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8"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09"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0"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1" name="Rechte verbindingslijn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21AF-5650-4D6F-B792-D7FC3F74197B}"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Rechte verbindingslijn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54" name="Rechthoe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5" name="Rechthoek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6"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7" name="Rechthoek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8" name="Rechthoek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9" name="Rechthoek 23"/>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0" name="Rechte verbindingslijn 2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61" name="Rechthoek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2" name="Ovaal 26"/>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3" name="Ovaal 27"/>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1767-6050-4A7C-8F4C-EE5AD97AC9EA}"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6"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7"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8"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9"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0"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1"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312"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3"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4FE5-207D-4068-9FD5-798851350C95}"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6" name="Rechthoe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7"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8"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9"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0" name="Rechthoek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77DF-3332-43D5-BBE0-F545446CABD6}" type="slidenum">
              <a:rPr b="0" lang="nl-NL"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hthoek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3"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4"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5" name="Rechthoek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6" name="Rechthoe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7" name="Rechthoek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8" name="Rechthoek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9" name="Rechte verbindingslijn 24"/>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410" name="Ova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1" name="Ova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2" name="Rechthoek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1637-67CB-4036-8A55-614A2DEED2B0}"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600" spc="-1" strike="noStrike">
              <a:solidFill>
                <a:srgbClr val="646b86"/>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d16349"/>
                </a:solidFill>
                <a:latin typeface="Georgia"/>
              </a:rPr>
              <a:t>Wratten (verrucae)</a:t>
            </a:r>
            <a:br>
              <a:rPr sz="4200"/>
            </a:br>
            <a:br>
              <a:rPr sz="4200"/>
            </a:br>
            <a:r>
              <a:rPr b="0" lang="nl-NL" sz="1100" spc="-1" strike="noStrike">
                <a:solidFill>
                  <a:srgbClr val="d16349"/>
                </a:solidFill>
                <a:latin typeface="Georgia"/>
              </a:rPr>
              <a:t>(bijgesteld :29-11-2017 Bouke Cuperus)</a:t>
            </a:r>
            <a:endParaRPr b="0" lang="en-US" sz="1100" spc="-1" strike="noStrike">
              <a:solidFill>
                <a:srgbClr val="7b9899"/>
              </a:solidFill>
              <a:latin typeface="Georgia"/>
            </a:endParaRPr>
          </a:p>
        </p:txBody>
      </p:sp>
      <p:pic>
        <p:nvPicPr>
          <p:cNvPr id="615" name="Picture 5" descr=""/>
          <p:cNvPicPr/>
          <p:nvPr/>
        </p:nvPicPr>
        <p:blipFill>
          <a:blip r:embed="rId1"/>
          <a:stretch/>
        </p:blipFill>
        <p:spPr>
          <a:xfrm>
            <a:off x="5408640" y="2836800"/>
            <a:ext cx="2511360" cy="1638360"/>
          </a:xfrm>
          <a:prstGeom prst="rect">
            <a:avLst/>
          </a:prstGeom>
          <a:ln w="0">
            <a:noFill/>
          </a:ln>
        </p:spPr>
      </p:pic>
      <p:pic>
        <p:nvPicPr>
          <p:cNvPr id="616" name="Picture 6" descr=""/>
          <p:cNvPicPr/>
          <p:nvPr/>
        </p:nvPicPr>
        <p:blipFill>
          <a:blip r:embed="rId2"/>
          <a:stretch/>
        </p:blipFill>
        <p:spPr>
          <a:xfrm>
            <a:off x="5435640" y="4475160"/>
            <a:ext cx="2521080" cy="1165320"/>
          </a:xfrm>
          <a:prstGeom prst="rect">
            <a:avLst/>
          </a:prstGeom>
          <a:ln w="0">
            <a:noFill/>
          </a:ln>
        </p:spPr>
      </p:pic>
      <p:pic>
        <p:nvPicPr>
          <p:cNvPr id="617" name="Picture 8" descr=""/>
          <p:cNvPicPr/>
          <p:nvPr/>
        </p:nvPicPr>
        <p:blipFill>
          <a:blip r:embed="rId3"/>
          <a:stretch/>
        </p:blipFill>
        <p:spPr>
          <a:xfrm>
            <a:off x="1041480" y="2803680"/>
            <a:ext cx="4292640" cy="2827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Ouderdomswrat (Verrucae Seborrhoica / sensilis)</a:t>
            </a:r>
            <a:endParaRPr b="0" lang="en-US" sz="2400" spc="-1" strike="noStrike">
              <a:solidFill>
                <a:srgbClr val="7b9899"/>
              </a:solidFill>
              <a:latin typeface="Georgia"/>
            </a:endParaRPr>
          </a:p>
        </p:txBody>
      </p:sp>
      <p:sp>
        <p:nvSpPr>
          <p:cNvPr id="642" name=""/>
          <p:cNvSpPr txBox="1"/>
          <p:nvPr/>
        </p:nvSpPr>
        <p:spPr>
          <a:xfrm>
            <a:off x="301680" y="1371600"/>
            <a:ext cx="4038480" cy="468144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uderdomswrat </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iet besmettelijk</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Goedaardig</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onker brui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Ruwe structuur</a:t>
            </a:r>
            <a:endParaRPr b="0" lang="en-US" sz="2000" spc="-1" strike="noStrike">
              <a:solidFill>
                <a:srgbClr val="000000"/>
              </a:solidFill>
              <a:latin typeface="Georgia"/>
            </a:endParaRPr>
          </a:p>
        </p:txBody>
      </p:sp>
      <p:pic>
        <p:nvPicPr>
          <p:cNvPr id="643" name="Picture 6" descr=""/>
          <p:cNvPicPr/>
          <p:nvPr/>
        </p:nvPicPr>
        <p:blipFill>
          <a:blip r:embed="rId1"/>
          <a:stretch/>
        </p:blipFill>
        <p:spPr>
          <a:xfrm>
            <a:off x="4903920" y="1773360"/>
            <a:ext cx="3628800" cy="2803320"/>
          </a:xfrm>
          <a:prstGeom prst="rect">
            <a:avLst/>
          </a:prstGeom>
          <a:ln w="0">
            <a:noFill/>
          </a:ln>
        </p:spPr>
      </p:pic>
      <p:sp>
        <p:nvSpPr>
          <p:cNvPr id="644"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Genitale wratten (condyloma acuminatum)</a:t>
            </a:r>
            <a:endParaRPr b="0" lang="en-US" sz="28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eer besmettelijk&gt;SOA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epaald type van Humaan Papilloma virus</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loemkoolachtig gesteeld vormsel</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estelt zich op de slijmvliezen</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ocatie: anus en/of geslachtsorganen man/vrouw</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of uitwendig</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47" name="Picture 5" descr=""/>
          <p:cNvPicPr/>
          <p:nvPr/>
        </p:nvPicPr>
        <p:blipFill>
          <a:blip r:embed="rId1"/>
          <a:stretch/>
        </p:blipFill>
        <p:spPr>
          <a:xfrm>
            <a:off x="6440400" y="4508640"/>
            <a:ext cx="2238480" cy="1671480"/>
          </a:xfrm>
          <a:prstGeom prst="rect">
            <a:avLst/>
          </a:prstGeom>
          <a:ln w="0">
            <a:noFill/>
          </a:ln>
        </p:spPr>
      </p:pic>
      <p:pic>
        <p:nvPicPr>
          <p:cNvPr id="648" name="Picture 6" descr=""/>
          <p:cNvPicPr/>
          <p:nvPr/>
        </p:nvPicPr>
        <p:blipFill>
          <a:blip r:embed="rId2"/>
          <a:stretch/>
        </p:blipFill>
        <p:spPr>
          <a:xfrm>
            <a:off x="6230880" y="1773360"/>
            <a:ext cx="2467080" cy="1584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Water wratjes (mollusca contagiosa)</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Oorzaak: Pokviru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Zeer besmettelijk door intensief huidcontact  (zwembad,gymzaal</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Vooral bij kinderen</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Doorschijnend of wit, bol, vast bultje met in het   midden vaak een inzinking</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Gevuld met substantie</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51" name="Picture 2" descr=""/>
          <p:cNvPicPr/>
          <p:nvPr/>
        </p:nvPicPr>
        <p:blipFill>
          <a:blip r:embed="rId1"/>
          <a:stretch/>
        </p:blipFill>
        <p:spPr>
          <a:xfrm>
            <a:off x="4211640" y="3357720"/>
            <a:ext cx="2530440" cy="2474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Diagnose: Wratten</a:t>
            </a:r>
            <a:endParaRPr b="0" lang="en-US" sz="2800" spc="-1" strike="noStrike">
              <a:solidFill>
                <a:srgbClr val="7b9899"/>
              </a:solidFill>
              <a:latin typeface="Georgia"/>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oe wordt diagnose gesteld?</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oor de huisarts (anamnese)</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Kenmerkend, geen nader onderzoek nodi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ms biopt afnemen,voor aanvullend onderzoek</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rste behandelin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dere behandeling evt delegeren naar assistente a.d.h.v. protocol (afhankelijk van aard, locatie, behandelin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ventueel verwijzing dermatologie</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Behandelingsmogelijkheden</a:t>
            </a:r>
            <a:endParaRPr b="0" lang="en-US" sz="3300" spc="-1" strike="noStrike">
              <a:solidFill>
                <a:srgbClr val="7b9899"/>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1. Afwachten (expectatief beleid)</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2. Aanstippen; patiënt kan zelf aanstipvloeistof bij de apotheek kopen</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3. Cryotherapie (bevriezing) , aanstippen met vloeibare stikstok  wrattenspreekuur.</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 </a:t>
            </a:r>
            <a:r>
              <a:rPr b="0" lang="nl-NL" sz="2000" spc="-1" strike="noStrike">
                <a:solidFill>
                  <a:srgbClr val="000000"/>
                </a:solidFill>
                <a:latin typeface="Georgia"/>
              </a:rPr>
              <a:t>4. Uitlepelen </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5. Wegsnijden</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6.Wegbranden (coagulatie)….is pijnlijk daardoor  weinig toegepast</a:t>
            </a:r>
            <a:endParaRPr b="0" lang="en-US" sz="2000" spc="-1" strike="noStrike">
              <a:solidFill>
                <a:srgbClr val="000000"/>
              </a:solidFill>
              <a:latin typeface="Georg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Huidbiopsie</a:t>
            </a:r>
            <a:endParaRPr b="0" lang="en-US" sz="2400" spc="-1" strike="noStrike">
              <a:solidFill>
                <a:srgbClr val="7b9899"/>
              </a:solidFill>
              <a:latin typeface="Georgia"/>
            </a:endParaRPr>
          </a:p>
        </p:txBody>
      </p:sp>
      <p:sp>
        <p:nvSpPr>
          <p:cNvPr id="65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weghalen van een stukje huid onder lokale verdovin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dicatie:</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ekerheid over “klinische diagnose” te krijg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Huidbiopsie</a:t>
            </a:r>
            <a:endParaRPr b="0" lang="en-US" sz="2400" spc="-1" strike="noStrike">
              <a:solidFill>
                <a:srgbClr val="7b9899"/>
              </a:solidFill>
              <a:latin typeface="Georgia"/>
            </a:endParaRPr>
          </a:p>
        </p:txBody>
      </p:sp>
      <p:sp>
        <p:nvSpPr>
          <p:cNvPr id="65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ovaaltje:</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rmatoloo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ij verdenking melanoom</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teriel onder verdovin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vaalvormig gebied rondom huidafwijking uitgesned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chting na 7-14 dagen verwijderen bij huisarts</a:t>
            </a:r>
            <a:endParaRPr b="0" lang="en-US" sz="2000" spc="-1" strike="noStrike">
              <a:solidFill>
                <a:srgbClr val="000000"/>
              </a:solidFill>
              <a:latin typeface="Georgia"/>
            </a:endParaRPr>
          </a:p>
        </p:txBody>
      </p:sp>
      <p:pic>
        <p:nvPicPr>
          <p:cNvPr id="660" name="Picture 5" descr="melanoma_malign"/>
          <p:cNvPicPr/>
          <p:nvPr/>
        </p:nvPicPr>
        <p:blipFill>
          <a:blip r:embed="rId1"/>
          <a:stretch/>
        </p:blipFill>
        <p:spPr>
          <a:xfrm>
            <a:off x="5003640" y="2421000"/>
            <a:ext cx="1905120" cy="1276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Tip: Geen lesstof</a:t>
            </a:r>
            <a:endParaRPr b="0" lang="en-US" sz="3300" spc="-1" strike="noStrike">
              <a:solidFill>
                <a:srgbClr val="7b9899"/>
              </a:solidFill>
              <a:latin typeface="Georgia"/>
            </a:endParaRPr>
          </a:p>
        </p:txBody>
      </p:sp>
      <p:sp>
        <p:nvSpPr>
          <p:cNvPr id="66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oede informatie over wratten spreekuur is te vinden in het bo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igen spreekuur en chronische ziekten</a:t>
            </a:r>
            <a:endParaRPr b="0" lang="en-US" sz="27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b9899"/>
                </a:solidFill>
                <a:latin typeface="Verdana"/>
              </a:rPr>
              <a:t>        </a:t>
            </a:r>
            <a:r>
              <a:rPr b="0" lang="nl-NL" sz="2800" spc="-1" strike="noStrike">
                <a:solidFill>
                  <a:srgbClr val="7b9899"/>
                </a:solidFill>
                <a:latin typeface="Verdana"/>
              </a:rPr>
              <a:t>Leerdoelen:</a:t>
            </a:r>
            <a:endParaRPr b="0" lang="en-US" sz="28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 afloop van deze  powerpoint kan je: </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schillende soorten wratten benoem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nkele behandelmethoden beschrijv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Wat zijn wratten?</a:t>
            </a:r>
            <a:endParaRPr b="0" lang="en-US" sz="33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Georgia"/>
              </a:rPr>
              <a:t>Wratten zijn knobbeltjes die ruw en hard aanvoelen. Soms zien ze er een beetje bloemkoolachtig uit. Ze komen vooral voor op de handen en voeten, maar ze kunnen ook op andere plaatsen zitten. Door lopen worden voetwratten in het eelt van de voetzool gedrukt. Voetwratten doen soms pijn bij staan of lopen.</a:t>
            </a:r>
            <a:endParaRPr b="0" lang="en-US" sz="2400" spc="-1" strike="noStrike">
              <a:solidFill>
                <a:srgbClr val="000000"/>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Wratten (Verrucae)</a:t>
            </a:r>
            <a:endParaRPr b="0" lang="en-US" sz="2800" spc="-1" strike="noStrike">
              <a:solidFill>
                <a:srgbClr val="7b9899"/>
              </a:solidFill>
              <a:latin typeface="Georgia"/>
            </a:endParaRPr>
          </a:p>
        </p:txBody>
      </p:sp>
      <p:sp>
        <p:nvSpPr>
          <p:cNvPr id="623" name=""/>
          <p:cNvSpPr txBox="1"/>
          <p:nvPr/>
        </p:nvSpPr>
        <p:spPr>
          <a:xfrm>
            <a:off x="301320" y="1527120"/>
            <a:ext cx="8504280" cy="45720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 </a:t>
            </a:r>
            <a:r>
              <a:rPr b="0" lang="nl-NL" sz="2000" spc="-1" strike="noStrike">
                <a:solidFill>
                  <a:srgbClr val="000000"/>
                </a:solidFill>
                <a:latin typeface="Verdana"/>
              </a:rPr>
              <a:t>Hoe ontstaan wratt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orzaak: Humane Papillomavirus (HPV-virus) van de huid</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ijn besmettelijk</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cubatietijd: 3-6 maanden of langer</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 1 jaar zijn de wratten bij ongeveer de helft van de mensen spontaan verdwen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Het is niet aangetoond dat u wratten krijgt van zwembaden, openbare douches, of van sporten op blote voeten. </a:t>
            </a:r>
            <a:endParaRPr b="0" lang="en-US" sz="2000" spc="-1" strike="noStrike">
              <a:solidFill>
                <a:srgbClr val="000000"/>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schillende soorten wratten</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ewone wrat (handen /vingers  (</a:t>
            </a:r>
            <a:r>
              <a:rPr b="0" i="1" lang="nl-NL" sz="2700" spc="-1" strike="noStrike">
                <a:solidFill>
                  <a:srgbClr val="000000"/>
                </a:solidFill>
                <a:latin typeface="Georgia"/>
              </a:rPr>
              <a:t>verrucae vulgaris</a:t>
            </a:r>
            <a:r>
              <a:rPr b="0" lang="nl-NL"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oetwratten   (</a:t>
            </a:r>
            <a:r>
              <a:rPr b="0" i="1" lang="nl-NL" sz="2700" spc="-1" strike="noStrike">
                <a:solidFill>
                  <a:srgbClr val="000000"/>
                </a:solidFill>
                <a:latin typeface="Georgia"/>
              </a:rPr>
              <a:t>verrucae plantaris</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enerische wratten (</a:t>
            </a:r>
            <a:r>
              <a:rPr b="0" i="1" lang="nl-NL" sz="2700" spc="-1" strike="noStrike">
                <a:solidFill>
                  <a:srgbClr val="000000"/>
                </a:solidFill>
                <a:latin typeface="Georgia"/>
              </a:rPr>
              <a:t>condylomata acuminata </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ouderdomswrat (</a:t>
            </a:r>
            <a:r>
              <a:rPr b="0" i="1" lang="nl-NL" sz="2700" spc="-1" strike="noStrike">
                <a:solidFill>
                  <a:srgbClr val="000000"/>
                </a:solidFill>
                <a:latin typeface="Georgia"/>
              </a:rPr>
              <a:t>verrrucae senilis</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waterwratjes: (</a:t>
            </a:r>
            <a:r>
              <a:rPr b="0" i="1" lang="nl-NL" sz="2700" spc="-1" strike="noStrike">
                <a:solidFill>
                  <a:srgbClr val="000000"/>
                </a:solidFill>
                <a:latin typeface="Georgia"/>
              </a:rPr>
              <a:t>mollusca contagiosa</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ruca vulgaris (‘gewone wrat’)</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Rond, bloemkoolachtig</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Scherp begrensd</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Sterke verhoorning</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Meestal meerdere</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 handen, knieën,</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llebogen, gelaat</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8" name="Picture 3" descr=""/>
          <p:cNvPicPr/>
          <p:nvPr/>
        </p:nvPicPr>
        <p:blipFill>
          <a:blip r:embed="rId1"/>
          <a:stretch/>
        </p:blipFill>
        <p:spPr>
          <a:xfrm>
            <a:off x="4932360" y="2205000"/>
            <a:ext cx="3511440" cy="153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Voetwrat (verruca plantaris)</a:t>
            </a:r>
            <a:endParaRPr b="0" lang="en-US" sz="28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ruca plantaris:  ligt verzonken in het eelt van de voetzoel</a:t>
            </a:r>
            <a:endParaRPr b="0" lang="en-US" sz="20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  </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ozaïekwrat: breidt zich oppervlakkig uit.</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   </a:t>
            </a:r>
            <a:r>
              <a:rPr b="0" lang="nl-NL" sz="1000" spc="-1" strike="noStrike">
                <a:solidFill>
                  <a:srgbClr val="000000"/>
                </a:solidFill>
                <a:latin typeface="Verdana"/>
              </a:rPr>
              <a:t>Bron:htt</a:t>
            </a:r>
            <a:r>
              <a:rPr b="0" lang="nl-NL" sz="1100" spc="-1" strike="noStrike">
                <a:solidFill>
                  <a:srgbClr val="000000"/>
                </a:solidFill>
                <a:latin typeface="Verdana"/>
              </a:rPr>
              <a:t>p://www.huidziekten.nl/zakboek/dermatosen/vtxt/VerrucaVulgaris.htm</a:t>
            </a:r>
            <a:endParaRPr b="0" lang="en-US" sz="11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601"/>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31" name="Picture 4" descr=""/>
          <p:cNvPicPr/>
          <p:nvPr/>
        </p:nvPicPr>
        <p:blipFill>
          <a:blip r:embed="rId1"/>
          <a:stretch/>
        </p:blipFill>
        <p:spPr>
          <a:xfrm>
            <a:off x="6372360" y="4292640"/>
            <a:ext cx="2303280" cy="1538280"/>
          </a:xfrm>
          <a:prstGeom prst="rect">
            <a:avLst/>
          </a:prstGeom>
          <a:ln w="0">
            <a:noFill/>
          </a:ln>
        </p:spPr>
      </p:pic>
      <p:pic>
        <p:nvPicPr>
          <p:cNvPr id="632" name="Picture 5" descr=""/>
          <p:cNvPicPr/>
          <p:nvPr/>
        </p:nvPicPr>
        <p:blipFill>
          <a:blip r:embed="rId2"/>
          <a:stretch/>
        </p:blipFill>
        <p:spPr>
          <a:xfrm>
            <a:off x="6364440" y="2060640"/>
            <a:ext cx="2208240" cy="165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ruca plana</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lakke wr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nkele millimeters groo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Huidkleurig of lichtbruin bobbeltj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rote getale aanwezi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 gelaat, armen en ben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5" name="Picture 2" descr=""/>
          <p:cNvPicPr/>
          <p:nvPr/>
        </p:nvPicPr>
        <p:blipFill>
          <a:blip r:embed="rId1"/>
          <a:stretch/>
        </p:blipFill>
        <p:spPr>
          <a:xfrm>
            <a:off x="6084720" y="1628640"/>
            <a:ext cx="2616480" cy="2649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Steelwrat (verruca filiformis)</a:t>
            </a:r>
            <a:endParaRPr b="0" lang="en-US" sz="3300" spc="-1" strike="noStrike">
              <a:solidFill>
                <a:srgbClr val="7b9899"/>
              </a:solidFill>
              <a:latin typeface="Georgia"/>
            </a:endParaRPr>
          </a:p>
        </p:txBody>
      </p:sp>
      <p:sp>
        <p:nvSpPr>
          <p:cNvPr id="637" name=""/>
          <p:cNvSpPr txBox="1"/>
          <p:nvPr/>
        </p:nvSpPr>
        <p:spPr>
          <a:xfrm>
            <a:off x="247320" y="145908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oksel,lippen, oogled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8" name="Picture 4" descr=""/>
          <p:cNvPicPr/>
          <p:nvPr/>
        </p:nvPicPr>
        <p:blipFill>
          <a:blip r:embed="rId1"/>
          <a:stretch/>
        </p:blipFill>
        <p:spPr>
          <a:xfrm>
            <a:off x="4500720" y="1700280"/>
            <a:ext cx="3517920" cy="2314440"/>
          </a:xfrm>
          <a:prstGeom prst="rect">
            <a:avLst/>
          </a:prstGeom>
          <a:ln w="0">
            <a:noFill/>
          </a:ln>
        </p:spPr>
      </p:pic>
      <p:pic>
        <p:nvPicPr>
          <p:cNvPr id="639" name="Picture 5" descr=""/>
          <p:cNvPicPr/>
          <p:nvPr/>
        </p:nvPicPr>
        <p:blipFill>
          <a:blip r:embed="rId2"/>
          <a:stretch/>
        </p:blipFill>
        <p:spPr>
          <a:xfrm>
            <a:off x="826920" y="3833640"/>
            <a:ext cx="2903760" cy="2165400"/>
          </a:xfrm>
          <a:prstGeom prst="rect">
            <a:avLst/>
          </a:prstGeom>
          <a:ln w="0">
            <a:noFill/>
          </a:ln>
        </p:spPr>
      </p:pic>
      <p:pic>
        <p:nvPicPr>
          <p:cNvPr id="640" name="Picture 6" descr=""/>
          <p:cNvPicPr/>
          <p:nvPr/>
        </p:nvPicPr>
        <p:blipFill>
          <a:blip r:embed="rId3"/>
          <a:stretch/>
        </p:blipFill>
        <p:spPr>
          <a:xfrm>
            <a:off x="4500720" y="4403880"/>
            <a:ext cx="3517920" cy="159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7:58:39Z</dcterms:created>
  <dc:creator>Gebruiker</dc:creator>
  <dc:description/>
  <dc:language>en-US</dc:language>
  <cp:lastModifiedBy>Uw naam</cp:lastModifiedBy>
  <dcterms:modified xsi:type="dcterms:W3CDTF">2017-11-29T10:20:39Z</dcterms:modified>
  <cp:revision>24</cp:revision>
  <dc:subject/>
  <dc:title>Dermatologie</dc:title>
</cp:coreProperties>
</file>