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6D8-6117-49EB-BF05-161C00D4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83C-70EA-429A-9A6D-5DACDDFF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6D1-6BCF-4C04-B87F-B6445024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D24-80FD-437C-A8C6-A05A72BA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32C7-DF3F-4602-821F-36B71394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80D8-7127-4168-98C6-5736F5C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8E81-3D27-47C5-A279-87512F02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33D4-BD3A-4850-9DE2-CBDF79F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C915-D8AF-4E78-BFA4-1C9666EE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9F54-3D82-4833-9E06-C7C18089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978C-E890-4DB2-BF02-840CDDA7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693-A456-479A-94BD-55A8E224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6A67-D8B1-4C8A-B3FB-95915291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5AC-E4A4-4708-9F41-7DA03DD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DF1B-C7D7-46DE-AA69-237B3248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63EE-6555-41C3-8F9F-261B2C4D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9B52-02F3-471F-B556-4A259C6B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18E-1E4F-412D-AC0E-C7D56659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D0E-A36A-482B-AEF5-DCB0422F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B18-FD8D-4C72-87E1-E42EFE91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901-66E9-4E1F-AB45-CFB21C0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B5A-8C7D-4D72-B37C-689DAB73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F50-80F1-4A66-A951-F98D64C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C67-26E9-4465-95D5-F4A9EA95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437A-9AE3-41DA-AFA5-7AD6196857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48FA-829E-48A9-B5D9-AC218A37A108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Hondenbeet en Tet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hond135"/>
          <p:cNvPicPr/>
          <p:nvPr/>
        </p:nvPicPr>
        <p:blipFill>
          <a:blip r:embed="rId1"/>
          <a:stretch/>
        </p:blipFill>
        <p:spPr>
          <a:xfrm>
            <a:off x="5753160" y="3213000"/>
            <a:ext cx="235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riagecrit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or wat/wanneer bent u gebe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ake van een open w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loedverlies, in welke m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et de wond eru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tetanusinject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minderde weerstand (D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549000"/>
            <a:ext cx="68659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utine: Ontstekingsverschijnselen zoals roodheid, zwelling, pus, ko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ingend: Bijtwond, behalve oppervlakkige  kleine verwond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oed: Beet van een giftig dier zoals een slang, spin, haged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20px-PHIL_tetanus"/>
          <p:cNvPicPr/>
          <p:nvPr/>
        </p:nvPicPr>
        <p:blipFill>
          <a:blip r:embed="rId1"/>
          <a:stretch/>
        </p:blipFill>
        <p:spPr>
          <a:xfrm>
            <a:off x="1908000" y="43592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: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rabië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is een ernstige aandoening als gevolg van een infectie met het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rabiësviru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meestal door een beet van een door rabiës besmet dier (honden, vossen, vleermuizen). Hondsdolheid is uiterst gevaarlijk voor mensen en leidt onbehandeld tot de d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g 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vraagteken%2520poppetje"/>
          <p:cNvPicPr/>
          <p:nvPr/>
        </p:nvPicPr>
        <p:blipFill>
          <a:blip r:embed="rId1"/>
          <a:stretch/>
        </p:blipFill>
        <p:spPr>
          <a:xfrm>
            <a:off x="755640" y="1125360"/>
            <a:ext cx="1857240" cy="39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:</a:t>
            </a:r>
            <a:br>
              <a:rPr sz="4200"/>
            </a:b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en ontstaan door: 90 % door een hondenbeet en 6% door een 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middeld 13-20 personen op 10.000 mensen opname in een ziekenhuis noodzakelij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0 personen op 10.000 door huisarts ge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¾ is jonger dan 14 jaa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7767-hondenbeet-kan-levensgevaarlijk-zijn"/>
          <p:cNvPicPr/>
          <p:nvPr/>
        </p:nvPicPr>
        <p:blipFill>
          <a:blip r:embed="rId1"/>
          <a:stretch/>
        </p:blipFill>
        <p:spPr>
          <a:xfrm>
            <a:off x="6516720" y="404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door een bekend dier: uit de buurt of eigen huis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hebt risicohonden bijten altij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k kindvriendelijke honden kunnen bijt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 is indicatie voor 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ondenbeet"/>
          <p:cNvPicPr/>
          <p:nvPr/>
        </p:nvPicPr>
        <p:blipFill>
          <a:blip r:embed="rId1"/>
          <a:stretch/>
        </p:blipFill>
        <p:spPr>
          <a:xfrm>
            <a:off x="5508720" y="765000"/>
            <a:ext cx="2923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e wond: hoe ernstig? Zegt altijd iets over de maatregelen die worden genomen(diepte/aard/bloe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iniging: Stromend water/ fysiologisch zout. Bij infecterende wonden:Povidon j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geïnfecteerde wonden: duurt genezing la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bijtwond wordt in het algemeen niet gehecht vanwege infectiegevaar in later stadium. Alleen wonden in gezicht worden losjes gehecht/afd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oms preventief antibiotica bij infectiegevaar of verminderde we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lica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ondenbeet_292x237"/>
          <p:cNvPicPr/>
          <p:nvPr/>
        </p:nvPicPr>
        <p:blipFill>
          <a:blip r:embed="rId1"/>
          <a:stretch/>
        </p:blipFill>
        <p:spPr>
          <a:xfrm>
            <a:off x="5651640" y="3141720"/>
            <a:ext cx="2781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565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:”kaakklem” genoem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ordt veroorzaakt door de Bacte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ostridium Tetani. Anaerobe bacterie, waarvan de sporen in aarde, straat vuil, mest lang kunnen overleven. Deze sporen kunnen door een verwonding zich in het lichaam voortpl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79tetanus"/>
          <p:cNvPicPr/>
          <p:nvPr/>
        </p:nvPicPr>
        <p:blipFill>
          <a:blip r:embed="rId1"/>
          <a:stretch/>
        </p:blipFill>
        <p:spPr>
          <a:xfrm>
            <a:off x="7093080" y="189000"/>
            <a:ext cx="1838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920" y="3403440"/>
            <a:ext cx="713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lg: productie van tetanustoxine, een krachtige gifstof die pijnlijke en hevige spierkrampen veroorzaakt in het hele licha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eindelijk ook de ademhalingsspieren met hartstil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etanus"/>
          <p:cNvPicPr/>
          <p:nvPr/>
        </p:nvPicPr>
        <p:blipFill>
          <a:blip r:embed="rId1"/>
          <a:stretch/>
        </p:blipFill>
        <p:spPr>
          <a:xfrm>
            <a:off x="2843280" y="260280"/>
            <a:ext cx="393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profylax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bijtwonden: bij laatste vaccinatie &lt;10 jaar, niets. Geeft vrijwel 100% bescherming bij welke verwonding dan oo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vaccinatie &gt;10 jaar: 1 tetanus tox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nsen zijn van nature niet beschermd tegen tetanus: vormen nooit zelf antistoff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0:57Z</dcterms:created>
  <dc:creator>Rina</dc:creator>
  <dc:description/>
  <dc:language>en-US</dc:language>
  <cp:lastModifiedBy>Bouke Cuperus</cp:lastModifiedBy>
  <dcterms:modified xsi:type="dcterms:W3CDTF">2016-12-16T13:25:15Z</dcterms:modified>
  <cp:revision>3</cp:revision>
  <dc:subject/>
  <dc:title>Hondenbeet en Tetanus</dc:title>
</cp:coreProperties>
</file>