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9AE-DEDC-4787-A6C1-26F90ECD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7EB-018A-4684-9499-E7D9B448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EE3F3-6453-4B14-8E3D-AD4979AE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0068C-DE6B-468F-8DAC-A7AE5500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CB7D4-9E88-4293-8107-E2E6A1FF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45C7F-E3A4-414C-8728-77D00572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DD4E7-5825-4916-9F84-FAD06990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97E71-8A3B-41C3-9C2C-A3C59893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9B92D-C4CD-4025-9D38-E4BCD7E0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9C176-8401-4047-8BB4-2AFBA2EC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942AF-CB90-4574-A35A-942B8AD0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4A4C8-4A1A-42AE-B013-066A504C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D03-6CC3-489C-AC19-CA1671D2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D15C4-A69A-4B6F-B6A9-45445E56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4ED39-374D-4D69-8E6B-C72FE37F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38CFF-44B3-416B-8598-F19BE1BC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C041A-9161-468F-A856-DEC28696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15BB7-9A0B-45A4-8A3C-8B486A61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5188F-3D1B-491A-92FF-E81A74FD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1B253-97A9-4DB2-81F5-783B3949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F27C3-025A-4418-815A-C2A65963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D080A-BC2E-4B48-9F34-9F16C9DC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80AD6-28B4-4200-BCDF-CA3C9C67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15B-A49D-4581-A3B8-AFDBF7B9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1AE8A-603E-4DD6-9E33-D189AC06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FE9E9-7074-42C0-A975-166ECB92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3F926-AD9C-4121-B1A7-1687275D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E86A7-4D3D-438B-8A10-9F57108A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D153F-CC8B-43DB-867C-B4ECC784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D0505-DCA6-4412-9EE8-31BDBD0A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53C13-51FC-4E0F-87CA-1361934B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B557A-8BB9-44B0-9AC5-C78FCA02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35CCE-BCA2-4495-8BEB-CE9DE7DC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F1783-BDA5-4E20-A2A7-7C39B23B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0917-9D5A-44E9-8E31-0F5602E7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84634-06EA-45CE-96B8-C8380CAA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11434-827C-4D8C-A70C-D1A87449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85657-420C-4DDC-AC46-07BA8292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0054D-2E1D-4FDC-AA73-F5CC1C00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8874A-E9C8-4CF1-A181-29C2728B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7E897-B4AD-412C-96F0-29085EEF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F9F20-BB89-4D3C-9DAD-81A9E471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35F68-9202-41B1-9C42-B1FC4421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4453A-716F-4D6D-8EED-46F8589B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21C9C-CDC9-4DC3-B215-47C6F26B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FAB4-3C7F-4AB9-9F4B-85ECC4E4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104F4-B386-4A5A-A439-3AC03AC5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917A8-955C-4735-BA62-4A324DCE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2AFF30-8329-42EE-889E-EE08C20B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75AFA-4E0E-462F-B1D9-F8C76BCA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6E201-2B98-4C86-A7DA-0E6BBA12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564C-24E6-4655-83C0-67ED4B6A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8BD3-F527-4078-8B16-E10E7A4C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F99C-F745-48AB-821E-08362813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0A10-B2D7-4F2F-B73B-1E2D5909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E30B-F4C0-4F01-B5B8-177E0E1B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33F-D1C6-4DD6-AF75-E54C483E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36B7-420E-48C4-BF40-2F94E8EE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293F-6905-4566-B429-E41A4908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4723-AE1F-41A2-B543-9478A86B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F340-665E-4958-B88A-FB917DAB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B2B7-7398-47D8-B2C5-3818FF90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4A151-8A7A-47D1-A154-E40DF437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AA954-25BB-4FD0-A4E3-0117FFD2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12FD7-C2C9-48D1-862B-7E856557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EDDE7-E8E4-40EF-A6DC-67AB8B05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4DB8F-BD02-4674-94FD-9E0DE8EF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3DC-EFEB-4DE6-B0E3-05D262B3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554C4-3016-4D13-A26D-E57D8795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04FC4-11E6-403D-8AAF-14D3FC2E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2039-5F1B-48BF-A7CF-CCAE5EAC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2A7C2-987E-4930-9B24-2979A731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43A6-44D2-4D18-9A06-E94B98E3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39001-DED0-44F6-9E76-E42E86B1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27CBE-BBF1-4749-B5B5-24B17D87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59597-F3B0-42A0-A0F9-BE49C6F9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ED873-3513-4379-BF56-6043182D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4C779-D2F6-4E82-BF26-3BA6ECF1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51B-B0EA-4057-BEFC-7A2B3232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1C2A2-DB63-49C2-9D11-07286A43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50ADB-4D0F-4A6F-A1B8-3893213A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868E1-EDB8-4F1A-BD8A-A9BF9EB6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E4875-B41F-4F81-9244-D53A9500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A2D47-54D2-4D2E-9E52-BB8AE4FE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5CF1C-EFED-4147-B613-86024C61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5B11F-44AC-469F-A1D1-C3D71D21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C4E57-6CF2-4485-91C0-5BA9F43C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5EEFE-3F2A-43E9-B0F6-A45735DB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FC6A8-735E-49BF-85EF-30D539D0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D35-805D-486E-8B11-DE73969F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99870-D4F7-4615-B7C2-FABE00A6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1D0F9-BD18-46FE-B2E6-40BAD0E2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7B1BD-DAD2-4233-AC0F-77601EA4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AAA09-366F-4B83-BDB1-9C8C386E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E8EC7-73D5-471A-853D-7644F5E6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43C04-89AD-4968-B2C3-5D47B421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E9C28-8793-43F3-8A3E-E20887C3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BC7E0-A67F-4BD8-A87A-0BF00445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879E4-9D97-4402-8B7A-20F22B55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C9F67-D653-4611-BF01-05242780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E72-71B3-4C4A-9A76-E8C3D36E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B57DB-F510-4A7C-A03A-5D75102B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F1EF2-BDE7-4071-85B1-847D44E2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C8FEB-77D7-4D7F-9685-6B37E47F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5EDB5-1BBF-4FA6-9770-78C68400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C9355-1982-48AE-BBFA-C8EF7ACE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28121-6E24-4A61-A6D1-D0F75186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F41AB-5E64-4316-BAD7-C785A9F2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E97D4-7E13-431A-989F-EF683518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AC7E6-268D-4914-A116-B36C7DEE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25694-F6E3-44B9-8E1C-F8039E00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A31-E51C-4113-856A-7C7FEE95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C72F8-9987-471E-9C84-04097A35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BD976-1BA8-4BE7-B403-59D2934D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AB809-8D47-4959-943D-52E5BA8C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9E21F-814E-4142-B698-BDE15397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75495-7963-48B6-ABF3-EACB8748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66958-8247-4903-BCE2-4105D690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829CB-C798-4681-BB1E-EE402C0B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4D541-470F-448A-99DA-B9DB0421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77F59-200C-4639-8A89-708CA657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1F264-3AB9-428E-8899-25B935FE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3FB-0B6F-4227-AF69-0248DE7F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D5FC2-A30A-44B3-86D3-67755CF9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9939A-4811-4111-856B-C8F6826C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FD600-F226-4D69-AEC0-1536A3FF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1406A-7F03-461D-90D5-C8B03E94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CE9DA-76D0-4CAF-B59D-6A415793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706C6-B1E9-48C9-A04E-1B51B0F2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98CF6-5072-4C0B-B710-B16AE81B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BCEA8-D017-44F8-94A2-29FB9926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5079F-DFCA-493F-856F-2EF18433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32E78-7CEB-4F09-800E-FB170171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E6A-CAEE-4032-A456-EFD77E78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96F16-D1D8-4F29-B28D-AA3C7C44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D250D-DAD8-4FE6-BDB4-BAEC6465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F9219-76D6-4709-9BB9-D2A9B863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ABC39-642D-4728-8611-ECE9272D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F2409-1768-45A9-A7A3-97B88AF8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D1106-713F-48D4-B044-A963284D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F5D01-7719-4715-AD72-24E21C74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78E9F-961D-44A3-8DE8-86046944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AA8E7-6AEA-4665-9B9C-B42E115A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A684B-20AF-44FD-BE4B-B9D08CD7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181B-D7DE-418F-9999-DF2F489F52C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89A8-260D-405D-B188-B6F1EBF61B1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9985-9ACC-49CE-80A3-B013BA201D5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24BC-9DE9-40FB-B88C-FB9F8CB4D77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3528-8276-47F5-BEF1-DD70960BEF1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E810-5636-4067-8F87-F7A6A2D5840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2EAA-9466-4977-9C87-95078D1D9CF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F6B9-4C18-442A-A93E-A41F42FC61BC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9637-6E5E-4BED-A313-C546D1102E3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BDC2-B148-4A95-A553-F084A255AB5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C3D0-573E-4CCA-BE12-1B0EE3629D7E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C7D3-0E29-4F8A-A000-5EB6A3141EFC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t.nl/longgeneeskunde/onze_longen/astma/behandeling.doc/behandeling-1.png&amp;imgrefurl=http://www.mst.nl/longgeneeskunde/onze_longen/astma/behandeling.doc/&amp;usg=__0lTgJe4hQXkiuX3Vznhxq2EfsRY=&amp;h=190&amp;w=190&amp;sz=35&amp;hl=nl&amp;start=4&amp;um=1&amp;tbnid=lU22MlOlSrc7bM:&amp;tbnh=103&amp;tbnw=103&amp;prev=/images%3Fq%3Dpiekstroommeter%26hl%3Dnl%26rls%3Dcom.microsoft:nl:IE-SearchBox%26rlz%3D1I7SUNA%26sa%3DN%26um%3D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hysiciansofficeresource.com/images-account/product-images/5065-microlab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mng.nl/images/bronchoscoop1.jpg&amp;imgrefurl=http://www.lmng.nl/bronchoscopie.php&amp;usg=__ynb-8_1dRkRqriyU36HVliflxNY=&amp;h=263&amp;w=350&amp;sz=5&amp;hl=nl&amp;start=1&amp;um=1&amp;tbnid=Z4j4DZBzgn2MiM:&amp;tbnh=90&amp;tbnw=120&amp;prev=/images%3Fq%3Dbronchoscoop%26hl%3Dnl%26rls%3Dcom.microsoft:nl:IE-SearchBox%26rlz%3D1I7SUNA%26sa%3DN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dapzoe.nl/images/user/endoscopy2.jpg&amp;imgrefurl=http://www.dapzoe.nl/index.php%3Fgo%3Dtekst%26n%3D18&amp;usg=__V0yf6lS2yueffD-9sy9xhNQw630=&amp;h=191&amp;w=200&amp;sz=10&amp;hl=nl&amp;start=18&amp;um=1&amp;tbnid=QCQhhWHmQlhDHM:&amp;tbnh=99&amp;tbnw=104&amp;prev=/images%3Fq%3Dbronchoscoop%26hl%3Dnl%26rls%3Dcom.microsoft:nl:IE-SearchBox%26rlz%3D1I7SUNA%26sa%3DN%26um%3D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www.instituutrenata.com/images/bronchoscopie.jpg&amp;imgrefurl=http://www.instituutrenata.com/content/behandelingen.php&amp;usg=__4EKdzZXuLXHYSfZfGscnqy5YNcM=&amp;h=344&amp;w=400&amp;sz=21&amp;hl=nl&amp;start=8&amp;um=1&amp;tbnid=AuWGMtLURkYRRM:&amp;tbnh=107&amp;tbnw=124&amp;prev=/images%3Fq%3Dbronchoscoop%26hl%3Dnl%26rls%3Dcom.microsoft:nl:IE-SearchBox%26rlz%3D1I7SUNA%26sa%3DN%26um%3D1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uefingers.files.wordpress.com/2008/03/ct-scan.jpg&amp;imgrefurl=http://bluefingers.wordpress.com/2008/03/&amp;usg=__NZKKn0rfAHYDkznJanWRmISxJfg=&amp;h=605&amp;w=901&amp;sz=54&amp;hl=nl&amp;start=1&amp;um=1&amp;tbnid=fY-O8OH8T9VcVM:&amp;tbnh=98&amp;tbnw=146&amp;prev=/images%3Fq%3Dct%2Bscan%26hl%3Dnl%26rls%3Dcom.microsoft:nl:IE-SearchBox%26rlz%3D1I7SUNA%26um%3D1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hoolplaten.com/hoesten-t11780.jpg&amp;imgrefurl=http://www.schoolplaten.com/nl-kleurplaat-kleurplaten-foto-hoesten-i11780.html&amp;usg=__cAv-bd-1F8a2IR2us5UjTQ1T1Gg=&amp;h=531&amp;w=750&amp;sz=65&amp;hl=nl&amp;start=7&amp;um=1&amp;tbnid=3l8T0xJfJLH6YM:&amp;tbnh=100&amp;tbnw=141&amp;prev=/images%3Fq%3Dhoesten%26hl%3Dnl%26rls%3Dcom.microsoft:nl:IE-SearchBox%26rlz%3D1I7SUNA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Geneesmiddelen Luchtwege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411120" y="1413000"/>
            <a:ext cx="2773440" cy="20048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"/>
          <p:cNvPicPr/>
          <p:nvPr/>
        </p:nvPicPr>
        <p:blipFill>
          <a:blip r:embed="rId2"/>
          <a:stretch/>
        </p:blipFill>
        <p:spPr>
          <a:xfrm>
            <a:off x="4778280" y="1598760"/>
            <a:ext cx="3402000" cy="16333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3"/>
          <a:stretch/>
        </p:blipFill>
        <p:spPr>
          <a:xfrm>
            <a:off x="2195640" y="3706920"/>
            <a:ext cx="1955520" cy="23796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"/>
          <p:cNvPicPr/>
          <p:nvPr/>
        </p:nvPicPr>
        <p:blipFill>
          <a:blip r:embed="rId4"/>
          <a:stretch/>
        </p:blipFill>
        <p:spPr>
          <a:xfrm>
            <a:off x="5540400" y="3384720"/>
            <a:ext cx="266364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Georgia"/>
              </a:rPr>
              <a:t>4. Antihistaminica  (cromoglicinezuur, cetirizin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Geen echte hoestmiddel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Voornamelijk in hoestsiropen vanwege hun kalmerend effect (kinderen slapen beter door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Middelen: promethazin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LET OP!: mogelijk betrokken bij wiegendood, dus niet aan kinderen &lt;2jaa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Triage hoes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50560" y="14130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Onschuldige hoest gaat binnen 2-3 weken vanzelf ov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Alarmsignale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Bloed ophoest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Kortademighei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Erg ziek ki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Veranderd hoestpatroon bij chronische hoest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NHG telefoonwijzer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Spo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Dringe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out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rag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1 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Welke 2 soorten hoest kun je onderscheiden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2: 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Noem 2 middelen die bij prikkelhoest kunnen  worden voorgeschreven, noem hun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bijwerkingen?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3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Welke negatieve gegevens zijn er bekend over promethazine  (antihistaminicum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4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Noem 3 middelen die geschikt zijn voor productieve hoest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5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Worden hoestmiddelen door de verzekering vergoed ?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6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: Waarom moet je na een inhalatie van corticosteroïden de mond spoelen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7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:Wat doe je dan met dat water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8.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Wat is een stootkuur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Vraag 8: Wat is een stootkuur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RAST te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lergietest om te kijken voor welke allergenen iemand allergisch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de RAST-test wordt de hoeveelheid IgE tegen een bepaald allergeen bepaal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 specifieke allergenen (RAST huisstofmijt, RAST katten etc) wordt bloed afgeno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Peakflow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hoeveelheid lucht die de patiënt maximaal kan uitademe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te meten met een piekstroommeter (l/min) (eenvoudig instrumen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kort en krachtig in het apparaat blaz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delijk goede maat voor de doorgankelijkheid van de luchtwegen (momentopname!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verschil tussen waard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voor en na medicijngebruik (reversibiliteit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‘</a:t>
            </a: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s morgens en ‘s avonds (astma: ‘s morgens slechter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voor en na lichamelijke inspanning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5" descr="behandeling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8900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pirometr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ornamelijk gebruikt om COPD te diagnosticeren en controler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de patiënt ademt maximaal krachtig in en uit in de spirometer -&gt; grafiek = spirogra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rm van de grafiek zegt iets over de mate en ernst van de obstruct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FEV1=hoeveelheid lucht die in 1 sec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C=hoeveelheid lucht die maximaal in totaal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5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189000"/>
            <a:ext cx="151128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ronchoscop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= onderzoek van de luchtpijp met een bronch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3" name="Picture 5" descr="bronchosco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637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ndoscop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4365720"/>
            <a:ext cx="1728720" cy="16462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9" descr="bronchoscop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79640" y="4292640"/>
            <a:ext cx="21607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T-sc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= speciaal röntgenonderzoek, computer maakt afbeeldingen van dwarsdoorsneden door het hele lichaam (coupes, plakje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T= computertomograf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8" name="Picture 5" descr="ct-sc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2781360"/>
            <a:ext cx="1751040" cy="11746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longen"/>
          <p:cNvPicPr/>
          <p:nvPr/>
        </p:nvPicPr>
        <p:blipFill>
          <a:blip r:embed="rId3"/>
          <a:stretch/>
        </p:blipFill>
        <p:spPr>
          <a:xfrm>
            <a:off x="6886440" y="47656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Isotopensc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v PET sc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dioactieve middelen worden toegedie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den zichtbaar in de PET sc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(kleurtje, lich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Picture 5" descr="180px-PET_scan_Parkinson%27s_Disease"/>
          <p:cNvPicPr/>
          <p:nvPr/>
        </p:nvPicPr>
        <p:blipFill>
          <a:blip r:embed="rId1"/>
          <a:stretch/>
        </p:blipFill>
        <p:spPr>
          <a:xfrm>
            <a:off x="6732720" y="3789360"/>
            <a:ext cx="17143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erklarende woordenlij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24000" y="1267920"/>
            <a:ext cx="8820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Astma: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chronische luchtwegaandoening, piepen, hoesten, kortademigheid, aanvalsgewij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Atopische constituti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allergische aanle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Eosinofili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toename aantal eosinofielen in het blo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RAST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specifieke allergietest, gemeten in het bloed, bepaling specifiek Ig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tbv identificatie van allerge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Dyspno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kortademigheid, benauwdhei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Vesiculair ademgeruis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het geluid dat bij het ademhalen word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geproduceerd door gezonde longen (afkomstig uit de fijne longblaasjes)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en met een stethoscoop hoorbaar i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s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68000" y="3790440"/>
            <a:ext cx="82803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Georgia"/>
              </a:rPr>
              <a:t>Wat is hoesten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Hoesten is een reactie op een prikkel in d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keelholte of in de luchtwege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Georgia"/>
              </a:rPr>
              <a:t>Functie van hoesten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verwijderen van stoffen uit de keelholte of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luchtwegen die er niet thuishore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5" descr="hoesten-t117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484280"/>
            <a:ext cx="3047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ntwoord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50560" y="1412640"/>
            <a:ext cx="889308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Productieve en niet-productieve hoes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2. Codeïne, noscapine, dextromethorf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bijwerking: obstipati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3. Mogelijk betrokken bij wiegendood, dus niet aan kinderen jonger dan 2 jaar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4. Ammoniumchloride, broomhexine (Bisolvon), acetylcysteïne (Fluimuci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5. Hoestmiddelen worden niet door de zorgverzekeraar vergoed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6. Irritatie van keel en stembanden (hoesten, heesheid, schimmelinfecti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7. Uitspug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8. Kortdurende behandeling met een hoge dosis geneesmidd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http://t3.gstatic.com/images?q=tbn:ANd9GcTQA1rZxb7bOY5BQRVin8QRffs1sfX264p9B636GLC5Z7nqIjb2XjCf08URHg"/>
          <p:cNvPicPr/>
          <p:nvPr/>
        </p:nvPicPr>
        <p:blipFill>
          <a:blip r:embed="rId1"/>
          <a:stretch/>
        </p:blipFill>
        <p:spPr>
          <a:xfrm>
            <a:off x="2362320" y="1355760"/>
            <a:ext cx="37098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roductieve 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et slij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t-productieve 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rikkelhoest, ontstaat door andere prikke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bijv als bijwerking bij de ACE-remmer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    </a:t>
            </a: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(hartfalen, hoge bloeddruk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cute hoest: oorzak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stm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onchiolitis, aandoening bij zuigelin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piglottit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ringitis subglottica (pseudokroep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hronisch hoesten: oorzak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Langer dan 3 weken hoesten: Oorzak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Astm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Allergische rhiniti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Postnasal drip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Vergrote neusamand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Roken of meerok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COPD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Bronchuscarcinoo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Reflux= terugstromend maagzuu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Kortademigheid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Hartaandoening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r wordt getwijfeld aan de werkzaamhei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aarschijnlijk is er een groot placebo-effect en wordt het mede daarom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niet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vergoed door de ziektekostenverzekera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79280" y="836640"/>
            <a:ext cx="896472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oestprikkeldempende stoff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ooral bij droge, niet-productieve hoes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nderdrukken hoestprikke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Nadeel: kan obstipatie veroorzake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iddelen: codeïne, noscapine, dextromethorfa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162828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1. Expectorant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Vergemakkelijken het ophoesten van slijm 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ammoniumchloride, succus liquiritiae in Mixtura resolvens FNA, drop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2. Mucolytic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Invloed op de taaiheid van het slijm in de luchtwegen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broomhexine (Bisolvon), acetylcysteïne (Fluimucil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3. Emollient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Ter verzachting van de geprikkelde slijmvliezen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stropen (tijmstroop, althaeastroop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6:22:11Z</dcterms:created>
  <dc:creator>Uw naam</dc:creator>
  <dc:description/>
  <dc:language>en-US</dc:language>
  <cp:lastModifiedBy>Uw naam</cp:lastModifiedBy>
  <cp:lastPrinted>2016-01-10T15:56:28Z</cp:lastPrinted>
  <dcterms:modified xsi:type="dcterms:W3CDTF">2018-01-02T15:35:59Z</dcterms:modified>
  <cp:revision>57</cp:revision>
  <dc:subject/>
  <dc:title>Slide 1</dc:title>
</cp:coreProperties>
</file>