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948-C4B6-4CD5-B7AF-C382F271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A1A-F36D-49DB-850F-FD7AD99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437-78D7-43A6-A163-0C48ED01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0CF-53EA-4745-870E-8EC0E45E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26A-27FD-4F4B-AA7D-91DB9327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BD61-4307-4C67-A77B-70A0C89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C9B9-A627-4B1B-97A9-0650A8A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BF78-FA79-48DD-BB4D-BA1482AC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B1F4-B90E-42C1-A0F7-669FD63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DB0F-4C94-4D63-B562-3573650F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F92-8A1C-48B1-8C22-C34FC0C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2EA-1B7E-4ABA-B81A-A1F18E7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445-7554-4563-8506-B38D8873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F6E8-B9C8-46BD-9DAF-147BB1B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E65-E31A-43FA-AA08-664322BB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76FC-B957-4CB2-8104-6FFC23CD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348-4F20-48AE-8907-0E2C586B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988-9B22-4CFB-ABED-C2BF495C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611-20A4-45AC-9B20-1860A14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627-99D4-4A29-8897-7799481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872-372B-4427-B24C-5D2F7292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CCF-EA5F-4BDE-AB03-F88D71A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F3A-D874-4B2E-8789-614D1ED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C97-A4D5-4D90-A7BD-A10B17D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731B-3A8F-40EF-B477-23FC3083EFC2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B16-22EC-4B70-8F05-36593F1D1600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ffffff"/>
                </a:solidFill>
                <a:latin typeface="Arial"/>
              </a:rPr>
              <a:t>Anafylax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%20shock%20winter%20201011"/>
          <p:cNvPicPr/>
          <p:nvPr/>
        </p:nvPicPr>
        <p:blipFill>
          <a:blip r:embed="rId1"/>
          <a:stretch/>
        </p:blipFill>
        <p:spPr>
          <a:xfrm>
            <a:off x="6227640" y="2897280"/>
            <a:ext cx="27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urticaria_thumb"/>
          <p:cNvPicPr/>
          <p:nvPr/>
        </p:nvPicPr>
        <p:blipFill>
          <a:blip r:embed="rId1"/>
          <a:stretch/>
        </p:blipFill>
        <p:spPr>
          <a:xfrm>
            <a:off x="1547640" y="1363680"/>
            <a:ext cx="5832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herapie: ziekenhu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ie met adrena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pipen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toedienen van zuurstof en indien nodig ook intub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aanhoudend angio-oedeem soms ook zuurstof toediening of een tracheot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Nd9GcSgmIBFG3buMw_ao_AnMkQyGROrO4n9iZv9hwycePM18_fwmE0FFA"/>
          <p:cNvPicPr/>
          <p:nvPr/>
        </p:nvPicPr>
        <p:blipFill>
          <a:blip r:embed="rId1"/>
          <a:stretch/>
        </p:blipFill>
        <p:spPr>
          <a:xfrm>
            <a:off x="5364000" y="765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pipen2"/>
          <p:cNvPicPr/>
          <p:nvPr/>
        </p:nvPicPr>
        <p:blipFill>
          <a:blip r:embed="rId1"/>
          <a:stretch/>
        </p:blipFill>
        <p:spPr>
          <a:xfrm>
            <a:off x="4859280" y="2349360"/>
            <a:ext cx="324000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pipen"/>
          <p:cNvPicPr/>
          <p:nvPr/>
        </p:nvPicPr>
        <p:blipFill>
          <a:blip r:embed="rId2"/>
          <a:stretch/>
        </p:blipFill>
        <p:spPr>
          <a:xfrm>
            <a:off x="971640" y="2349360"/>
            <a:ext cx="3047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Epipen bij allergi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ts schrijft een EpiPen® voor bij mensen die eerder een acute of ernstige allergische reactie hebben ge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moet  direct ingespoten worden zodra de eerste verschijnselen optreden. 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Hoe werkt de Epi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pi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werkzame stof in EpiPen is Adrena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nauwt de bloedvaten en verhoogt de   bloeddru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wijdt de luchtwegen, waardoor de benauwdheid vermind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jectie begint na drie tot vijf minuten te werken.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ot slo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renaline voorkomt de anafylactische reactie niet, maar is een eerste redmiddel om de ernstigste verschijnselen op te heffen. De anafylactische reactie moet altijd door een arts verder worden behand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stockphoto_2334825_puzzled_kids_cartoon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fyla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Acute levensbedreigende, aller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ctie op een lichaamsvreemd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optreden na inname van het allergeen, maar ook na inademing ervan, na huidcontact of een injectie met de betreffende st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soms in enkele minuten tot de dood leiden als deze niet meteen wordt behan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Voorkomende allergenen zij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 (zoals melk, noten, pinda's etc. medicijnen (zoals penicilline, aspirine en NSAID's zoals ibuprofen en diclofena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xalle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ectensteken van bijvoorbeeld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bij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wes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afylactische sh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ctische shoc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het lichaam door verwijding van de bloedvaten ten gevolge van het vrijgeven van een grote hoeveelheid histamine in shock geraa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Shock-verschijnsel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moeilijkheden (door de vernauwde luchtw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otens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chycar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auwvallen/ klam aanvoelen/bl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loosheid/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Overige verschijnsel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lbul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e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io-oedeem (opgezwollen gelaat, hals en ke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ende 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gio-oede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Ta39jwzSDoZ-aVnAlntN2_uzqDwZ6lLdAgQN1gDudKTpUtGaIh"/>
          <p:cNvPicPr/>
          <p:nvPr/>
        </p:nvPicPr>
        <p:blipFill>
          <a:blip r:embed="rId1"/>
          <a:stretch/>
        </p:blipFill>
        <p:spPr>
          <a:xfrm>
            <a:off x="539640" y="1341360"/>
            <a:ext cx="4050000" cy="30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ANd9GcT_rih1wIHupN06jLHAdydW3nsYf1JE_bpCFvuZ1kNJd74PvtRa"/>
          <p:cNvPicPr/>
          <p:nvPr/>
        </p:nvPicPr>
        <p:blipFill>
          <a:blip r:embed="rId2"/>
          <a:stretch/>
        </p:blipFill>
        <p:spPr>
          <a:xfrm>
            <a:off x="4859280" y="3429000"/>
            <a:ext cx="3684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Galbulten(netelroo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telroos"/>
          <p:cNvPicPr/>
          <p:nvPr/>
        </p:nvPicPr>
        <p:blipFill>
          <a:blip r:embed="rId1"/>
          <a:stretch/>
        </p:blipFill>
        <p:spPr>
          <a:xfrm>
            <a:off x="2340000" y="105264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53:33Z</dcterms:created>
  <dc:creator>-</dc:creator>
  <dc:description/>
  <dc:language>en-US</dc:language>
  <cp:lastModifiedBy>Cuperus,B.K.</cp:lastModifiedBy>
  <dcterms:modified xsi:type="dcterms:W3CDTF">2013-12-05T19:47:06Z</dcterms:modified>
  <cp:revision>16</cp:revision>
  <dc:subject/>
  <dc:title>Plotseling onwel na injectie of wespensteek</dc:title>
</cp:coreProperties>
</file>