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u="sng">
              <a:solidFill>
                <a:srgbClr val="000000"/>
              </a:solidFill>
              <a:uFillTx/>
              <a:latin typeface="Verdana"/>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9C780-F9B5-4253-85F7-04381008FFDA}" type="slidenum">
              <a:rPr b="0" lang="nl-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9C92-2BDC-45F8-9116-9C7B1E9A23B5}"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48A7-2D8C-41D2-A280-7E7C8A6D576E}"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C3C5-DD6A-4674-B153-FB29267EC2BC}"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nam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veel wratten en op welke plaat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 de wratten al aanwezig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e hinder de wrat veroorzaakt; pijn, en ongemak, of cosmetische kl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mmuunstoornis gebruik immunosuppress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heeft de patiënt gegaan met welk resul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de patiënt de wrat wil laten behan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4742-0916-4A26-B41B-D01F9AC6B887}"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06204-53CF-4764-BAEA-537F96A21B95}"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BEF39-A71D-47F3-B75B-BDC21A2034E9}"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A651-8A03-4608-AC77-169453C8E646}"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C6BA-A737-4553-9F21-92A303E55DEC}"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052BF-020D-440D-A96E-FFAAA495F1CC}"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645BD-DBE0-47B3-BA44-457306DFB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DBC06-01FB-49E9-B79F-2DD2AF0D7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F639FB7-5D3C-4E97-8DEE-498E1210E41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84285A6-C825-4EDE-B215-1CCCD2F7B7C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1219D65-0420-4B71-9BBF-378510BA7BC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C89E88C-9D28-40BC-B27C-94B5DFFF574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7F1C204-9A68-40F4-9B45-A709AD6664B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134A709-8F56-4F9A-871C-743E2E2C9A4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01304DE-07E6-4B34-9B4D-F7FEE750861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4079227-1792-44BC-8A10-98B21FD8DF9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1811ECE-DD42-400E-AA75-BE1B6EC7E8E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05821F6-67A6-4B77-92FB-15F73D0EA8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0C4C9-E70C-4F3E-AF17-9B5435576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35A1320-8BD1-4BF8-BAAD-202B0C573F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CD3A6E6-8AD3-4FA4-9587-D1701895D2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426247E-4CE0-4690-83BE-442EC9C344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CE385BA-2255-45C9-B041-CFCA4F4122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185D416-3345-4A4D-B757-FB0E3217D3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50E021C-7F26-4C43-8DB4-8CB4FC179B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5DC4EB2-D99D-4677-8F11-20494CF80C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50C99E8-D4D7-42CF-B21B-8510424A40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0D3CD45-E11B-4F60-8338-61F2882A52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1DC36FD-EAEB-4744-95D9-9198FCD9C3F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65F1D-A6CE-4309-9223-0996DD69D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D4ED8C1-FE88-42EE-AE6D-700D7235A78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B566C27-07F6-492C-9B17-3200229FC1A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3AB8C9-2A74-4CAD-9FEC-27A2A43A9EF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87F490-1245-46CB-8F27-77C8EA29CE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07E2F37-326E-4404-8372-3D0DC7476B8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C746FC-7588-4A91-8354-217F59BAB5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B35EC8-1424-40EE-8FB4-843FCA7103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49476A-EDE5-40A4-9EE4-C2892D5299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8ED0CA-2269-49DB-BD60-EE64D8E390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09A964-882A-44BD-B56D-79374655A0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7CCE39-D854-4E4D-830C-77C93B2740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DAE4A9-5AE8-4173-8F54-15EBD6C332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8458300-7A82-4CC4-A6DD-161F9DE22C6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5FEAA18-770D-4DDB-80FF-78BADBD259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ED7EB1A-67DB-41DA-9D6B-419308BD99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7488058-145D-4201-A298-B7460DDB47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3D74CC1-259A-4AB6-8EC2-369E37AE89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CAC9B35-6E1D-493D-B642-1B727641AC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0F3AFB4-8678-4AFF-81FD-4B8557DC77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D512603-B1B0-49E4-B617-12F42832C1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E7B802A-5E5C-493E-8FBB-02F672CFD6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11042-7B1B-4DF8-BFFF-65E25097A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DA1CF2A-6B94-4350-B82F-343AAB688E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9275A9E-77B6-4339-B1AA-0F26FACAE6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4BCD868-DD54-4E87-A022-99B450D852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4D39D36-B6BB-4205-8A09-3D4B27FBC0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CE6B1EE-40DE-435A-B4D5-10BB389FD5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3237F-6BFB-48CF-80C1-98B288881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2E220-8C0A-46C6-BD28-D761C28CA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1C48F-94A3-405E-8CDF-6825C1C5B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117AF-9E3D-4224-9BBE-D7AADFDE7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FEB0C-1B79-4F1C-98B0-946A94AFB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E6F51-74AD-4958-9AE3-C300CB84D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51FC0-B345-4B17-BAE1-75BEC3E86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E3EBB-247B-4994-8ED2-CB37A1878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4B3F0-9513-4707-AC30-C7D5783E8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CF25FF-1580-4B73-86A1-E4EAE65CB2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9BB527-3BE9-40FE-9D80-17EEC0D60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5C4A21-3B52-4FE3-80A8-AAB733B087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CF8AF5-2662-46D6-8C38-D6B4B936D4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7192CB-14B4-4DA2-8C81-FE771B1AF1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8CDD90-EC7E-49ED-9163-871405B711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2E3EC2-7927-4E6F-BAC6-B8846F38C6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5A4AF-77A0-4DA0-8092-446540D47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090F80-87B0-4252-AFD2-56973B60B2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23B40E-7068-40E9-97C5-1578D77D98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9816D4-4F2F-4E4C-834F-E7DB25C7AD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7E6E6C-576E-4604-A473-28C83D285C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7E1A8A-D826-40EA-92BD-317CB4C2A3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40DE1F-E80B-4D68-A7CB-106C0BF643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171803-AD0C-47BB-9DC9-F8E02132A8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7435667-C91D-49BD-87C3-745BC59FC43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7B454A2-7EC6-44F2-98B9-0826CC9D23E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34ECD38-29EC-4FAE-8731-C0A200B5511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7A2A8-48A4-4C26-BBF1-19C6E6583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1458D9E-EE8E-4DB3-BAA3-6593FDDEC97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9CE5BF6-2BD9-453B-AC56-2CA777C4D6D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831F210-3ED2-4319-B034-1A7C5625D1E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4728EE4-B42F-447D-8109-F08269FFBC4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3A2474C-7763-4E2F-A7C7-A535DEEC019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7380A90-D8A9-430B-9BD3-64D41B6AE0B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3F9DA38-6E74-4590-A7DD-E1B9C7799DF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588707E-3F74-4CFB-8854-DD4BDBE6FF9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56177AD-B755-40F8-A5FE-7C13AB2FE10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0E9D1E-2DEF-4EDC-A378-708670ED73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9E54B-C51E-415E-956E-77F6666A2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F9B0DC-CD2F-42E2-AEB0-6FA0AA8754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913AD3-2FF1-41B9-A7A7-973D0FC8FA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233F8A-081F-4454-9019-B7E5EFEFEA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D896AA-FA38-4F87-BCB3-227B7C10B4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CC1954-EB96-49DB-BE35-2EA85B110E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417F21-D366-4F9C-AD1D-A149B2603F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25E506-61D5-4EB0-951A-1BBE512F80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641521-FDAB-407A-A04D-195A74EC18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6F6ED9-0186-4623-ACCF-6BA7CD26D1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4D8D15-FD85-4A9E-98E1-8260409378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CD8F1-679D-4A73-AADF-601CD4266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EB24C2-5E44-49C3-9E6C-6D14EAEE0F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306E28-86BC-4466-ACD9-C672C62741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89807C-0EF9-4D3E-AEA5-FA3F64F78B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758019-58C0-40D0-93F6-EFB7884B4C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7B3199-F8DD-4483-A74B-655B30B774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C22CE5-63B2-4A40-B7A3-4456A63FBC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5F976A-B0C0-485D-9F90-F3D5C24DE5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5CB49A-8666-43A2-A51F-A8303F38F7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3DA3D6-69C9-4FBA-BF19-4215B416A6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05949B-4017-493E-8FD6-2FD64D1457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5018F-245E-4887-B81D-B386216FD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64FE62-6CAA-423E-AD2C-01AA427BA6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7A2304-0663-4295-A8CA-02D55E9DC4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E395D5-1FE9-4453-8153-ED4026BFED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E951F7-67FC-4591-B662-66BB44A761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228B0F-FC16-49DE-81A1-84ED9B481C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115A1E-F8AE-4076-AB21-16448754EC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2D0036-C450-4B16-B1BC-D482E62E81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3332B7-A115-4760-B0E9-DF9B57F149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D86EAD-6D2F-40FD-BC2E-827413247A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FAA356-1AC0-4509-A2E1-7EFB4A23CC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9DFD0-C858-4EF4-B773-E5D8FAC91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9ABE3A-C858-4D3F-8993-DD19F40DC9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94ABD6-384C-45A4-8939-B6F3C20463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7C317B-F466-48A4-9E90-D3614C4A2C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CAADDF-EB7B-4912-83D0-56DB60EBB5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20BEEB-7311-4541-81B7-A89667F399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24A26C-6F3C-4C85-ADBA-27B6A99368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5B3FB1-FDDF-4C9D-B6FA-D4ED6107BF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A8A0DF-E404-4483-9193-C7117AEDBB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5D244B-8A91-45A8-A3CC-DC389ED323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835669-B690-48EB-8B2C-12C13138D8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77855-86C6-4F5D-ACC6-A1A406F6F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1E9B30-EC11-48E1-924A-E64C4454A2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D97B6D-A485-45E6-BA56-6176266939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AD5BD3-4F89-4DD6-A468-9E1C56B3DD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91DE1D-90B4-4225-97F1-AD4EC22D83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6F9DF1-388C-4F9D-BBBA-8FAFE44339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B5CBF5-A380-4B44-A006-0CDAEEB4D3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C18934-4DB9-4E21-BD68-40F206D255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8D9FAEF0-0296-4451-A6F2-9C7FAF785C8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C5B1A7F-0F1E-419D-81C9-316DE0AE5A8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E22D146-0464-461B-BD9E-B6239ABE336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7"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8"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9"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EA2D8-0138-491F-8553-D21B15F27563}"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Rechte verbindingslijn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455"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6"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7" name="Rechthoek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8" name="Rechthoe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9" name="Rechthoek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0" name="Rechthoek 23"/>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1" name="Rechthoek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2" name="Ovaal 25"/>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3" name="Ovaal 26"/>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4" name="Rechthoek 27"/>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C8AFB-6916-4039-B1DE-F236369EB11E}"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7"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8"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9"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0"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1"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2"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13"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4"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EF2F1-7193-4BAA-9EBB-AE691F65098D}"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7" name="Rechthoek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8" name="Rechthoek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9"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0"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1" name="Rechthoek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2" name="Rechte verbindingslijn 23"/>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63" name="Ovaal 24"/>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4" name="Ovaal 25"/>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123DE-B5FA-4A49-8CC9-419F1276FDC4}"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 name="Rechthoek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2" name="Rechthoek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3" name="Rechthoek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4"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 name="Rechte verbindingslijn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6" name="Rechthoek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7" name="Ovaal 24"/>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8" name="Ovaal 25"/>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5D79-ED39-4F0E-BBC3-546DF4E1B0E4}"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1"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2"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3"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4"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5"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6"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107"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8"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DEC6-9B2B-45DE-B125-6FD98D78B1CA}"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hthoek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1"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2" name="Rechthoek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3" name="Rechthoek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4" name="Rechthoek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5" name="Rechthoek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6" name="Rechthoek 23"/>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7" name="Rechthoek 24"/>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8" name="Rechte verbindingslijn 25"/>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159" name="Ovaal 26"/>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0" name="Ovaal 27"/>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A9B37-5857-4DCB-90CA-01B8580C2E4B}"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3"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4"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5"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6"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7"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8"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09"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0"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1" name="Rechte verbindingslijn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5A878-ECB2-4835-AC0A-D5288D010407}"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Rechte verbindingslijn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54" name="Rechthoek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5" name="Rechthoek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6"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7" name="Rechthoek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8" name="Rechthoek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9" name="Rechthoek 23"/>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0" name="Rechte verbindingslijn 2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61" name="Rechthoek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2" name="Ovaal 26"/>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3" name="Ovaal 27"/>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CDF8A-AF64-447A-9CE8-15F3AEA57D5C}"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6"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7"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8"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9"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0"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1"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312"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3"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2A341-1136-4354-BE01-06F85372C79E}"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6" name="Rechthoek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7"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8"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9"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0" name="Rechthoek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E2C2-C44B-42CB-9FE7-AE5BFAD02496}" type="slidenum">
              <a:rPr b="0" lang="nl-NL"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hthoek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3"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4"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5" name="Rechthoek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6" name="Rechthoe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7" name="Rechthoek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8" name="Rechthoek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9" name="Rechte verbindingslijn 24"/>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410" name="Ovaal 25"/>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1" name="Ovaal 26"/>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2" name="Rechthoek 27"/>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4CE6-B6EC-4111-98A9-03F8157433C2}"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600" spc="-1" strike="noStrike">
              <a:solidFill>
                <a:srgbClr val="646b86"/>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d16349"/>
                </a:solidFill>
                <a:latin typeface="Georgia"/>
              </a:rPr>
              <a:t>Wratten (verrucae)</a:t>
            </a:r>
            <a:br>
              <a:rPr sz="4200"/>
            </a:br>
            <a:br>
              <a:rPr sz="4200"/>
            </a:br>
            <a:r>
              <a:rPr b="0" lang="nl-NL" sz="1100" spc="-1" strike="noStrike">
                <a:solidFill>
                  <a:srgbClr val="d16349"/>
                </a:solidFill>
                <a:latin typeface="Georgia"/>
              </a:rPr>
              <a:t>(bijgesteld :29-11-2017 Bouke Cuperus)</a:t>
            </a:r>
            <a:endParaRPr b="0" lang="en-US" sz="1100" spc="-1" strike="noStrike">
              <a:solidFill>
                <a:srgbClr val="7b9899"/>
              </a:solidFill>
              <a:latin typeface="Georgia"/>
            </a:endParaRPr>
          </a:p>
        </p:txBody>
      </p:sp>
      <p:pic>
        <p:nvPicPr>
          <p:cNvPr id="615" name="Picture 5" descr=""/>
          <p:cNvPicPr/>
          <p:nvPr/>
        </p:nvPicPr>
        <p:blipFill>
          <a:blip r:embed="rId1"/>
          <a:stretch/>
        </p:blipFill>
        <p:spPr>
          <a:xfrm>
            <a:off x="5408640" y="2836800"/>
            <a:ext cx="2511360" cy="1638360"/>
          </a:xfrm>
          <a:prstGeom prst="rect">
            <a:avLst/>
          </a:prstGeom>
          <a:ln w="0">
            <a:noFill/>
          </a:ln>
        </p:spPr>
      </p:pic>
      <p:pic>
        <p:nvPicPr>
          <p:cNvPr id="616" name="Picture 6" descr=""/>
          <p:cNvPicPr/>
          <p:nvPr/>
        </p:nvPicPr>
        <p:blipFill>
          <a:blip r:embed="rId2"/>
          <a:stretch/>
        </p:blipFill>
        <p:spPr>
          <a:xfrm>
            <a:off x="5435640" y="4475160"/>
            <a:ext cx="2521080" cy="1165320"/>
          </a:xfrm>
          <a:prstGeom prst="rect">
            <a:avLst/>
          </a:prstGeom>
          <a:ln w="0">
            <a:noFill/>
          </a:ln>
        </p:spPr>
      </p:pic>
      <p:pic>
        <p:nvPicPr>
          <p:cNvPr id="617" name="Picture 8" descr=""/>
          <p:cNvPicPr/>
          <p:nvPr/>
        </p:nvPicPr>
        <p:blipFill>
          <a:blip r:embed="rId3"/>
          <a:stretch/>
        </p:blipFill>
        <p:spPr>
          <a:xfrm>
            <a:off x="1041480" y="2803680"/>
            <a:ext cx="4292640" cy="2827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Ouderdomswrat (Verrucae Seborrhoica / sensilis)</a:t>
            </a:r>
            <a:endParaRPr b="0" lang="en-US" sz="2400" spc="-1" strike="noStrike">
              <a:solidFill>
                <a:srgbClr val="7b9899"/>
              </a:solidFill>
              <a:latin typeface="Georgia"/>
            </a:endParaRPr>
          </a:p>
        </p:txBody>
      </p:sp>
      <p:sp>
        <p:nvSpPr>
          <p:cNvPr id="642" name=""/>
          <p:cNvSpPr txBox="1"/>
          <p:nvPr/>
        </p:nvSpPr>
        <p:spPr>
          <a:xfrm>
            <a:off x="301680" y="1371600"/>
            <a:ext cx="4038480" cy="468144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uderdomswrat </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iet besmettelijk</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Goedaardig</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onker brui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Ruwe structuur</a:t>
            </a:r>
            <a:endParaRPr b="0" lang="en-US" sz="2000" spc="-1" strike="noStrike">
              <a:solidFill>
                <a:srgbClr val="000000"/>
              </a:solidFill>
              <a:latin typeface="Georgia"/>
            </a:endParaRPr>
          </a:p>
        </p:txBody>
      </p:sp>
      <p:pic>
        <p:nvPicPr>
          <p:cNvPr id="643" name="Picture 6" descr=""/>
          <p:cNvPicPr/>
          <p:nvPr/>
        </p:nvPicPr>
        <p:blipFill>
          <a:blip r:embed="rId1"/>
          <a:stretch/>
        </p:blipFill>
        <p:spPr>
          <a:xfrm>
            <a:off x="4903920" y="1773360"/>
            <a:ext cx="3628800" cy="2803320"/>
          </a:xfrm>
          <a:prstGeom prst="rect">
            <a:avLst/>
          </a:prstGeom>
          <a:ln w="0">
            <a:noFill/>
          </a:ln>
        </p:spPr>
      </p:pic>
      <p:sp>
        <p:nvSpPr>
          <p:cNvPr id="644"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Genitale wratten (condyloma acuminatum)</a:t>
            </a:r>
            <a:endParaRPr b="0" lang="en-US" sz="2800" spc="-1" strike="noStrike">
              <a:solidFill>
                <a:srgbClr val="7b9899"/>
              </a:solidFill>
              <a:latin typeface="Georgia"/>
            </a:endParaRPr>
          </a:p>
        </p:txBody>
      </p:sp>
      <p:sp>
        <p:nvSpPr>
          <p:cNvPr id="646"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eer besmettelijk&gt;SOA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epaald type van Humaan Papilloma virus</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loemkoolachtig gesteeld vormsel</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estelt zich op de slijmvliezen</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Locatie: anus en/of geslachtsorganen man/vrouw</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 of uitwendig</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647" name="Picture 5" descr=""/>
          <p:cNvPicPr/>
          <p:nvPr/>
        </p:nvPicPr>
        <p:blipFill>
          <a:blip r:embed="rId1"/>
          <a:stretch/>
        </p:blipFill>
        <p:spPr>
          <a:xfrm>
            <a:off x="6440400" y="4508640"/>
            <a:ext cx="2238480" cy="1671480"/>
          </a:xfrm>
          <a:prstGeom prst="rect">
            <a:avLst/>
          </a:prstGeom>
          <a:ln w="0">
            <a:noFill/>
          </a:ln>
        </p:spPr>
      </p:pic>
      <p:pic>
        <p:nvPicPr>
          <p:cNvPr id="648" name="Picture 6" descr=""/>
          <p:cNvPicPr/>
          <p:nvPr/>
        </p:nvPicPr>
        <p:blipFill>
          <a:blip r:embed="rId2"/>
          <a:stretch/>
        </p:blipFill>
        <p:spPr>
          <a:xfrm>
            <a:off x="6230880" y="1773360"/>
            <a:ext cx="2467080" cy="1584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Water wratjes (mollusca contagiosa)</a:t>
            </a:r>
            <a:endParaRPr b="0" lang="en-US" sz="33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Oorzaak: Pokvirus</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Zeer besmettelijk door intensief huidcontact  (zwembad,gymzaal</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Vooral bij kinderen</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Doorschijnend of wit, bol, vast bultje met in het   midden vaak een inzinking</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Gevuld met substantie</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651" name="Picture 2" descr=""/>
          <p:cNvPicPr/>
          <p:nvPr/>
        </p:nvPicPr>
        <p:blipFill>
          <a:blip r:embed="rId1"/>
          <a:stretch/>
        </p:blipFill>
        <p:spPr>
          <a:xfrm>
            <a:off x="4211640" y="3357720"/>
            <a:ext cx="2530440" cy="2474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Diagnose: Wratten</a:t>
            </a:r>
            <a:endParaRPr b="0" lang="en-US" sz="2800" spc="-1" strike="noStrike">
              <a:solidFill>
                <a:srgbClr val="7b9899"/>
              </a:solidFill>
              <a:latin typeface="Georgia"/>
            </a:endParaRPr>
          </a:p>
        </p:txBody>
      </p:sp>
      <p:sp>
        <p:nvSpPr>
          <p:cNvPr id="653"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oe wordt diagnose gesteld?</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oor de huisarts (anamnese)</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Kenmerkend, geen nader onderzoek nodi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oms biopt afnemen,voor aanvullend onderzoek</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erste behandelin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dere behandeling evt delegeren naar assistente a.d.h.v. protocol (afhankelijk van aard, locatie, behandelin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ventueel verwijzing dermatologie</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Behandelingsmogelijkheden</a:t>
            </a:r>
            <a:endParaRPr b="0" lang="en-US" sz="3300" spc="-1" strike="noStrike">
              <a:solidFill>
                <a:srgbClr val="7b9899"/>
              </a:solidFill>
              <a:latin typeface="Georgia"/>
            </a:endParaRPr>
          </a:p>
        </p:txBody>
      </p:sp>
      <p:sp>
        <p:nvSpPr>
          <p:cNvPr id="655" name=""/>
          <p:cNvSpPr txBox="1"/>
          <p:nvPr/>
        </p:nvSpPr>
        <p:spPr>
          <a:xfrm>
            <a:off x="301320" y="1527120"/>
            <a:ext cx="8504280" cy="4572000"/>
          </a:xfrm>
          <a:prstGeom prst="rect">
            <a:avLst/>
          </a:prstGeom>
          <a:noFill/>
          <a:ln w="0">
            <a:noFill/>
          </a:ln>
        </p:spPr>
        <p:txBody>
          <a:bodyPr anchor="t">
            <a:normAutofit fontScale="97000"/>
          </a:bodyPr>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1. Afwachten (expectatief beleid)</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2. Aanstippen; patiënt kan zelf aanstipvloeistof bij de apotheek kopen</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3. Cryotherapie (bevriezing) , aanstippen met vloeibare stikstok  wrattenspreekuur.</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 </a:t>
            </a:r>
            <a:r>
              <a:rPr b="0" lang="nl-NL" sz="2000" spc="-1" strike="noStrike">
                <a:solidFill>
                  <a:srgbClr val="000000"/>
                </a:solidFill>
                <a:latin typeface="Georgia"/>
              </a:rPr>
              <a:t>4. Uitlepelen </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5. Wegsnijden</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6.Wegbranden (coagulatie)….is pijnlijk daardoor  weinig toegepast</a:t>
            </a:r>
            <a:endParaRPr b="0" lang="en-US" sz="2000" spc="-1" strike="noStrike">
              <a:solidFill>
                <a:srgbClr val="000000"/>
              </a:solidFill>
              <a:latin typeface="Georg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Huidbiopsie</a:t>
            </a:r>
            <a:endParaRPr b="0" lang="en-US" sz="2400" spc="-1" strike="noStrike">
              <a:solidFill>
                <a:srgbClr val="7b9899"/>
              </a:solidFill>
              <a:latin typeface="Georgia"/>
            </a:endParaRPr>
          </a:p>
        </p:txBody>
      </p:sp>
      <p:sp>
        <p:nvSpPr>
          <p:cNvPr id="65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weghalen van een stukje huid onder lokale verdovin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dicatie:</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ekerheid over “klinische diagnose” te krijg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Huidbiopsie</a:t>
            </a:r>
            <a:endParaRPr b="0" lang="en-US" sz="2400" spc="-1" strike="noStrike">
              <a:solidFill>
                <a:srgbClr val="7b9899"/>
              </a:solidFill>
              <a:latin typeface="Georgia"/>
            </a:endParaRPr>
          </a:p>
        </p:txBody>
      </p:sp>
      <p:sp>
        <p:nvSpPr>
          <p:cNvPr id="65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ovaaltje:</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rmatoloo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ij verdenking melanoom</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teriel onder verdovin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vaalvormig gebied rondom huidafwijking uitgesned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chting na 7-14 dagen verwijderen bij huisarts</a:t>
            </a:r>
            <a:endParaRPr b="0" lang="en-US" sz="2000" spc="-1" strike="noStrike">
              <a:solidFill>
                <a:srgbClr val="000000"/>
              </a:solidFill>
              <a:latin typeface="Georgia"/>
            </a:endParaRPr>
          </a:p>
        </p:txBody>
      </p:sp>
      <p:pic>
        <p:nvPicPr>
          <p:cNvPr id="660" name="Picture 5" descr="melanoma_malign"/>
          <p:cNvPicPr/>
          <p:nvPr/>
        </p:nvPicPr>
        <p:blipFill>
          <a:blip r:embed="rId1"/>
          <a:stretch/>
        </p:blipFill>
        <p:spPr>
          <a:xfrm>
            <a:off x="5003640" y="2421000"/>
            <a:ext cx="1905120" cy="1276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Tip: Geen lesstof</a:t>
            </a:r>
            <a:endParaRPr b="0" lang="en-US" sz="3300" spc="-1" strike="noStrike">
              <a:solidFill>
                <a:srgbClr val="7b9899"/>
              </a:solidFill>
              <a:latin typeface="Georgia"/>
            </a:endParaRPr>
          </a:p>
        </p:txBody>
      </p:sp>
      <p:sp>
        <p:nvSpPr>
          <p:cNvPr id="66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oede informatie over wratten spreekuur is te vinden in het boek</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igen spreekuur en chronische ziekten</a:t>
            </a:r>
            <a:endParaRPr b="0" lang="en-US" sz="2700" spc="-1" strike="noStrike">
              <a:solidFill>
                <a:srgbClr val="000000"/>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b9899"/>
                </a:solidFill>
                <a:latin typeface="Verdana"/>
              </a:rPr>
              <a:t>        </a:t>
            </a:r>
            <a:r>
              <a:rPr b="0" lang="nl-NL" sz="2800" spc="-1" strike="noStrike">
                <a:solidFill>
                  <a:srgbClr val="7b9899"/>
                </a:solidFill>
                <a:latin typeface="Verdana"/>
              </a:rPr>
              <a:t>Leerdoelen:</a:t>
            </a:r>
            <a:endParaRPr b="0" lang="en-US" sz="28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a afloop van deze  powerpoint kan je: </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schillende soorten wratten benoem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nkele behandelmethoden beschrijv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Wat zijn wratten?</a:t>
            </a:r>
            <a:endParaRPr b="0" lang="en-US" sz="3300" spc="-1" strike="noStrike">
              <a:solidFill>
                <a:srgbClr val="7b9899"/>
              </a:solidFill>
              <a:latin typeface="Georgia"/>
            </a:endParaRPr>
          </a:p>
        </p:txBody>
      </p:sp>
      <p:sp>
        <p:nvSpPr>
          <p:cNvPr id="621" name=""/>
          <p:cNvSpPr txBox="1"/>
          <p:nvPr/>
        </p:nvSpPr>
        <p:spPr>
          <a:xfrm>
            <a:off x="301320" y="1527120"/>
            <a:ext cx="8504280" cy="457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Georgia"/>
              </a:rPr>
              <a:t>Wratten zijn knobbeltjes die ruw en hard aanvoelen. Soms zien ze er een beetje bloemkoolachtig uit. Ze komen vooral voor op de handen en voeten, maar ze kunnen ook op andere plaatsen zitten. Door lopen worden voetwratten in het eelt van de voetzool gedrukt. Voetwratten doen soms pijn bij staan of lopen.</a:t>
            </a:r>
            <a:endParaRPr b="0" lang="en-US" sz="2400" spc="-1" strike="noStrike">
              <a:solidFill>
                <a:srgbClr val="000000"/>
              </a:solidFill>
              <a:latin typeface="Georg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Wratten (Verrucae)</a:t>
            </a:r>
            <a:endParaRPr b="0" lang="en-US" sz="2800" spc="-1" strike="noStrike">
              <a:solidFill>
                <a:srgbClr val="7b9899"/>
              </a:solidFill>
              <a:latin typeface="Georgia"/>
            </a:endParaRPr>
          </a:p>
        </p:txBody>
      </p:sp>
      <p:sp>
        <p:nvSpPr>
          <p:cNvPr id="623" name=""/>
          <p:cNvSpPr txBox="1"/>
          <p:nvPr/>
        </p:nvSpPr>
        <p:spPr>
          <a:xfrm>
            <a:off x="301320" y="1527120"/>
            <a:ext cx="8504280" cy="457200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 </a:t>
            </a:r>
            <a:r>
              <a:rPr b="0" lang="nl-NL" sz="2000" spc="-1" strike="noStrike">
                <a:solidFill>
                  <a:srgbClr val="000000"/>
                </a:solidFill>
                <a:latin typeface="Verdana"/>
              </a:rPr>
              <a:t>Hoe ontstaan wratt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orzaak: Humane Papillomavirus (HPV-virus) van de huid</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ijn besmettelijk</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cubatietijd: 3-6 maanden of langer</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a 1 jaar zijn de wratten bij ongeveer de helft van de mensen spontaan verdwen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Verdana"/>
              </a:rPr>
              <a:t>Het is niet aangetoond dat u wratten krijgt van zwembaden, openbare douches, of van sporten op blote voeten. </a:t>
            </a:r>
            <a:endParaRPr b="0" lang="en-US" sz="2000" spc="-1" strike="noStrike">
              <a:solidFill>
                <a:srgbClr val="000000"/>
              </a:solidFill>
              <a:latin typeface="Georg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schillende soorten wratten</a:t>
            </a:r>
            <a:endParaRPr b="0" lang="en-US" sz="3300" spc="-1" strike="noStrike">
              <a:solidFill>
                <a:srgbClr val="7b9899"/>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ewone wrat (handen /vingers  (</a:t>
            </a:r>
            <a:r>
              <a:rPr b="0" i="1" lang="nl-NL" sz="2700" spc="-1" strike="noStrike">
                <a:solidFill>
                  <a:srgbClr val="000000"/>
                </a:solidFill>
                <a:latin typeface="Georgia"/>
              </a:rPr>
              <a:t>verrucae vulgaris</a:t>
            </a:r>
            <a:r>
              <a:rPr b="0" lang="nl-NL"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oetwratten   (</a:t>
            </a:r>
            <a:r>
              <a:rPr b="0" i="1" lang="nl-NL" sz="2700" spc="-1" strike="noStrike">
                <a:solidFill>
                  <a:srgbClr val="000000"/>
                </a:solidFill>
                <a:latin typeface="Georgia"/>
              </a:rPr>
              <a:t>verrucae plantaris</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enerische wratten (</a:t>
            </a:r>
            <a:r>
              <a:rPr b="0" i="1" lang="nl-NL" sz="2700" spc="-1" strike="noStrike">
                <a:solidFill>
                  <a:srgbClr val="000000"/>
                </a:solidFill>
                <a:latin typeface="Georgia"/>
              </a:rPr>
              <a:t>condylomata acuminata </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ouderdomswrat (</a:t>
            </a:r>
            <a:r>
              <a:rPr b="0" i="1" lang="nl-NL" sz="2700" spc="-1" strike="noStrike">
                <a:solidFill>
                  <a:srgbClr val="000000"/>
                </a:solidFill>
                <a:latin typeface="Georgia"/>
              </a:rPr>
              <a:t>verrrucae senilis</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waterwratjes: (</a:t>
            </a:r>
            <a:r>
              <a:rPr b="0" i="1" lang="nl-NL" sz="2700" spc="-1" strike="noStrike">
                <a:solidFill>
                  <a:srgbClr val="000000"/>
                </a:solidFill>
                <a:latin typeface="Georgia"/>
              </a:rPr>
              <a:t>mollusca contagiosa</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ruca vulgaris (‘gewone wrat’)</a:t>
            </a:r>
            <a:endParaRPr b="0" lang="en-US" sz="33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Rond, bloemkoolachtig</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Scherp begrensd</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Sterke verhoorning</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Meestal meerdere</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 handen, knieën,</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llebogen, gelaat</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8" name="Picture 3" descr=""/>
          <p:cNvPicPr/>
          <p:nvPr/>
        </p:nvPicPr>
        <p:blipFill>
          <a:blip r:embed="rId1"/>
          <a:stretch/>
        </p:blipFill>
        <p:spPr>
          <a:xfrm>
            <a:off x="4932360" y="2205000"/>
            <a:ext cx="3511440" cy="153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Voetwrat (verruca plantaris)</a:t>
            </a:r>
            <a:endParaRPr b="0" lang="en-US" sz="28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ruca plantaris:  ligt verzonken in het eelt van de voetzoel</a:t>
            </a:r>
            <a:endParaRPr b="0" lang="en-US" sz="20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  </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Mozaïekwrat: breidt zich oppervlakkig uit.</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   </a:t>
            </a:r>
            <a:r>
              <a:rPr b="0" lang="nl-NL" sz="1000" spc="-1" strike="noStrike">
                <a:solidFill>
                  <a:srgbClr val="000000"/>
                </a:solidFill>
                <a:latin typeface="Verdana"/>
              </a:rPr>
              <a:t>Bron:htt</a:t>
            </a:r>
            <a:r>
              <a:rPr b="0" lang="nl-NL" sz="1100" spc="-1" strike="noStrike">
                <a:solidFill>
                  <a:srgbClr val="000000"/>
                </a:solidFill>
                <a:latin typeface="Verdana"/>
              </a:rPr>
              <a:t>p://www.huidziekten.nl/zakboek/dermatosen/vtxt/VerrucaVulgaris.htm</a:t>
            </a:r>
            <a:endParaRPr b="0" lang="en-US" sz="11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601"/>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631" name="Picture 4" descr=""/>
          <p:cNvPicPr/>
          <p:nvPr/>
        </p:nvPicPr>
        <p:blipFill>
          <a:blip r:embed="rId1"/>
          <a:stretch/>
        </p:blipFill>
        <p:spPr>
          <a:xfrm>
            <a:off x="6372360" y="4292640"/>
            <a:ext cx="2303280" cy="1538280"/>
          </a:xfrm>
          <a:prstGeom prst="rect">
            <a:avLst/>
          </a:prstGeom>
          <a:ln w="0">
            <a:noFill/>
          </a:ln>
        </p:spPr>
      </p:pic>
      <p:pic>
        <p:nvPicPr>
          <p:cNvPr id="632" name="Picture 5" descr=""/>
          <p:cNvPicPr/>
          <p:nvPr/>
        </p:nvPicPr>
        <p:blipFill>
          <a:blip r:embed="rId2"/>
          <a:stretch/>
        </p:blipFill>
        <p:spPr>
          <a:xfrm>
            <a:off x="6364440" y="2060640"/>
            <a:ext cx="2208240" cy="1655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ruca plana</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lakke wr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nkele millimeters groo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Huidkleurig of lichtbruin bobbeltj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rote getale aanwezi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 gelaat, armen en bene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5" name="Picture 2" descr=""/>
          <p:cNvPicPr/>
          <p:nvPr/>
        </p:nvPicPr>
        <p:blipFill>
          <a:blip r:embed="rId1"/>
          <a:stretch/>
        </p:blipFill>
        <p:spPr>
          <a:xfrm>
            <a:off x="6084720" y="1628640"/>
            <a:ext cx="2616480" cy="2649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Steelwrat (verruca filiformis)</a:t>
            </a:r>
            <a:endParaRPr b="0" lang="en-US" sz="3300" spc="-1" strike="noStrike">
              <a:solidFill>
                <a:srgbClr val="7b9899"/>
              </a:solidFill>
              <a:latin typeface="Georgia"/>
            </a:endParaRPr>
          </a:p>
        </p:txBody>
      </p:sp>
      <p:sp>
        <p:nvSpPr>
          <p:cNvPr id="637" name=""/>
          <p:cNvSpPr txBox="1"/>
          <p:nvPr/>
        </p:nvSpPr>
        <p:spPr>
          <a:xfrm>
            <a:off x="247320" y="145908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oksel,lippen, ooglede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8" name="Picture 4" descr=""/>
          <p:cNvPicPr/>
          <p:nvPr/>
        </p:nvPicPr>
        <p:blipFill>
          <a:blip r:embed="rId1"/>
          <a:stretch/>
        </p:blipFill>
        <p:spPr>
          <a:xfrm>
            <a:off x="4500720" y="1700280"/>
            <a:ext cx="3517920" cy="2314440"/>
          </a:xfrm>
          <a:prstGeom prst="rect">
            <a:avLst/>
          </a:prstGeom>
          <a:ln w="0">
            <a:noFill/>
          </a:ln>
        </p:spPr>
      </p:pic>
      <p:pic>
        <p:nvPicPr>
          <p:cNvPr id="639" name="Picture 5" descr=""/>
          <p:cNvPicPr/>
          <p:nvPr/>
        </p:nvPicPr>
        <p:blipFill>
          <a:blip r:embed="rId2"/>
          <a:stretch/>
        </p:blipFill>
        <p:spPr>
          <a:xfrm>
            <a:off x="826920" y="3833640"/>
            <a:ext cx="2903760" cy="2165400"/>
          </a:xfrm>
          <a:prstGeom prst="rect">
            <a:avLst/>
          </a:prstGeom>
          <a:ln w="0">
            <a:noFill/>
          </a:ln>
        </p:spPr>
      </p:pic>
      <p:pic>
        <p:nvPicPr>
          <p:cNvPr id="640" name="Picture 6" descr=""/>
          <p:cNvPicPr/>
          <p:nvPr/>
        </p:nvPicPr>
        <p:blipFill>
          <a:blip r:embed="rId3"/>
          <a:stretch/>
        </p:blipFill>
        <p:spPr>
          <a:xfrm>
            <a:off x="4500720" y="4403880"/>
            <a:ext cx="3517920" cy="1595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7:58:39Z</dcterms:created>
  <dc:creator>Gebruiker</dc:creator>
  <dc:description/>
  <dc:language>en-US</dc:language>
  <cp:lastModifiedBy>Uw naam</cp:lastModifiedBy>
  <dcterms:modified xsi:type="dcterms:W3CDTF">2017-11-29T10:20:39Z</dcterms:modified>
  <cp:revision>24</cp:revision>
  <dc:subject/>
  <dc:title>Dermatologie</dc:title>
</cp:coreProperties>
</file>