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F57-8DDB-45A3-A4F0-2923B922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5A8-16F3-4CB9-B45F-E15432CC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39915-A187-454F-AFEF-63841DF6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61B38-B855-4742-AE5B-537D5A1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376D3-8B28-44DD-99CB-4452514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540BF-542C-4A97-97D7-71E6DE0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5A4C0-8545-4B4A-9AA6-F9F3CF7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0A2FC-AFCE-492E-9C0A-07D8F63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4018C-3993-47FB-B2F1-58CE6B76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D2E98-E273-4CD1-9722-51BB55EC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F829D-7404-436F-AAF8-49E53564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1A65B-4125-4E77-9826-1E8A4A52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F1E-DB84-4D02-85FB-5D946F8F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78B65-BFA5-4717-B398-F2DC07C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692BB-8865-4E97-9C65-B65494F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1DA66-C616-487A-A0A5-CD592D8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66529-E06E-459F-9DF5-F3D59B2E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DBF11-43FF-44A0-8C90-4C241304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26337-2E4D-4EFE-9D31-4CF9B83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00952-74E3-42CE-8ACC-8B01D75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DC65C-C501-44A8-ABAA-E4D152A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88141-870A-4EB8-AFBD-B6DE71D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7B922-4683-48D1-9E92-3167FC84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980-908C-4955-9CC0-9BA0FDEE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A4C11-9F27-4AED-B943-7956C6A3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74B4F-FDD0-475D-995E-4A6EBB67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81536-C6D3-4DCA-A090-802F6DC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9D974-300E-408E-BEA8-D8CCBAE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4A1CD-F2A0-425D-8EEE-BDF7AD4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AB3C4-A2B3-4E20-B35F-288765F8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48A7C-563D-4ED4-887E-DC92643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18E2A-B99D-4E41-B0E5-25FC266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D4FBA-E0ED-4603-BBAD-9C3297C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A54D5-2B6D-4263-8B50-703DDF0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137A-7524-4F3E-BA3E-79027673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6A7AC-CA99-4336-BD85-F2DDDD10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24BC4-4503-4546-BD33-DD3F1BF8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5D0E3-8EE1-47AD-B1D9-6BDA81CB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3A25F-5689-47C2-B972-E43104AF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9AE95-B8AA-47FD-A541-D215BB26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754DB-726E-4EFE-8C99-8CA91F79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ED44F-90F3-4DEB-B2C8-D83F79E1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27E0D-7251-4C81-BE3B-F9B87AD8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1FE2E-3DD0-4273-BFC4-D10E4BDA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ED46C-4093-4A6B-8F3E-B62E815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3FE9-8077-4F51-9D57-27D0FAF0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2B883-B54F-474D-88FD-29CFC64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51A26-7A1C-4BF8-848C-4D670B3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53AB8-0A39-4E7D-B82F-6698DA3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09EF0-27A7-4336-84C1-985A6019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95919-1F28-4D86-8771-F9606407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39D-E628-49BB-A385-20F4F302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5C9A-D3A7-4F7A-BC84-F87E606D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5597-E2FC-4DC9-A210-4D05C423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1055-2BD4-401F-B8BE-6C810478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E1BB-E2D0-4783-9233-C670AA1C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C47-41FE-49D0-9A61-19E347C3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D887-7B30-4CAA-B5F0-BCF364EF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404-1E15-4784-871C-F8E6CB4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7ED6-9B08-449B-AC72-D7786BA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CA39-D466-4484-9B27-42C6D49E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64F5-A42C-4708-A3C4-C7035298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AD38-9AF6-43AF-8C55-2191F571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711A-DC93-409D-A3CF-31FD7FE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F0AF-4DA4-4268-A586-79347E8D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31D0-70F3-4A5C-909E-DE7F6DF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2997-9307-4676-AF58-53784D15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1C1-B9A8-4E6F-9C0B-5C8111E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5426-512F-4852-BAFC-0333111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102B-FEAD-4F93-B1BA-662D52AB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E6F9-A540-4F85-85E0-5B96FE8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074D-01C0-495B-B3D1-A705888F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0E89-E747-4943-BA98-47F0DA1E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9159-F237-4C8F-AFA2-9E3489E8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0CBE-DDBB-474D-9D66-285DBAB9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D780-EE9A-4AB5-A22E-9EDB0319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DB15-06C3-4101-A53A-E74F8B0E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4456-D545-42BA-B0BE-D9A55707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7B3-8608-44E3-B65A-3A09E861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1772-E419-4870-8B87-7A211CB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29D6-AC9A-42E6-B2FB-AFBB278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8DBB-5317-42D4-B12B-8BECD233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4DF0-8BEE-4245-9922-FA20A49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E1777-0055-45F3-99B2-C6C81E1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4B4D-6485-4E06-ABA1-DD0BA13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C429C-16B2-4E11-A001-081B3405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3F82-DD8E-431E-A6EE-951C0C18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5188-8145-4303-BD1C-FF58D94A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57DE-B54A-451B-8976-3A6D4020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40A-37FD-434D-8D82-C892DF66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F4BBF-1EE6-4DD4-A8F4-7C72333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FFD7-7449-4BC2-9153-90D0F5F9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778F-4419-4358-A8B1-877D6F68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D108-B77A-4425-93DF-C89B831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3732-5F65-4172-A532-AF321772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B69A-FBAF-4660-81B0-FF1A13E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40A41-F655-433F-B211-F85C8A2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7ACD-7473-47D2-889C-C3E7151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A58B-F16C-4FD5-8BA9-944BEE25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BC7E8-6CA6-45A1-8336-926BFA3D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C06-FE97-4DCD-89A9-BF0564F6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7596-F11B-4C76-8E26-4A004EAE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B9989-66C5-4561-B22F-2C6C2044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EDFB6-F7AB-409D-8F6D-5208E6F5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9514-5051-44A0-9905-8DDE50FE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D129D-32BF-4452-BC84-4B817D35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9C181-FC17-4BB2-9D3F-AF01C3ED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8AB41-9452-4447-A51D-04CEEC13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A2A77-8FE0-4A67-841C-115BB5CD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AD89-7234-4714-9BE0-8B4F3E4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B577B-E471-40E8-96FE-08ABC58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9A3-2751-4B60-843F-8BA00018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C68FF-D19D-4A13-87A4-E7B2DB30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168F-8908-41D4-AB3B-67126077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9A2E-2E7C-4DF6-B387-FA7885A8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547C-1FA7-4BB6-BB70-1C436B4E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BD7F-EBBC-48C6-AF66-881A5CED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BB1C-3DDC-4436-8DA4-EE487133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F6A0-A75C-424C-9EE9-577B6A68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3B464-E1F1-41C1-8C08-E83135BD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5BB1-543D-41BE-808C-89EE794E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3E367-4225-4EFE-9A96-9C36A0F5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1F6-896B-4AC3-BF8F-66D1130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A845-3C9B-4246-AE5E-33455F07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D06FD-A068-461C-9018-FB939A6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9B5CB-2EFE-4231-A684-C280E0F4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DD96-6B54-42AE-9BED-FCB66A2F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DD69-6AE9-43CB-BF74-67364D94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D97B-D6D8-4679-A067-58886A5F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90955-66CA-4851-9A0D-F6687A5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F1632-DFAF-4C9B-8597-F1D377FE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10A50-D72B-4335-BA50-D551990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6D15-2932-4D9E-89EC-5EE3095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531-9C09-4E67-B8CA-038D1EF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5BA5-0D21-41ED-BDCB-65E990D3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1561-07B3-4132-B63D-0F8430B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7137-B6F8-4F39-AA02-C6FA7660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B0BF2-E4A6-4CF0-82BE-A5E84E2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ACA97-5622-4193-A8A6-96FDBEB1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35C9-D570-4412-A060-7819E7D9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C7FE2-A4EC-4C19-A7D7-A0D31313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2FA35-C4CD-4A83-A7EC-50E6EFC0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F636F-892E-4526-9B19-018AA4EC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3913B-5AFD-4269-8A7C-D51AE141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17A-56DD-47A6-80CA-2170065D832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B802-F350-40F0-A0FE-7566E5EAEF7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8D7D-DB12-4E98-8A3A-9A3FD10A12F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0C9-45A3-4A74-BE19-ED4AC32410B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3E9-13B7-4D6B-9FD0-40F352C38BE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163D-E9E3-4F08-8930-06578FBD38C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5A0E-9C7B-4CCC-B0C5-44692B1E92E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BE9C-E6E7-42A8-B49C-5BEA16F348F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47C-0942-4EFF-A5DD-BB219292410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37E-ED72-4213-9F37-8391581D3A7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4A5-A4FC-4EA5-ABBF-75EE479E60BC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C854-E9D0-4EB8-B5A0-712D8E586BB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olplaten.com/hoesten-t11780.jpg&amp;imgrefurl=http://www.schoolplaten.com/nl-kleurplaat-kleurplaten-foto-hoesten-i11780.html&amp;usg=__cAv-bd-1F8a2IR2us5UjTQ1T1Gg=&amp;h=531&amp;w=750&amp;sz=65&amp;hl=nl&amp;start=7&amp;um=1&amp;tbnid=3l8T0xJfJLH6YM:&amp;tbnh=100&amp;tbnw=141&amp;prev=/images%3Fq%3Dhoesten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neesmiddelen Luchtweg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11120" y="1413000"/>
            <a:ext cx="2773440" cy="20048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4778280" y="1598760"/>
            <a:ext cx="3402000" cy="1633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195640" y="3706920"/>
            <a:ext cx="1955520" cy="237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5540400" y="3384720"/>
            <a:ext cx="26636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eorgia"/>
              </a:rPr>
              <a:t>4. Antihistaminica  (cromoglicinezuur, cetirizin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Geen echte hoestmiddel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Voornamelijk in hoestsiropen vanwege hun kalmerend effect (kinderen slapen beter doo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Middelen: promethazi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LET OP!: mogelijk betrokken bij wiegendood, dus niet aan kinderen &lt;2jaa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riage 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50560" y="14130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Onschuldige hoest gaat binnen 2-3 weken vanzelf o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Alarmsignal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Bloed op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Erg ziek ki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anderd hoestpatroon bij chronische 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NHG telefoonwijz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Spo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rag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1 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Welke 2 soorten hoest kun je onderscheiden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2: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Noem 2 middelen die bij prikkelhoest kunnen  worden voorgeschreven, noem hu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bijwerkingen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3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elke negatieve gegevens zijn er bekend over promethazine  (antihistaminicum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4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Noem 3 middelen die geschikt zijn voor productieve hoest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5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orden hoestmiddelen door de verzekering vergoed 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6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: Waarom moet je na een inhalatie van corticosteroïden de mond spoele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7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:Wat doe je dan met dat wate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8.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Vraag 8: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RAST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rgietest om te kijken voor welke allergenen iemand allergisch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de RAST-test wordt de hoeveelheid IgE tegen een bepaald allergeen bepaa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specifieke allergenen (RAST huisstofmijt, RAST katten etc) wordt bloed afgeno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eakfl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hoeveelheid lucht die de patiënt maximaal kan uitademe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te meten met een piekstroommeter (l/min) (eenvoudig instrum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 en krachtig in het apparaat blaz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delijk goede maat voor de doorgankelijkheid van de luchtwegen (momentopname!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schil tussen waard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medicijngebruik (reversibiliteit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‘</a:t>
            </a: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s morgens en ‘s avonds (astma: ‘s morgens slechter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lichamelijke inspan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pirometr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189000"/>
            <a:ext cx="15112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choscop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onderzoek van de luchtpijp met een bronch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T-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speciaal röntgenonderzoek, computer maakt afbeeldingen van dwarsdoorsneden door het hele lichaam (coupes, plakj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T= computertomograf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781360"/>
            <a:ext cx="1751040" cy="11746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longen"/>
          <p:cNvPicPr/>
          <p:nvPr/>
        </p:nvPicPr>
        <p:blipFill>
          <a:blip r:embed="rId3"/>
          <a:stretch/>
        </p:blipFill>
        <p:spPr>
          <a:xfrm>
            <a:off x="6886440" y="47656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Isotopen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v PET s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dioactieve middelen worden toegedie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den zichtbaar in de PET sc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(kleurtje, lich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378936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klarende woordenlij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stma: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hronische luchtwegaandoening, piepen, hoesten, kortademigheid, aanvalsgewij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topische constitut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allergische aanle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Eosinofil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toename aantal eosinofielen in het blo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RAST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specifieke allergietest, gemeten in het bloed, bepaling specifiek Ig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tbv identificatie van allerge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Dyspno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kortademigheid, benauwdhe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Vesiculair ademgeruis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het geluid dat bij het ademhalen word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geproduceerd door gezonde longen (afkomstig uit de fijne longblaasjes)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en met een stethoscoop hoorbaar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000" y="3790440"/>
            <a:ext cx="82803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Wat is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Hoesten is een reactie op een prikkel in d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keelholte of in de luchtwe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Functie van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verwijderen van stoffen uit de keelholte of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luchtwegen die er niet thuishor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5" descr="hoesten-t117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ntwoord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560" y="1412640"/>
            <a:ext cx="88930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Productieve en niet-productieve ho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Codeïne, noscapine, dextromethorf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bijwerking: obstipati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Mogelijk betrokken bij wiegendood, dus niet aan kinderen jonger dan 2 jaar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4. Ammoniumchloride, broomhexine (Bisolvon), acetylcysteïne (Fluimuci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5. Hoestmiddelen worden niet door de zorgverzekeraar vergoed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6. Irritatie van keel en stembanden (hoesten, heesheid, schimmelinfecti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7. Uitspu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8. Kortdurende behandeling met een hoge dosis geneesmid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http://t3.gstatic.com/images?q=tbn:ANd9GcTQA1rZxb7bOY5BQRVin8QRffs1sfX264p9B636GLC5Z7nqIjb2XjCf08URHg"/>
          <p:cNvPicPr/>
          <p:nvPr/>
        </p:nvPicPr>
        <p:blipFill>
          <a:blip r:embed="rId1"/>
          <a:stretch/>
        </p:blipFill>
        <p:spPr>
          <a:xfrm>
            <a:off x="2362320" y="1355760"/>
            <a:ext cx="3709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 slij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-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rikkelhoest, ontstaat door andere prikk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bijv als bijwerking bij de ACE-remm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(hartfalen, hoge bloeddruk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cute hoest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onchiolitis, aandoening bij zuigel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piglottit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ringitis subglottica (pseudokroep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 hoesten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Langer dan 3 weken hoesten: Oorza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llergische rhiniti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Postnasal drip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Vergrote neusamand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oken of meero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Bronchuscarcinoo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eflux= terugstromend maagzu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artaandoening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t getwijfeld aan de werkzaamhei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aarschijnlijk is er een groot placebo-effect en wordt het mede daarom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nie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vergoed door de ziektekostenverzekera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79280" y="836640"/>
            <a:ext cx="896472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stprikkeldempende stoff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ooral bij droge, niet-productieve hoe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nderdrukken hoestprikk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deel: kan obstipatie veroorzak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iddelen: codeïne, noscapine, dextromethorf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2828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1. Expectora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Vergemakkelijken het ophoesten van slijm 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ammoniumchloride, succus liquiritiae in Mixtura resolvens FNA, drop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Mucolyt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Invloed op de taaiheid van het slijm in de luchtweg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broomhexine (Bisolvon), acetylcysteïne (Fluimucil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Emollie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Ter verzachting van de geprikkelde slijmvliez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stropen (tijmstroop, althaeastroop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Uw naam</dc:creator>
  <dc:description/>
  <dc:language>en-US</dc:language>
  <cp:lastModifiedBy>Uw naam</cp:lastModifiedBy>
  <cp:lastPrinted>2016-01-10T15:56:28Z</cp:lastPrinted>
  <dcterms:modified xsi:type="dcterms:W3CDTF">2018-01-02T15:35:59Z</dcterms:modified>
  <cp:revision>57</cp:revision>
  <dc:subject/>
  <dc:title>Slide 1</dc:title>
</cp:coreProperties>
</file>