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E9E-C987-4538-A9E3-60F277DFD6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llergievoorlichting.nl/definities/allergeen-allergene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911C-2806-44BC-9494-5A93EEDEB6D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B0C8-DDB8-47EC-9DDD-E63371B003D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f 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0" lang="nl-NL" sz="1000" spc="-1" strike="noStrike" u="sng">
                <a:solidFill>
                  <a:srgbClr val="0000ff"/>
                </a:solidFill>
                <a:uFillTx/>
                <a:latin typeface="Calibri"/>
                <a:hlinkClick r:id="rId1"/>
              </a:rPr>
              <a:t>allergenen</a:t>
            </a:r>
            <a:r>
              <a:rPr b="0" lang="nl-NL" sz="1000" spc="-1" strike="noStrike">
                <a:solidFill>
                  <a:srgbClr val="000000"/>
                </a:solidFill>
                <a:latin typeface="Calibri"/>
              </a:rPr>
              <a:t>. Mestcellen kunnen binden met allergenen die het lichaam binnenkomen, bijvoorbeeld via de longen (reactie: astma) of via de slijmvliezen (reactie: hooikoorts). Mestcellen spelen een belangrijke rol bij een type-1 allergi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ttp://www.allergievoorlichting.nl/definities/mestcellen-of-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3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7222-E5E0-4DA5-8640-72919062D6E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Union"/>
              </a:rPr>
              <a:t>Mestcellen of mastocyten</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1" lang="nl-NL" sz="1200" spc="-1" strike="noStrike">
                <a:solidFill>
                  <a:srgbClr val="0071bb"/>
                </a:solidFill>
                <a:latin typeface="Calibri"/>
              </a:rPr>
              <a:t>allergenen</a:t>
            </a:r>
            <a:r>
              <a:rPr b="1" lang="nl-NL" sz="1200" spc="-1" strike="noStrike">
                <a:solidFill>
                  <a:srgbClr val="000000"/>
                </a:solidFill>
                <a:latin typeface="Calibri"/>
              </a:rPr>
              <a:t>. Mestcellen kunnen binden met allergenen die het lichaam binnenkomen, bijvoorbeeld via de longen (reactie: </a:t>
            </a:r>
            <a:r>
              <a:rPr b="1" lang="nl-NL" sz="1200" spc="-1" strike="noStrike">
                <a:solidFill>
                  <a:srgbClr val="0071bb"/>
                </a:solidFill>
                <a:latin typeface="Calibri"/>
              </a:rPr>
              <a:t>astma</a:t>
            </a:r>
            <a:r>
              <a:rPr b="1" lang="nl-NL" sz="1200" spc="-1" strike="noStrike">
                <a:solidFill>
                  <a:srgbClr val="000000"/>
                </a:solidFill>
                <a:latin typeface="Calibri"/>
              </a:rPr>
              <a:t>) of via de slijmvliezen (reactie: </a:t>
            </a:r>
            <a:r>
              <a:rPr b="1" lang="nl-NL" sz="1200" spc="-1" strike="noStrike">
                <a:solidFill>
                  <a:srgbClr val="0071bb"/>
                </a:solidFill>
                <a:latin typeface="Calibri"/>
              </a:rPr>
              <a:t>hooikoorts</a:t>
            </a:r>
            <a:r>
              <a:rPr b="1" lang="nl-NL" sz="1200" spc="-1" strike="noStrike">
                <a:solidFill>
                  <a:srgbClr val="000000"/>
                </a:solidFill>
                <a:latin typeface="Calibri"/>
              </a:rPr>
              <a:t>). Mestcellen spelen een belangrijke rol bij een type-1 allergie. </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200" spc="-1" strike="noStrike">
              <a:solidFill>
                <a:srgbClr val="000000"/>
              </a:solidFill>
              <a:latin typeface="Calibri"/>
            </a:endParaRPr>
          </a:p>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ff"/>
                </a:solidFill>
                <a:latin typeface="Calibri"/>
              </a:rPr>
              <a:t>Allergie Zoekmachine: waar wilt U meer over w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97A8-133D-47F5-87DE-C25ED52C9C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A94C8-7700-48C4-81A7-A02A4F7CB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27CF-2D20-41B2-A982-9F9E9000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A9F1C-D936-4A2A-8F5E-CE2725493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EA6C1-E5D1-4497-91D8-52A546332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7A9C7-299C-41D6-9410-473C12C9E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9458B-6F00-4655-953D-F2EC03685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9E39B-9308-46BA-9F18-E8B3F74EAA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1224F5-9309-4788-86AF-A0E8A87B2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8EF55-CB74-49E9-AB93-E95263A81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D696CC-DCF5-4643-AC3D-6A60B77179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5DA082-84B0-4A61-90B6-75E5DD23A7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0016E-53B6-45EE-994E-10F5FB1CA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E3BBE-5803-4E99-BD8C-79B8710CF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3884D-8E49-4FFE-A097-09D5E57A7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D8049-5035-4F92-9401-5E473B016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D80AE-0EB7-473D-9537-F9AA483F2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23745-538B-4133-9B6D-BF91D449F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67A50-67DE-49CF-8034-D6DCFA58B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E792F-6CBA-4013-B35C-24FA07F68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44C8-DDF7-4DB2-8DA9-6136F1222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8C3E0-CF93-4F82-A608-9C0FE0F4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D5071-1FA9-462B-AE81-26D31C63F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1E7CF-DDFA-4F15-B7C0-8BB7AAB1C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16F61-9469-4B0C-93C7-E83C4FDD2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8DE76-589D-4A48-A2FE-AC5597D37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28F92-B7D5-400F-9B58-C74E8F846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7913D-39A8-4B22-A5F5-98E4CB52EA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BE74C-329D-4A49-BF07-94BB34453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5F219-F6D5-4908-B753-14A77E5DC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0C0BB-4722-4A87-B0AC-4699CB11F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1DB97-1487-4252-B656-12DE2576E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2E1C7-84BA-4697-92D4-90F9DDA6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81398-CAD2-49A0-A5D5-66BC4ED63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588E5-A587-4C0C-823A-7458ADDA7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2AB00-DB88-46C9-93C0-9E7583E2C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6F146-E9F0-4604-9D56-8001BEF81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6B5FA-BA45-4964-AADF-1207DDC81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291CB-090A-4D04-8DCA-455AA28F0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1A2D98-24E5-494D-B8FE-30867481F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B8F2F6-CCFE-43E1-B2D1-22D7CD6D9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D169F-7455-41BA-81A6-271076B0D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92406-7A8F-4491-801A-B05479386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C0F51-12BC-429D-ADD6-7AD4784BD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EC70C-63D2-4722-93BE-60A41B058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59527-9744-4D75-9E7D-23DA87B81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56678-63B1-4116-AD5F-E2A519024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B7872-3035-4491-B247-91D5254C7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65143-FD6A-4DF5-9A07-FFF720322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A3D4A-66D2-4905-B063-CC4E35AFA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A505F-0A68-448A-8DC2-17CDF82AE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DFB0D-0369-40C2-97E6-990B48D1E7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666F4-534D-4E52-8B17-8326635F78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C32F11-C422-4F66-B886-17063038B8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9956A-2BDA-4B0C-A14B-B40BE66C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1DA3E-4C4B-47F7-8130-CFDE667AB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946DF-CCE4-4C79-AB87-67C14AA90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BF948-F33A-43FF-8A6F-DAD207EE1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95F4B-01A3-46A9-B94B-4AD757ACA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D15D9-4FED-470E-A44D-81F46EEBB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7C2F5-740C-4FCF-8499-1F82FFEE6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39FB5-6B20-4F79-BFDA-FBE9C1E2D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6A0EA-CB4C-4E8F-A6DC-17B2D4862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445EF-482E-46F3-8735-324404446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A864CC-9E4F-4294-B98A-7C393A6A6E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91C77-BED3-4BA4-B83B-B398C1EE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E0AA78-D8EB-4F4C-9912-EC3F3C1B2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BC4DD9-73BB-4D4B-B9B0-182E29A1F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5543C-83E1-4405-9007-AF335F0F4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8F8BD-A852-456E-8A45-A31FCA448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809185-6AFB-4478-A22E-3091EBD88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7AAFA-D57A-4A5B-A261-7E2BB180F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68F8A7-78CC-4A63-AA5D-57B63C61A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7E715-2AFC-4CA3-8DBC-DE1C07954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63B3B-571A-463D-B4AE-4D5EE9FF8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4232A-F0F3-4BB8-AE3A-E4BE224EE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061A-AB64-4A3C-8C27-F279ADEA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CA601-9920-4B72-9A1F-4BD891564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2B22C8-81B0-42FB-9D44-A2B9405A3D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ACA765-B767-4DD9-AB32-A5B8929CE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341FA7-D4FE-428D-8973-ED171126E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E3C2E-5592-4338-8D4B-0FC9EA67B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0E257-7B3F-4175-B3D0-18D75BB97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FA4CE2-A791-4DD9-A24B-41730DCB4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9EACE-4760-407E-8440-76C091B15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A999F5-CDEA-41D5-9A89-AEB44B283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88C11-1360-4C68-9F7F-E5EDB35A8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1097-45C4-405D-A80D-EA4F6FF2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FB0A6-DB4D-4157-B09D-88F859AF8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D39F5-78E3-4DE2-ACD9-FBBB44E15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067FB-DA5C-48DD-9C80-DD6BE5566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4CA76-CFF6-4B6A-A656-B2D57CD6CB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1D2355-61D9-411D-AA6B-CCCB1D2504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686C7D-97FA-4BA1-A0E9-DB9ED2EDF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E9F87-0AF0-4870-93A1-2EA200F4E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BE35BD-7D22-4F79-A105-E0200798A0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CF8070-8213-4549-8B7E-1CD14781E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F04D3-720A-4A9F-A32F-31673C0F6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5BF5-9328-4645-9DF9-941E300A1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48BFB-6D01-41AC-A14A-ABD5FDFA9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77255-43B6-47D8-81A1-8ED23F24D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56495-BDC2-40CC-892D-6920EBF61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AB767-9252-4816-B42B-975CAE2CB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5A78E-D15A-4D75-A95E-A514B85C9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D4B7A-F482-466D-BFA3-64CEC551DE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B1AA78-0268-4AF8-BB8D-B39CA3835D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595389-100D-4E03-909F-24A3356B00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701C1-A6DF-49EB-807A-2340E7FBBF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AC796-D7DE-4DF7-A942-EBE6E4E590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2365-94A3-423A-8AFA-572F28F635F2}"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4313-3474-4BEF-ABAF-7D830CD0CA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003B-4108-4D7E-B655-23B2DEB6D8B1}"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E0B-A6EE-4714-8781-32F7E0D2482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6853-9D6A-456B-9556-42F5F19C34A0}"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C158-4C8F-4338-A3AB-98D66B118C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20F5-B226-403F-9E6F-83D7FDF2980A}"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4418-B64B-4C07-8A53-BB687EAF810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93D4-8AC8-4097-A319-32C5AA54C82D}"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CFA0-C473-4303-BF26-7CF9AE14D21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9CA0-B12C-4C71-9712-1C1336E43460}"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3D5E-706C-47C7-A931-6A03035A05B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596-A019-48E5-B547-8A5B078D5EFF}"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D38-66E5-43DD-B7F4-D34E689B8D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0C1A-8AC4-4359-8002-5626655AC2D4}"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FF05-D4C8-4C36-8625-450C57287FF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E80-4774-4F38-A320-DD3F0C652CE1}"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D810-2C13-4ED4-9D09-31EFF0445F5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CB28-6C36-49CF-95FE-FA63F78C1ED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8934-FAC0-4EC3-A8BF-EC65969CCC1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DC46-6F10-408E-803E-CBAEFCDF698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D5C1-104A-477B-A58B-269CC8E283F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DECB-4B5F-4548-B8BA-D8607A629D7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84CB-CDF0-4D76-84B1-5A45998C5D7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5E70-9638-49E8-9116-FAF0D1C6B58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38CC-E400-4375-975B-38772C6ED94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B0B3-20A0-44E7-AEF9-4A43A74B73C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9DD3-7D7D-4E7B-8C20-41B457C7B50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4580-1554-4A0A-ABE3-B229F0849DB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mestcellen)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8FC5-32D6-4A4D-AC92-3128A159127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3A85-F81D-473E-AA12-A86A6609449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023D-0628-46D2-B8AE-272334CCF3B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EB69-F4F0-4B5B-9669-129768E7356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8D3B-B192-4F94-99B1-229EFE01DA5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9768-2879-4FD0-889E-ABA738A17A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90BD-74E1-4A0E-B046-0DDB86AFE51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773D-0BA0-4539-8C99-EB02B33335A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4840-8461-46B9-B54C-12E3F315002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5391-3BB6-4244-AF2C-F0CAB37DB18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8815-4D28-44D7-BB3F-E18CDEC340C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272C-2A1A-410A-86A9-16190FC6308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42B6-2547-492B-A70D-265243505AD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p:cNvPicPr/>
          <p:nvPr/>
        </p:nvPicPr>
        <p:blipFill>
          <a:blip r:embed="rId3"/>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4"/>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5"/>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E56-8D24-4231-8798-0490D1D3116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CE10-F543-4862-B688-AADB6491CFE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8-12-06T07:52:48Z</dcterms:modified>
  <cp:revision>127</cp:revision>
  <dc:subject/>
  <dc:title>Conclusies enquête panel DA</dc:title>
</cp:coreProperties>
</file>