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u="sng">
              <a:solidFill>
                <a:srgbClr val="000000"/>
              </a:solidFill>
              <a:uFillTx/>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0F68-66F7-4B4D-8158-4BC652674382}"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97E1-3670-46B8-BD6D-35487E44914D}"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C4CD-7632-41BB-98B6-46D0A7EEA399}"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9056-109E-4216-BAAA-7101658D98BF}"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nam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veel wratten en op welke plaat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 de wratten al aanwezig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hinder de wrat veroorzaakt; pijn, en ongemak, of cosmetische kl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mmuunstoornis gebruik immunosuppres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heeft de patiënt gegaan met welk resul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de patiënt de wrat wil laten behan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5935-EDF4-4275-8AC1-0FF1E8400D4F}"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1FC9-BC8A-4551-941F-762032820060}"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9AA6-F3E2-4A56-8C2A-3D00FDA9C29F}"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FCF0-E630-4417-85D1-D237125CB774}"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A8A6-EF9A-424D-BA93-D40CDFC65574}"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07E7-420C-40E0-BEB5-134F56B61EAF}"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F62BB-7835-4B06-B316-30947E507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F2150-DCCD-4134-A81E-44D11E178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1CF8817-A7E8-4A04-B5D3-6C3DF6EBDB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8BCB787-02E4-44CA-8AA6-F4700F8C1AA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A1DE167-E6F9-4D6E-8FB4-C39670C01C5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14755AE-99CD-4DAC-B378-18BDD749F0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E3720F-74D4-4364-91FF-12F8809CB8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200F932-713D-4F9A-858E-CD78EBDBED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C223417-5E97-4FB0-9563-9E97BD8136F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4F6B1B5-9D63-4842-B517-12B6A78700D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954A701-8E5F-4E3B-85D7-A26CC06EE5C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E78B195-5186-4321-A54C-696DECE558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08DBD-C424-455E-9DF2-EBE20BA6E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FC0FE0C-6509-426E-A200-BDF555934E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A42D9C6-B379-4ED9-A645-2427143FA8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89D0090-0FF1-4F4B-B542-36CBBF1865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6663EEA-FC37-4DEA-800A-5918F5173C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A867145-365A-4AA2-845B-04ADA1D911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214B804-D421-4F3D-95FE-D6F3E627F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9162A6A-2AFA-4A20-95EE-77E7E5DE9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1A21DB4-27F9-448C-BD3F-76E13A1AC0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A9EC75E-2931-4B7E-B7EF-34D1C5490E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8DAB33D-F10A-4649-9C9F-F2BDC75AD7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EB076-B7A9-46A9-9A34-A3F4E5888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3077EAC-90BB-4B97-BC5F-8679C298C6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27252A-5C71-4DD2-A434-DAD91C432B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24B78F-97E6-437A-A2D6-20277F3C13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A2F843-07E1-4373-B234-B1EC67896B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1CCDCA-6B40-489C-9A0B-2BB6983BF8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EC4A8A-FAF7-4E05-B619-A875ACB077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23A2C5-2524-4F68-BAD1-3D66BE5C63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DE3D81-5B0A-4F28-959C-F89B3D1E75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B4FA12-5716-4C69-9DCB-0416C68101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4B2B04-91D1-4CED-80F5-D6CFE897FB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DF9B4-BF00-460D-BDB3-BB83E1FE2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DC55D9-DB67-48C8-AEA6-EC74440826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4F0B20-95E0-4438-9A20-651ECAC5D9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FB68F4-84FF-4E4E-8B9A-726AED6BAC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422A8D1-3FA4-47CA-AE16-E3E5A24585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D9F9AB9-1FCF-4B6A-B105-073AC05103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8C342C9-9D41-45B0-BD55-BB62E3C749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12FCA32-5B99-46B1-8921-4723E1FF91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2289C53-84DE-4795-9B86-03A25E94EB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99CEB94-429F-498B-90D2-0A5CF23E9D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A814C29-9AA5-456E-B565-E6AB62B7EE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C9414-EB0C-46AB-8A2F-450A3AD82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D32B927-0C4A-406B-B979-399F28E5F0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E0B8E8-110A-45F9-AD4A-5DFFA465D4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A35F3D9-6944-496F-8C21-1A5739F5D2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165E3E2-BA2C-482F-9220-CF7540B066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BBD90FE-ECE7-490E-B5A4-CDCCFEF4E1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5AC89-A78E-4451-B3F3-854B1FB39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416C7-CF46-410E-8B92-094DD229F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C77B2-4EA7-42B5-BB07-1BDCE1A31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C7579-1F45-4224-8D00-B7F52FCF1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053A7-EE0A-4331-AB99-7BEBD6DD0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BA85C-2661-41DA-9D93-7606D79F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1DF7C-55A2-49F4-A954-D10B86A17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51BEF-1AF7-4F37-B400-63A6BB81C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CB3B9-7763-4B0A-B422-CB3476D09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ABE1B-C920-42DD-B056-F7682BF4B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92C96-4E43-4037-A0F4-D9B1109B2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A2E7EB-2A5C-4C8A-867B-17DAAC9FAE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ED0C67-0A1C-4ABF-8EB6-04CBAE227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EFCEB7-BE3D-4D43-9744-14D114F0E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E66FF-E87C-46EF-BF5F-392965784C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9118D-0117-4262-A666-31D8048DA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37885-71DF-4C32-B2D8-852A51AD1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C5D86-7BA8-4FD5-8752-580F1D8C5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7FE2CB-8802-4978-8D21-4946D6705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C9EAE8-A569-4452-A549-0EA4DBACB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ECA8D-A8C3-4738-8FD7-125E46865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AD680-1DFA-4788-BB72-C0703B69A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99F75-7FA9-49DB-B337-02036211D6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82971-6C0D-477A-8A07-A6581E77C5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CC03B8E-EB5D-4402-9E1F-0DCBDD72D26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8A88376-7F97-40A2-B729-746738E3D68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5D5105D-3462-485F-9749-FBF3EE6DB1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388BE-7A4C-4118-BC77-0BFD7BE02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E95D484-E21E-45BF-ACEB-77515A3C131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D71C37C-9F31-487B-8D8F-EDB0F76F2E4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AD24298-8B04-4B89-BDD2-AE6B0943D88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96E07AE-2106-4E5B-AC4F-B05D02440C5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F3902B6-4C28-450E-A5E4-4F77D89CE7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3665B24-D722-4030-9FFE-DB4BCC929C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4D9F2CC-BE1B-47C2-9A99-CF214E26CE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894D2E0-954E-4C8E-B617-4AF5E61E14F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7727CA3-7018-4757-8283-65FE6FD843D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CDAECD-7FEC-4FBE-8640-CAFD652D66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E34BB-A3B7-4C6B-B64C-32EC480FF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5219F3-F146-4EA1-B64C-0F9874F84D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E2F311-A8BB-4CC9-9D0C-6C47ED380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84043-D21C-4751-9DF8-086A78279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8D4038-B9CB-4620-94AA-D5A2709394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A6B246-B7A3-4678-BBFC-A76AEAEBE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57290-F1B1-49AC-BE5D-338788F60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79E08-7BFC-40DB-B317-B0635BE3C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C3C18-9582-464C-92AA-71110B269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5593EA-87EE-445D-BE1F-4260F4895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026222-ED90-4437-8D2C-49DA4B9AAB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8EF09-87B1-48C7-9D52-B33FFA59C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80FAD9-58D2-4F6D-A1EB-E32DDF2261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8EF9AC-C063-49EC-97FF-D5A0EFE62F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9537A-BEB7-4D8E-A468-DA40E675D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263383-2991-4BCA-9B28-E725DE1BC4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6CF81-6A65-4CD2-B309-266AC3CFBA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0049E-BF4B-47A9-A62A-1EA71C429A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1D9CAC-5982-4E3A-860E-C2222F505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15D24-0552-48AB-AFC4-1A698FE99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3583C-4D2F-460E-B9A4-8C77B610A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1086E7-138B-4013-B563-EA3CFE625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9CAB-294C-4137-85C2-3B9ED2F7A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3F2F2-0DD3-4928-8E48-CA41A490B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7D8B78-266E-4F96-9D18-3B215754C4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F2FEAB-9CF6-4614-B944-8BEC971BA2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ECA382-331F-4E67-A3BE-E9874148C0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D6888D-0C1D-4507-8C80-47EFF3DEF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32799C-9C82-454A-B22B-5DAC55B14E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BBCD1-A8E6-4603-B9AF-6F72F34A95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4BBF51-244F-40E6-9203-E34F1FB3B6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38062B-768C-4C30-BA3D-F7E96C3894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34A19-8D5F-4A27-80DD-2EEACF637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C6482-FBD6-45B3-BAAF-6FF7B4D21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FC8C4-5AD3-47F0-914D-0CDCC2C64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6A0F5-3BD3-46E1-91D0-2638ED1A8F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BCCC01-7BBB-43C0-B4A0-4E68671B5F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506F1D-5DB0-4501-9F95-40E8B9D4CA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F6BF1E-BEFC-4846-89DB-803BF9B1F0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A794E2-D869-463B-A5C0-8776AE2C9B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741743-6D16-4B27-A6CB-A6374C2852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25B71B-9765-44CB-B1F8-0F75179C7D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F0452D-ED5D-4300-BD7C-2F367F05C1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6BE5D-84EF-4C60-8001-BE5DD6009F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11623-20B1-4C63-AD1A-B9540155E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A51D56-716A-4681-900C-36D9736893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CFE48C-8B70-426F-A2F8-1B19B2A7C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D45BB0-89E1-4C58-A7E2-93E4B9834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D844FF-5B2B-4C48-AAE0-8ECA36E651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57A831-7F85-4D8D-8BC1-1FA95520B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C45008-3D9B-47FB-AB31-B7215FF93E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E6CE34-146F-43B4-AC90-AD8205FA3F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B1D1F76-82DB-4A86-9BD5-DDEE952F934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FA311C3-4D80-434F-8424-963D276E53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6E4D005-6E2D-4D33-B72E-D4EF334B30C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8B7B-A5C6-4961-B040-5472752B19CA}"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hte verbindingslijn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55"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6"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7" name="Rechthoe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8"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9" name="Rechthoek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0" name="Rechthoek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1" name="Rechthoek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2"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3"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4"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2C29-0CFA-4366-B846-5D794537206B}"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7"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8"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9"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0"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1"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2"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13"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4"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AE0E-E072-48C7-A846-6017A3772CD1}"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7" name="Rechthoe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8" name="Rechthoe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9"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0"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1" name="Rechthoek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2" name="Rechte verbindingslijn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3" name="Ova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4" name="Ova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785D-AAA2-4BF3-93E0-21261DC50C68}"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 name="Rechthoe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2" name="Rechthoe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3" name="Rechthoe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4"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 name="Rechte verbindingslijn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7" name="Ova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8" name="Ova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9BDB-FFC4-4461-9FAC-D73BCD5F54C4}"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5"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6"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07"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8"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C3B8-C905-41B0-905B-4F47D3D65C4C}"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hthoe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1"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2" name="Rechthoe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3" name="Rechthoe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4" name="Rechthoe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5" name="Rechthoe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6" name="Rechthoek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7" name="Rechthoek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8" name="Rechte verbindingslijn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59" name="Ova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0" name="Ova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2A2C-D594-450D-99A2-2F01D0BD63ED}"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3"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4"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5"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6"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0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1" name="Rechte verbindingslijn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B3BA-75F0-4092-A8AF-B2D8E97ABDD2}"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Rechte verbindingslijn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54" name="Rechthoe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5" name="Rechthoe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6"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7" name="Rechthoe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8" name="Rechthoek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9" name="Rechthoek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0" name="Rechte verbindingslijn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61" name="Rechthoe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2" name="Ova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3" name="Ova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DB09-D1E3-4B41-A023-4151EC297243}"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6"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7"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8"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9"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0"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1"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312"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3"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FB99-CBB1-43CD-9470-0289AA8B7F78}"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6" name="Rechthoe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7"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8"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9"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0" name="Rechthoek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7999-F944-4407-B066-924733546FE0}" type="slidenum">
              <a:rPr b="0" lang="nl-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hthoek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3"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4"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5" name="Rechthoe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6"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7" name="Rechthoek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8"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9" name="Rechte verbindingslijn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10"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1"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2"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F753-F9A1-4D0E-9122-7AED4B7B4519}"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d16349"/>
                </a:solidFill>
                <a:latin typeface="Georgia"/>
              </a:rPr>
              <a:t>Wratten (verrucae)</a:t>
            </a:r>
            <a:br>
              <a:rPr sz="4200"/>
            </a:br>
            <a:br>
              <a:rPr sz="4200"/>
            </a:br>
            <a:r>
              <a:rPr b="0" lang="nl-NL" sz="1100" spc="-1" strike="noStrike">
                <a:solidFill>
                  <a:srgbClr val="d16349"/>
                </a:solidFill>
                <a:latin typeface="Georgia"/>
              </a:rPr>
              <a:t>(bijgesteld :29-11-2017 Bouke Cuperus)</a:t>
            </a:r>
            <a:endParaRPr b="0" lang="en-US" sz="1100" spc="-1" strike="noStrike">
              <a:solidFill>
                <a:srgbClr val="7b9899"/>
              </a:solidFill>
              <a:latin typeface="Georgia"/>
            </a:endParaRPr>
          </a:p>
        </p:txBody>
      </p:sp>
      <p:pic>
        <p:nvPicPr>
          <p:cNvPr id="615" name="Picture 5" descr=""/>
          <p:cNvPicPr/>
          <p:nvPr/>
        </p:nvPicPr>
        <p:blipFill>
          <a:blip r:embed="rId1"/>
          <a:stretch/>
        </p:blipFill>
        <p:spPr>
          <a:xfrm>
            <a:off x="5408640" y="2836800"/>
            <a:ext cx="2511360" cy="1638360"/>
          </a:xfrm>
          <a:prstGeom prst="rect">
            <a:avLst/>
          </a:prstGeom>
          <a:ln w="0">
            <a:noFill/>
          </a:ln>
        </p:spPr>
      </p:pic>
      <p:pic>
        <p:nvPicPr>
          <p:cNvPr id="616" name="Picture 6" descr=""/>
          <p:cNvPicPr/>
          <p:nvPr/>
        </p:nvPicPr>
        <p:blipFill>
          <a:blip r:embed="rId2"/>
          <a:stretch/>
        </p:blipFill>
        <p:spPr>
          <a:xfrm>
            <a:off x="5435640" y="4475160"/>
            <a:ext cx="2521080" cy="1165320"/>
          </a:xfrm>
          <a:prstGeom prst="rect">
            <a:avLst/>
          </a:prstGeom>
          <a:ln w="0">
            <a:noFill/>
          </a:ln>
        </p:spPr>
      </p:pic>
      <p:pic>
        <p:nvPicPr>
          <p:cNvPr id="617" name="Picture 8" descr=""/>
          <p:cNvPicPr/>
          <p:nvPr/>
        </p:nvPicPr>
        <p:blipFill>
          <a:blip r:embed="rId3"/>
          <a:stretch/>
        </p:blipFill>
        <p:spPr>
          <a:xfrm>
            <a:off x="1041480" y="2803680"/>
            <a:ext cx="4292640" cy="282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Ouderdomswrat (Verrucae Seborrhoica / sensilis)</a:t>
            </a:r>
            <a:endParaRPr b="0" lang="en-US" sz="24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uderdomswr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oedaardig</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nker brui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Ruwe structuur</a:t>
            </a:r>
            <a:endParaRPr b="0" lang="en-US" sz="2000" spc="-1" strike="noStrike">
              <a:solidFill>
                <a:srgbClr val="000000"/>
              </a:solidFill>
              <a:latin typeface="Georgia"/>
            </a:endParaRPr>
          </a:p>
        </p:txBody>
      </p:sp>
      <p:pic>
        <p:nvPicPr>
          <p:cNvPr id="643" name="Picture 6" descr=""/>
          <p:cNvPicPr/>
          <p:nvPr/>
        </p:nvPicPr>
        <p:blipFill>
          <a:blip r:embed="rId1"/>
          <a:stretch/>
        </p:blipFill>
        <p:spPr>
          <a:xfrm>
            <a:off x="4903920" y="1773360"/>
            <a:ext cx="3628800" cy="280332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Genitale wratten (condyloma acuminatum)</a:t>
            </a:r>
            <a:endParaRPr b="0" lang="en-US" sz="28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er besmettelijk&gt;SOA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epaald type van Humaan Papilloma viru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loemkoolachtig gesteeld vormsel</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estelt zich op de slijmvliezen</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ocatie: anus en/of geslachtsorganen man/vrouw</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of uitwendig</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47" name="Picture 5" descr=""/>
          <p:cNvPicPr/>
          <p:nvPr/>
        </p:nvPicPr>
        <p:blipFill>
          <a:blip r:embed="rId1"/>
          <a:stretch/>
        </p:blipFill>
        <p:spPr>
          <a:xfrm>
            <a:off x="6440400" y="4508640"/>
            <a:ext cx="2238480" cy="1671480"/>
          </a:xfrm>
          <a:prstGeom prst="rect">
            <a:avLst/>
          </a:prstGeom>
          <a:ln w="0">
            <a:noFill/>
          </a:ln>
        </p:spPr>
      </p:pic>
      <p:pic>
        <p:nvPicPr>
          <p:cNvPr id="648" name="Picture 6" descr=""/>
          <p:cNvPicPr/>
          <p:nvPr/>
        </p:nvPicPr>
        <p:blipFill>
          <a:blip r:embed="rId2"/>
          <a:stretch/>
        </p:blipFill>
        <p:spPr>
          <a:xfrm>
            <a:off x="6230880" y="1773360"/>
            <a:ext cx="2467080" cy="158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er wratjes (mollusca contagiosa)</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Oorzaak: Pokviru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Zeer besmettelijk door intensief huidcontact  (zwembad,gymzaal</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Vooral bij kinderen</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Doorschijnend of wit, bol, vast bultje met in het   midden vaak een inzinking</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Gevuld met substantie</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51" name="Picture 2" descr=""/>
          <p:cNvPicPr/>
          <p:nvPr/>
        </p:nvPicPr>
        <p:blipFill>
          <a:blip r:embed="rId1"/>
          <a:stretch/>
        </p:blipFill>
        <p:spPr>
          <a:xfrm>
            <a:off x="4211640" y="3357720"/>
            <a:ext cx="2530440" cy="247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Diagnose: Wratten</a:t>
            </a:r>
            <a:endParaRPr b="0" lang="en-US" sz="28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wordt diagnose gesteld?</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or de huisarts (anamnese)</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Kenmerkend, geen nader onderzoek nodi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ms biopt afnemen,voor aanvullend onderzoek</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rst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dere behandeling evt delegeren naar assistente a.d.h.v. protocol (afhankelijk van aard, locati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tueel verwijzing dermatologie</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Behandelingsmogelijkheden</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1. Afwachten (expectatief beleid)</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2. Aanstippen; patiënt kan zelf aanstipvloeistof bij de apotheek kopen</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3. Cryotherapie (bevriezing) , aanstippen met vloeibare stikstok  wrattenspreekuur.</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 </a:t>
            </a:r>
            <a:r>
              <a:rPr b="0" lang="nl-NL" sz="2000" spc="-1" strike="noStrike">
                <a:solidFill>
                  <a:srgbClr val="000000"/>
                </a:solidFill>
                <a:latin typeface="Georgia"/>
              </a:rPr>
              <a:t>4. Uitlepelen </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5. Wegsnijden</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6.Wegbranden (coagulatie)….is pijnlijk daardoor  weinig toegepast</a:t>
            </a:r>
            <a:endParaRPr b="0" lang="en-US" sz="2000" spc="-1" strike="noStrike">
              <a:solidFill>
                <a:srgbClr val="00000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weghalen van een stukje huid onder lokale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dicati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kerheid over “klinische diagnose” te krijg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ovaaltj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rmatoloo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j verdenking melanoom</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teriel onder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vaalvormig gebied rondom huidafwijking uitgesned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chting na 7-14 dagen verwijderen bij huisarts</a:t>
            </a:r>
            <a:endParaRPr b="0" lang="en-US" sz="2000" spc="-1" strike="noStrike">
              <a:solidFill>
                <a:srgbClr val="000000"/>
              </a:solidFill>
              <a:latin typeface="Georgia"/>
            </a:endParaRPr>
          </a:p>
        </p:txBody>
      </p:sp>
      <p:pic>
        <p:nvPicPr>
          <p:cNvPr id="660" name="Picture 5" descr="melanoma_malign"/>
          <p:cNvPicPr/>
          <p:nvPr/>
        </p:nvPicPr>
        <p:blipFill>
          <a:blip r:embed="rId1"/>
          <a:stretch/>
        </p:blipFill>
        <p:spPr>
          <a:xfrm>
            <a:off x="5003640" y="2421000"/>
            <a:ext cx="1905120" cy="12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Tip: Geen lesstof</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oede informatie over wratten spreekuur is te vinden in het bo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igen spreekuur en chronische ziekte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b9899"/>
                </a:solidFill>
                <a:latin typeface="Verdana"/>
              </a:rPr>
              <a:t>        </a:t>
            </a:r>
            <a:r>
              <a:rPr b="0" lang="nl-NL" sz="2800" spc="-1" strike="noStrike">
                <a:solidFill>
                  <a:srgbClr val="7b9899"/>
                </a:solidFill>
                <a:latin typeface="Verdana"/>
              </a:rPr>
              <a:t>Leerdoelen:</a:t>
            </a:r>
            <a:endParaRPr b="0" lang="en-US" sz="28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afloop van deze  powerpoint kan je: </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schillende soorten wratten benoem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nkele behandelmethoden beschrijv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 zijn wratten?</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Georgia"/>
              </a:rPr>
              <a:t>Wratten zijn knobbeltjes die ruw en hard aanvoelen. Soms zien ze er een beetje bloemkoolachtig uit. Ze komen vooral voor op de handen en voeten, maar ze kunnen ook op andere plaatsen zitten. Door lopen worden voetwratten in het eelt van de voetzool gedrukt. Voetwratten doen soms pijn bij staan of lopen.</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Wratten (Verrucae)</a:t>
            </a:r>
            <a:endParaRPr b="0" lang="en-US" sz="28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 </a:t>
            </a:r>
            <a:r>
              <a:rPr b="0" lang="nl-NL" sz="2000" spc="-1" strike="noStrike">
                <a:solidFill>
                  <a:srgbClr val="000000"/>
                </a:solidFill>
                <a:latin typeface="Verdana"/>
              </a:rPr>
              <a:t>Hoe ontstaan wratt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Humane Papillomavirus (HPV-virus) van de huid</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ijn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cubatietijd: 3-6 maanden of langer</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1 jaar zijn de wratten bij ongeveer de helft van de mensen spontaan verdwen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Het is niet aangetoond dat u wratten krijgt van zwembaden, openbare douches, of van sporten op blote voeten. </a:t>
            </a:r>
            <a:endParaRPr b="0" lang="en-US" sz="20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schillende soorten wratte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ewone wrat (handen /vingers  (</a:t>
            </a:r>
            <a:r>
              <a:rPr b="0" i="1" lang="nl-NL" sz="2700" spc="-1" strike="noStrike">
                <a:solidFill>
                  <a:srgbClr val="000000"/>
                </a:solidFill>
                <a:latin typeface="Georgia"/>
              </a:rPr>
              <a:t>verrucae vulgaris</a:t>
            </a:r>
            <a:r>
              <a:rPr b="0" lang="nl-NL"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oetwratten   (</a:t>
            </a:r>
            <a:r>
              <a:rPr b="0" i="1" lang="nl-NL" sz="2700" spc="-1" strike="noStrike">
                <a:solidFill>
                  <a:srgbClr val="000000"/>
                </a:solidFill>
                <a:latin typeface="Georgia"/>
              </a:rPr>
              <a:t>verrucae plantar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enerische wratten (</a:t>
            </a:r>
            <a:r>
              <a:rPr b="0" i="1" lang="nl-NL" sz="2700" spc="-1" strike="noStrike">
                <a:solidFill>
                  <a:srgbClr val="000000"/>
                </a:solidFill>
                <a:latin typeface="Georgia"/>
              </a:rPr>
              <a:t>condylomata acuminata </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uderdomswrat (</a:t>
            </a:r>
            <a:r>
              <a:rPr b="0" i="1" lang="nl-NL" sz="2700" spc="-1" strike="noStrike">
                <a:solidFill>
                  <a:srgbClr val="000000"/>
                </a:solidFill>
                <a:latin typeface="Georgia"/>
              </a:rPr>
              <a:t>verrrucae senil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waterwratjes: (</a:t>
            </a:r>
            <a:r>
              <a:rPr b="0" i="1" lang="nl-NL" sz="2700" spc="-1" strike="noStrike">
                <a:solidFill>
                  <a:srgbClr val="000000"/>
                </a:solidFill>
                <a:latin typeface="Georgia"/>
              </a:rPr>
              <a:t>mollusca contagiosa</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vulgaris (‘gewone wrat’)</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Rond, bloemkoolachti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cherp begrensd</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terke verhoornin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Meestal meerdere</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handen, knieë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llebogen, gelaat</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8" name="Picture 3" descr=""/>
          <p:cNvPicPr/>
          <p:nvPr/>
        </p:nvPicPr>
        <p:blipFill>
          <a:blip r:embed="rId1"/>
          <a:stretch/>
        </p:blipFill>
        <p:spPr>
          <a:xfrm>
            <a:off x="4932360" y="2205000"/>
            <a:ext cx="3511440" cy="153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Voetwrat (verruca plantaris)</a:t>
            </a:r>
            <a:endParaRPr b="0" lang="en-US" sz="28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ruca plantaris:  ligt verzonken in het eelt van de voetzoel</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ozaïekwrat: breidt zich oppervlakkig uit.</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1000" spc="-1" strike="noStrike">
                <a:solidFill>
                  <a:srgbClr val="000000"/>
                </a:solidFill>
                <a:latin typeface="Verdana"/>
              </a:rPr>
              <a:t>Bron:htt</a:t>
            </a:r>
            <a:r>
              <a:rPr b="0" lang="nl-NL" sz="1100" spc="-1" strike="noStrike">
                <a:solidFill>
                  <a:srgbClr val="000000"/>
                </a:solidFill>
                <a:latin typeface="Verdana"/>
              </a:rPr>
              <a:t>p://www.huidziekten.nl/zakboek/dermatosen/vtxt/VerrucaVulgaris.htm</a:t>
            </a:r>
            <a:endParaRPr b="0" lang="en-US" sz="11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31" name="Picture 4" descr=""/>
          <p:cNvPicPr/>
          <p:nvPr/>
        </p:nvPicPr>
        <p:blipFill>
          <a:blip r:embed="rId1"/>
          <a:stretch/>
        </p:blipFill>
        <p:spPr>
          <a:xfrm>
            <a:off x="6372360" y="4292640"/>
            <a:ext cx="2303280" cy="1538280"/>
          </a:xfrm>
          <a:prstGeom prst="rect">
            <a:avLst/>
          </a:prstGeom>
          <a:ln w="0">
            <a:noFill/>
          </a:ln>
        </p:spPr>
      </p:pic>
      <p:pic>
        <p:nvPicPr>
          <p:cNvPr id="632" name="Picture 5" descr=""/>
          <p:cNvPicPr/>
          <p:nvPr/>
        </p:nvPicPr>
        <p:blipFill>
          <a:blip r:embed="rId2"/>
          <a:stretch/>
        </p:blipFill>
        <p:spPr>
          <a:xfrm>
            <a:off x="6364440" y="2060640"/>
            <a:ext cx="2208240" cy="16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plan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lakke wr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nkele millimeters gro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Huidkleurig of lichtbruin bobbeltj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rote getale aanwezi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gelaat, armen en ben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5" name="Picture 2" descr=""/>
          <p:cNvPicPr/>
          <p:nvPr/>
        </p:nvPicPr>
        <p:blipFill>
          <a:blip r:embed="rId1"/>
          <a:stretch/>
        </p:blipFill>
        <p:spPr>
          <a:xfrm>
            <a:off x="6084720" y="1628640"/>
            <a:ext cx="2616480" cy="264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Steelwrat (verruca filiformis)</a:t>
            </a:r>
            <a:endParaRPr b="0" lang="en-US" sz="3300" spc="-1" strike="noStrike">
              <a:solidFill>
                <a:srgbClr val="7b9899"/>
              </a:solidFill>
              <a:latin typeface="Georgia"/>
            </a:endParaRPr>
          </a:p>
        </p:txBody>
      </p:sp>
      <p:sp>
        <p:nvSpPr>
          <p:cNvPr id="637" name=""/>
          <p:cNvSpPr txBox="1"/>
          <p:nvPr/>
        </p:nvSpPr>
        <p:spPr>
          <a:xfrm>
            <a:off x="247320" y="14590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ksel,lippen, oogled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4" descr=""/>
          <p:cNvPicPr/>
          <p:nvPr/>
        </p:nvPicPr>
        <p:blipFill>
          <a:blip r:embed="rId1"/>
          <a:stretch/>
        </p:blipFill>
        <p:spPr>
          <a:xfrm>
            <a:off x="4500720" y="1700280"/>
            <a:ext cx="3517920" cy="2314440"/>
          </a:xfrm>
          <a:prstGeom prst="rect">
            <a:avLst/>
          </a:prstGeom>
          <a:ln w="0">
            <a:noFill/>
          </a:ln>
        </p:spPr>
      </p:pic>
      <p:pic>
        <p:nvPicPr>
          <p:cNvPr id="639" name="Picture 5" descr=""/>
          <p:cNvPicPr/>
          <p:nvPr/>
        </p:nvPicPr>
        <p:blipFill>
          <a:blip r:embed="rId2"/>
          <a:stretch/>
        </p:blipFill>
        <p:spPr>
          <a:xfrm>
            <a:off x="826920" y="3833640"/>
            <a:ext cx="2903760" cy="2165400"/>
          </a:xfrm>
          <a:prstGeom prst="rect">
            <a:avLst/>
          </a:prstGeom>
          <a:ln w="0">
            <a:noFill/>
          </a:ln>
        </p:spPr>
      </p:pic>
      <p:pic>
        <p:nvPicPr>
          <p:cNvPr id="640" name="Picture 6" descr=""/>
          <p:cNvPicPr/>
          <p:nvPr/>
        </p:nvPicPr>
        <p:blipFill>
          <a:blip r:embed="rId3"/>
          <a:stretch/>
        </p:blipFill>
        <p:spPr>
          <a:xfrm>
            <a:off x="4500720" y="4403880"/>
            <a:ext cx="3517920" cy="159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7:58:39Z</dcterms:created>
  <dc:creator>Gebruiker</dc:creator>
  <dc:description/>
  <dc:language>en-US</dc:language>
  <cp:lastModifiedBy>Uw naam</cp:lastModifiedBy>
  <dcterms:modified xsi:type="dcterms:W3CDTF">2017-11-29T10:20:39Z</dcterms:modified>
  <cp:revision>24</cp:revision>
  <dc:subject/>
  <dc:title>Dermatologie</dc:title>
</cp:coreProperties>
</file>