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39F3-FE03-4A41-AE67-B762E7A5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5D6D-E271-4D81-A693-18553E7F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2AB4-7B67-4000-8BCA-2D1928F8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691E-CEF2-4CD9-92C0-61168914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D223-420C-4A8D-AC02-091E82EA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A6F5-BBC7-4FFE-AC4E-4F2413BA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CC1F-6358-4149-9B04-925481B7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56ED-9D41-4471-9150-D449F79C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6B41-2099-4EF4-BE21-0B61A288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6887-C5E4-4B04-916B-50A442FF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1FFA-050E-4A6D-82C4-5867BFBE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E0B3-A061-424A-9E15-739A34F8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2ACD-C5C2-44A8-A9FE-9CF60029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B722-367C-4F7F-9A7E-AFF088D1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26DA-72A5-47C0-974D-6F9EFF95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BAEA-1943-464C-84B5-EC594969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B083-B766-4F02-AAF6-4B49F26B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9E24-F301-45B2-91D2-FCEAF1DB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4077-3C07-4A0E-843E-97BC18DF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2D9-488B-481C-9C4C-358A61B2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ABB0-A55A-4E6E-AE24-FF8CF8C5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D6C7-0E62-4B56-9941-C90BB846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82E2-63F7-4FA0-A46D-260A5CFB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ECAC-E49B-4DDA-A34A-800CA2C1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401E-92F3-48AA-BA8D-5BB87CC7814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4196-B9CB-46DF-A03C-112216D4C53E}" type="slidenum">
              <a:rPr b="0" lang="nl-NL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Hondenbeet en Tetan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il_fi" descr="hond135"/>
          <p:cNvPicPr/>
          <p:nvPr/>
        </p:nvPicPr>
        <p:blipFill>
          <a:blip r:embed="rId1"/>
          <a:stretch/>
        </p:blipFill>
        <p:spPr>
          <a:xfrm>
            <a:off x="5753160" y="3213000"/>
            <a:ext cx="235908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Triagecriteri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oor wat/wanneer bent u gebet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rake van een open won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loedverlies, in welke mat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ziet de wond eru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tste tetanusinjecti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minderde weerstand (DM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92360" y="549000"/>
            <a:ext cx="6865920" cy="54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utine: Ontstekingsverschijnselen zoals roodheid, zwelling, pus, koo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ringend: Bijtwond, behalve oppervlakkige  kleine verwond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oed: Beet van een giftig dier zoals een slang, spin, haged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120px-PHIL_tetanus"/>
          <p:cNvPicPr/>
          <p:nvPr/>
        </p:nvPicPr>
        <p:blipFill>
          <a:blip r:embed="rId1"/>
          <a:stretch/>
        </p:blipFill>
        <p:spPr>
          <a:xfrm>
            <a:off x="1908000" y="4359240"/>
            <a:ext cx="266400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ndsdolheid:</a:t>
            </a: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Hondsdolheid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rabiës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, is een ernstige aandoening als gevolg van een infectie met het </a:t>
            </a:r>
            <a:r>
              <a:rPr b="0" i="1" lang="nl-NL" sz="3000" spc="-1" strike="noStrike">
                <a:solidFill>
                  <a:srgbClr val="000000"/>
                </a:solidFill>
                <a:latin typeface="Arial"/>
              </a:rPr>
              <a:t>rabiësvirus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, meestal door een beet van een door rabiës besmet dier (honden, vossen, vleermuizen). Hondsdolheid is uiterst gevaarlijk voor mensen en leidt onbehandeld tot de do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Nog vrag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vraagteken%2520poppetje"/>
          <p:cNvPicPr/>
          <p:nvPr/>
        </p:nvPicPr>
        <p:blipFill>
          <a:blip r:embed="rId1"/>
          <a:stretch/>
        </p:blipFill>
        <p:spPr>
          <a:xfrm>
            <a:off x="755640" y="1125360"/>
            <a:ext cx="1857240" cy="39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Hondenbeet:</a:t>
            </a:r>
            <a:br>
              <a:rPr sz="4200"/>
            </a:b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47640" y="2492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twonden ontstaan door: 90 % door een hondenbeet en 6% door een ka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middeld 13-20 personen op 10.000 mensen opname in een ziekenhuis noodzakelij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30 personen op 10.000 door huisarts gezi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¾ is jonger dan 14 jaar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37767-hondenbeet-kan-levensgevaarlijk-zijn"/>
          <p:cNvPicPr/>
          <p:nvPr/>
        </p:nvPicPr>
        <p:blipFill>
          <a:blip r:embed="rId1"/>
          <a:stretch/>
        </p:blipFill>
        <p:spPr>
          <a:xfrm>
            <a:off x="6516720" y="40464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Hondenbe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6000" y="27432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door een bekend dier: uit de buurt of eigen huisd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hebt risicohonden bijten altij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ok kindvriendelijke honden kunnen bijte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twond is indicatie voor tetanusprofylax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hondenbeet"/>
          <p:cNvPicPr/>
          <p:nvPr/>
        </p:nvPicPr>
        <p:blipFill>
          <a:blip r:embed="rId1"/>
          <a:stretch/>
        </p:blipFill>
        <p:spPr>
          <a:xfrm>
            <a:off x="5508720" y="765000"/>
            <a:ext cx="29239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bservatie wond: hoe ernstig? Zegt altijd iets over de maatregelen die worden genomen(diepte/aard/bloed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iniging: Stromend water/ fysiologisch zout. Bij infecterende wonden:Povidon jod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geïnfecteerde wonden: duurt genezing lan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hondenbe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en bijtwond wordt in het algemeen niet gehecht vanwege infectiegevaar in later stadium. Alleen wonden in gezicht worden losjes gehecht/afde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oms preventief antibiotica bij infectiegevaar of verminderde we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tanusprofylax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Complicat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tan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ndsdolhe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hondenbeet_292x237"/>
          <p:cNvPicPr/>
          <p:nvPr/>
        </p:nvPicPr>
        <p:blipFill>
          <a:blip r:embed="rId1"/>
          <a:stretch/>
        </p:blipFill>
        <p:spPr>
          <a:xfrm>
            <a:off x="5651640" y="3141720"/>
            <a:ext cx="27810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Tetanus             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1640" y="2565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tanus:”kaakklem” genoem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ordt veroorzaakt door de Bacteri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Clostridium Tetani. Anaerobe bacterie, waarvan de sporen in aarde, straat vuil, mest lang kunnen overleven. Deze sporen kunnen door een verwonding zich in het lichaam voortpla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79tetanus"/>
          <p:cNvPicPr/>
          <p:nvPr/>
        </p:nvPicPr>
        <p:blipFill>
          <a:blip r:embed="rId1"/>
          <a:stretch/>
        </p:blipFill>
        <p:spPr>
          <a:xfrm>
            <a:off x="7093080" y="189000"/>
            <a:ext cx="18381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58920" y="3403440"/>
            <a:ext cx="713088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volg: productie van tetanustoxine, een krachtige gifstof die pijnlijke en hevige spierkrampen veroorzaakt in het hele lichaa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eindelijk ook de ademhalingsspieren met hartstil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tetanus"/>
          <p:cNvPicPr/>
          <p:nvPr/>
        </p:nvPicPr>
        <p:blipFill>
          <a:blip r:embed="rId1"/>
          <a:stretch/>
        </p:blipFill>
        <p:spPr>
          <a:xfrm>
            <a:off x="2843280" y="260280"/>
            <a:ext cx="39304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Tetanusprofylaxe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bijtwonden: bij laatste vaccinatie &lt;10 jaar, niets. Geeft vrijwel 100% bescherming bij welke verwonding dan ook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tste vaccinatie &gt;10 jaar: 1 tetanus toxo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nsen zijn van nature niet beschermd tegen tetanus: vormen nooit zelf antistoffe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2:10:57Z</dcterms:created>
  <dc:creator>Rina</dc:creator>
  <dc:description/>
  <dc:language>en-US</dc:language>
  <cp:lastModifiedBy>Bouke Cuperus</cp:lastModifiedBy>
  <dcterms:modified xsi:type="dcterms:W3CDTF">2016-12-16T13:25:15Z</dcterms:modified>
  <cp:revision>3</cp:revision>
  <dc:subject/>
  <dc:title>Hondenbeet en Tetanus</dc:title>
</cp:coreProperties>
</file>