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A74-6209-4D74-B6AF-043109DC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7D4-6992-4429-A4FE-BAD7EF53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66A-3233-4EE5-BA8A-EE243479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82E-4FAF-4CB6-AFDE-05A1EB4D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0F71-809B-4529-B720-B8B82287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BFFD-64C6-4A7B-8A65-720E846D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C784-E1DD-467C-870D-DCDFFB3B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4727-34CE-41C1-986A-394A726F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5B44-9050-49FB-AD14-9317C4B7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BBB8-3B51-4DD0-9663-86CB4928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7CE3-2B78-4536-9132-2A54FE11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00D-306A-4507-9E0B-F6F812C0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BBE5-E9AC-486E-A295-678C27C1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EBFF-3E06-48EF-892E-E25AE61F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1322-09FB-4203-B7AC-A9C485BD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10E2-F614-4138-A989-7EA48458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5127-3145-4D02-8CD5-003196EC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654-72B8-403E-917D-C1A89D71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001-07BF-499D-825A-9F991FCA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3E7-C04C-4AF9-A3BE-8F9C7F0D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918-F38B-4599-9412-E85F787D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7D5-4757-4813-AAF6-0519F4A8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7F2-1D1E-4434-AAD5-9F02F51C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9BA-26F1-406F-9DDD-E51C81D9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9FB9-5BBE-4BF4-ACA4-2116BF46E836}" type="slidenum">
              <a:rPr b="0" lang="nl-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C281-D42D-4269-A12A-B44BBDA61859}" type="slidenum">
              <a:rPr b="0" lang="nl-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ffffff"/>
                </a:solidFill>
                <a:latin typeface="Arial"/>
              </a:rPr>
              <a:t>Anafylaxi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over%20shock%20winter%20201011"/>
          <p:cNvPicPr/>
          <p:nvPr/>
        </p:nvPicPr>
        <p:blipFill>
          <a:blip r:embed="rId1"/>
          <a:stretch/>
        </p:blipFill>
        <p:spPr>
          <a:xfrm>
            <a:off x="6227640" y="2897280"/>
            <a:ext cx="2778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urticaria_thumb"/>
          <p:cNvPicPr/>
          <p:nvPr/>
        </p:nvPicPr>
        <p:blipFill>
          <a:blip r:embed="rId1"/>
          <a:stretch/>
        </p:blipFill>
        <p:spPr>
          <a:xfrm>
            <a:off x="1547640" y="1363680"/>
            <a:ext cx="58327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Therapie: ziekenhu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ie met adrena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pipen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toedienen van zuurstof en indien nodig ook intub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aanhoudend angio-oedeem soms ook zuurstof toediening of een tracheot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rijding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ANd9GcSgmIBFG3buMw_ao_AnMkQyGROrO4n9iZv9hwycePM18_fwmE0FFA"/>
          <p:cNvPicPr/>
          <p:nvPr/>
        </p:nvPicPr>
        <p:blipFill>
          <a:blip r:embed="rId1"/>
          <a:stretch/>
        </p:blipFill>
        <p:spPr>
          <a:xfrm>
            <a:off x="5364000" y="7650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epipen2"/>
          <p:cNvPicPr/>
          <p:nvPr/>
        </p:nvPicPr>
        <p:blipFill>
          <a:blip r:embed="rId1"/>
          <a:stretch/>
        </p:blipFill>
        <p:spPr>
          <a:xfrm>
            <a:off x="4859280" y="2349360"/>
            <a:ext cx="3240000" cy="258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epipen"/>
          <p:cNvPicPr/>
          <p:nvPr/>
        </p:nvPicPr>
        <p:blipFill>
          <a:blip r:embed="rId2"/>
          <a:stretch/>
        </p:blipFill>
        <p:spPr>
          <a:xfrm>
            <a:off x="971640" y="2349360"/>
            <a:ext cx="3047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Epipen bij allergie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ts schrijft een EpiPen® voor bij mensen die eerder een acute of ernstige allergische reactie hebben geh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moet  direct ingespoten worden zodra de eerste verschijnselen optreden. 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Hoe werkt de Epipen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pi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werkzame stof in EpiPen is Adrenali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vernauwt de bloedvaten en verhoogt de   bloeddru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verwijdt de luchtwegen, waardoor de benauwdheid verminde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jectie begint na drie tot vijf minuten te werken.</a:t>
            </a:r>
            <a:br>
              <a:rPr sz="28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Tot slot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renaline voorkomt de anafylactische reactie niet, maar is een eerste redmiddel om de ernstigste verschijnselen op te heffen. De anafylactische reactie moet altijd door een arts verder worden behande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istockphoto_2334825_puzzled_kids_cartoon"/>
          <p:cNvPicPr/>
          <p:nvPr/>
        </p:nvPicPr>
        <p:blipFill>
          <a:blip r:embed="rId1"/>
          <a:stretch/>
        </p:blipFill>
        <p:spPr>
          <a:xfrm>
            <a:off x="2627280" y="1844640"/>
            <a:ext cx="3619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afyla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Acute levensbedreigende, allergis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actie op een lichaamsvreemde 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fylaxie kan optreden na inname van het allergeen, maar ook na inademing ervan, na huidcontact of een injectie met de betreffende st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fylaxie kan soms in enkele minuten tot de dood leiden als deze niet meteen wordt behan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Voorkomende allergenen zijn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 (zoals melk, noten, pinda's etc. medicijnen (zoals penicilline, aspirine en NSAID's zoals ibuprofen en diclofenac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xaller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ectensteken van bijvoorbeeld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bij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wesp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Anafylactische sh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fylactische shock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het lichaam door verwijding van de bloedvaten ten gevolge van het vrijgeven van een grote hoeveelheid histamine in shock geraak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Shock-verschijnsel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smoeilijkheden (door de vernauwde luchtwe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ypotensie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chycar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auwvallen/ klam aanvoelen/bl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usteloosheid/sh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Overige verschijnselen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lbul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leu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io-oedeem (opgezwollen gelaat, hals en kee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nende 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Angio-oede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ANd9GcTa39jwzSDoZ-aVnAlntN2_uzqDwZ6lLdAgQN1gDudKTpUtGaIh"/>
          <p:cNvPicPr/>
          <p:nvPr/>
        </p:nvPicPr>
        <p:blipFill>
          <a:blip r:embed="rId1"/>
          <a:stretch/>
        </p:blipFill>
        <p:spPr>
          <a:xfrm>
            <a:off x="539640" y="1341360"/>
            <a:ext cx="4050000" cy="3033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ANd9GcT_rih1wIHupN06jLHAdydW3nsYf1JE_bpCFvuZ1kNJd74PvtRa"/>
          <p:cNvPicPr/>
          <p:nvPr/>
        </p:nvPicPr>
        <p:blipFill>
          <a:blip r:embed="rId2"/>
          <a:stretch/>
        </p:blipFill>
        <p:spPr>
          <a:xfrm>
            <a:off x="4859280" y="3429000"/>
            <a:ext cx="36846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Galbulten(netelroo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netelroos"/>
          <p:cNvPicPr/>
          <p:nvPr/>
        </p:nvPicPr>
        <p:blipFill>
          <a:blip r:embed="rId1"/>
          <a:stretch/>
        </p:blipFill>
        <p:spPr>
          <a:xfrm>
            <a:off x="2340000" y="1052640"/>
            <a:ext cx="3779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9:53:33Z</dcterms:created>
  <dc:creator>-</dc:creator>
  <dc:description/>
  <dc:language>en-US</dc:language>
  <cp:lastModifiedBy>Cuperus,B.K.</cp:lastModifiedBy>
  <dcterms:modified xsi:type="dcterms:W3CDTF">2013-12-05T19:47:06Z</dcterms:modified>
  <cp:revision>16</cp:revision>
  <dc:subject/>
  <dc:title>Plotseling onwel na injectie of wespensteek</dc:title>
</cp:coreProperties>
</file>