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9.png" ContentType="image/png"/>
  <Override PartName="/ppt/media/image30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A29B-C0B8-46AC-B726-885749087C4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F3A6-29D7-4999-A293-E51FA06CE8D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207-C4B7-4543-A329-408C58ECCEB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E8BF-2CFE-42E9-998F-973D3584645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61FB-6171-43AD-8143-DCFE9D1631D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4BA5-BAE2-4C60-9C9B-D103C6C882A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7E76-C1D8-4286-B6E1-B0EF1930577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t BIG stelt voor 8 beroepen tuchtrecht in : instrument om kwaliteit van beroepsbeoefenaar te bevorderen en te bew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iviel recht is burgerlijk recht of wel privaatre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301E-C591-4EC3-844D-DA3BAE552A4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D33-C475-4731-8049-4DAC3DA1FEC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BD6B-89B6-4464-930A-AB51AADD91D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F290-5373-42DE-8D23-C5707DAE52E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A98F-2D04-4B40-94E0-F9310347A0F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11A-07AA-4A9A-8485-A5CF3022EFE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B657-4C68-4C71-A25B-833A3026860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1452-CB08-4BBF-9C09-25C2BC334B9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A00E-14DC-4501-A8A0-142923564C7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31D-8D91-4B4F-9A11-91F36EBE8D9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F6C-DF23-4168-8977-1BA02859E54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5E21-DEE4-4DB6-85AB-765CA43E26E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C65-749C-432C-A17A-4103B7BFD39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F60C-934A-4FDE-A413-965EB63CE2E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4C60-8787-450A-9115-EACAB5C8EA4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24E5-72A5-4EC1-8E94-79844E7022D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F32A-71AC-4352-B19A-9A3198F809F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3301-5F2B-4BE4-82EE-690532F3522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A20F-0D47-45F1-826D-44822505899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02D8-9C73-449B-965D-7D56C989B66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690-2DB1-40D0-9A2B-66792461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498-4CDB-40F6-961E-F4B94D14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971-0100-4531-8517-FFA2A575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888-3E3E-4DB5-ABD3-3135D204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4A45-7CE0-4CDF-879A-0CB1B26F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F6AB-7431-43E4-B36F-331B545D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AF0B-9A8F-4899-BB62-1264511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C28F-3A1C-43CA-BBC9-A63565E9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DDF8-3296-401F-85A2-887E0512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810D-E81F-40DD-A395-FD681B17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4C06-C143-4D27-B32B-98F45EA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35F-BDDD-487B-BF5E-43E0B2C1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66EB-1260-4AC3-9DE5-983A1405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F8D8-7D33-448A-88F6-0586173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C749-5158-4B5D-B6A5-A902A391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008D-CA2A-477A-9E1E-CC7EF2F7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912-0370-4A7D-B1E8-61E62155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FCBE-FD3A-49F5-87F3-C6B919CC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D97B-0B29-4A6F-8A12-5BCB8055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5371-1D27-4BD6-9DC3-8444BDD5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D4B0-E886-43C1-AA7C-7216B8EE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CC6B-03E9-4944-A88F-170C8123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ECD-D8B2-4BED-9D91-B5844FA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C734-284C-4860-8088-7D4C856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DEF3-4704-4ED8-A26A-D1AE0246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5288-AD94-42A4-9ECF-53E9E4D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CD6B-C95A-49BC-8A20-1203558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DE65-2BD3-4E02-ADA0-9F6C8F00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846A-E287-425B-8758-BAC07A85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E686-3268-45B7-938B-FAECD92C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235B-8056-4ABB-9FC7-CEEB4915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AB78-8418-4904-9A5B-B11617DE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9B84-875C-4700-88E4-4EE9E23D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A2F-6B3C-4032-81FF-50327F82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6E3E-D0C2-4A83-9C7A-060DCA0C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8F7A-D743-402E-A6D1-BD72B8F9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DED3-D5BF-40EC-B3B2-9B782635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22C1-77D3-4151-A593-3B2BB578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6C74-F6D8-4CBB-810B-E6D7F81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ABC5-611F-4E5B-BE80-9233AAF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5663-B81A-4ACF-9D2B-C21B6A20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BCF5-4036-406B-9F02-CF3AB9D2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CEA2-F536-48DF-9668-F337B13E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86FFC-8F96-4898-AFD0-949B1554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822-CE7D-4C1A-9526-19DF3E1D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52766-08D7-4A66-AA62-1854A709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A790-ECCC-4BDE-AF63-300A99D3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1EF3-8084-4517-8D07-847B1DA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3CB70-22A4-4E52-B945-6D2FE12F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DD34-B658-4420-B422-356E2924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F81F-E056-47A3-8A88-B157A66C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1E158-0A52-4FA5-B395-06E7F91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6E82-3BDD-43B4-81A4-6658064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AB76-3922-4EEB-BE6A-A61775C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B454-6619-4193-9284-A7916AA7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5D8-DBEF-4A2A-BBDC-EB76C928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A29F9-BACE-459E-B06D-FF8F333A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1EA-BAB4-489A-95C8-DB909F2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1BA-AC6F-42D3-A2B3-D10BE280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C6F-C43A-4EF7-87A2-DE2C8F3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738D-E635-44D0-A7DB-AB9384AE8240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578-2A17-48E9-81F2-F4342A0763F8}" type="slidenum">
              <a:rPr b="0" lang="nl-NL" sz="11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6CB0-E1E7-4281-A9D7-75AD24232020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9388-33FF-49BC-BCE0-0B720A087F7A}" type="slidenum">
              <a:rPr b="0" lang="nl-NL" sz="1100" spc="-1" strike="noStrike">
                <a:solidFill>
                  <a:srgbClr val="f4e7ed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BEC0-D0C7-4F29-A786-700E3091858F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28" name="Tijdelijke aanduiding voor inhoud 3" descr="hhhh.jpg"/>
          <p:cNvPicPr/>
          <p:nvPr/>
        </p:nvPicPr>
        <p:blipFill>
          <a:blip r:embed="rId2"/>
          <a:stretch/>
        </p:blipFill>
        <p:spPr>
          <a:xfrm>
            <a:off x="4859280" y="400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Afbeelding 4" descr="wet big.jpg"/>
          <p:cNvPicPr/>
          <p:nvPr/>
        </p:nvPicPr>
        <p:blipFill>
          <a:blip r:embed="rId3"/>
          <a:stretch/>
        </p:blipFill>
        <p:spPr>
          <a:xfrm>
            <a:off x="1332000" y="206064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el 3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557000"/>
            <a:ext cx="389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13 voorbehouden handelinge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el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los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ndoscopieë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atheteris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unc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arco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unstmatige fertilis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nenvergruiz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ebruik van radioactieve stoffen en ioniserende stra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ardiover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fibrill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lectroconvul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4760640"/>
          </a:xfrm>
          <a:prstGeom prst="rect">
            <a:avLst/>
          </a:prstGeom>
          <a:ln w="0">
            <a:noFill/>
          </a:ln>
        </p:spPr>
      </p:pic>
      <p:pic>
        <p:nvPicPr>
          <p:cNvPr id="250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6581880" y="4149720"/>
            <a:ext cx="2562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el 4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waarden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om voorbehouden handelingen 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drachtnemer uit te mogen voeren, indien ni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kwa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opdracht van en volgens aanwijzingen van zelfstandig bevoegde( niet voor elke handeling apart&gt;vastleggen in dossi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gelijk tussenkomst van de arts (behalve bij griepvaccin en venapuntie alleen telefonisc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NBEKWAAM MAAKT ONBEVOEGD en is STRAFBAAR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Tandarts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Verloskundig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 eigen gezag 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drachtgever, stel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catie en beslist om 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handeling zelfstand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uit te voer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11280" y="170028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zelfstandig bevoegd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pleeg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oktersassisten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jaardenverzorg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lp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nodig dat het beroe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.b.v. de WET BIG gerege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s, het zijn opdrachtnem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en altijd in opdrac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opdrachtgever. Stel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lf geen diagnos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BIG stelt de volgende voorwaarden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doktersassistente,  als niet zelfstandi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voegd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in opdracht van een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overeenkomstig de aanwijzingen van de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mag een voorbehouden handeling alleen uitvoeren indien zowel jijzelf als de opdrachtgever redelijkerwijs mag aannemen dat jij  beschikt over de bekwaamheid, om de opdracht naar behoren uit te voeren&gt;dit houdt in handeling regelmatig moet doen om bekwaam te zijn, en laten beoordelen ( minimaal 1 x p.j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5" descr="http://www.con4m.nl/images/big_proces.JPG"/>
          <p:cNvPicPr/>
          <p:nvPr/>
        </p:nvPicPr>
        <p:blipFill>
          <a:blip r:embed="rId2"/>
          <a:stretch/>
        </p:blipFill>
        <p:spPr>
          <a:xfrm>
            <a:off x="6037200" y="765000"/>
            <a:ext cx="289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Verantwoordelijkhei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ie in de gezondheidszorg werkt, is ze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antwoordelijk voor eigen aandeel m.b.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handelen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ndersteuning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protocoll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ichtlijnen/aanwijzingen op schrif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bekwaamheidsverklaring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eeft aan welke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roepsbeoefenaar waar precies bekwaam 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 in i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Burgerlijk 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chtsverhouding tussen burg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ling : patiënt en beroepsbeoefenaar (doktersassisten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Straf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legen van een strafbaar feit, zoals toebre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ernstige schad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el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 hoe een intra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sub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intramusculaire injectie wordt gegev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welke materialen je klaar legt, wanneer je iemand een injectie toedien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cutane inject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(binnenkant) ondera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musculaire injectie in bil of bovenb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subcutane injectie in bovenar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ijn dient  door een arts voorgeschreven te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lgens WIP is desinfecteren voorafga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an injecteren niet nodig, tenzij het e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tiënt met verminderde weerstand betre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rk de volgende vragen ui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1. Waar staat de afkorting wet BIG voo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2. Welk doel dient de wet BI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3. Wat houdt een voorbehouden en niet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voorbehouden handeling i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4. Valt  injecteren onder een voorbehouden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handelin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5.  Beschrijf 2 niet voorbehouden handelingen, die je als doktersassistent uit mag voer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6. Aan welke 4 voorwaarden moet je voldo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als doktersassistent om een voorbehouden handeling uit te mogen voere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s het parenteraal, buiten het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m, toedienen van medicijn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deel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nel (meteen) resulta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ptie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rale medicatie niet of onvoldoende wordt opgenomen via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atiënt geen orale medicatie wil inn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atie alleen in injectievorm verkrijgba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Afbeelding 3" descr="injectie.jpg"/>
          <p:cNvPicPr/>
          <p:nvPr/>
        </p:nvPicPr>
        <p:blipFill>
          <a:blip r:embed="rId2"/>
          <a:stretch/>
        </p:blipFill>
        <p:spPr>
          <a:xfrm>
            <a:off x="5364000" y="1989000"/>
            <a:ext cx="2143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 verschillende manieren van injectere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cutaan (i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cutaan (s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musculair (i.m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veneus (i.v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check je van te vor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regel van 5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.juiste naam en geboortedatum van patië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2.juiste medicijn (let op vervaldatum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3.juiste do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. juiste toedieningsv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5. juiste tijd en aantal k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in de huid evenwijdig aan de oppervlakte toegediend, met behulp van een dunne naald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de geïnjecteerde vloeistof zal zich heel langzaam door het lichaam versprei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lichaam laten reageren op een bepaalde stof, bijvoorbeeld:  allergietest, mantoux tes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zeer lokaal effect van het geneesmiddel gewenst is, bijvoorbeeld: anesthesicu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jectieplaats: binnenkant onderarm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Afbeelding 4" descr="onderarm.jpg"/>
          <p:cNvPicPr/>
          <p:nvPr/>
        </p:nvPicPr>
        <p:blipFill>
          <a:blip r:embed="rId2"/>
          <a:stretch/>
        </p:blipFill>
        <p:spPr>
          <a:xfrm>
            <a:off x="755640" y="2997360"/>
            <a:ext cx="2000160" cy="1390320"/>
          </a:xfrm>
          <a:prstGeom prst="rect">
            <a:avLst/>
          </a:prstGeom>
          <a:ln w="0">
            <a:noFill/>
          </a:ln>
        </p:spPr>
      </p:pic>
      <p:pic>
        <p:nvPicPr>
          <p:cNvPr id="281" name="Tijdelijke aanduiding voor inhoud 3" descr="mantoux.jpg"/>
          <p:cNvPicPr/>
          <p:nvPr/>
        </p:nvPicPr>
        <p:blipFill>
          <a:blip r:embed="rId3"/>
          <a:stretch/>
        </p:blipFill>
        <p:spPr>
          <a:xfrm>
            <a:off x="4067280" y="2997360"/>
            <a:ext cx="206856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het onderhuids vetweefsel toegedien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rebuchet MS"/>
              </a:rPr>
              <a:t>Twee methode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Trebuchet MS"/>
              </a:rPr>
              <a:t>huidplooimethode (langere naald):</a:t>
            </a: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45 graden in een opgenom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ploo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oodrechtmethode (korte naald): 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90 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 loodrecht in de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geïnjecteerde vloeistof wordt langzaa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genomen, snelheid van opname tevens bepaald door locati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Injectieplaatsen (afwisselen bij frequent spuite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buitenkant van de boven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 voor/zijkant van het bovenb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losse onderhuidse weefsel van de buikwand (buiten een omtrek van 5 cm van navel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oorbeelden injectievloeistof: fraxiparine ( luchtbel ni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wijderen), Insul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Contra indicatie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schadigde huid, ontsto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, hematoom, shunt, mamma amput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t okselklier verwijde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spierweefsel toegedie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 vloeistof wordt snel opgeno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annen van de hu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odrecht meth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ntrole of je niet in een bloedvat zit, anders nieuwe spuit klaar mak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beeld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riepspuit, Hydrocobamine,Dep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ve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4" descr="C:\Users\Rhea\Documents\intra.jpg"/>
          <p:cNvPicPr/>
          <p:nvPr/>
        </p:nvPicPr>
        <p:blipFill>
          <a:blip r:embed="rId2"/>
          <a:stretch/>
        </p:blipFill>
        <p:spPr>
          <a:xfrm>
            <a:off x="6084720" y="1700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jectieplaats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de bil geldt: de bovenste buitenste kwadrant van de bilsp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het been geldt: de buitenzijde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van het middelste derde gedeelte 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( tussen knieschijf en lies)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an de bovenbeenspier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de arm geldt: bovenste derde gedeelte van de bovenarm aan de buitenzij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Afbeelding 3" descr="bil.jpg"/>
          <p:cNvPicPr/>
          <p:nvPr/>
        </p:nvPicPr>
        <p:blipFill>
          <a:blip r:embed="rId2"/>
          <a:stretch/>
        </p:blipFill>
        <p:spPr>
          <a:xfrm>
            <a:off x="5292720" y="5084640"/>
            <a:ext cx="1857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gel van 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mpul met watje afbre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sinfecteren rubberen dop van flaco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uchtbellen aftik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pzuignaald vervangen door insteeknaa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et op fixeren van conus tijdens 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heck of je niet in bloedvat zit door terug te trekk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angzaam vloeistof in 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loeistof niet koud in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nel naald in en uit 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t de huls nooit terug op de naald, nadat je iemand geïnjecteerd heb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al gebruikte naalden nooit met de hand van de spuit af, maar doe dit met gebruik van naaldencontaine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4" descr="C:\Users\Rhea\Documents\notendop.jpg"/>
          <p:cNvPicPr/>
          <p:nvPr/>
        </p:nvPicPr>
        <p:blipFill>
          <a:blip r:embed="rId2"/>
          <a:stretch/>
        </p:blipFill>
        <p:spPr>
          <a:xfrm>
            <a:off x="6948360" y="112536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Kwaliteit van zorg is een kernbegrip in de gezondheidszorg. He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bewaken is een taak voor alle betrokken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GBO: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Wet op geneeskundige behandelingsovereenkomst: beoogt waarborgen voor een betere rechtsbescherming van de patiënt te bieden Uitgangspunten: informatieplicht en toestemmingsvereiste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et BIG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op beroepen in de individuele gezondheidszorg: stelt regels aan beroepsuitoefeni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isico beperking door veilig en hygiënisch te wer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oed mogelijk laten bloeden, gelijk uitspoelen met warm water of fysiologisch zout, desinfecteren huiddesinfectans ( jodium, alcohol 70 %, chloorhexidin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oteer van de 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on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alle beschikbare persoonlijke gegeve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ld een prikaccident  bij jouw leidinggevend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Tip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l jezelf van te voren op de hoogte, bij de instel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aar je werkt, hoe om te gaan met prikaccident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4" descr="C:\Users\Rhea\Documents\prikac.jpg"/>
          <p:cNvPicPr/>
          <p:nvPr/>
        </p:nvPicPr>
        <p:blipFill>
          <a:blip r:embed="rId2"/>
          <a:stretch/>
        </p:blipFill>
        <p:spPr>
          <a:xfrm>
            <a:off x="6875640" y="549360"/>
            <a:ext cx="17427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2815920"/>
          </a:xfrm>
          <a:prstGeom prst="rect">
            <a:avLst/>
          </a:prstGeom>
          <a:ln w="0">
            <a:noFill/>
          </a:ln>
        </p:spPr>
      </p:pic>
      <p:pic>
        <p:nvPicPr>
          <p:cNvPr id="23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3505320" y="3462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e afkorting BIG staat voor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op Beroepen in de Individuele Gezondheidszor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oel:  </a:t>
            </a: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De kwaliteit van de beroepsuitoefening t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te bewaken en de patiënt te 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egen ondeskundig en onzorgvuldig handelen va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roepsbeoefenar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m dit te bereiken zijn in de wet waarborgen opgenomen,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als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itelbescherm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Registratie in het BIG regist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egdheidsregeling voorbehouden handelingen: gaat uit van opdrachtgever en opdrachtnem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uchtrecht: geldt voor 8 beroepsgroepen, tevens strafbepalingen in wet vastgelegd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BIG heeft betrekking op de  individuele gezondheidszorg, d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rg gericht op de gezondheid van een bepaald persoo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nder deze zorg wordt verstaan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oordel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wak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herstellen van iemands gezondhei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viduele gezondheidszorg omvat dus niet alleen geneeskundi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handelingen, maar ook verplegende en verzorgende handeling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3608280"/>
          </a:xfrm>
          <a:prstGeom prst="rect">
            <a:avLst/>
          </a:prstGeom>
          <a:ln w="0">
            <a:noFill/>
          </a:ln>
        </p:spPr>
      </p:pic>
      <p:pic>
        <p:nvPicPr>
          <p:cNvPr id="24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5229360" y="414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, d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aanvaardbare risico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 voor de gezondheid van 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atiënt met zich meebrengen als ze door ondes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orden uitgevoer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Niet 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 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t gebied van de individuele gezondheidszorg, geneeskundi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f niet geneeskundig, die niet op de in de wet genoemde lij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voorbehouden handelingen voorkom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345000"/>
          </a:xfrm>
          <a:prstGeom prst="rect">
            <a:avLst/>
          </a:prstGeom>
          <a:ln w="0">
            <a:noFill/>
          </a:ln>
        </p:spPr>
      </p:pic>
      <p:pic>
        <p:nvPicPr>
          <p:cNvPr id="24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7662960" y="3789360"/>
            <a:ext cx="17715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hea Houtkruijer</cp:lastModifiedBy>
  <dcterms:modified xsi:type="dcterms:W3CDTF">2017-03-05T12:03:14Z</dcterms:modified>
  <cp:revision>49</cp:revision>
  <dc:subject/>
  <dc:title>Wet BIG</dc:title>
</cp:coreProperties>
</file>