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1.png" ContentType="image/png"/>
  <Override PartName="/ppt/media/image19.wmf" ContentType="image/x-wmf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E2A6-E4BE-420C-A14A-CF0192885DC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24D2-7233-4A4A-A1C3-D380F9486888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9C1C-DE12-4F30-B8D5-F6B6994EFD2C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CB6D-EDDF-4343-81D1-AE2B9D496C47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BE64-B84A-4224-8170-00E47BFB5FB1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C3DC-274F-47AD-B413-CF286209C238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E8FC-999E-40CF-9B9A-2AC167DE4BE8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09BA-28A0-4527-9640-7679120B7B97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F327-C184-46ED-8A99-6E7288C345D0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A776-F1A9-4F97-A896-2615C766A4E3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9CB5-FC91-4AE1-914F-B25D232DFFB2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DFF7-90C6-4836-B3C1-C38786D379E7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58B8-85CF-42F6-957A-8E01C0E22E91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C034-5669-4A29-BDAA-23E78140B787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7042-50C2-4CA4-AFC9-997A0FFA6F58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B381-F27D-4C8A-9D28-110821051D62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61C2-A0BA-47B7-9B2F-CE5157F2F036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36B5-A217-40CC-BE60-739DF334FD1F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2879-AA65-46AA-9787-314A5D7C08D6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C76C-1914-4DF8-BE7F-E3BA587233C3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1BF1-3C62-4458-B88E-46D16921EF25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489F-D74C-47E1-BA80-A90F2D7A0EE0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851B-9C44-4C07-8A80-ECAD7BB8285E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EA2D-E9DD-48D7-80DC-EC921332CD6C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4D0A-BF76-475D-B4CD-F8C16DB6DD52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7E74-B589-45B9-B3A2-E8078F390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4F6F-1E13-4FEB-9B6A-6CB450F6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33FB-FF26-415D-A71B-7A4BB0634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8A83-DF3D-4AF5-B540-76FD541F1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2CB9-3713-4430-BA3C-395CC9CBD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261C-9DE5-4940-829F-8304083A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B2DF-9220-4EBE-B8A6-90D69D03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5D94-757D-4B11-98F8-EF02522A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E171-0697-40DC-A686-EC8FDBA6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CB95-9008-4C32-9F37-371E5350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B543-1E74-4428-B7CC-DF6188B7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6287-447E-47DB-99AB-FB6D6B59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8A3B-8D52-45B9-9EEF-2D47FC21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E9FB-3A64-4752-8EC1-2E173060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2169-0688-4873-950A-7A9A826F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C7C1-7066-470A-A8A2-CD785C6E0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2161-B357-4B92-B6D8-E3BCD2951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3854-077E-42B1-8A13-65343E6C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67D4-E0FE-4C94-BE35-606EF9A7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63D1-37BE-480C-88A8-1FF62FB2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EF80-7140-401E-AAEE-C82CA0D6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16D3-1865-4CC5-A48F-37DC0477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25CD-55F9-4FA2-839E-C03687DB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9A20-457B-4DD0-91D3-706C0351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6AE4-5B91-4F2E-8A6D-3A213ADF854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</p:grpSp>
      <p:grpSp>
        <p:nvGrpSpPr>
          <p:cNvPr id="5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0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61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62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63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64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65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044A-45B5-4C96-887E-0D46689D4FA6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uidinbeeld.nl/wratten/wratten-w4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ffffb7"/>
                </a:solidFill>
                <a:latin typeface="Arial Black"/>
              </a:rPr>
              <a:t>         </a:t>
            </a:r>
            <a:br>
              <a:rPr sz="5400"/>
            </a:br>
            <a:r>
              <a:rPr b="1" lang="nl-NL" sz="54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1" lang="nl-NL" sz="5400" spc="-1" strike="noStrike">
                <a:solidFill>
                  <a:srgbClr val="ffffb7"/>
                </a:solidFill>
                <a:latin typeface="Arial Black"/>
              </a:rPr>
              <a:t>Dermatologi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Wratten(Verrucae)</a:t>
            </a:r>
            <a:br>
              <a:rPr sz="2800"/>
            </a:b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behandelingsmethoden: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Coagula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Wegbran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Effectief, maar agressie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Dure apparatu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Bij volwassen: verdov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Bij kinderen: onder narc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Taak assistente het klaarleggen van benodigdheden elektrocauter  met hulpstukken , steriele gaasjes en onsteriele handschoenen huisarts. Na afloop evt. drukverband aanlegg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Wratten (Verruca)</a:t>
            </a:r>
            <a:br>
              <a:rPr sz="2800"/>
            </a:b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behandelingsmethoden: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Excochleatie:uitlepelen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nij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verdoving/narc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wondgebied nadi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(soms) dichtgeschro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benodigdheden  steriel veld: zie protoc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12" descr="370301_02_th"/>
          <p:cNvPicPr/>
          <p:nvPr/>
        </p:nvPicPr>
        <p:blipFill>
          <a:blip r:embed="rId1"/>
          <a:stretch/>
        </p:blipFill>
        <p:spPr>
          <a:xfrm>
            <a:off x="6516720" y="270828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nl-NL" sz="2400" spc="-1" strike="noStrike">
                <a:solidFill>
                  <a:srgbClr val="ffffb7"/>
                </a:solidFill>
                <a:latin typeface="Verdana"/>
              </a:rPr>
              <a:t>Allergietest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Doel: Vaststellen op welke stof(fen) de patiënt allergisc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reage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Bloedonderzoek: phadiatop/RAST 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Verwijzing allergoloog: allergietest om specifiek allergeen o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te spor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Verdana"/>
              </a:rPr>
              <a:t>Allergietest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Diverse Methode’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Epicutaan: met injectienaald wordt een druppel vloeistof,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met het allergeen, op de huid van arm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aangebracht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Krasjestest”: met andere naald inkrass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                          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Intracutaan: vloeistof (met allergeen) direct in h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gespo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nl-NL" sz="2000" spc="-1" strike="noStrike">
                <a:solidFill>
                  <a:srgbClr val="ffffb7"/>
                </a:solidFill>
                <a:latin typeface="Verdana"/>
              </a:rPr>
              <a:t>Allergietest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Beide testen 12 allergenen ge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Na 20 min. allergische reactie aflez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A.d.h.v. omvang bult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Bloed nader onderzocht op antistoffen tegen bepaalde allergeen&gt; nog meer zekerheid aangeto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priktest"/>
          <p:cNvPicPr/>
          <p:nvPr/>
        </p:nvPicPr>
        <p:blipFill>
          <a:blip r:embed="rId1"/>
          <a:stretch/>
        </p:blipFill>
        <p:spPr>
          <a:xfrm>
            <a:off x="5472000" y="2571840"/>
            <a:ext cx="281952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Verdana"/>
              </a:rPr>
              <a:t>Allergietest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Pleister/plakproe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Bij huidklach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Aantonen van allergieën, voor stoffen waarmee de huid 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contact komt  (cosmetica/metal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26 stoffen ge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Allergeen vermengd met vaseline of crè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Afgedekt met pleis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24/48/72 uur beoordee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Positieve test aangetoond: bij verharde rode plek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eken verwijder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727280" y="4020840"/>
            <a:ext cx="6229440" cy="16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6611760" y="257040"/>
            <a:ext cx="2054520" cy="2449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611280" y="412920"/>
            <a:ext cx="2468520" cy="2136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3"/>
          <a:stretch/>
        </p:blipFill>
        <p:spPr>
          <a:xfrm>
            <a:off x="700200" y="3941640"/>
            <a:ext cx="2214360" cy="1798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4"/>
          <a:stretch/>
        </p:blipFill>
        <p:spPr>
          <a:xfrm>
            <a:off x="6156360" y="3860640"/>
            <a:ext cx="2592360" cy="1960560"/>
          </a:xfrm>
          <a:prstGeom prst="rect">
            <a:avLst/>
          </a:prstGeom>
          <a:ln w="0">
            <a:noFill/>
          </a:ln>
        </p:spPr>
      </p:pic>
      <p:sp>
        <p:nvSpPr>
          <p:cNvPr id="15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eken verwijderen Bouke Cuperus 2014</a:t>
            </a:r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at is een Tee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Tek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zijn geleedpotige parasieten,die behoren tot de spinachtig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ken leven van het bloed van gewervelde dieren: ze bijten zich vast in de huid en laten zich na een bloedmaaltijd, die enige uren tot dagen duurt, weer vall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ken kan bacterie Borrelia Burgdorferi bij zich dragen&gt;ziekte van Ly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eken verwijderen Bouke Cuperus 2014</a:t>
            </a:r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ekenbee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4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549440" y="2165400"/>
            <a:ext cx="2025720" cy="2867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5148360" y="1779480"/>
            <a:ext cx="2095560" cy="1695600"/>
          </a:xfrm>
          <a:prstGeom prst="rect">
            <a:avLst/>
          </a:prstGeom>
          <a:ln w="0">
            <a:noFill/>
          </a:ln>
        </p:spPr>
      </p:pic>
      <p:sp>
        <p:nvSpPr>
          <p:cNvPr id="166" name="Rechthoek 4"/>
          <p:cNvSpPr/>
          <p:nvPr/>
        </p:nvSpPr>
        <p:spPr>
          <a:xfrm flipV="1" rot="10800000">
            <a:off x="3634920" y="3198600"/>
            <a:ext cx="468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  <a:ea typeface="Arial"/>
              </a:rPr>
              <a:t>De rode huiduitslag (</a:t>
            </a:r>
            <a:r>
              <a:rPr b="0" i="1" lang="nl-NL" sz="1800" spc="-1" strike="noStrike">
                <a:solidFill>
                  <a:srgbClr val="ffffff"/>
                </a:solidFill>
                <a:latin typeface="Calibri"/>
                <a:ea typeface="Arial"/>
              </a:rPr>
              <a:t>erythema migrans)</a:t>
            </a:r>
            <a:r>
              <a:rPr b="0" lang="nl-NL" sz="1800" spc="-1" strike="noStrike">
                <a:solidFill>
                  <a:srgbClr val="ffffff"/>
                </a:solidFill>
                <a:latin typeface="Calibri"/>
                <a:ea typeface="Arial"/>
              </a:rPr>
              <a:t>, kan na een beet van een teek  ontstaan, en kenmerkend is voor de ziekte van Lyme. </a:t>
            </a:r>
            <a:endParaRPr b="0" lang="en-US" sz="1800" spc="-1" strike="noStrike" u="sng">
              <a:solidFill>
                <a:srgbClr val="ffffff"/>
              </a:solidFill>
              <a:uFillTx/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Behandeling : Antibiotica</a:t>
            </a:r>
            <a:endParaRPr b="0" lang="en-US" sz="18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167" name="Tijdelijke aanduiding voor voettekst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eken verwijderen Bouke Cuperus 2014</a:t>
            </a:r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37720" y="1904760"/>
            <a:ext cx="8007480" cy="4190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8064360" cy="6177240"/>
          </a:xfrm>
          <a:prstGeom prst="rect">
            <a:avLst/>
          </a:prstGeom>
          <a:ln w="0">
            <a:noFill/>
          </a:ln>
        </p:spPr>
      </p:pic>
      <p:sp>
        <p:nvSpPr>
          <p:cNvPr id="171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eken verwijderen Bouke Cuperus 2014</a:t>
            </a:r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Kennislijn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Beschrijven hoe wratten worden verwijde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eschrijven hoe een teek verwijderd word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Beschrijven hoe hechtingen verwijderd word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Beschrijven hoe een allergietest uitgevoerd word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ekenpince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Een teek kan goed worden verwijderd met behulp van een speciale tekenpincet. De pincet knijpt zichzelf vast, de teek kan dan voorzichtig uit de huid getrokken word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Afbeelding 3" descr=""/>
          <p:cNvPicPr/>
          <p:nvPr/>
        </p:nvPicPr>
        <p:blipFill>
          <a:blip r:embed="rId1"/>
          <a:stretch/>
        </p:blipFill>
        <p:spPr>
          <a:xfrm>
            <a:off x="6516720" y="4040280"/>
            <a:ext cx="1162080" cy="2303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1666800" y="4040280"/>
            <a:ext cx="3457800" cy="2582640"/>
          </a:xfrm>
          <a:prstGeom prst="rect">
            <a:avLst/>
          </a:prstGeom>
          <a:ln w="0">
            <a:noFill/>
          </a:ln>
        </p:spPr>
      </p:pic>
      <p:sp>
        <p:nvSpPr>
          <p:cNvPr id="176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eken verwijderen Bouke Cuperus 2014</a:t>
            </a:r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Hechtingen verwijder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3081240" cy="2838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"/>
          <p:cNvPicPr/>
          <p:nvPr/>
        </p:nvPicPr>
        <p:blipFill>
          <a:blip r:embed="rId2"/>
          <a:stretch/>
        </p:blipFill>
        <p:spPr>
          <a:xfrm>
            <a:off x="4572000" y="2421000"/>
            <a:ext cx="3816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Hechting verwijder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e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itch-cu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thechtingsscha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hirurgische scha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Hoe te werk gaan.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sinfecteer de w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ak de hechting met een pincet vast bij de kn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Licht deze iets 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Knip de hechting door zo dicht mogelijk op de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wijder de hechting om en om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Nog vragen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Vaardighedenlijn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Benodigdheden klaarleggen voor wratten uitlepelen/uitsnij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Het verwijderen van een teek oefen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Het verwijderen van hechtingen oefen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Wratten (Verrucae)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16280"/>
            <a:ext cx="800748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Wat zijn wratt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Verheven, bloemkoolachtige en va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aanvoelende  uitgroeisels van de h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Meestal meerdere wratten tegelijkertij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aanwez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Voorkeurplaats zijn handen en voe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Komen veel voor, meestal op kinderleeftijd (onvoldoende  immuniteit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Goedaard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" descr="http://plzcdn.com/upload/09db90308ca9ad12ca58e31e0c371d1dMzM0LmpwZw==.jpg"/>
          <p:cNvPicPr/>
          <p:nvPr/>
        </p:nvPicPr>
        <p:blipFill>
          <a:blip r:embed="rId1"/>
          <a:stretch/>
        </p:blipFill>
        <p:spPr>
          <a:xfrm>
            <a:off x="6300720" y="404640"/>
            <a:ext cx="2478240" cy="18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Wratten( Verrucae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Hoe ontstaan wratt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Veroorzaakt door virus: Humane Papillomavi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(HPV-viru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Besmettelijk: via zwembaden, sportschole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wondjes etc., niet iedereen gevoelig voo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Incubatietijd: 3-6 maanden of lan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Spontane genezing: 2-3 j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Wratten ( Verrucae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Diverse soort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Verruca Vulgar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ewone wr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Rond, bloemkoolacht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Scherp begrens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Sterke verhoor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eestal meerd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Locatie: handen, knieë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ellebogen, gela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8" descr="wratten"/>
          <p:cNvPicPr/>
          <p:nvPr/>
        </p:nvPicPr>
        <p:blipFill>
          <a:blip r:embed="rId1"/>
          <a:stretch/>
        </p:blipFill>
        <p:spPr>
          <a:xfrm>
            <a:off x="5003640" y="2492280"/>
            <a:ext cx="3515040" cy="15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Mozaïekwrat op hak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wratten-4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2637000"/>
            <a:ext cx="5399280" cy="36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Wratten(Verrucae)</a:t>
            </a:r>
            <a:br>
              <a:rPr sz="2800"/>
            </a:b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behandelingsmethoden: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Cryotherapie: Stikstof (N2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Minus 195 graden Celci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Behandelsessies: afhankelijk van grootte 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locati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Nadeel: pijnlijk, blaarvorming/zwel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Pigmentverschuiving bloeduitstorting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infectiegevaar (zeldzaa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Vervliegt bij aanraking met zuurst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prayen of aanbrengen met wattenstok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Afbeelding 3" descr="stikstof.jpg"/>
          <p:cNvPicPr/>
          <p:nvPr/>
        </p:nvPicPr>
        <p:blipFill>
          <a:blip r:embed="rId1"/>
          <a:stretch/>
        </p:blipFill>
        <p:spPr>
          <a:xfrm>
            <a:off x="5651640" y="260280"/>
            <a:ext cx="2838240" cy="16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Wratten(Verrucae)</a:t>
            </a:r>
            <a:br>
              <a:rPr sz="2800"/>
            </a:br>
            <a:r>
              <a:rPr b="1" lang="nl-NL" sz="2000" spc="-1" strike="noStrike">
                <a:solidFill>
                  <a:srgbClr val="ffffb7"/>
                </a:solidFill>
                <a:latin typeface="Verdana"/>
              </a:rPr>
              <a:t>behandelingsmethoden: 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alicylzuur 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Hoornverwekende wer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Nadeel: ets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Bescherming omliggende gezonde huid met zinkolie/ zalf of leukotap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 avonds aanbrengen en afdekken met pleister/leukotape: eenmaal per d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Witte dode cellen wegschra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Effect: meestal na 3 maan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Monochloorazijnzuur (MCA)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Trichloorazijnzuur (TC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Voor gebruik goed schud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Warm mak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Nadeel:ets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handschoenen en gaasje o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dop wikk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Gezonde huid bescher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met vaseline/zinkol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irritatie, brandwond ontsta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Voordeel:op het mome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van behandeling pijnlo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Na 4 weken z.n. behandeling herha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Afbeelding 4" descr="images.jpg"/>
          <p:cNvPicPr/>
          <p:nvPr/>
        </p:nvPicPr>
        <p:blipFill>
          <a:blip r:embed="rId1"/>
          <a:stretch/>
        </p:blipFill>
        <p:spPr>
          <a:xfrm>
            <a:off x="4643280" y="18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38" name="Afbeelding 5" descr="images (1).jpg"/>
          <p:cNvPicPr/>
          <p:nvPr/>
        </p:nvPicPr>
        <p:blipFill>
          <a:blip r:embed="rId2"/>
          <a:stretch/>
        </p:blipFill>
        <p:spPr>
          <a:xfrm>
            <a:off x="6516720" y="189000"/>
            <a:ext cx="1609560" cy="1727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12:11:28Z</dcterms:created>
  <dc:creator>Rhea</dc:creator>
  <dc:description/>
  <dc:language>en-US</dc:language>
  <cp:lastModifiedBy>Rhea Houtkruijer</cp:lastModifiedBy>
  <dcterms:modified xsi:type="dcterms:W3CDTF">2018-01-08T13:30:11Z</dcterms:modified>
  <cp:revision>29</cp:revision>
  <dc:subject/>
  <dc:title>Dermatologie</dc:title>
</cp:coreProperties>
</file>