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9.png" ContentType="image/png"/>
  <Override PartName="/ppt/media/image30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5FD4-19DB-4535-B4B9-212D1F0903C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2815-CBCF-4B53-9668-0867C91E524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00DF-0A82-469A-A5FF-A5F254571E3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8666-8E03-4639-AD78-5E3E81B707F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B92C-ACCD-45E3-AD54-DDEFD805D20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5CD7-E821-4883-8610-5F1B0350362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2891-4127-49E1-BDE9-0C62AD7C5E3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t BIG stelt voor 8 beroepen tuchtrecht in : instrument om kwaliteit van beroepsbeoefenaar te bevorderen en te bew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iviel recht is burgerlijk recht of wel privaatre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9B07-DCF9-4F21-A7A3-A717291907D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FDD-71A3-4775-AEF0-B15EC5E899A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B359-FDFC-4627-B75E-645A6011CDB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41BD-FC20-4D30-8C65-44256E62908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FC6F-70C2-4B54-B170-F339DBF20AE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A34E-4245-4F66-95BB-1BA378DDE4C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4B18-FCB5-4F11-938F-930CB2DC97A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7781-FF04-4669-88F2-EA985DE8CCF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68A6-A9A3-437E-9B37-01B2E45AE89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7C23-2F35-4FE7-B40B-6679D35A809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BDD0-3AE2-4A42-A96C-C760D63A981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8D9A-4CDE-4250-AEB6-DFDAB337703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881C-178B-4A24-B2C9-1EA397CBA0F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F3D2-ABF4-4AD9-BDBB-3164CD7B319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3C03-FDEC-47B9-8541-ADAEA2CC24F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B564-164D-4CC9-A521-9E78EA1F588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ABCB-101C-4E5A-A150-FF3806A0B24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47E1-9C1F-4D80-A8A9-8F4FBF02E0C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451B-EFB8-499E-921E-1C50A6F6565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0006-0C3F-4C48-A349-7FFFDA92A911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223-0CE8-4A88-B575-8D217DBC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522-AA22-4625-931F-117E252A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E64-3E12-4C55-BFA4-592E837C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82C-2ED7-43E1-934F-FAE6D092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9A47-BE37-464B-9E77-5C7618BE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6FAD-A912-410B-9FB1-7B60931F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C9A2-2A58-4C08-BDDE-9E3D2F66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E98D-9538-41F7-9A09-2C424F72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E291-61A7-48D6-B913-3BDA19B8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7859-9DC3-4C59-86DF-FAC34EAD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F8D6-2D67-4076-ADA9-67B7C26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EF9-D59E-4661-9071-B608192D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8D90-BF54-4829-83AB-E44EA0C0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822B-D3C0-487E-9891-D809707D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7167-8BF1-4AB6-9880-75E4FC8D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ED73-C623-44AA-9FC0-F8B5286C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C131-08E5-4C61-8EB1-18C866BC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75F5-7CCA-41E3-B437-E9B7B21D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6F87-9421-4786-ADF6-8B8491B4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8335-1916-486E-94CF-BE6929E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8866-FDF9-4145-9CAA-8165AC19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D16D-2CD6-4A95-9678-61611FD5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82E-F8C2-4E74-8049-C5B4F0F3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EB4A0-C092-4473-AE48-4EB62F1E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5ADA-4D7F-4ACF-BD8B-1DFC1867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AD5B-79BB-4FB9-9B9B-18D538C3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4072-837F-4C1D-AA92-99D5A983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AAB4-570B-4A06-BCC7-58B79AB5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1594-E112-4BDF-89E7-6BEF6D3D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D42E9-985D-43F0-BC88-5AF3584D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321F1-49B8-42C8-94FD-37C1D33B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EA9E-82A6-416E-9441-21860D5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B837-2509-45C4-922A-FE70136E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EB3-52C3-4C64-81F9-95AFC0D6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5445-5CFF-465A-A19F-5E2ACE2E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2305-67C5-429F-9C00-86721E87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B1F6-0AAF-49F2-BFAC-D187B89A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8F374-C0E6-43F9-9419-D36820C3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5506-36A3-4EBA-B8C7-64A2593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C853-8E6A-4C86-A43F-069A328B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EDD2-2A8F-42B2-8052-0B483DEF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FB6C-DC4D-41B9-8EDB-2A59D26E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BC5E-E4B9-4CB2-9B96-FBBED699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37073-3211-478E-88B7-C882D6FD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BCD-AB13-4BF9-8279-28851C3F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A9F9F-F08F-47F9-BFEC-FDD5C40A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CDAF-ACA3-4C63-87E4-4412B6A0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0F84F-FEFA-4916-A7FD-3E563DB4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2A134-9D05-4E19-A4E0-B956AA43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7424A-0DBC-4CE9-B520-15B70AF6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9A3B-0CA7-4993-9674-570966B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51674-871C-4F35-BEC5-4D3CA414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9107E-0BF7-4E3C-8CC8-85BA2BAB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D49D-FB03-4F46-9A39-596F8F74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1919-71AA-4CCC-B543-2F997889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502-8D23-42F6-BF8C-D2CF5ADB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4F0C-BD1C-49DD-A4CF-4FCC174D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EA4-9794-4968-ABDC-64AD513E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AEF-A614-4EE8-ADF7-ECD2540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0C9-EFC2-460E-84AF-3B2BC8C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3EDA-1523-4ABA-B3B2-986F90CE8605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AC2C-A50D-4EE3-9270-8EC2A3C47978}" type="slidenum">
              <a:rPr b="0" lang="nl-NL" sz="11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9B3D-1D11-49F9-93F1-92D1B6434E21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560A-33B6-4EBB-83BB-47B525C5F626}" type="slidenum">
              <a:rPr b="0" lang="nl-NL" sz="1100" spc="-1" strike="noStrike">
                <a:solidFill>
                  <a:srgbClr val="f4e7ed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5ADB-412F-4237-9F99-AD07BC600F4A}" type="slidenum">
              <a:rPr b="0" lang="nl-NL" sz="1100" spc="-1" strike="noStrike">
                <a:solidFill>
                  <a:srgbClr val="b13f9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28" name="Tijdelijke aanduiding voor inhoud 3" descr="hhhh.jpg"/>
          <p:cNvPicPr/>
          <p:nvPr/>
        </p:nvPicPr>
        <p:blipFill>
          <a:blip r:embed="rId2"/>
          <a:stretch/>
        </p:blipFill>
        <p:spPr>
          <a:xfrm>
            <a:off x="4859280" y="4005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Afbeelding 4" descr="wet big.jpg"/>
          <p:cNvPicPr/>
          <p:nvPr/>
        </p:nvPicPr>
        <p:blipFill>
          <a:blip r:embed="rId3"/>
          <a:stretch/>
        </p:blipFill>
        <p:spPr>
          <a:xfrm>
            <a:off x="1332000" y="206064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el 3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557000"/>
            <a:ext cx="389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13 voorbehouden handelinge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elkundige handeli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loskundige handeli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Endoscopieë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Katheteris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ject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unc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arco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Kunstmatige fertilisat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tenenvergruiz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Gebruik van radioactieve stoffen en ioniserende stra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ardiovers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fibrill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Electroconvuls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4760640"/>
          </a:xfrm>
          <a:prstGeom prst="rect">
            <a:avLst/>
          </a:prstGeom>
          <a:ln w="0">
            <a:noFill/>
          </a:ln>
        </p:spPr>
      </p:pic>
      <p:pic>
        <p:nvPicPr>
          <p:cNvPr id="250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6581880" y="4149720"/>
            <a:ext cx="25621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el 4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waarden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 om voorbehouden handelingen 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pdrachtnemer uit te mogen voeren, indien ni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elfstandig bevoeg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skundi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kwa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 opdracht van en volgens aanwijzingen van zelfstandig bevoegde( niet voor elke handeling apart&gt;vastleggen in dossi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ogelijk tussenkomst van de arts (behalve bij griepvaccin en venapuntie alleen telefonisch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NBEKWAAM MAAKT ONBEVOEGD en is STRAFBAAR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elfstandig bevoeg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Tandarts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Verloskundig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 eigen gezag 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drachtgever, stel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indicatie en beslist om d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behandeling zelfstandi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uit te voer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11280" y="170028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iet zelfstandig bevoegd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pleegkundi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oktersassisten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jaardenverzorgen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lpen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iet nodig dat het beroe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.b.v. de WET BIG gerege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s, het zijn opdrachtnem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en altijd in opdrach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opdrachtgever. Stell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zelf geen diagnos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t BIG stelt de volgende voorwaarden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an de doktersassistente,  als niet zelfstandi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voegd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handelt in opdracht van een zelfstandig bevoeg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handelt overeenkomstig de aanwijzingen van de zelfstandig bevoeg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je mag een voorbehouden handeling alleen uitvoeren indien zowel jijzelf als de opdrachtgever redelijkerwijs mag aannemen dat jij  beschikt over de bekwaamheid, om de opdracht naar behoren uit te voeren&gt;dit houdt in handeling regelmatig moet doen om bekwaam te zijn, en laten beoordelen ( minimaal 1 x p.j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5" descr="http://www.con4m.nl/images/big_proces.JPG"/>
          <p:cNvPicPr/>
          <p:nvPr/>
        </p:nvPicPr>
        <p:blipFill>
          <a:blip r:embed="rId2"/>
          <a:stretch/>
        </p:blipFill>
        <p:spPr>
          <a:xfrm>
            <a:off x="6037200" y="765000"/>
            <a:ext cx="289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Verantwoordelijkhei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Wie in de gezondheidszorg werkt, is zel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antwoordelijk voor eigen aandeel m.b.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handelen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Ondersteuning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protocoll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ichtlijnen/aanwijzingen op schrif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rebuchet MS"/>
              </a:rPr>
              <a:t>bekwaamheidsverklaring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eeft aan welke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roepsbeoefenaar waar precies bekwaam 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skundig in i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Burgerlijk recht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echtsverhouding tussen burg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derling : patiënt en beroepsbeoefenaar (doktersassisten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Strafrecht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legen van een strafbaar feit, zoals toebre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ernstige schad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el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 hoe een intracutane injectie wordt gegev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hoe een subcutane injectie wordt gegev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hoe een intramusculaire injectie wordt gegeve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schrijven welke materialen je klaar legt, wanneer je iemand een injectie toedient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intracutane inject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(binnenkant) ondera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intramusculaire injectie in bil of bovenbe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geven van een subcutane injectie in bovenar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edicijn dient  door een arts voorgeschreven te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ij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lgens WIP is desinfecteren voorafga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an injecteren niet nodig, tenzij het e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atiënt met verminderde weerstand betre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rk de volgende vragen uit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1. Waar staat de afkorting wet BIG voo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2. Welk doel dient de wet BI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3. Wat houdt een voorbehouden en niet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voorbehouden handeling i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4. Valt  injecteren onder een voorbehouden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handelin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5.  Beschrijf 2 niet voorbehouden handelingen, die je als doktersassistent uit mag voere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6. Aan welke 4 voorwaarden moet je voldo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i="1" lang="nl-NL" sz="2000" spc="-1" strike="noStrike">
                <a:solidFill>
                  <a:srgbClr val="000000"/>
                </a:solidFill>
                <a:latin typeface="Trebuchet MS"/>
              </a:rPr>
              <a:t>als doktersassistent om een voorbehouden handeling uit te mogen voere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s het parenteraal, buiten het spijsverteringskana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m, toedienen van medicijn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deel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nel (meteen) resulta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Optie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rale medicatie niet of onvoldoende wordt opgenomen via spijsverteringskana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atiënt geen orale medicatie wil inn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edicatie alleen in injectievorm verkrijgba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Afbeelding 3" descr="injectie.jpg"/>
          <p:cNvPicPr/>
          <p:nvPr/>
        </p:nvPicPr>
        <p:blipFill>
          <a:blip r:embed="rId2"/>
          <a:stretch/>
        </p:blipFill>
        <p:spPr>
          <a:xfrm>
            <a:off x="5364000" y="1989000"/>
            <a:ext cx="2143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4 verschillende manieren van injectere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cutaan (i.c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cutaan (s.c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musculair (i.m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traveneus (i.v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check je van te vor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regel van 5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.juiste naam en geboortedatum van patiën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2.juiste medicijn (let op vervaldatum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3.juiste dos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4. juiste toedieningsv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5. juiste tijd en aantal k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in de huid evenwijdig aan de oppervlakte toegediend, met behulp van een dunne naald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de geïnjecteerde vloeistof zal zich heel langzaam door het lichaam verspreid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het lichaam laten reageren op een bepaalde stof, bijvoorbeeld:  allergietest, mantoux test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zeer lokaal effect van het geneesmiddel gewenst is, bijvoorbeeld: anesthesicu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jectieplaats: binnenkant onderarm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Afbeelding 4" descr="onderarm.jpg"/>
          <p:cNvPicPr/>
          <p:nvPr/>
        </p:nvPicPr>
        <p:blipFill>
          <a:blip r:embed="rId2"/>
          <a:stretch/>
        </p:blipFill>
        <p:spPr>
          <a:xfrm>
            <a:off x="755640" y="2997360"/>
            <a:ext cx="2000160" cy="1390320"/>
          </a:xfrm>
          <a:prstGeom prst="rect">
            <a:avLst/>
          </a:prstGeom>
          <a:ln w="0">
            <a:noFill/>
          </a:ln>
        </p:spPr>
      </p:pic>
      <p:pic>
        <p:nvPicPr>
          <p:cNvPr id="281" name="Tijdelijke aanduiding voor inhoud 3" descr="mantoux.jpg"/>
          <p:cNvPicPr/>
          <p:nvPr/>
        </p:nvPicPr>
        <p:blipFill>
          <a:blip r:embed="rId3"/>
          <a:stretch/>
        </p:blipFill>
        <p:spPr>
          <a:xfrm>
            <a:off x="4067280" y="2997360"/>
            <a:ext cx="206856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 het onderhuids vetweefsel toegedien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rebuchet MS"/>
              </a:rPr>
              <a:t>Twee methoden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Trebuchet MS"/>
              </a:rPr>
              <a:t>huidplooimethode (langere naald):</a:t>
            </a: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der 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oek van 45 graden in een opgenom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uidploo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oodrechtmethode (korte naald): onder 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oek van 90 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 loodrecht in de hu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geïnjecteerde vloeistof wordt langzaa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opgenomen, snelheid van opname tevens bepaald door locati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Injectieplaatsen (afwisselen bij frequent spuite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an de buitenkant van de bovena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 voor/zijkant van het bovenbe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in losse onderhuidse weefsel van de buikwand (buiten een omtrek van 5 cm van navel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oorbeelden injectievloeistof: fraxiparine ( luchtbel ni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erwijderen), Insul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Contra indicatie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eschadigde huid, ontstok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uid, hematoom, shunt, mamma amputat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met okselklier verwijder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 spierweefsel toegedie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de vloeistof wordt snel opgeno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annen van de hu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loodrecht metho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ntrole of je niet in een bloedvat zit, anders nieuwe spuit klaar mak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Voorbeelden: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riepspuit, Hydrocobamine,Dep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ove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4" descr="C:\Users\Rhea\Documents\intra.jpg"/>
          <p:cNvPicPr/>
          <p:nvPr/>
        </p:nvPicPr>
        <p:blipFill>
          <a:blip r:embed="rId2"/>
          <a:stretch/>
        </p:blipFill>
        <p:spPr>
          <a:xfrm>
            <a:off x="6084720" y="170028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jectieplaatse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in de bil geldt: de bovenste buitenste kwadrant van de bilsp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in het been geldt: de buitenzijde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van het middelste derde gedeelte 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( tussen knieschijf en lies)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an de bovenbeenspier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oor de arm geldt: bovenste derde gedeelte van de bovenarm aan de buitenzij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Afbeelding 3" descr="bil.jpg"/>
          <p:cNvPicPr/>
          <p:nvPr/>
        </p:nvPicPr>
        <p:blipFill>
          <a:blip r:embed="rId2"/>
          <a:stretch/>
        </p:blipFill>
        <p:spPr>
          <a:xfrm>
            <a:off x="5292720" y="5084640"/>
            <a:ext cx="18572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egel van 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ampul met watje afbrek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esinfecteren rubberen dop van flaco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uchtbellen aftikk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pzuignaald vervangen door insteeknaal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et op fixeren van conus tijdens injecte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check of je niet in bloedvat zit door terug te trekk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langzaam vloeistof in spui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loeistof niet koud inspui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nel naald in en uit  hui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zet de huls nooit terug op de naald, nadat je iemand geïnjecteerd heb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al gebruikte naalden nooit met de hand van de spuit af, maar doe dit met gebruik van naaldencontainer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4" descr="C:\Users\Rhea\Documents\notendop.jpg"/>
          <p:cNvPicPr/>
          <p:nvPr/>
        </p:nvPicPr>
        <p:blipFill>
          <a:blip r:embed="rId2"/>
          <a:stretch/>
        </p:blipFill>
        <p:spPr>
          <a:xfrm>
            <a:off x="6948360" y="112536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Kwaliteit van zorg is een kernbegrip in de gezondheidszorg. He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 en bewaken is een taak voor alle betrokkene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WGBO: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 Wet op geneeskundige behandelingsovereenkomst: beoogt waarborgen voor een betere rechtsbescherming van de patiënt te bieden Uitgangspunten: informatieplicht en toestemmingsvereiste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Wet BIG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et op beroepen in de individuele gezondheidszorg: stelt regels aan beroepsuitoefenin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Risico beperking door veilig en hygiënisch te werke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Goed mogelijk laten bloeden, gelijk uitspoelen met warm water of fysiologisch zout, desinfecteren huiddesinfectans ( jodium, alcohol 70 %, chloorhexidine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Noteer van de  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on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 alle beschikbare persoonlijke gegeve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meld een prikaccident  bij jouw leidinggevende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Tip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tel jezelf van te voren op de hoogte, bij de instell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aar je werkt, hoe om te gaan met prikaccidente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4" descr="C:\Users\Rhea\Documents\prikac.jpg"/>
          <p:cNvPicPr/>
          <p:nvPr/>
        </p:nvPicPr>
        <p:blipFill>
          <a:blip r:embed="rId2"/>
          <a:stretch/>
        </p:blipFill>
        <p:spPr>
          <a:xfrm>
            <a:off x="6875640" y="549360"/>
            <a:ext cx="17427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2815920"/>
          </a:xfrm>
          <a:prstGeom prst="rect">
            <a:avLst/>
          </a:prstGeom>
          <a:ln w="0">
            <a:noFill/>
          </a:ln>
        </p:spPr>
      </p:pic>
      <p:pic>
        <p:nvPicPr>
          <p:cNvPr id="235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3505320" y="3462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Trebuchet MS"/>
              </a:rPr>
              <a:t>De afkorting BIG staat voor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Wet op Beroepen in de Individuele Gezondheidszor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Trebuchet MS"/>
              </a:rPr>
              <a:t>Doel:  </a:t>
            </a: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De kwaliteit van de beroepsuitoefening t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 en te bewaken en de patiënt te bescherm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egen ondeskundig en onzorgvuldig handelen va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roepsbeoefenare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Om dit te bereiken zijn in de wet waarborgen opgenomen,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zoals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itelbeschermin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Registratie in het BIG registe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egdheidsregeling voorbehouden handelingen: gaat uit van opdrachtgever en opdrachtneme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Tuchtrecht: geldt voor 8 beroepsgroepen, tevens strafbepalingen in wet vastgelegd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Wet BIG heeft betrekking op de  individuele gezondheidszorg, d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Zorg gericht op de gezondheid van een bepaald persoon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Onder deze zorg wordt verstaan: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oordel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vorder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wak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bescherme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Trebuchet MS"/>
              </a:rPr>
              <a:t>herstellen van iemands gezondhei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Individuele gezondheidszorg omvat dus niet alleen geneeskundi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handelingen, maar ook verplegende en verzorgende handeling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3608280"/>
          </a:xfrm>
          <a:prstGeom prst="rect">
            <a:avLst/>
          </a:prstGeom>
          <a:ln w="0">
            <a:noFill/>
          </a:ln>
        </p:spPr>
      </p:pic>
      <p:pic>
        <p:nvPicPr>
          <p:cNvPr id="241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5229360" y="414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Voorbehouden handelingen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ingen, di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naanvaardbare risico</a:t>
            </a:r>
            <a:r>
              <a:rPr b="0" lang="ja-JP" sz="2000" spc="-1" strike="noStrike">
                <a:solidFill>
                  <a:srgbClr val="000000"/>
                </a:solidFill>
                <a:latin typeface="Trebuchet MS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s voor de gezondheid van 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Patiënt met zich meebrengen als ze door ondeskundi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worden uitgevoer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rebuchet MS"/>
              </a:rPr>
              <a:t>Niet voorbehouden handelingen: </a:t>
            </a: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andelingen 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het gebied van de individuele gezondheidszorg, geneeskundi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of niet geneeskundig, die niet op de in de wet genoemde lij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van voorbehouden handelingen voorkom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el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345000"/>
          </a:xfrm>
          <a:prstGeom prst="rect">
            <a:avLst/>
          </a:prstGeom>
          <a:ln w="0">
            <a:noFill/>
          </a:ln>
        </p:spPr>
      </p:pic>
      <p:pic>
        <p:nvPicPr>
          <p:cNvPr id="245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7662960" y="3789360"/>
            <a:ext cx="17715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hea Houtkruijer</cp:lastModifiedBy>
  <dcterms:modified xsi:type="dcterms:W3CDTF">2017-03-05T12:03:14Z</dcterms:modified>
  <cp:revision>49</cp:revision>
  <dc:subject/>
  <dc:title>Wet BIG</dc:title>
</cp:coreProperties>
</file>