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wmf" ContentType="image/x-wmf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C2BA-74C2-4AFB-988D-2E4D57B916A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5146-40FC-4584-B306-2EE2F9BD1276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1A7C-E247-41E1-A28A-AF579F17610A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08D3-F8B9-4291-A52E-62FED166AAB1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BA77-CB37-4CB4-BDB4-5299D8DC1AC3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814-5526-4385-A72B-3C67CD928753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FA8C-5074-40B4-B502-224325C8A3CA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620F-B949-4506-AB00-3F746B157EEB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AE1-666B-464B-8500-52BADBB28C8B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286-3A74-409C-831F-3C1A60B82B8E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6BBD-5323-4EA9-937A-55C98A11006D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232-1369-4DAC-9B8D-157926475827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2404-E570-4B21-ADC8-338B4E73AFDA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2F39-ACFF-43C4-82B8-0B7543370789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2BEB-A176-4DD9-A327-77F460633A1F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FB8-E167-4DD9-9E1A-B470F998DFEF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85EB-1091-4E59-B1A1-E0508FA3F577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AD63-74D3-435B-A381-D45DDAC0DC5D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2950-BACA-4D67-917D-D01D7483986C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E04C-A973-46FD-B7FB-0B71B0F008C6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42F3-A896-4568-B728-AD4699AB9103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D884-3E4D-41E5-BBBB-90F8C4F3EEEA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CEBB-8565-403E-A83D-7EE2E31AFE7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4F4C-7098-4D2D-87A3-D430FCFA69D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40FC-5F4C-45F1-95BB-39F4FF7B4E3F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171-ECB5-4BAA-9363-EC90A789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E73-F68A-404A-AB41-F62CB4C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392-26F6-4D09-A76F-BCFE9DD2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B88-E336-401F-8680-B1B71C6D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4126-89C4-4B50-93C4-00762FF3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84BC-0D60-4604-B681-54A32D2C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B706-29E8-4CE0-8785-76160A8B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5CE2-B556-4AA9-824E-F2AD6D87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43A3-A0DB-4741-AD8B-4EE6B7CD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32C6-63E3-463A-B5B2-4FE16974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56D7-5ADF-4569-9214-34655BF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E58-A46B-4FE3-BE52-9202EAB0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3B6E-2FFF-4DB2-B35B-7BD5616E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6716-7326-4A40-BAF4-6EC68FF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924C-7558-47D3-BA87-4BCA19A6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7C24-C511-4ACD-AC0D-BAE16EFD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3661-2E81-4F72-8163-966084C2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E44-BDBE-471C-B488-B6EFB5A7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452-FECB-48AA-86D8-9375659E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BB6-0642-4AE1-A438-66EBC03E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267-8BD5-458B-B182-55129247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08F-06FE-4EF7-AD73-E4828A6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602-30F2-453A-830F-477F454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9BF-F302-40E3-BA8A-D9CA4029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8B45-B513-44F0-9BA6-34F462367E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944-56F1-4D4F-B09C-6691C0BC071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uidinbeeld.nl/wratten/wratten-w4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br>
              <a:rPr sz="5400"/>
            </a:b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Dermatologi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oagul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gbra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ffectief, maar agress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ure apparatu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volwassen: verdo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kinderen: onder nar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Taak assistente het klaarleggen van benodigdheden elektrocauter  met hulpstukken , steriele gaasjes en onsteriele handschoenen huisarts. Na afloop evt. drukverband aanlegg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Verruca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xcochleatie:uitlepelen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n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doving/nar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ondgebied nadi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(soms) dichtgeschro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nodigdheden  steriel veld: zie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370301_02_th"/>
          <p:cNvPicPr/>
          <p:nvPr/>
        </p:nvPicPr>
        <p:blipFill>
          <a:blip r:embed="rId1"/>
          <a:stretch/>
        </p:blipFill>
        <p:spPr>
          <a:xfrm>
            <a:off x="6516720" y="2708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oel: Vaststellen op welke stof(fen) de patiënt allergis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reag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loedonderzoek: phadiatop/RAST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wijzing allergoloog: allergietest om specifiek allergeen o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te spo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iverse Methode’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picutaan: met injectienaald wordt een druppel vloeistof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et het allergeen, op de huid van ar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gebrach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Krasjestest”: met andere naald inkras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Intracutaan: vloeistof (met allergeen) direct in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spo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ide testen 12 allergenen ge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 20 min. allergische reactie afle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.d.h.v. omvang bu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loed nader onderzocht op antistoffen tegen bepaalde allergeen&gt; nog meer zekerheid aangeto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priktest"/>
          <p:cNvPicPr/>
          <p:nvPr/>
        </p:nvPicPr>
        <p:blipFill>
          <a:blip r:embed="rId1"/>
          <a:stretch/>
        </p:blipFill>
        <p:spPr>
          <a:xfrm>
            <a:off x="5472000" y="2571840"/>
            <a:ext cx="2819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leister/plakpro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huidkla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tonen van allergieën, voor stoffen waarmee de huid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ontact komt  (cosmetica/metal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26 stoffen ge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llergeen vermengd met vaseline of crè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fgedekt met ple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24/48/72 uur beoorde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ositieve test aangetoond: bij verharde rode plek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611760" y="257040"/>
            <a:ext cx="2054520" cy="244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611280" y="412920"/>
            <a:ext cx="2468520" cy="2136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700200" y="3941640"/>
            <a:ext cx="2214360" cy="179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2592360" cy="1960560"/>
          </a:xfrm>
          <a:prstGeom prst="rect">
            <a:avLst/>
          </a:prstGeom>
          <a:ln w="0">
            <a:noFill/>
          </a:ln>
        </p:spPr>
      </p:pic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 is een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zijn geleedpotige parasieten,die behoren tot de spinachti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 leven van het bloed van gewervelde dieren: ze bijten zich vast in de huid en laten zich na een bloedmaaltijd, die enige uren tot dagen duurt, weer vall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 kan bacterie Borrelia Burgdorferi bij zich dragen&gt;ziekte van Ly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be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549440" y="2165400"/>
            <a:ext cx="2025720" cy="286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5148360" y="1779480"/>
            <a:ext cx="2095560" cy="1695600"/>
          </a:xfrm>
          <a:prstGeom prst="rect">
            <a:avLst/>
          </a:prstGeom>
          <a:ln w="0">
            <a:noFill/>
          </a:ln>
        </p:spPr>
      </p:pic>
      <p:sp>
        <p:nvSpPr>
          <p:cNvPr id="166" name="Rechthoek 4"/>
          <p:cNvSpPr/>
          <p:nvPr/>
        </p:nvSpPr>
        <p:spPr>
          <a:xfrm flipV="1" rot="10800000">
            <a:off x="3634920" y="3198600"/>
            <a:ext cx="46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De rode huiduitslag (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erythema migrans)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, kan na een beet van een teek  ontstaan, en kenmerkend is voor de ziekte van Lyme. 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Behandeling : Antibiotica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67" name="Tijdelijke aanduiding voor voetteks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6177240"/>
          </a:xfrm>
          <a:prstGeom prst="rect">
            <a:avLst/>
          </a:prstGeom>
          <a:ln w="0">
            <a:noFill/>
          </a:ln>
        </p:spPr>
      </p:pic>
      <p:sp>
        <p:nvSpPr>
          <p:cNvPr id="17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Kennislij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wratten worden verwijde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schrijven hoe een teek verwijderd wor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hechtingen verwijderd w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een allergietest uitgevoerd wor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pinc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 teek kan goed worden verwijderd met behulp van een speciale tekenpincet. De pincet knijpt zichzelf vast, de teek kan dan voorzichtig uit de huid getrokken wo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Afbeelding 3" descr=""/>
          <p:cNvPicPr/>
          <p:nvPr/>
        </p:nvPicPr>
        <p:blipFill>
          <a:blip r:embed="rId1"/>
          <a:stretch/>
        </p:blipFill>
        <p:spPr>
          <a:xfrm>
            <a:off x="6516720" y="4040280"/>
            <a:ext cx="116208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666800" y="4040280"/>
            <a:ext cx="3457800" cy="2582640"/>
          </a:xfrm>
          <a:prstGeom prst="rect">
            <a:avLst/>
          </a:prstGeom>
          <a:ln w="0">
            <a:noFill/>
          </a:ln>
        </p:spPr>
      </p:pic>
      <p:sp>
        <p:nvSpPr>
          <p:cNvPr id="17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echtingen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081240" cy="2838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3816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echting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itch-c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hechtingssch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irurgische sch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oe te werk gaan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infecteer de w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k de hechting met een pincet vast bij de kn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icht deze iets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nip de hechting door zo dicht mogelijk op 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wijder de hechting om en o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Nog vrag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Vaardighedenlij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nodigdheden klaarleggen voor wratten uitlepelen/uitsn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Het verwijderen van een teek oef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Het verwijderen van hechtingen oef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Verrucae)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8007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at zijn wrat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heven, bloemkoolachtige en v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voelende  uitgroeisels van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eestal meerdere wratten tegelijkertij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wez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oorkeurplaats zijn handen en voe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Komen veel voor, meestal op kinderleeftijd (onvoldoende  immunitei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oedaar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http://plzcdn.com/upload/09db90308ca9ad12ca58e31e0c371d1dMzM0LmpwZw==.jpg"/>
          <p:cNvPicPr/>
          <p:nvPr/>
        </p:nvPicPr>
        <p:blipFill>
          <a:blip r:embed="rId1"/>
          <a:stretch/>
        </p:blipFill>
        <p:spPr>
          <a:xfrm>
            <a:off x="6300720" y="404640"/>
            <a:ext cx="247824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 Verrucae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oe ontstaan wrat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eroorzaakt door virus: Humane Papilloma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(HPV-vir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smettelijk: via zwembaden, sportschol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wondjes etc., niet iedereen gevoelig voo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cubatietijd: 3-6 maanden of l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pontane genezing: 2-3 j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 Verrucae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iverse soor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Verruca Vulg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wone w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ond, bloemkoolach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cherp begre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rke verhoo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stal meerd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ocatie: handen, knieë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llebogen, gela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8" descr="wratten"/>
          <p:cNvPicPr/>
          <p:nvPr/>
        </p:nvPicPr>
        <p:blipFill>
          <a:blip r:embed="rId1"/>
          <a:stretch/>
        </p:blipFill>
        <p:spPr>
          <a:xfrm>
            <a:off x="5003640" y="2492280"/>
            <a:ext cx="351504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Mozaïekwrat op hak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wratten-4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637000"/>
            <a:ext cx="5399280" cy="36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ryotherapie: Stikstof (N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inus 195 graden Celc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handelsessies: afhankelijk van grootte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locat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Nadeel: pijnlijk, blaarvorming/zw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igmentverschuiving bloeduitstort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infectiegevaar (zeldza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vliegt bij aanraking met zuurst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prayen of aanbrengen met wattenstok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Afbeelding 3" descr="stikstof.jpg"/>
          <p:cNvPicPr/>
          <p:nvPr/>
        </p:nvPicPr>
        <p:blipFill>
          <a:blip r:embed="rId1"/>
          <a:stretch/>
        </p:blipFill>
        <p:spPr>
          <a:xfrm>
            <a:off x="5651640" y="260280"/>
            <a:ext cx="283824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0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alicylzuur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oornverwekende we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deel: ets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scherming omliggende gezonde huid met zinkolie/ zalf of leukotap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 avonds aanbrengen en afdekken met pleister/leukotape: eenmaal per d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itte dode cellen wegschra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ffect: meestal na 3 ma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nochloorazijnzuur (MCA)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richloorazijnzuur (T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oor gebruik goed schud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arm ma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deel:ets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andschoenen en gaasje 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op wikk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Gezonde huid bescher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et vaseline/zinkol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irritatie, brandwond ontst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oordeel:op het mo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an behandeling pijnlo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 4 weken z.n. behandeling herh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Afbeelding 4" descr="images.jpg"/>
          <p:cNvPicPr/>
          <p:nvPr/>
        </p:nvPicPr>
        <p:blipFill>
          <a:blip r:embed="rId1"/>
          <a:stretch/>
        </p:blipFill>
        <p:spPr>
          <a:xfrm>
            <a:off x="4643280" y="18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Afbeelding 5" descr="images (1).jpg"/>
          <p:cNvPicPr/>
          <p:nvPr/>
        </p:nvPicPr>
        <p:blipFill>
          <a:blip r:embed="rId2"/>
          <a:stretch/>
        </p:blipFill>
        <p:spPr>
          <a:xfrm>
            <a:off x="6516720" y="189000"/>
            <a:ext cx="1609560" cy="17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2:11:28Z</dcterms:created>
  <dc:creator>Rhea</dc:creator>
  <dc:description/>
  <dc:language>en-US</dc:language>
  <cp:lastModifiedBy>Rhea Houtkruijer</cp:lastModifiedBy>
  <dcterms:modified xsi:type="dcterms:W3CDTF">2018-01-08T13:30:11Z</dcterms:modified>
  <cp:revision>29</cp:revision>
  <dc:subject/>
  <dc:title>Dermatologie</dc:title>
</cp:coreProperties>
</file>