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1.png" ContentType="image/png"/>
  <Override PartName="/ppt/media/image19.wmf" ContentType="image/x-wmf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E650-7E6B-4DE6-8FFB-3BEDA3CB1A0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45BE-35E2-400F-8AD1-D68F478A1A86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AC69-4508-473C-9F21-E5CF0A7BD6E9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6BB9-30B0-4475-ADD7-F1FE0D6D2EA1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85E4-66F6-42AC-89C7-6AF5F0D5D754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8A88-BE00-4060-B8A1-9C217EC5174F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17E3-6A3E-4A7B-B28E-A53910F614B6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2C49-A317-4650-B971-37E5D79B3302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3642-ADE5-4948-AFA5-0B3A22C3A014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917C-FDB8-45B3-802D-D45266994D0A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0CDF-7DEC-40EC-B456-2B90456B84F1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726D-788A-434F-BD8A-FC476B12A023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4379-1C14-43B0-B0B2-B3EAB6714835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6E78-E329-4FD0-85E7-A8EA0C767598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C37B-CA53-4FAD-BDE8-F9947FFA8DA8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8667-626A-4B15-861F-15154BD6C158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2A9E-6C40-4404-99EC-4C5BC5389929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F2B0-D93B-45F2-88C1-68E1BAD6A104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36F1-9685-45C2-B17F-CBF68AD6F401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0991-2F93-4504-9F87-FDE4046BF472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7DC5-5C87-46EE-81DF-E8DE25B765A4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401C-07C9-4D6A-B021-EBDAF26F950D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C010-C820-4645-82CC-E3851512426D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DD3E-5332-413D-A789-7DD7C3DF966F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7B4B-E67B-4213-9EC0-830C18095A7A}" type="slidenum">
              <a:rPr b="0" lang="nl-NL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B219-372B-4E51-AEA2-6F9A802F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AC00-2F9F-441C-8180-BFB1E196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FAA6-BC84-4A54-B891-F158644E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054D-3246-43E4-8ACC-0AB4D107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261C-D707-4B95-86CF-BFF266B7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42F7-DBC1-4A31-A179-DD76130B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56AB-A2EC-4447-91BF-EC22FF7F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275D-E52F-410E-8712-D8C90655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CFBE-764A-40A7-8276-77095FC2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88D6-8B26-4CB1-BC2C-4758919B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A905-7176-4423-8F76-26FD7EE0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4812-6624-4404-ACD1-91F56A14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BC15-5AB4-40B3-B05D-3A28049D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92FD-15C3-49D6-BB2D-9FAB9068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60BC-2E94-4BE6-97DB-BC10DC5D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8657-E3D0-4F67-BD5B-D682DF1C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F1BE-ADD0-473E-8ACE-DDA08FE2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6254-9B6D-46A0-AAC5-127FB5DE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5636-189E-4920-8475-335081A4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0D5A-DE90-44A8-A1BE-701003F6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C437-E60F-417D-8852-8A94BFED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D33A-5E0C-4B66-948C-FBBB0CAE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EA83-CCA8-4971-A84B-E5EA2F16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6AE9-125B-4055-86FC-BB3B290C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E526-8B28-4436-8B29-27D12FB8CB9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18D5-D020-436E-824F-4D7B7BB37C0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uidinbeeld.nl/wratten/wratten-w4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br>
              <a:rPr sz="5400"/>
            </a:br>
            <a:r>
              <a:rPr b="1" lang="nl-NL" sz="5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nl-NL" sz="5400" spc="-1" strike="noStrike">
                <a:solidFill>
                  <a:srgbClr val="ffffb7"/>
                </a:solidFill>
                <a:latin typeface="Arial Black"/>
              </a:rPr>
              <a:t>Dermatologi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Wratten(Verrucae)</a:t>
            </a:r>
            <a:br>
              <a:rPr sz="2800"/>
            </a:b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behandelingsmethoden: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Coagul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egbran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Effectief, maar agressi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Dure apparatu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ij volwassen: verdo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ij kinderen: onder narc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Taak assistente het klaarleggen van benodigdheden elektrocauter  met hulpstukken , steriele gaasjes en onsteriele handschoenen huisarts. Na afloop evt. drukverband aanlegg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Wratten (Verruca)</a:t>
            </a:r>
            <a:br>
              <a:rPr sz="2800"/>
            </a:b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behandelingsmethoden: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Excochleatie:uitlepelen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n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verdoving/narc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ondgebied nadi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(soms) dichtgeschro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enodigdheden  steriel veld: zie 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12" descr="370301_02_th"/>
          <p:cNvPicPr/>
          <p:nvPr/>
        </p:nvPicPr>
        <p:blipFill>
          <a:blip r:embed="rId1"/>
          <a:stretch/>
        </p:blipFill>
        <p:spPr>
          <a:xfrm>
            <a:off x="6516720" y="270828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2400" spc="-1" strike="noStrike">
                <a:solidFill>
                  <a:srgbClr val="ffffb7"/>
                </a:solidFill>
                <a:latin typeface="Verdana"/>
              </a:rPr>
              <a:t>Allergietest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Doel: Vaststellen op welke stof(fen) de patiënt allergisc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reage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loedonderzoek: phadiatop/RAST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Verwijzing allergoloog: allergietest om specifiek allergeen o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te spor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Verdana"/>
              </a:rPr>
              <a:t>Allergietest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Diverse Methode’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Epicutaan: met injectienaald wordt een druppel vloeistof,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met het allergeen, op de huid van arm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aangebracht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Krasjestest”: met andere naald inkrass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  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Intracutaan: vloeistof (met allergeen) direct in h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gespo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nl-NL" sz="2000" spc="-1" strike="noStrike">
                <a:solidFill>
                  <a:srgbClr val="ffffb7"/>
                </a:solidFill>
                <a:latin typeface="Verdana"/>
              </a:rPr>
              <a:t>Allergietest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Beide testen 12 allergenen ge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 20 min. allergische reactie afle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A.d.h.v. omvang bult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Bloed nader onderzocht op antistoffen tegen bepaalde allergeen&gt; nog meer zekerheid aangeto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priktest"/>
          <p:cNvPicPr/>
          <p:nvPr/>
        </p:nvPicPr>
        <p:blipFill>
          <a:blip r:embed="rId1"/>
          <a:stretch/>
        </p:blipFill>
        <p:spPr>
          <a:xfrm>
            <a:off x="5472000" y="2571840"/>
            <a:ext cx="281952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Verdana"/>
              </a:rPr>
              <a:t>Allergietest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Pleister/plakpro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ij huidklach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Aantonen van allergieën, voor stoffen waarmee de huid 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contact komt  (cosmetica/metal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26 stoffen ge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Allergeen vermengd met vaseline of crè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Afgedekt met pleis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24/48/72 uur beoordee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Positieve test aangetoond: bij verharde rode plek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eken verwijder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727280" y="4020840"/>
            <a:ext cx="6229440" cy="16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6611760" y="257040"/>
            <a:ext cx="2054520" cy="2449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611280" y="412920"/>
            <a:ext cx="2468520" cy="2136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700200" y="3941640"/>
            <a:ext cx="2214360" cy="1798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4"/>
          <a:stretch/>
        </p:blipFill>
        <p:spPr>
          <a:xfrm>
            <a:off x="6156360" y="3860640"/>
            <a:ext cx="2592360" cy="1960560"/>
          </a:xfrm>
          <a:prstGeom prst="rect">
            <a:avLst/>
          </a:prstGeom>
          <a:ln w="0">
            <a:noFill/>
          </a:ln>
        </p:spPr>
      </p:pic>
      <p:sp>
        <p:nvSpPr>
          <p:cNvPr id="15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eken verwijderen Bouke Cuperus 2014</a:t>
            </a:r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t is een Te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Tek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zijn geleedpotige parasieten,die behoren tot de spinachtig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ken leven van het bloed van gewervelde dieren: ze bijten zich vast in de huid en laten zich na een bloedmaaltijd, die enige uren tot dagen duurt, weer vall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ken kan bacterie Borrelia Burgdorferi bij zich dragen&gt;ziekte van Ly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eken verwijderen Bouke Cuperus 2014</a:t>
            </a:r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ekenbee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549440" y="2165400"/>
            <a:ext cx="2025720" cy="2867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5148360" y="1779480"/>
            <a:ext cx="2095560" cy="1695600"/>
          </a:xfrm>
          <a:prstGeom prst="rect">
            <a:avLst/>
          </a:prstGeom>
          <a:ln w="0">
            <a:noFill/>
          </a:ln>
        </p:spPr>
      </p:pic>
      <p:sp>
        <p:nvSpPr>
          <p:cNvPr id="166" name="Rechthoek 4"/>
          <p:cNvSpPr/>
          <p:nvPr/>
        </p:nvSpPr>
        <p:spPr>
          <a:xfrm flipV="1" rot="10800000">
            <a:off x="3634920" y="3198600"/>
            <a:ext cx="468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  <a:ea typeface="Arial"/>
              </a:rPr>
              <a:t>De rode huiduitslag (</a:t>
            </a:r>
            <a:r>
              <a:rPr b="0" i="1" lang="nl-NL" sz="1800" spc="-1" strike="noStrike">
                <a:solidFill>
                  <a:srgbClr val="ffffff"/>
                </a:solidFill>
                <a:latin typeface="Calibri"/>
                <a:ea typeface="Arial"/>
              </a:rPr>
              <a:t>erythema migrans)</a:t>
            </a:r>
            <a:r>
              <a:rPr b="0" lang="nl-NL" sz="1800" spc="-1" strike="noStrike">
                <a:solidFill>
                  <a:srgbClr val="ffffff"/>
                </a:solidFill>
                <a:latin typeface="Calibri"/>
                <a:ea typeface="Arial"/>
              </a:rPr>
              <a:t>, kan na een beet van een teek  ontstaan, en kenmerkend is voor de ziekte van Lyme. </a:t>
            </a:r>
            <a:endParaRPr b="0" lang="en-US" sz="18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Behandeling : Antibiotica</a:t>
            </a:r>
            <a:endParaRPr b="0" lang="en-US" sz="18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167" name="Tijdelijke aanduiding voor voettekst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eken verwijderen Bouke Cuperus 2014</a:t>
            </a:r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37720" y="1904760"/>
            <a:ext cx="8007480" cy="4190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8064360" cy="6177240"/>
          </a:xfrm>
          <a:prstGeom prst="rect">
            <a:avLst/>
          </a:prstGeom>
          <a:ln w="0">
            <a:noFill/>
          </a:ln>
        </p:spPr>
      </p:pic>
      <p:sp>
        <p:nvSpPr>
          <p:cNvPr id="171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eken verwijderen Bouke Cuperus 2014</a:t>
            </a:r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Kennislijn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eschrijven hoe wratten worden verwijde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eschrijven hoe een teek verwijderd word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eschrijven hoe hechtingen verwijderd word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eschrijven hoe een allergietest uitgevoerd word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ekenpince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Een teek kan goed worden verwijderd met behulp van een speciale tekenpincet. De pincet knijpt zichzelf vast, de teek kan dan voorzichtig uit de huid getrokken word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Afbeelding 3" descr=""/>
          <p:cNvPicPr/>
          <p:nvPr/>
        </p:nvPicPr>
        <p:blipFill>
          <a:blip r:embed="rId1"/>
          <a:stretch/>
        </p:blipFill>
        <p:spPr>
          <a:xfrm>
            <a:off x="6516720" y="4040280"/>
            <a:ext cx="1162080" cy="230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1666800" y="4040280"/>
            <a:ext cx="3457800" cy="2582640"/>
          </a:xfrm>
          <a:prstGeom prst="rect">
            <a:avLst/>
          </a:prstGeom>
          <a:ln w="0">
            <a:noFill/>
          </a:ln>
        </p:spPr>
      </p:pic>
      <p:sp>
        <p:nvSpPr>
          <p:cNvPr id="176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eken verwijderen Bouke Cuperus 2014</a:t>
            </a:r>
            <a:endParaRPr b="0" lang="en-US" sz="12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Hechtingen verwijder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3081240" cy="2838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2"/>
          <a:stretch/>
        </p:blipFill>
        <p:spPr>
          <a:xfrm>
            <a:off x="4572000" y="2421000"/>
            <a:ext cx="3816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Hechting verwijder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itch-cu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thechtingssch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hirurgische sch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Hoe te werk gaan.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sinfecteer de w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ak de hechting met een pincet vast bij de kn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icht deze iets 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Knip de hechting door zo dicht mogelijk op de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wijder de hechting om en om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Nog vragen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Vaardighedenlijn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enodigdheden klaarleggen voor wratten uitlepelen/uitsn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Het verwijderen van een teek oefe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Het verwijderen van hechtingen oefe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Wratten (Verrucae)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16280"/>
            <a:ext cx="80074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Wat zijn wratt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Verheven, bloemkoolachtige en v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aanvoelende  uitgroeisels van de h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Meestal meerdere wratten tegelijkertij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aanwez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Voorkeurplaats zijn handen en voe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Komen veel voor, meestal op kinderleeftijd (onvoldoende  immuniteit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Goedaard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http://plzcdn.com/upload/09db90308ca9ad12ca58e31e0c371d1dMzM0LmpwZw==.jpg"/>
          <p:cNvPicPr/>
          <p:nvPr/>
        </p:nvPicPr>
        <p:blipFill>
          <a:blip r:embed="rId1"/>
          <a:stretch/>
        </p:blipFill>
        <p:spPr>
          <a:xfrm>
            <a:off x="6300720" y="404640"/>
            <a:ext cx="2478240" cy="18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Wratten( Verrucae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Hoe ontstaan wratt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Veroorzaakt door virus: Humane Papillomavi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(HPV-viru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Besmettelijk: via zwembaden, sportschol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wondjes etc., niet iedereen gevoelig voo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Incubatietijd: 3-6 maanden of lan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Spontane genezing: 2-3 j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Wratten ( Verrucae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Diverse soort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Verruca Vulgar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wone wr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Rond, bloemkoolacht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cherp begren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terke verhoo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estal meerd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Locatie: handen, knieë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ellebogen, gela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8" descr="wratten"/>
          <p:cNvPicPr/>
          <p:nvPr/>
        </p:nvPicPr>
        <p:blipFill>
          <a:blip r:embed="rId1"/>
          <a:stretch/>
        </p:blipFill>
        <p:spPr>
          <a:xfrm>
            <a:off x="5003640" y="2492280"/>
            <a:ext cx="3515040" cy="15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Mozaïekwrat op hak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wratten-4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2637000"/>
            <a:ext cx="5399280" cy="36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Wratten(Verrucae)</a:t>
            </a:r>
            <a:br>
              <a:rPr sz="2800"/>
            </a:b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behandelingsmethoden: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Cryotherapie: Stikstof (N2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Minus 195 graden Celci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Behandelsessies: afhankelijk van grootte 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locati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Nadeel: pijnlijk, blaarvorming/zwe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Pigmentverschuiving bloeduitstorting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infectiegevaar (zeldzaa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Vervliegt bij aanraking met zuurst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Sprayen of aanbrengen met wattenstok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Afbeelding 3" descr="stikstof.jpg"/>
          <p:cNvPicPr/>
          <p:nvPr/>
        </p:nvPicPr>
        <p:blipFill>
          <a:blip r:embed="rId1"/>
          <a:stretch/>
        </p:blipFill>
        <p:spPr>
          <a:xfrm>
            <a:off x="5651640" y="260280"/>
            <a:ext cx="2838240" cy="16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Verdana"/>
              </a:rPr>
              <a:t>Wratten(Verrucae)</a:t>
            </a:r>
            <a:br>
              <a:rPr sz="2800"/>
            </a:br>
            <a:r>
              <a:rPr b="1" lang="nl-NL" sz="2000" spc="-1" strike="noStrike">
                <a:solidFill>
                  <a:srgbClr val="ffffb7"/>
                </a:solidFill>
                <a:latin typeface="Verdana"/>
              </a:rPr>
              <a:t>behandelingsmethoden: 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alicylzuur 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Hoornverwekende wer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deel: ets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Bescherming omliggende gezonde huid met zinkolie/ zalf of leukotap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 avonds aanbrengen en afdekken met pleister/leukotape: eenmaal per d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Witte dode cellen wegschra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Effect: meestal na 3 maan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Monochloorazijnzuur (MCA)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Trichloorazijnzuur (TC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Voor gebruik goed schud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Warm mak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deel:ets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handschoenen en gaasje o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dop wikk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Gezonde huid bescher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met vaseline/zinkol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irritatie, brandwond ontsta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Voordeel:op het mom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van behandeling pijnlo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 4 weken z.n. behandeling herha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Afbeelding 4" descr="images.jpg"/>
          <p:cNvPicPr/>
          <p:nvPr/>
        </p:nvPicPr>
        <p:blipFill>
          <a:blip r:embed="rId1"/>
          <a:stretch/>
        </p:blipFill>
        <p:spPr>
          <a:xfrm>
            <a:off x="4643280" y="18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38" name="Afbeelding 5" descr="images (1).jpg"/>
          <p:cNvPicPr/>
          <p:nvPr/>
        </p:nvPicPr>
        <p:blipFill>
          <a:blip r:embed="rId2"/>
          <a:stretch/>
        </p:blipFill>
        <p:spPr>
          <a:xfrm>
            <a:off x="6516720" y="189000"/>
            <a:ext cx="1609560" cy="1727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2:11:28Z</dcterms:created>
  <dc:creator>Rhea</dc:creator>
  <dc:description/>
  <dc:language>en-US</dc:language>
  <cp:lastModifiedBy>Rhea Houtkruijer</cp:lastModifiedBy>
  <dcterms:modified xsi:type="dcterms:W3CDTF">2018-01-08T13:30:11Z</dcterms:modified>
  <cp:revision>29</cp:revision>
  <dc:subject/>
  <dc:title>Dermatologie</dc:title>
</cp:coreProperties>
</file>