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9.wmf" ContentType="image/x-wmf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F6C7-76A8-40B6-8340-5259E694B11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4C49-9313-440D-81BB-01D59F4B2539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5760-0E75-4F81-A81B-300815B7C3EC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0AA4-E3A2-4395-AD64-42BE94B966A1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1751-83BD-43CA-9830-20A591894279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3042-65C2-4B50-93CA-D906D6E4C9E4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335A-3CC5-44CD-8FF9-C7F04F53894B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D118-8C11-46F6-9412-D8C78A45C6A7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AE0C-9331-4ECF-8905-2E8A128F37CE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C4B1-535E-4864-A825-4FFCA322E02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5806-1C19-45C1-B999-205EE2E1FE5C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1A78-2A4D-4585-9A8F-8E5FD1BFF477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331F-DA3D-4933-A740-AF346923149A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C15C-9F0B-4E79-92C2-8B1BB8A429E5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CF44-980C-4E25-A57B-2DE3EA96DB0D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6EB0-2834-45B2-A724-267CB3A4A3E6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56ED-AD29-4F00-83DD-62B0C71F59BA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2891-8B54-45B4-A723-0718111042EF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6203-B559-4B6D-8C06-20D2DA88F4A7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FB9D-44E9-4C47-BE85-425961659D9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B879-2CE0-40CD-96BC-47D94807CA00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4309-E595-4E40-A28E-ECF6EDB65BD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0FE8-99EF-40E8-848A-EBDDC69A7DDB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46A9-D41E-445A-8C7B-6EF4B67783B9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8B8C-2A4C-4B1C-AAA7-128B97A02094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F28-5140-4A45-B145-5AE555D2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FBE-E94E-430A-8313-E2F8E29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C30-5FCC-4A3B-92DA-BB26DDDE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091-7955-46A0-9C26-9D081FC1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7F67-D2B7-4E48-9A86-6A4A1D42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0BF3-98E9-499A-967D-42C8B82B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45F7-5081-45AE-B25F-F40DF187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691D-B619-4BA0-BB3F-970722D1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1E3B-B11C-4F1E-A1A1-795CD818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D6B2-D1BE-4757-80D9-ACACBF3B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AB52-21EB-48DB-88CE-0277F47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034-C037-47B1-ACAF-3BF61E6D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6400-2BE3-400A-9F5F-E836671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69A6-6E13-46DF-9644-113EAF0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6767-E127-4CD0-9834-4CCBA767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9BF0-2AB7-443C-8A50-936751CD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548A-AA46-47A0-AD77-7ED9B220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627-0FEC-407E-92B5-99EB686C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94C-AA02-4D22-8EFF-6FAAC411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3D3-EE99-4C82-93A5-135F2416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2AA-8D84-43AF-A910-FE3AA602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A45-223B-402E-912D-CF5E5EBB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FD8-544E-41F6-81A2-76BAAB8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567-D6CD-4321-BBB3-B352E0F3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C3D7-DA79-41E3-9B1A-8CFB64C557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FE48-65DF-4A3D-9374-E022B6A7568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uidinbeeld.nl/wratten/wratten-w4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br>
              <a:rPr sz="5400"/>
            </a:b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Dermatologi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oagul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gbra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ffectief, maar agress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ure apparatu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volwassen: verdo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kinderen: onder nar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Taak assistente het klaarleggen van benodigdheden elektrocauter  met hulpstukken , steriele gaasjes en onsteriele handschoenen huisarts. Na afloop evt. drukverband aanlegg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Verruca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xcochleatie:uitlepelen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n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doving/nar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ondgebied nadi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(soms) dichtgeschro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nodigdheden  steriel veld: zie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370301_02_th"/>
          <p:cNvPicPr/>
          <p:nvPr/>
        </p:nvPicPr>
        <p:blipFill>
          <a:blip r:embed="rId1"/>
          <a:stretch/>
        </p:blipFill>
        <p:spPr>
          <a:xfrm>
            <a:off x="6516720" y="2708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oel: Vaststellen op welke stof(fen) de patiënt allergis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reag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loedonderzoek: phadiatop/RAST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wijzing allergoloog: allergietest om specifiek allergeen o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te spo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iverse Methode’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picutaan: met injectienaald wordt een druppel vloeistof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et het allergeen, op de huid van arm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gebracht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Krasjestest”: met andere naald inkras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Intracutaan: vloeistof (met allergeen) direct in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spo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nl-NL" sz="20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ide testen 12 allergenen ge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 20 min. allergische reactie afle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.d.h.v. omvang bu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loed nader onderzocht op antistoffen tegen bepaalde allergeen&gt; nog meer zekerheid aangeto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priktest"/>
          <p:cNvPicPr/>
          <p:nvPr/>
        </p:nvPicPr>
        <p:blipFill>
          <a:blip r:embed="rId1"/>
          <a:stretch/>
        </p:blipFill>
        <p:spPr>
          <a:xfrm>
            <a:off x="5472000" y="2571840"/>
            <a:ext cx="28195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leister/plakpro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huidkla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tonen van allergieën, voor stoffen waarmee de huid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ontact komt  (cosmetica/metal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26 stoffen ge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llergeen vermengd met vaseline of crè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fgedekt met plei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24/48/72 uur beoorde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ositieve test aangetoond: bij verharde rode plek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611760" y="257040"/>
            <a:ext cx="2054520" cy="244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611280" y="412920"/>
            <a:ext cx="2468520" cy="2136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700200" y="3941640"/>
            <a:ext cx="2214360" cy="179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2592360" cy="1960560"/>
          </a:xfrm>
          <a:prstGeom prst="rect">
            <a:avLst/>
          </a:prstGeom>
          <a:ln w="0">
            <a:noFill/>
          </a:ln>
        </p:spPr>
      </p:pic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 is een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e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zijn geleedpotige parasieten,die behoren tot de spinachti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 leven van het bloed van gewervelde dieren: ze bijten zich vast in de huid en laten zich na een bloedmaaltijd, die enige uren tot dagen duurt, weer vall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 kan bacterie Borrelia Burgdorferi bij zich dragen&gt;ziekte van Ly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be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549440" y="2165400"/>
            <a:ext cx="2025720" cy="286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5148360" y="1779480"/>
            <a:ext cx="2095560" cy="1695600"/>
          </a:xfrm>
          <a:prstGeom prst="rect">
            <a:avLst/>
          </a:prstGeom>
          <a:ln w="0">
            <a:noFill/>
          </a:ln>
        </p:spPr>
      </p:pic>
      <p:sp>
        <p:nvSpPr>
          <p:cNvPr id="166" name="Rechthoek 4"/>
          <p:cNvSpPr/>
          <p:nvPr/>
        </p:nvSpPr>
        <p:spPr>
          <a:xfrm flipV="1" rot="10800000">
            <a:off x="3634920" y="3198600"/>
            <a:ext cx="46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De rode huiduitslag (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erythema migrans)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, kan na een beet van een teek  ontstaan, en kenmerkend is voor de ziekte van Lyme. </a:t>
            </a: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Behandeling : Antibiotica</a:t>
            </a: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67" name="Tijdelijke aanduiding voor voetteks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6177240"/>
          </a:xfrm>
          <a:prstGeom prst="rect">
            <a:avLst/>
          </a:prstGeom>
          <a:ln w="0">
            <a:noFill/>
          </a:ln>
        </p:spPr>
      </p:pic>
      <p:sp>
        <p:nvSpPr>
          <p:cNvPr id="17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Kennislij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wratten worden verwijde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schrijven hoe een teek verwijderd word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hechtingen verwijderd wo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een allergietest uitgevoerd word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pinc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en teek kan goed worden verwijderd met behulp van een speciale tekenpincet. De pincet knijpt zichzelf vast, de teek kan dan voorzichtig uit de huid getrokken word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Afbeelding 3" descr=""/>
          <p:cNvPicPr/>
          <p:nvPr/>
        </p:nvPicPr>
        <p:blipFill>
          <a:blip r:embed="rId1"/>
          <a:stretch/>
        </p:blipFill>
        <p:spPr>
          <a:xfrm>
            <a:off x="6516720" y="4040280"/>
            <a:ext cx="116208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666800" y="4040280"/>
            <a:ext cx="3457800" cy="2582640"/>
          </a:xfrm>
          <a:prstGeom prst="rect">
            <a:avLst/>
          </a:prstGeom>
          <a:ln w="0">
            <a:noFill/>
          </a:ln>
        </p:spPr>
      </p:pic>
      <p:sp>
        <p:nvSpPr>
          <p:cNvPr id="17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echtingen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081240" cy="2838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3816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echting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itch-c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hechtingssch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hirurgische sch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oe te werk gaan.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infecteer de w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k de hechting met een pincet vast bij de kn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icht deze iets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nip de hechting door zo dicht mogelijk op 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wijder de hechting om en o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Nog vrage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Vaardighedenlij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nodigdheden klaarleggen voor wratten uitlepelen/uitsn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Het verwijderen van een teek oef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Het verwijderen van hechtingen oef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Verrucae)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8007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at zijn wrat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heven, bloemkoolachtige en v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voelende  uitgroeisels van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eestal meerdere wratten tegelijkertij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wez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oorkeurplaats zijn handen en voe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Komen veel voor, meestal op kinderleeftijd (onvoldoende  immunitei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oedaar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http://plzcdn.com/upload/09db90308ca9ad12ca58e31e0c371d1dMzM0LmpwZw==.jpg"/>
          <p:cNvPicPr/>
          <p:nvPr/>
        </p:nvPicPr>
        <p:blipFill>
          <a:blip r:embed="rId1"/>
          <a:stretch/>
        </p:blipFill>
        <p:spPr>
          <a:xfrm>
            <a:off x="6300720" y="404640"/>
            <a:ext cx="247824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 Verrucae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Hoe ontstaan wrat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Veroorzaakt door virus: Humane Papilloma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(HPV-vir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smettelijk: via zwembaden, sportschol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wondjes etc., niet iedereen gevoelig voo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Incubatietijd: 3-6 maanden of la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pontane genezing: 2-3 j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 Verrucae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iverse soor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Verruca Vulg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wone wr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ond, bloemkoolach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cherp begre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rke verhoo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stal meerd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ocatie: handen, knieë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llebogen, gela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8" descr="wratten"/>
          <p:cNvPicPr/>
          <p:nvPr/>
        </p:nvPicPr>
        <p:blipFill>
          <a:blip r:embed="rId1"/>
          <a:stretch/>
        </p:blipFill>
        <p:spPr>
          <a:xfrm>
            <a:off x="5003640" y="2492280"/>
            <a:ext cx="351504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Mozaïekwrat op hak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wratten-4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637000"/>
            <a:ext cx="5399280" cy="36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ryotherapie: Stikstof (N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inus 195 graden Celc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handelsessies: afhankelijk van grootte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locat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Nadeel: pijnlijk, blaarvorming/zw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igmentverschuiving bloeduitstort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infectiegevaar (zeldza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vliegt bij aanraking met zuurst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prayen of aanbrengen met wattenstok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Afbeelding 3" descr="stikstof.jpg"/>
          <p:cNvPicPr/>
          <p:nvPr/>
        </p:nvPicPr>
        <p:blipFill>
          <a:blip r:embed="rId1"/>
          <a:stretch/>
        </p:blipFill>
        <p:spPr>
          <a:xfrm>
            <a:off x="5651640" y="260280"/>
            <a:ext cx="283824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0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alicylzuur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oornverwekende we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deel: ets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scherming omliggende gezonde huid met zinkolie/ zalf of leukotap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 avonds aanbrengen en afdekken met pleister/leukotape: eenmaal per d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itte dode cellen wegschra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ffect: meestal na 3 ma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nochloorazijnzuur (MCA)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richloorazijnzuur (T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oor gebruik goed schud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arm ma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deel:ets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andschoenen en gaasje 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op wikk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Gezonde huid bescher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et vaseline/zinkol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irritatie, brandwond ontst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oordeel:op het mo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an behandeling pijnlo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 4 weken z.n. behandeling herh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Afbeelding 4" descr="images.jpg"/>
          <p:cNvPicPr/>
          <p:nvPr/>
        </p:nvPicPr>
        <p:blipFill>
          <a:blip r:embed="rId1"/>
          <a:stretch/>
        </p:blipFill>
        <p:spPr>
          <a:xfrm>
            <a:off x="4643280" y="18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Afbeelding 5" descr="images (1).jpg"/>
          <p:cNvPicPr/>
          <p:nvPr/>
        </p:nvPicPr>
        <p:blipFill>
          <a:blip r:embed="rId2"/>
          <a:stretch/>
        </p:blipFill>
        <p:spPr>
          <a:xfrm>
            <a:off x="6516720" y="189000"/>
            <a:ext cx="1609560" cy="17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2:11:28Z</dcterms:created>
  <dc:creator>Rhea</dc:creator>
  <dc:description/>
  <dc:language>en-US</dc:language>
  <cp:lastModifiedBy>Rhea Houtkruijer</cp:lastModifiedBy>
  <dcterms:modified xsi:type="dcterms:W3CDTF">2018-01-08T13:30:11Z</dcterms:modified>
  <cp:revision>29</cp:revision>
  <dc:subject/>
  <dc:title>Dermatologie</dc:title>
</cp:coreProperties>
</file>