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9.png" ContentType="image/png"/>
  <Override PartName="/ppt/media/image30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16A5-AC45-4B04-85C2-0EEB40751E1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020C-7D3D-4BBB-9450-3A586EC4FB9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CE81-2D04-48B4-8431-CBAFF8DF227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484A-1521-4B27-A645-0C9B0EA97C3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6D45-BCA7-43F4-A527-64AF07CD173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9A10-07F9-42C4-9F2C-8E15F41C01A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80BF-51A6-4EA8-BB87-41B4E561D29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t BIG stelt voor 8 beroepen tuchtrecht in : instrument om kwaliteit van beroepsbeoefenaar te bevorderen en te bew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iviel recht is burgerlijk recht of wel privaatre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5125-500A-481F-BB14-F41F1E7CB87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5BCE-82B5-4B2C-8E71-0FC406FBC42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0F2E-EBE2-40D0-B5EB-9C7B8BC2751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E7D-422E-45D6-86A1-BF9E3FB10C8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F499-D44B-4B62-87D8-6B7489DA2FB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72BD-82FF-4C1B-A996-D6B4ECF61CF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E21E-DA1D-4333-B038-A3CC62DFD58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37A2-20F0-4A15-90BE-5B2C702A678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2619-5860-4C73-8DC0-CF95F89F3A2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694A-3303-47F6-B678-DA8EB3D8F4B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E243-236A-4084-A272-E61931D432B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51A0-CB52-45F3-BB3D-758DD5E6BF0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DC13-3096-4A9E-8F6D-46551C6EDBD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D304-56BA-4B2B-AA67-0DFBBBE34E6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E41C-EC55-4847-9499-C1ACDD38B50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F5D-D1FB-4FAB-9F81-729EBD29E0A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E75D-FDAF-47B5-A507-87FDE88D12C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EDAC-2ED5-4C33-8CDA-79E5913000E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8D4-3C98-41FA-90F0-1EDC66C58CD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0D7E-208C-4741-B7B0-A557A94EF35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ADF-ACDC-48DA-8C0E-99E9925F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ADC-13DD-4A1F-8E0B-271A92E9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ACF-4FDC-413C-8543-D1EC4934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21B-957A-4318-9EDE-D425A315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2E1A-0CB5-4220-9775-740DCF9C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C5B7-10C7-40FF-B00F-4AC07A0C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576F-6714-42C3-A79C-01116696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5DF2-07D2-4ED7-9479-958B9425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B638-07A1-46AA-8219-2DE3AD86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C62F-A5B4-424D-B510-B9ADCB00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C7D2-4760-4836-A682-1A434C3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D14-D531-42E7-BD62-F2E74EBC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8E4A-04B9-45C2-8D2D-7FB50A8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F9E7-24A0-44F0-8C48-EA4D90F0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0BCF-59F8-4000-8362-75FB6FBF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8AFF-759A-4807-8CBC-52FB7284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9FFA-7290-47B4-8204-6543D9B6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AC1B6-6EFC-4184-B4EE-8DABB3F6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CE1B-E860-4162-B1DE-889C5BEE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A8B9-1DB7-4032-BC8B-82439D98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1C22-401F-4B15-BAE8-B6174DC7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1538-45BE-4EF1-B6DC-089211E8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264-E7D0-459E-834E-6557415E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905C-0C8C-403E-8B0F-913151B9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7F7C-BBD6-49A7-AD13-716AA7B4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40D9-22C6-4375-9D10-90E1A4D6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C9B6-7BC7-4613-9BC1-F870B7D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1919-F58E-4D04-89EB-90BC8298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394F-8C63-4DDB-BFA7-5E1D99E7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5E31-08DF-41BA-AA6A-A12757E4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53F59-17FE-4483-9037-F5B48A15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0332-9E62-4A37-9493-E138B7B9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EC71-FA41-4E1F-AC36-7A596DB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00A-5F08-46DB-AEB3-E8D465FA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B7FB1-C16E-4002-BB02-B83E2E90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2DC2-763F-46BB-A6E3-F6B65DF7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6A3E-DF1F-469F-999D-6B09F5EC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6BD0-B03F-4607-85A7-11140854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4902-8FE4-4D8C-B717-183BD60F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7968-5220-4CBE-9122-57571EF4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CFE2-1F65-41CE-816D-E1C4DE8E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56782-1BF3-499C-B7BD-E2214740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97A4-5F77-4DA5-B8FB-E8B878EB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EBF1-5C9E-4E74-BC19-9C361534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65A-3256-4521-AD98-72057E00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F95B5-C33A-4C89-BE4D-8EC4A57F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170E-AB1F-4396-A479-85C7E2CF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0CCC-62F0-4977-8214-F43BF92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AC044-3478-4388-871D-1C81FEBB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A5329-CEB2-4830-ABC0-F0AFE58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8D8B7-A3DE-448A-A3A4-89FCA603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0E53D-C097-440B-A952-89F14E96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11727-CE78-4487-BB43-F0564ED8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D67B1-C624-418A-BD78-DEE0C25F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4D025-76A5-4348-8F89-361A42B4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79D-1111-4521-BFB7-CA838530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4EF42-8831-4D07-A2E3-490FE58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180-7566-4584-B19D-C306F9F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845-56C9-4D3E-8554-9D0E9C2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C31-0973-42E5-B9A0-91FADB51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CBEE-118E-4D6E-840F-F7D66D7A9A1C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867B-20F2-4869-9110-1FC27A5D43A7}" type="slidenum">
              <a:rPr b="0" lang="nl-NL" sz="11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7967-C031-48AB-ADBE-0EBD0852CA0D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D5F8-A216-43C0-8955-AF87C7096182}" type="slidenum">
              <a:rPr b="0" lang="nl-NL" sz="1100" spc="-1" strike="noStrike">
                <a:solidFill>
                  <a:srgbClr val="f4e7ed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F07-9C10-4FC8-A636-E4258FEF73D0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28" name="Tijdelijke aanduiding voor inhoud 3" descr="hhhh.jpg"/>
          <p:cNvPicPr/>
          <p:nvPr/>
        </p:nvPicPr>
        <p:blipFill>
          <a:blip r:embed="rId2"/>
          <a:stretch/>
        </p:blipFill>
        <p:spPr>
          <a:xfrm>
            <a:off x="4859280" y="4005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Afbeelding 4" descr="wet big.jpg"/>
          <p:cNvPicPr/>
          <p:nvPr/>
        </p:nvPicPr>
        <p:blipFill>
          <a:blip r:embed="rId3"/>
          <a:stretch/>
        </p:blipFill>
        <p:spPr>
          <a:xfrm>
            <a:off x="1332000" y="206064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el 3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557000"/>
            <a:ext cx="389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13 voorbehouden handelinge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elkundige handeli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loskundige handeli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Endoscopieë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Katheteris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ject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unc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arco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Kunstmatige fertilisat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tenenvergruiz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Gebruik van radioactieve stoffen en ioniserende stra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ardiovers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fibrill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Electroconvuls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4760640"/>
          </a:xfrm>
          <a:prstGeom prst="rect">
            <a:avLst/>
          </a:prstGeom>
          <a:ln w="0">
            <a:noFill/>
          </a:ln>
        </p:spPr>
      </p:pic>
      <p:pic>
        <p:nvPicPr>
          <p:cNvPr id="250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6581880" y="4149720"/>
            <a:ext cx="2562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el 4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waarden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 om voorbehouden handelingen 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pdrachtnemer uit te mogen voeren, indien ni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elfstandig bevoeg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skundi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kwa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 opdracht van en volgens aanwijzingen van zelfstandig bevoegde( niet voor elke handeling apart&gt;vastleggen in dossi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ogelijk tussenkomst van de arts (behalve bij griepvaccin en venapuntie alleen telefonisch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NBEKWAAM MAAKT ONBEVOEGD en is STRAFBAAR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elfstandig bevoeg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Tandarts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Verloskundig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 eigen gezag 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drachtgever, stel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indicatie en beslist om 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behandeling zelfstandi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uit te voer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11280" y="170028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iet zelfstandig bevoegd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pleegkundi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oktersassisten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jaardenverzorgen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lpen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iet nodig dat het beroe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.b.v. de WET BIG gerege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s, het zijn opdrachtnem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en altijd in opdrac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opdrachtgever. Stell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zelf geen diagnos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t BIG stelt de volgende voorwaarden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an de doktersassistente,  als niet zelfstandi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voegd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handelt in opdracht van een zelfstandig bevoeg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handelt overeenkomstig de aanwijzingen van de zelfstandig bevoeg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mag een voorbehouden handeling alleen uitvoeren indien zowel jijzelf als de opdrachtgever redelijkerwijs mag aannemen dat jij  beschikt over de bekwaamheid, om de opdracht naar behoren uit te voeren&gt;dit houdt in handeling regelmatig moet doen om bekwaam te zijn, en laten beoordelen ( minimaal 1 x p.j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5" descr="http://www.con4m.nl/images/big_proces.JPG"/>
          <p:cNvPicPr/>
          <p:nvPr/>
        </p:nvPicPr>
        <p:blipFill>
          <a:blip r:embed="rId2"/>
          <a:stretch/>
        </p:blipFill>
        <p:spPr>
          <a:xfrm>
            <a:off x="6037200" y="765000"/>
            <a:ext cx="289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Verantwoordelijkhei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Wie in de gezondheidszorg werkt, is zel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antwoordelijk voor eigen aandeel m.b.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handelen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Ondersteuning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protocoll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ichtlijnen/aanwijzingen op schrif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bekwaamheidsverklaring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eeft aan welke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roepsbeoefenaar waar precies bekwaam 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skundig in i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Burgerlijk recht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echtsverhouding tussen burg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derling : patiënt en beroepsbeoefenaar (doktersassisten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Strafrecht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legen van een strafbaar feit, zoals toebre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ernstige schad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el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 hoe een intracutane injectie wordt gegev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hoe een subcutane injectie wordt gegev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hoe een intramusculaire injectie wordt gegeve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welke materialen je klaar legt, wanneer je iemand een injectie toedient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intracutane inject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(binnenkant) ondera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intramusculaire injectie in bil of bovenb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subcutane injectie in bovenar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edicijn dient  door een arts voorgeschreven te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ij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lgens WIP is desinfecteren voorafga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an injecteren niet nodig, tenzij het e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atiënt met verminderde weerstand betre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rk de volgende vragen uit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1. Waar staat de afkorting wet BIG voo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2. Welk doel dient de wet BI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3. Wat houdt een voorbehouden en niet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voorbehouden handeling i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4. Valt  injecteren onder een voorbehouden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handelin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5.  Beschrijf 2 niet voorbehouden handelingen, die je als doktersassistent uit mag voere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6. Aan welke 4 voorwaarden moet je voldo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als doktersassistent om een voorbehouden handeling uit te mogen voere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s het parenteraal, buiten het spijsverteringskana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m, toedienen van medicijn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deel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nel (meteen) resulta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Optie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rale medicatie niet of onvoldoende wordt opgenomen via spijsverteringskana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atiënt geen orale medicatie wil inn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edicatie alleen in injectievorm verkrijgba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Afbeelding 3" descr="injectie.jpg"/>
          <p:cNvPicPr/>
          <p:nvPr/>
        </p:nvPicPr>
        <p:blipFill>
          <a:blip r:embed="rId2"/>
          <a:stretch/>
        </p:blipFill>
        <p:spPr>
          <a:xfrm>
            <a:off x="5364000" y="1989000"/>
            <a:ext cx="2143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4 verschillende manieren van injectere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cutaan (i.c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cutaan (s.c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musculair (i.m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veneus (i.v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check je van te vor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regel van 5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.juiste naam en geboortedatum van patiën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2.juiste medicijn (let op vervaldatum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3.juiste dos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4. juiste toedieningsv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5. juiste tijd en aantal k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in de huid evenwijdig aan de oppervlakte toegediend, met behulp van een dunne naald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de geïnjecteerde vloeistof zal zich heel langzaam door het lichaam verspreid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het lichaam laten reageren op een bepaalde stof, bijvoorbeeld:  allergietest, mantoux test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zeer lokaal effect van het geneesmiddel gewenst is, bijvoorbeeld: anesthesicu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jectieplaats: binnenkant onderarm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Afbeelding 4" descr="onderarm.jpg"/>
          <p:cNvPicPr/>
          <p:nvPr/>
        </p:nvPicPr>
        <p:blipFill>
          <a:blip r:embed="rId2"/>
          <a:stretch/>
        </p:blipFill>
        <p:spPr>
          <a:xfrm>
            <a:off x="755640" y="2997360"/>
            <a:ext cx="2000160" cy="1390320"/>
          </a:xfrm>
          <a:prstGeom prst="rect">
            <a:avLst/>
          </a:prstGeom>
          <a:ln w="0">
            <a:noFill/>
          </a:ln>
        </p:spPr>
      </p:pic>
      <p:pic>
        <p:nvPicPr>
          <p:cNvPr id="281" name="Tijdelijke aanduiding voor inhoud 3" descr="mantoux.jpg"/>
          <p:cNvPicPr/>
          <p:nvPr/>
        </p:nvPicPr>
        <p:blipFill>
          <a:blip r:embed="rId3"/>
          <a:stretch/>
        </p:blipFill>
        <p:spPr>
          <a:xfrm>
            <a:off x="4067280" y="2997360"/>
            <a:ext cx="206856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 het onderhuids vetweefsel toegedien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rebuchet MS"/>
              </a:rPr>
              <a:t>Twee methoden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Trebuchet MS"/>
              </a:rPr>
              <a:t>huidplooimethode (langere naald):</a:t>
            </a: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der 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oek van 45 graden in een opgenom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uidploo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oodrechtmethode (korte naald): onder 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oek van 90 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 loodrecht in de hu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geïnjecteerde vloeistof wordt langzaa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genomen, snelheid van opname tevens bepaald door locati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Injectieplaatsen (afwisselen bij frequent spuite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an de buitenkant van de bovena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 voor/zijkant van het bovenb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 losse onderhuidse weefsel van de buikwand (buiten een omtrek van 5 cm van navel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oorbeelden injectievloeistof: fraxiparine ( luchtbel ni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wijderen), Insul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Contra indicatie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schadigde huid, ontstok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uid, hematoom, shunt, mamma amputat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met okselklier verwijder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 spierweefsel toegedie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 vloeistof wordt snel opgeno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annen van de hu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loodrecht metho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ntrole of je niet in een bloedvat zit, anders nieuwe spuit klaar mak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beeld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riepspuit, Hydrocobamine,Dep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ove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4" descr="C:\Users\Rhea\Documents\intra.jpg"/>
          <p:cNvPicPr/>
          <p:nvPr/>
        </p:nvPicPr>
        <p:blipFill>
          <a:blip r:embed="rId2"/>
          <a:stretch/>
        </p:blipFill>
        <p:spPr>
          <a:xfrm>
            <a:off x="6084720" y="170028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jectieplaats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in de bil geldt: de bovenste buitenste kwadrant van de bilsp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in het been geldt: de buitenzijde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van het middelste derde gedeelte 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( tussen knieschijf en lies)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an de bovenbeenspier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de arm geldt: bovenste derde gedeelte van de bovenarm aan de buitenzij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Afbeelding 3" descr="bil.jpg"/>
          <p:cNvPicPr/>
          <p:nvPr/>
        </p:nvPicPr>
        <p:blipFill>
          <a:blip r:embed="rId2"/>
          <a:stretch/>
        </p:blipFill>
        <p:spPr>
          <a:xfrm>
            <a:off x="5292720" y="5084640"/>
            <a:ext cx="18572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egel van 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mpul met watje afbrek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sinfecteren rubberen dop van flaco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uchtbellen aftikk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pzuignaald vervangen door insteeknaa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et op fixeren van conus tijdens inject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heck of je niet in bloedvat zit door terug te trekk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angzaam vloeistof in spui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loeistof niet koud inspui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nel naald in en uit  hu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zet de huls nooit terug op de naald, nadat je iemand geïnjecteerd heb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al gebruikte naalden nooit met de hand van de spuit af, maar doe dit met gebruik van naaldencontaine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4" descr="C:\Users\Rhea\Documents\notendop.jpg"/>
          <p:cNvPicPr/>
          <p:nvPr/>
        </p:nvPicPr>
        <p:blipFill>
          <a:blip r:embed="rId2"/>
          <a:stretch/>
        </p:blipFill>
        <p:spPr>
          <a:xfrm>
            <a:off x="6948360" y="112536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Kwaliteit van zorg is een kernbegrip in de gezondheidszorg. He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 en bewaken is een taak voor alle betrokkene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WGBO: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 Wet op geneeskundige behandelingsovereenkomst: beoogt waarborgen voor een betere rechtsbescherming van de patiënt te bieden Uitgangspunten: informatieplicht en toestemmingsvereiste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Wet BIG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t op beroepen in de individuele gezondheidszorg: stelt regels aan beroepsuitoefeni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isico beperking door veilig en hygiënisch te werk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Goed mogelijk laten bloeden, gelijk uitspoelen met warm water of fysiologisch zout, desinfecteren huiddesinfectans ( jodium, alcohol 70 %, chloorhexidine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oteer van de 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on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 alle beschikbare persoonlijke gegeve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meld een prikaccident  bij jouw leidinggevende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Tip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tel jezelf van te voren op de hoogte, bij de instel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aar je werkt, hoe om te gaan met prikaccidente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4" descr="C:\Users\Rhea\Documents\prikac.jpg"/>
          <p:cNvPicPr/>
          <p:nvPr/>
        </p:nvPicPr>
        <p:blipFill>
          <a:blip r:embed="rId2"/>
          <a:stretch/>
        </p:blipFill>
        <p:spPr>
          <a:xfrm>
            <a:off x="6875640" y="549360"/>
            <a:ext cx="17427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2815920"/>
          </a:xfrm>
          <a:prstGeom prst="rect">
            <a:avLst/>
          </a:prstGeom>
          <a:ln w="0">
            <a:noFill/>
          </a:ln>
        </p:spPr>
      </p:pic>
      <p:pic>
        <p:nvPicPr>
          <p:cNvPr id="235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3505320" y="3462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Trebuchet MS"/>
              </a:rPr>
              <a:t>De afkorting BIG staat voor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Wet op Beroepen in de Individuele Gezondheidszor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Trebuchet MS"/>
              </a:rPr>
              <a:t>Doel:  </a:t>
            </a: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De kwaliteit van de beroepsuitoefening t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 en te bewaken en de patiënt te bescherm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egen ondeskundig en onzorgvuldig handelen va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roepsbeoefenare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Om dit te bereiken zijn in de wet waarborgen opgenomen,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zoals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itelbeschermin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Registratie in het BIG registe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egdheidsregeling voorbehouden handelingen: gaat uit van opdrachtgever en opdrachtneme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uchtrecht: geldt voor 8 beroepsgroepen, tevens strafbepalingen in wet vastgelegd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Wet BIG heeft betrekking op de  individuele gezondheidszorg, d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Zorg gericht op de gezondheid van een bepaald persoo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Onder deze zorg wordt verstaan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oordel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wak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scherm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herstellen van iemands gezondhei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Individuele gezondheidszorg omvat dus niet alleen geneeskundi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handelingen, maar ook verplegende en verzorgende handeling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3608280"/>
          </a:xfrm>
          <a:prstGeom prst="rect">
            <a:avLst/>
          </a:prstGeom>
          <a:ln w="0">
            <a:noFill/>
          </a:ln>
        </p:spPr>
      </p:pic>
      <p:pic>
        <p:nvPicPr>
          <p:cNvPr id="241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5229360" y="414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Voorbehouden handelingen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ingen, d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aanvaardbare risico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 voor de gezondheid van 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atiënt met zich meebrengen als ze door ondeskundi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orden uitgevoer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Niet voorbehouden handelingen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ingen 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t gebied van de individuele gezondheidszorg, geneeskundi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f niet geneeskundig, die niet op de in de wet genoemde lij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voorbehouden handelingen voorkom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345000"/>
          </a:xfrm>
          <a:prstGeom prst="rect">
            <a:avLst/>
          </a:prstGeom>
          <a:ln w="0">
            <a:noFill/>
          </a:ln>
        </p:spPr>
      </p:pic>
      <p:pic>
        <p:nvPicPr>
          <p:cNvPr id="245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7662960" y="3789360"/>
            <a:ext cx="17715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hea Houtkruijer</cp:lastModifiedBy>
  <dcterms:modified xsi:type="dcterms:W3CDTF">2017-03-05T12:03:14Z</dcterms:modified>
  <cp:revision>49</cp:revision>
  <dc:subject/>
  <dc:title>Wet BIG</dc:title>
</cp:coreProperties>
</file>