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0.png" ContentType="image/png"/>
  <Override PartName="/ppt/media/image27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9.png" ContentType="image/png"/>
  <Override PartName="/ppt/media/image30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12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png" ContentType="image/pn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D976-0077-46CC-BD74-08E0753DB4A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9BD9-28E6-4617-B9F4-6328BC2B63F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AF23-F2D5-4D72-9C57-AE081175E59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9073-6967-4314-9004-BF99426AFF5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EBDE-2637-4426-A763-6421E3C6F03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7537-F653-4235-88F6-1082344AE28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C507-D593-4849-9897-539FB101485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t BIG stelt voor 8 beroepen tuchtrecht in : instrument om kwaliteit van beroepsbeoefenaar te bevorderen en te bew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iviel recht is burgerlijk recht of wel privaatre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E347-A005-4B62-B904-E21DE86B9C1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C102-1CC4-47E5-8894-28578955CCE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CBA4-62B4-4902-8319-93DC0F93FEA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1B71-A24F-4967-AE5E-9FAEB0ECC4B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1F34-4228-467F-969D-13377033331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81F0-D0BE-4129-87C3-484026DF19F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7646-4AA7-4D48-97E5-DB3BF1593A9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D2D3-BDB7-447D-95E4-59AAF3DC3A0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60C6-0694-4094-9ABE-14B5D95B77D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50CE-D482-4631-9E4F-1E908F0D82F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3341-5C14-4914-93B2-46D2A45760D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62BE-59D3-44AF-BFCB-284E39B86AB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7F55-9EEC-4741-9765-5799E19DDC3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006B-3F73-4E49-8146-9D64D36774E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4C0A-2452-48F4-AD90-41EA3B9221F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3F01-32C8-41BF-BC4E-7430157DE48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BB3B-103A-4722-A66C-045FB14E654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F6F0-6EA6-4EF0-B98F-4C70F14E8A4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CCB1-2E24-457C-91AA-7D06AE81663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F325-EC0D-47AF-94F0-5FB95CFF799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987-706A-4E1D-9949-62A3A132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9AE-E81A-42FD-A08C-C1328FBC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7CC-473C-4931-8621-031560A4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C98-BC19-4037-B847-DF6D3055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0FD2-D515-4C60-886C-4ED9FC7E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20F5-B946-41C1-973C-B8FCDB46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71F1-C71C-4AA4-AD6E-BE83EAA8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DC74-658B-4A38-BFAB-07261F9C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30D8-B9F7-4899-855F-85864FAD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AF34-52FD-435E-A1EA-13AA533E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47E7-1C77-4C8E-B133-467904D7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B1E-FE0F-4B30-912F-D25259E7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C85A-0610-4427-99AE-F8A596D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4293-C64A-4E7D-8EDF-97E4ED00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4466-F013-4817-9EED-1F514041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D5E6-5D54-4931-882B-5C8A25DF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B0FF-6D9D-4EAB-862D-4D0DA5CE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5203-7CAC-45B5-9E6D-157D56B5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94313-600F-40DF-84D9-7EC52D25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90CA-01F6-49CF-9C0A-F9ADE1A9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AD8E4-20A3-4F2F-91C5-4CB81153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9A1C3-FF48-48CF-8764-C9B84851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D57-FEE3-4406-87F1-C24332CC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1084-006E-4255-ADDE-F429A688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6C791-4429-4A5F-AF11-3A3CFA10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7DCC-13AC-454E-A5B2-3F53BC00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6340-055D-4AD1-BA21-CB25DA87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FBDE0-C16C-4489-9B30-42983B01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A2772-348B-4F75-A09E-7699D147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167D-8417-4841-BA2C-E1D0E4EA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29CDA-9392-49E7-9945-91F74F1B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976B-0EAF-4E51-870C-027821EB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F690-D131-4AE9-A63E-0A2AE4CF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AFD-3749-4A58-90C2-9A91B00D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61031-325C-4AD9-B48C-E6122F7A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98A4C-E61B-4463-B59C-3841ACE7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A6337-4E78-4B5F-BB31-3416D939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1B82C-E298-45B0-A946-8A1775C7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98BD-E7C1-4810-B0AA-65CA491F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C83E8-0E4B-49DB-B898-1A8BA7F3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41FE8-F69E-4DFF-A0B7-8EA71197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E68AC-4D27-4DC9-897E-0E5DC4F2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E0AF6-AEE5-42D3-A0F3-6A17E773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A07C5-C460-409C-81F7-9CC17840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E33-CAD1-4189-9C6A-5B751F02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0C043-CCC3-43C1-A7D9-23158C39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85E22-F3F3-4232-AF36-E721FB5C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E89B-5C1A-4CF8-A9B8-03B0A01E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5DA6A-A89A-46C5-8297-015FC9E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F2B2C-D4DD-4C57-8FCB-6A4CD78D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4BF5-E90C-4C97-B5B9-2FE319AC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EDFB5-CEF3-4FE3-B163-45223C93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DCF9F-7319-41EA-B338-6FEFA53F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3DAF6-A63A-4D3C-8CF7-AA6CD714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C98BB-C16F-46FE-A1ED-2F3CA3F0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FD7-049A-458D-B05C-66E171DA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4B853-BBCE-4974-BE52-0AA89746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E7E-1792-4586-A66D-08408035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E24-8ADA-40B3-8A10-2E1CC18D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E7A-7131-4142-B87F-EE55E279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943D-CC7A-497F-9084-05517C21CE8E}" type="slidenum">
              <a:rPr b="0" lang="nl-NL" sz="1100" spc="-1" strike="noStrike">
                <a:solidFill>
                  <a:srgbClr val="b13f9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8770-137D-4D7D-83D4-0B97812323AD}" type="slidenum">
              <a:rPr b="0" lang="nl-NL" sz="11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B050-03C0-49BB-9A75-BE92C596327C}" type="slidenum">
              <a:rPr b="0" lang="nl-NL" sz="1100" spc="-1" strike="noStrike">
                <a:solidFill>
                  <a:srgbClr val="b13f9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FC4C-40D7-4026-A1DC-2CCDCB212622}" type="slidenum">
              <a:rPr b="0" lang="nl-NL" sz="1100" spc="-1" strike="noStrike">
                <a:solidFill>
                  <a:srgbClr val="f4e7ed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D8B2-906F-4A80-8EE8-F2A0219DC507}" type="slidenum">
              <a:rPr b="0" lang="nl-NL" sz="1100" spc="-1" strike="noStrike">
                <a:solidFill>
                  <a:srgbClr val="b13f9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228" name="Tijdelijke aanduiding voor inhoud 3" descr="hhhh.jpg"/>
          <p:cNvPicPr/>
          <p:nvPr/>
        </p:nvPicPr>
        <p:blipFill>
          <a:blip r:embed="rId2"/>
          <a:stretch/>
        </p:blipFill>
        <p:spPr>
          <a:xfrm>
            <a:off x="4859280" y="4005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29" name="Afbeelding 4" descr="wet big.jpg"/>
          <p:cNvPicPr/>
          <p:nvPr/>
        </p:nvPicPr>
        <p:blipFill>
          <a:blip r:embed="rId3"/>
          <a:stretch/>
        </p:blipFill>
        <p:spPr>
          <a:xfrm>
            <a:off x="1332000" y="206064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el 3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557000"/>
            <a:ext cx="389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13 voorbehouden handelinge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eelkundige handeli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erloskundige handeli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Endoscopieë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Katheteris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nject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Punc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arco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Kunstmatige fertilisat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tenenvergruiz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Gebruik van radioactieve stoffen en ioniserende stral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Cardiovers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efibrill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Electroconvuls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4760640"/>
          </a:xfrm>
          <a:prstGeom prst="rect">
            <a:avLst/>
          </a:prstGeom>
          <a:ln w="0">
            <a:noFill/>
          </a:ln>
        </p:spPr>
      </p:pic>
      <p:pic>
        <p:nvPicPr>
          <p:cNvPr id="250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6581880" y="4149720"/>
            <a:ext cx="25621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el 4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Voorwaarden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 om voorbehouden handelingen 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pdrachtnemer uit te mogen voeren, indien ni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elfstandig bevoeg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deskundi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kwaa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 opdracht van en volgens aanwijzingen van zelfstandig bevoegde( niet voor elke handeling apart&gt;vastleggen in dossi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ogelijk tussenkomst van de arts (behalve bij griepvaccin en venapuntie alleen telefonisch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NBEKWAAM MAAKT ONBEVOEGD en is STRAFBAAR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Zelfstandig bevoegd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Ar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Tandarts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Verloskundig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Op eigen gezag i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opdrachtgever, stel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indicatie en beslist om 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behandeling zelfstandi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uit te voer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11280" y="170028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iet zelfstandig bevoegd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erpleegkundi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oktersassisten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ejaardenverzorgen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elpen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iet nodig dat het beroe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.b.v. de WET BIG geregel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s, het zijn opdrachtnem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ndelen altijd in opdrac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an opdrachtgever. Stell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zelf geen diagnos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et BIG stelt de volgende voorwaarden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Aan de doktersassistente,  als niet zelfstandi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evoegd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je handelt in opdracht van een zelfstandig bevoeg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je handelt overeenkomstig de aanwijzingen van de zelfstandig bevoeg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je mag een voorbehouden handeling alleen uitvoeren indien zowel jijzelf als de opdrachtgever redelijkerwijs mag aannemen dat jij  beschikt over de bekwaamheid, om de opdracht naar behoren uit te voeren&gt;dit houdt in handeling regelmatig moet doen om bekwaam te zijn, en laten beoordelen ( minimaal 1 x p.j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5" descr="http://www.con4m.nl/images/big_proces.JPG"/>
          <p:cNvPicPr/>
          <p:nvPr/>
        </p:nvPicPr>
        <p:blipFill>
          <a:blip r:embed="rId2"/>
          <a:stretch/>
        </p:blipFill>
        <p:spPr>
          <a:xfrm>
            <a:off x="6037200" y="765000"/>
            <a:ext cx="289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rebuchet MS"/>
              </a:rPr>
              <a:t>Verantwoordelijkhei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Wie in de gezondheidszorg werkt, is zel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erantwoordelijk voor eigen aandeel m.b.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handelen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Ondersteuning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rebuchet MS"/>
              </a:rPr>
              <a:t>protocollen: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ichtlijnen/aanwijzingen op schrif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rebuchet MS"/>
              </a:rPr>
              <a:t>bekwaamheidsverklaringen: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eeft aan welke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roepsbeoefenaar waar precies bekwaam 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deskundig in i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Burgerlijk recht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rechtsverhouding tussen burg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nderling : patiënt en beroepsbeoefenaar (doktersassisten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Strafrecht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plegen van een strafbaar feit, zoals toebre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an ernstige schad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el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 hoe een intracutane injectie wordt gegev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hoe een subcutane injectie wordt gegev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hoe een intramusculaire injectie wordt gegeve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welke materialen je klaar legt, wanneer je iemand een injectie toedient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geven van een intracutane inject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 (binnenkant) ondera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geven van een intramusculaire injectie in bil of bovenbe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geven van een subcutane injectie in bovenar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edicijn dient  door een arts voorgeschreven te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ij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lgens WIP is desinfecteren voorafgaa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an injecteren niet nodig, tenzij het e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atiënt met verminderde weerstand betre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erk de volgende vragen uit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1. Waar staat de afkorting wet BIG voo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2. Welk doel dient de wet BIG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3. Wat houdt een voorbehouden en niet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voorbehouden handeling i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4. Valt  injecteren onder een voorbehouden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handeling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5.  Beschrijf 2 niet voorbehouden handelingen, die je als doktersassistent uit mag voere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6. Aan welke 4 voorwaarden moet je voldo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als doktersassistent om een voorbehouden handeling uit te mogen voere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s het parenteraal, buiten het spijsverteringskana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m, toedienen van medicijn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Voordeel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nel (meteen) resulta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Optie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rale medicatie niet of onvoldoende wordt opgenomen via spijsverteringskana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atiënt geen orale medicatie wil inne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edicatie alleen in injectievorm verkrijgba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Afbeelding 3" descr="injectie.jpg"/>
          <p:cNvPicPr/>
          <p:nvPr/>
        </p:nvPicPr>
        <p:blipFill>
          <a:blip r:embed="rId2"/>
          <a:stretch/>
        </p:blipFill>
        <p:spPr>
          <a:xfrm>
            <a:off x="5364000" y="1989000"/>
            <a:ext cx="21434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4 verschillende manieren van injectere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tracutaan (i.c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ubcutaan (s.c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tramusculair (i.m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traveneus (i.v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check je van te vor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regel van 5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1.juiste naam en geboortedatum van patiën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2.juiste medicijn (let op vervaldatum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3.juiste dos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4. juiste toedieningsvo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5. juiste tijd en aantal k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in de huid evenwijdig aan de oppervlakte toegediend, met behulp van een dunne naald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de geïnjecteerde vloeistof zal zich heel langzaam door het lichaam verspreid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het lichaam laten reageren op een bepaalde stof, bijvoorbeeld:  allergietest, mantoux test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zeer lokaal effect van het geneesmiddel gewenst is, bijvoorbeeld: anesthesicu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jectieplaats: binnenkant onderarm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Afbeelding 4" descr="onderarm.jpg"/>
          <p:cNvPicPr/>
          <p:nvPr/>
        </p:nvPicPr>
        <p:blipFill>
          <a:blip r:embed="rId2"/>
          <a:stretch/>
        </p:blipFill>
        <p:spPr>
          <a:xfrm>
            <a:off x="755640" y="2997360"/>
            <a:ext cx="2000160" cy="1390320"/>
          </a:xfrm>
          <a:prstGeom prst="rect">
            <a:avLst/>
          </a:prstGeom>
          <a:ln w="0">
            <a:noFill/>
          </a:ln>
        </p:spPr>
      </p:pic>
      <p:pic>
        <p:nvPicPr>
          <p:cNvPr id="281" name="Tijdelijke aanduiding voor inhoud 3" descr="mantoux.jpg"/>
          <p:cNvPicPr/>
          <p:nvPr/>
        </p:nvPicPr>
        <p:blipFill>
          <a:blip r:embed="rId3"/>
          <a:stretch/>
        </p:blipFill>
        <p:spPr>
          <a:xfrm>
            <a:off x="4067280" y="2997360"/>
            <a:ext cx="206856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n het onderhuids vetweefsel toegedien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rebuchet MS"/>
              </a:rPr>
              <a:t>Twee methoden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Trebuchet MS"/>
              </a:rPr>
              <a:t>huidplooimethode (langere naald):</a:t>
            </a: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nder e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oek van 45 graden in een opgenom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uidploo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oodrechtmethode (korte naald): onder e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oek van 90 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rebuchet MS"/>
              </a:rPr>
              <a:t>0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C loodrecht in de hu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geïnjecteerde vloeistof wordt langzaa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opgenomen, snelheid van opname tevens bepaald door locati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Injectieplaatsen (afwisselen bij frequent spuite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aan de buitenkant van de bovena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e voor/zijkant van het bovenbe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n losse onderhuidse weefsel van de buikwand (buiten een omtrek van 5 cm van navel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oorbeelden injectievloeistof: fraxiparine ( luchtbel ni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erwijderen), Insuli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Contra indicatie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eschadigde huid, ontstok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uid, hematoom, shunt, mamma amputat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met okselklier verwijder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 spierweefsel toegedien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de vloeistof wordt snel opgeno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pannen van de hu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loodrecht metho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ontrole of je niet in een bloedvat zit, anders nieuwe spuit klaar mak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Voorbeelden: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riepspuit, Hydrocobamine,Dep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over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4" descr="C:\Users\Rhea\Documents\intra.jpg"/>
          <p:cNvPicPr/>
          <p:nvPr/>
        </p:nvPicPr>
        <p:blipFill>
          <a:blip r:embed="rId2"/>
          <a:stretch/>
        </p:blipFill>
        <p:spPr>
          <a:xfrm>
            <a:off x="6084720" y="170028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jectieplaatse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oor in de bil geldt: de bovenste buitenste kwadrant van de bilspi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oor in het been geldt: de buitenzijde</a:t>
            </a: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van het middelste derde gedeelte </a:t>
            </a: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( tussen knieschijf en lies)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an de bovenbeenspier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oor de arm geldt: bovenste derde gedeelte van de bovenarm aan de buitenzij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Afbeelding 3" descr="bil.jpg"/>
          <p:cNvPicPr/>
          <p:nvPr/>
        </p:nvPicPr>
        <p:blipFill>
          <a:blip r:embed="rId2"/>
          <a:stretch/>
        </p:blipFill>
        <p:spPr>
          <a:xfrm>
            <a:off x="5292720" y="5084640"/>
            <a:ext cx="18572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regel van 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ampul met watje afbrek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esinfecteren rubberen dop van flaco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uchtbellen aftikke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pzuignaald vervangen door insteeknaal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et op fixeren van conus tijdens inject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check of je niet in bloedvat zit door terug te trekke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angzaam vloeistof in spui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loeistof niet koud inspui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nel naald in en uit  hu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zet de huls nooit terug op de naald, nadat je iemand geïnjecteerd heb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al gebruikte naalden nooit met de hand van de spuit af, maar doe dit met gebruik van naaldencontaine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4" descr="C:\Users\Rhea\Documents\notendop.jpg"/>
          <p:cNvPicPr/>
          <p:nvPr/>
        </p:nvPicPr>
        <p:blipFill>
          <a:blip r:embed="rId2"/>
          <a:stretch/>
        </p:blipFill>
        <p:spPr>
          <a:xfrm>
            <a:off x="6948360" y="112536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Kwaliteit van zorg is een kernbegrip in de gezondheidszorg. Het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rderen en bewaken is een taak voor alle betrokkene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WGBO: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 Wet op geneeskundige behandelingsovereenkomst: beoogt waarborgen voor een betere rechtsbescherming van de patiënt te bieden Uitgangspunten: informatieplicht en toestemmingsvereiste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Wet BIG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et op beroepen in de individuele gezondheidszorg: stelt regels aan beroepsuitoefening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Risico beperking door veilig en hygiënisch te werke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Goed mogelijk laten bloeden, gelijk uitspoelen met warm water of fysiologisch zout, desinfecteren huiddesinfectans ( jodium, alcohol 70 %, chloorhexidine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oteer van de  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ron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 alle beschikbare persoonlijke gegeve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meld een prikaccident  bij jouw leidinggevende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Tip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tel jezelf van te voren op de hoogte, bij de instell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aar je werkt, hoe om te gaan met prikaccidente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Picture 4" descr="C:\Users\Rhea\Documents\prikac.jpg"/>
          <p:cNvPicPr/>
          <p:nvPr/>
        </p:nvPicPr>
        <p:blipFill>
          <a:blip r:embed="rId2"/>
          <a:stretch/>
        </p:blipFill>
        <p:spPr>
          <a:xfrm>
            <a:off x="6875640" y="549360"/>
            <a:ext cx="174276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2815920"/>
          </a:xfrm>
          <a:prstGeom prst="rect">
            <a:avLst/>
          </a:prstGeom>
          <a:ln w="0">
            <a:noFill/>
          </a:ln>
        </p:spPr>
      </p:pic>
      <p:pic>
        <p:nvPicPr>
          <p:cNvPr id="235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3505320" y="3462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Trebuchet MS"/>
              </a:rPr>
              <a:t>De afkorting BIG staat voor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Wet op Beroepen in de Individuele Gezondheidszorg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Trebuchet MS"/>
              </a:rPr>
              <a:t>Doel:  </a:t>
            </a: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De kwaliteit van de beroepsuitoefening t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rderen en te bewaken en de patiënt te bescherm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tegen ondeskundig en onzorgvuldig handelen va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roepsbeoefenare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Om dit te bereiken zijn in de wet waarborgen opgenomen,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zoals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Titelbescherming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Registratie in het BIG register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egdheidsregeling voorbehouden handelingen: gaat uit van opdrachtgever en opdrachtnemer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Tuchtrecht: geldt voor 8 beroepsgroepen, tevens strafbepalingen in wet vastgelegd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Wet BIG heeft betrekking op de  individuele gezondheidszorg, d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Zorg gericht op de gezondheid van een bepaald persoo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Onder deze zorg wordt verstaan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oordel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rder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wak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scherm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herstellen van iemands gezondhei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Individuele gezondheidszorg omvat dus niet alleen geneeskundi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handelingen, maar ook verplegende en verzorgende handeling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3608280"/>
          </a:xfrm>
          <a:prstGeom prst="rect">
            <a:avLst/>
          </a:prstGeom>
          <a:ln w="0">
            <a:noFill/>
          </a:ln>
        </p:spPr>
      </p:pic>
      <p:pic>
        <p:nvPicPr>
          <p:cNvPr id="241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5229360" y="4149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Voorbehouden handelingen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ndelingen, d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naanvaardbare risico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 voor de gezondheid van 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Patiënt met zich meebrengen als ze door ondeskundi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orden uitgevoer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Niet voorbehouden handelingen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ndelingen o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et gebied van de individuele gezondheidszorg, geneeskundig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f niet geneeskundig, die niet op de in de wet genoemde lij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an voorbehouden handelingen voorkom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345000"/>
          </a:xfrm>
          <a:prstGeom prst="rect">
            <a:avLst/>
          </a:prstGeom>
          <a:ln w="0">
            <a:noFill/>
          </a:ln>
        </p:spPr>
      </p:pic>
      <p:pic>
        <p:nvPicPr>
          <p:cNvPr id="245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7662960" y="3789360"/>
            <a:ext cx="17715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hea Houtkruijer</cp:lastModifiedBy>
  <dcterms:modified xsi:type="dcterms:W3CDTF">2017-03-05T12:03:14Z</dcterms:modified>
  <cp:revision>49</cp:revision>
  <dc:subject/>
  <dc:title>Wet BIG</dc:title>
</cp:coreProperties>
</file>