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FCF-E90B-4496-97CF-93A02FF3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F27-99A7-4F9E-8C17-FF2E8238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DE0C-B15B-4C49-853B-956CDB19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86BD-7396-4850-BC46-50239CE9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6F35-16D7-41DB-84B7-183BCDCA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4703-2479-4EF0-934B-60C757F3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21EF-0405-4B72-889A-310FE9FA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2FB2-0AD2-43FD-954D-B09A08DC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07E4-0183-4D4B-AC0B-AE5716D2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BDD7-4DBE-4C37-BF8D-77FC951F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9D5A-63D8-4414-B9DA-6A082982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EE8-6263-47BE-9FA1-EFB8351E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FEE2-D307-42C9-9761-BDF21A46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7B63-BC01-41D0-95B2-CD490D51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F20C-8141-4916-8F06-C80E95BA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8F0C-F33B-4A08-BAFC-1BAF7C31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C2BD-8421-4B8D-B623-4C99C1BE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B4C8E-82DD-40DE-89FE-8C547574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CDE59-F31D-487E-960F-C6BA9F30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C1264-53FA-4094-BA2E-283CF9E1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A8AE4-334D-4F31-AACC-3A063999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62D03-7DF5-4078-A34B-C8D3E6E0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7E1-ADA2-47FC-9A60-E5DB44D2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1CD82-C5C9-4F79-9E99-5B7BB891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B1AE1-BD44-4517-B640-24CB3536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0B6AD-D194-4D3F-94C3-2553EC74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62822-21A0-4BC1-A42E-9AB6B071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6EA2D-D7E2-4EC8-958D-BBEC0765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2C3E9-2AC3-4187-BB19-D2A12FFA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81637-6193-4FF0-A7AA-153A3831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0920C-8E77-4D55-BF03-8DBFE626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C8F86-000B-41CA-8B8D-26618ED8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E823C-122F-4432-817A-2D8119FC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8857-5219-4090-A84D-E98DD605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46C7E-7E47-4885-96BE-7732F822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8DED7-FC28-46E7-8210-A7717652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D634E-DAD5-4535-9B40-F7F1F57B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1367E-79B2-4340-9AED-93443393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0C110-5496-41E7-A730-67A3959A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CC802-C7C0-4CB1-8A09-A614F089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F7811-242B-4DFF-9572-9C3A36F4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DEA5E-996A-4676-977C-7EF0FC3E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09033-42BB-4BEB-ACF3-7C85AC17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45B3-8920-4CF9-96D2-1FAE946D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941-E4AE-4524-92D9-7EF82D2A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63A-1274-4882-9CD1-B4863ECF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9C5-2630-415A-8D99-3DCE33A9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B970-22F9-4338-A4F6-36DBE21A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DAA07-0454-47CD-A64C-48AE0646119B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E3401-B14C-40D7-BDEC-3343FC76BD2C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737BC-A5E7-4585-9488-164D1B57E73D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33B36-A532-421C-B6C4-7411A9868718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Benigne en maligne tumoren</a:t>
            </a:r>
            <a:br>
              <a:rPr sz="7200"/>
            </a:b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8ad0d6"/>
                </a:solidFill>
                <a:latin typeface="Century Gothic"/>
              </a:rPr>
              <a:t>INLEIDING MEDISCHE KENNIS H. 9 EN 10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Secundaire preventie: ‘Seven signals of danger’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nschuldige klachten die te lang du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bnormale vormen van bloedverl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Zwellingen, vooral als ze geen pijn do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Verandering afwijking huid: kleur, vorm, jeu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Zweertje dat niet binnen enkele weken genee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Vermagering, zonder red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Verandering defecatiepatroon, normale regelmaat of soort ontlast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028"/>
          <p:cNvSpPr/>
          <p:nvPr/>
        </p:nvSpPr>
        <p:spPr>
          <a:xfrm>
            <a:off x="179280" y="3570840"/>
            <a:ext cx="1114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7b9899"/>
                </a:solidFill>
                <a:latin typeface="Century Gothic"/>
              </a:rPr>
              <a:t>Maar ook:</a:t>
            </a:r>
            <a:r>
              <a:rPr b="0" lang="nl-NL" sz="3600" spc="-1" strike="noStrike">
                <a:solidFill>
                  <a:srgbClr val="7b9899"/>
                </a:solidFill>
                <a:latin typeface="Century Gothic"/>
              </a:rPr>
              <a:t>	</a:t>
            </a:r>
            <a:r>
              <a:rPr b="0" lang="nl-NL" sz="3600" spc="-1" strike="noStrike">
                <a:solidFill>
                  <a:srgbClr val="7b9899"/>
                </a:solidFill>
                <a:latin typeface="Century Gothic"/>
              </a:rPr>
              <a:t>(</a:t>
            </a:r>
            <a:r>
              <a:rPr b="0" lang="en-US" sz="3600" spc="-1" strike="noStrike">
                <a:solidFill>
                  <a:srgbClr val="7b9899"/>
                </a:solidFill>
                <a:latin typeface="Century Gothic"/>
              </a:rPr>
              <a:t>bron: www.kwf.nl)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21932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lijvende heesheid of hoest</a:t>
            </a:r>
            <a:r>
              <a:rPr b="0" lang="en-US" sz="25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entury Gothic"/>
              </a:rPr>
              <a:t>Slikklachten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ieuwe of veranderende moedervlekken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en (niet genezend) schilferend plekje of bobbeltje op de hui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en verdikking of bobbel(tje) ergens in uw lichaam, m.n pijnloz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87320" indent="-5144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entury Gothic"/>
              </a:rPr>
              <a:t>bijv. in de borst, zaadbal, hals, oksel, lies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028"/>
          <p:cNvSpPr/>
          <p:nvPr/>
        </p:nvSpPr>
        <p:spPr>
          <a:xfrm>
            <a:off x="179280" y="3570840"/>
            <a:ext cx="1114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	</a:t>
            </a: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	</a:t>
            </a: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(</a:t>
            </a:r>
            <a:r>
              <a:rPr b="0" lang="en-US" sz="4200" spc="-1" strike="noStrike">
                <a:solidFill>
                  <a:srgbClr val="7b9899"/>
                </a:solidFill>
                <a:latin typeface="Century Gothic"/>
              </a:rPr>
              <a:t>bron: www.kwf.nl)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Vrouw: Ongewoon vaginaal bloedverlies of abnormale afscheiding buiten de menstruatie om. Man: zaadbalklachten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Veranderingen bij het plassen zoals moeilijker kunnen plassen, vaker moeten plassen, pijn bij het plassen of bloed in uw pla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7b9899"/>
                </a:solidFill>
                <a:latin typeface="Century Gothic"/>
              </a:rPr>
              <a:t>Verschijnselen en diagnos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Moeheid &gt; </a:t>
            </a:r>
            <a:r>
              <a:rPr b="0" lang="en-US" sz="1900" spc="-1" strike="noStrike">
                <a:solidFill>
                  <a:srgbClr val="ff0000"/>
                </a:solidFill>
                <a:latin typeface="Century Gothic"/>
              </a:rPr>
              <a:t>in later stadium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Erg veel pijn &gt; botmetastase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Kortademig &gt; longmetastase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Hoofdpijn, gedragsverandering &gt; hersenmetastase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Geelzucht en jeuk &gt; levermetastase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ewijs van bestaan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Patholoog onderzoekt cellen/weefsel via biop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Aanvullend onderzoek: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loedonderzoek en beeldvormend onderzoek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7b9899"/>
                </a:solidFill>
                <a:latin typeface="Century Gothic"/>
              </a:rPr>
              <a:t>Behandeling van maligne tumoren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uratief = genezen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lliatief = verzachten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Gericht op het verlichten van het lijde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Veelal gericht op pijn in later stadiu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hirurgie = curatief: alle kankercellen zijn uit lichaa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Radiotherapie </a:t>
            </a:r>
            <a:r>
              <a:rPr b="0" lang="nl-NL" sz="2100" spc="-1" strike="noStrike">
                <a:solidFill>
                  <a:srgbClr val="ffffff"/>
                </a:solidFill>
                <a:latin typeface="Century Gothic"/>
              </a:rPr>
              <a:t>(bestraling) 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Doet geen pijn, wel moeheid klachten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Bijwerkingen: ook gezonde, </a:t>
            </a:r>
            <a:r>
              <a:rPr b="1" lang="nl-NL" sz="1800" spc="-1" strike="noStrike">
                <a:solidFill>
                  <a:srgbClr val="ffffff"/>
                </a:solidFill>
                <a:latin typeface="Century Gothic"/>
              </a:rPr>
              <a:t>snel-delende</a:t>
            </a: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 cellen worden vernietigd, bijv. bestralingsdermatitis (irritatie en ontsteking op stralingsplek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7b9899"/>
                </a:solidFill>
                <a:latin typeface="Century Gothic"/>
              </a:rPr>
              <a:t>Vervolg behandeling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6560" y="1484280"/>
            <a:ext cx="67122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colytica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Century Gothic"/>
              </a:rPr>
              <a:t>Chemotherapie: Cytostatica=celdelingremmer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ijwerkingen: ook gezonde snel delende cellen worden vernietigd, bijv. haaruitval, diarree, anemie, leukopenie, trombocytopenie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s een aanslag op de gezondheid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rnstig is beschadiging van beenmerg &gt; aanmaak bloedcellen verstoord. (rode: anemie, witte: infecties, bloedplaatjes: bloeding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Prognos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unstig of ongunstig - vooral afhankelijk van tijdstip van diagnos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ijfjaars overlev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het % patiënten dat 5 jaar na stellen van de diagnose nog leef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spelling voor de individuele patiënt is moeilijk te do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289400" cy="3456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2"/>
          <a:stretch/>
        </p:blipFill>
        <p:spPr>
          <a:xfrm>
            <a:off x="4684680" y="1569960"/>
            <a:ext cx="411804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79280" y="892080"/>
            <a:ext cx="8766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2 betekenissen van het woord tumor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1320" y="15937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welling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bij ontsteking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holte gevuld met vocht of andere substantie (cyste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zwel (toename cellen </a:t>
            </a:r>
            <a:r>
              <a:rPr b="0" i="1" lang="nl-NL" sz="2000" spc="-1" strike="noStrike">
                <a:solidFill>
                  <a:srgbClr val="ffffff"/>
                </a:solidFill>
                <a:latin typeface="Century Gothic"/>
              </a:rPr>
              <a:t>ofwel weefselgroei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Ook wel neoplasm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ellen worden dik en groeie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Maligne tumor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Century Gothic"/>
              </a:rPr>
              <a:t>IMK hfst 10.7 – zelf uittreksel en vragen maken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ronchuscarci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mammacarci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prostaatcarci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endometriumcarci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ervixcarci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olon en rectumcarci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mela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asali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maagcarci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Celdeling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arom delen cellen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Groei (kind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Vervangen van oude cellen &gt; in het volwassen lichaam zijn regelmechanisme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Century Gothic"/>
              </a:rPr>
              <a:t>Maar.. zenuwcellen delen niet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nl-NL" sz="1600" spc="-1" strike="noStrike">
                <a:solidFill>
                  <a:srgbClr val="ffffff"/>
                </a:solidFill>
                <a:latin typeface="Century Gothic"/>
              </a:rPr>
              <a:t>&gt; neuronen zijn niet in staat om te dele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ebeb"/>
                </a:solidFill>
                <a:latin typeface="Century Gothic"/>
              </a:rPr>
              <a:t>Benigne tumoren = goedaardig gezwel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Rustige cellen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Century Gothic"/>
              </a:rPr>
              <a:t>Gladde, regelmatige begrenzing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Century Gothic"/>
              </a:rPr>
              <a:t>Geen infiltratieve groei (=doorgroei in omgeving)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Century Gothic"/>
              </a:rPr>
              <a:t>Geen metastasering (=verspreiding via bloed- of lymfebaan)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Century Gothic"/>
              </a:rPr>
              <a:t>Problemen door grootte of plaats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nl-NL" sz="2300" spc="-1" strike="noStrike">
                <a:solidFill>
                  <a:srgbClr val="ffffff"/>
                </a:solidFill>
                <a:latin typeface="Century Gothic"/>
              </a:rPr>
              <a:t>Sommige goedaardige tumoren kunnen op termijn wel kwaadaardig worden!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Voorbeelden benigne tumor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11280" y="1267920"/>
            <a:ext cx="8075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Fibroom = bindweefselgezw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ipoom = vetweefselgezwel (vetbultje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ruca vulgaris = wr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ollusca contagiosa = waterwratj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yoom = spierweefselgezwel (“vleesboom”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4" name="Afbeelding 3" descr="wrat 2.jpg"/>
          <p:cNvPicPr/>
          <p:nvPr/>
        </p:nvPicPr>
        <p:blipFill>
          <a:blip r:embed="rId1"/>
          <a:stretch/>
        </p:blipFill>
        <p:spPr>
          <a:xfrm>
            <a:off x="900000" y="429264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4" descr="Mollusca contagiosa.png"/>
          <p:cNvPicPr/>
          <p:nvPr/>
        </p:nvPicPr>
        <p:blipFill>
          <a:blip r:embed="rId2"/>
          <a:stretch/>
        </p:blipFill>
        <p:spPr>
          <a:xfrm>
            <a:off x="4762440" y="4292640"/>
            <a:ext cx="29862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Voorbeelden benigne tumor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ngioom (aardbei-/frambozenvlek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= Benigne tumor van bloedvate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Komt voor bij baby’s en kleine kinderen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Bij geboorte meestal niet zichtbaar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Wordt rode vlek/zwelling (van speldepunt tot tennisba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Afwijking verdwijnt meestal vanzelf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Geen behandeling nodig tenzij oog wordt geblokkeerd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8" name="Afbeelding 3" descr="hemangioom 1.jpg"/>
          <p:cNvPicPr/>
          <p:nvPr/>
        </p:nvPicPr>
        <p:blipFill>
          <a:blip r:embed="rId1"/>
          <a:stretch/>
        </p:blipFill>
        <p:spPr>
          <a:xfrm>
            <a:off x="4716360" y="5292720"/>
            <a:ext cx="2024280" cy="1347840"/>
          </a:xfrm>
          <a:prstGeom prst="rect">
            <a:avLst/>
          </a:prstGeom>
          <a:ln w="0">
            <a:noFill/>
          </a:ln>
        </p:spPr>
      </p:pic>
      <p:pic>
        <p:nvPicPr>
          <p:cNvPr id="249" name="Afbeelding 4" descr="hemangioom 2.jpg"/>
          <p:cNvPicPr/>
          <p:nvPr/>
        </p:nvPicPr>
        <p:blipFill>
          <a:blip r:embed="rId2"/>
          <a:stretch/>
        </p:blipFill>
        <p:spPr>
          <a:xfrm>
            <a:off x="6919920" y="5286240"/>
            <a:ext cx="192888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benigne tumor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11280" y="1267920"/>
            <a:ext cx="8075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ffffff"/>
                </a:solidFill>
                <a:latin typeface="Century Gothic"/>
              </a:rPr>
              <a:t>Fibroadenoom = combi van bindweefsel en klierweefseltumor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Century Gothic"/>
              </a:rPr>
              <a:t>Komt alleen voor in de mamma (=borst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Century Gothic"/>
              </a:rPr>
              <a:t>Kan kwaadaardig worden, groeit door oestrogeen hormoon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ffffff"/>
                </a:solidFill>
                <a:latin typeface="Century Gothic"/>
              </a:rPr>
              <a:t>Poliep = uitstulping slijmvlies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Century Gothic"/>
              </a:rPr>
              <a:t>Binnenbekleding van orgaan &gt; darm of blaas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Century Gothic"/>
              </a:rPr>
              <a:t>Kan kwaadaardig zijn/worden &gt; daarom altijd verwijderen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ffffff"/>
                </a:solidFill>
                <a:latin typeface="Century Gothic"/>
              </a:rPr>
              <a:t>Naevus = Moedervlek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Century Gothic"/>
              </a:rPr>
              <a:t>Soms vlek, soms gezwelletje van pigment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Century Gothic"/>
              </a:rPr>
              <a:t>Kan kwaadaardig worden (melanoom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Century Gothic"/>
              </a:rPr>
              <a:t>Symptomen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entury Gothic"/>
              </a:rPr>
              <a:t>Snelle groei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entury Gothic"/>
              </a:rPr>
              <a:t>Vreemde verkleuring (lichter of donkerder)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entury Gothic"/>
              </a:rPr>
              <a:t>Jeuk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entury Gothic"/>
              </a:rPr>
              <a:t>Bloeden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Vormverandering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2" name="Afbeelding 2" descr=""/>
          <p:cNvPicPr/>
          <p:nvPr/>
        </p:nvPicPr>
        <p:blipFill>
          <a:blip r:embed="rId1"/>
          <a:stretch/>
        </p:blipFill>
        <p:spPr>
          <a:xfrm>
            <a:off x="6012000" y="4437000"/>
            <a:ext cx="26748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ebeb"/>
                </a:solidFill>
                <a:latin typeface="Century Gothic"/>
              </a:rPr>
              <a:t>Maligne tumoren = kwaadaardig gezwel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26560" y="1852560"/>
            <a:ext cx="67122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Ongeremde celdeling door mutatie in de kern van cel &gt; Begint in 1 cel en erfelijk materiaal in cel veranderd niet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Century Gothic"/>
              </a:rPr>
              <a:t>Oorzaak lang niet altijd bekend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Century Gothic"/>
              </a:rPr>
              <a:t>Wel bekend: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Century Gothic"/>
              </a:rPr>
              <a:t>Roken (teer)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Century Gothic"/>
              </a:rPr>
              <a:t>Straling, waaronder zonlicht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Century Gothic"/>
              </a:rPr>
              <a:t>Virus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Bij ontdekking ziekte vergevorderd!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Constante verdubbelingstijd &gt; </a:t>
            </a:r>
            <a:r>
              <a:rPr b="0" lang="nl-NL" sz="1300" spc="-1" strike="noStrike">
                <a:solidFill>
                  <a:srgbClr val="ff0000"/>
                </a:solidFill>
                <a:latin typeface="Century Gothic"/>
              </a:rPr>
              <a:t>explosieve groei</a:t>
            </a: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!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ff0000"/>
                </a:solidFill>
                <a:latin typeface="Century Gothic"/>
              </a:rPr>
              <a:t>Infiltratie</a:t>
            </a: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 = (soms agressief) doorgroei in omgeving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ff0000"/>
                </a:solidFill>
                <a:latin typeface="Century Gothic"/>
              </a:rPr>
              <a:t>Metastasen</a:t>
            </a: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 = uitzaaiingen </a:t>
            </a:r>
            <a:r>
              <a:rPr b="0" lang="nl-NL" sz="1200" spc="-1" strike="noStrike">
                <a:solidFill>
                  <a:srgbClr val="ffffff"/>
                </a:solidFill>
                <a:latin typeface="Century Gothic"/>
              </a:rPr>
              <a:t>(hematogeen/lymfogeen) Kankercellen door lymfaatje groeien &gt; lymfeklier &gt; lymfogeen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ankercellen door haarvaatje groeien &gt; bloed meestromen &gt; Hematogene metastase (bot, lever, 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hersenen)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Vreet lichaamsenergie en schadelijke stoffen vrij in het bloed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&gt; moeheid &gt; </a:t>
            </a:r>
            <a:r>
              <a:rPr b="0" i="1" lang="nl-NL" sz="1300" spc="-1" strike="noStrike">
                <a:solidFill>
                  <a:srgbClr val="ffffff"/>
                </a:solidFill>
                <a:latin typeface="Century Gothic"/>
              </a:rPr>
              <a:t>algehele malaise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Preventie in HAP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26560" y="1341000"/>
            <a:ext cx="67122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rimaire preventie (voorkomen dat de ziekte ontstaat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Voorlichting, zoal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Niet roken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Gezond eten (beperkt dierlijk vet, veel groente en frui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Beperkt alcoho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Niet zonnen tussen 12 en 15 uur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ecundaire preventie (ziekte zo vroeg mogelijk vaststellen dat gevolgen ervan worden voorkomen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3 bevolkingsonderzoeken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Baarmoederhalskanker (uitstrijkj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Borstkanker (mammografi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Darmkanker (fecesonderzoek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26:14Z</dcterms:created>
  <dc:creator>custom</dc:creator>
  <dc:description/>
  <dc:language>en-US</dc:language>
  <cp:lastModifiedBy>Marlies Bouland</cp:lastModifiedBy>
  <dcterms:modified xsi:type="dcterms:W3CDTF">2019-03-12T15:19:49Z</dcterms:modified>
  <cp:revision>108</cp:revision>
  <dc:subject/>
  <dc:title>Conclusies enquête panel DA</dc:title>
</cp:coreProperties>
</file>