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377-CC88-458D-B629-05E77604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904-CEC8-462C-A3A6-DAC3A00E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3E6-3D1E-4D50-B73A-01C380CA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440-407F-4E27-B4DB-9D803749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0FFE-C969-4936-B253-F062E44D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E7FB-241C-4E5F-831F-4A9B9A73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654B-8868-4706-BAAA-1741A2D9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A433-D7B9-446C-8B43-00A2B821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9650-8917-4489-A2FC-C4A34219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6BA6-D8E1-41A7-A007-D57F6F45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5D71-06C4-4C98-8E1D-C0466D2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1FD-5B8C-46F1-BACA-5A6A464F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A972-4E94-4A1F-ABF2-00EC885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7983-3E88-4801-AA0B-2950B83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E61E-CD67-4435-85F0-056BE008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3D8B-9538-438F-ADA5-377E00AB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4412-3444-474B-A4B0-C0CA246D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09B2-7B74-43ED-BDFB-A6FF410E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4C3A-2519-4984-8966-E66E5610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7EFF-BA2F-4C3F-AEF6-D32749E7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74EF-9AEE-4FC7-9E3F-C783AA3C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6EC6-AA0C-44D9-8124-739816F5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1D8-4159-44F0-AA39-5E4D654D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A495-3888-4E81-8C40-1D9AFD76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E8CC-12E1-486E-8EFF-71AF5690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AA3C-FF7C-4A82-85F6-E5D5A1F3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BB39-CBCD-4A8B-90BF-BABFD04D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D8289-A7F3-4BEF-80E1-083CFC8F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EA2DC-2350-40BD-8A6C-430C3814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5A99-E417-4D90-A451-3D887A76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739D-5237-49E9-9F24-2D2D5F04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37EC-8853-4656-AE63-C12680E0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A057A-2E73-4E5C-8FC9-FB18F4E8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CC0-9D23-4EB6-BEA9-5212B414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DD457-6F28-4E5D-A015-DFAD6A28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DB5AC-3884-4DE2-A99C-484E9FE5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DA42-242C-46D2-9631-21F7B4C0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39BB-A4C1-487F-BA32-092DA3B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13F55-BDC5-417B-913F-C06256D9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DCDAA-967D-4B12-83CF-94CBBADE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E6BF-C867-43BA-9675-C1C9C1BB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2A9A-E6B7-4331-91DF-1C39CBF4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2D911-7C44-4C83-B755-D3C3ADC2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164-3E0E-47FA-ADEE-18A7DEA5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FD3-5616-480D-A7DA-ECD94142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C87-49DF-41E4-80D8-C7EC702E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7FE-299A-4F62-99A3-E32B9008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388-1B45-4669-96A0-B76A0D70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7B21-C205-4FCF-B495-0EF2CC557BF9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CC18-8A76-4543-91B1-2F75C867D2B6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AE50-9CF1-4327-BBF7-6007E31493FD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8735-CA68-41DC-A87C-09B57A17E0E2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antacida&amp;start=158&amp;um=1&amp;hl=nl&amp;sa=N&amp;biw=1280&amp;bih=801&amp;tbm=isch&amp;tbnid=mtfaM2B-ClcrzM:&amp;imgrefurl=http://www.lekarna-net.cz/kategorie/0109/2/hvlp/antacida-(vcetne-antiulcerosnich-leciv)&amp;docid=BsAMXflxG0bpqM&amp;imgurl=http://www.lekarna-net.cz/obrazek.php%253Fpdk%253D5000158066359&amp;w=400&amp;h=400&amp;ei=YxYqUdTqNNCW0QXNiYDoBQ&amp;zoom=1&amp;iact=hc&amp;vpx=1008&amp;vpy=199&amp;dur=1609&amp;hovh=225&amp;hovw=225&amp;tx=126&amp;ty=139&amp;sig=110308519874302738132&amp;page=5&amp;tbnh=147&amp;tbnw=146&amp;ndsp=37&amp;ved=1t:429,i:217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nstantia"/>
              </a:rPr>
              <a:t>Geneesmiddele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65e9c"/>
                </a:solidFill>
                <a:latin typeface="Franklin Gothic Book"/>
              </a:rPr>
              <a:t>Maag en dar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Anti - Emetic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nderdrukken braakneig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oepassen bij symptomatische bestrijding van misselijkheid en brak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isselijkheid is een vervelend gevoel in de buik o.a. door vertraagde darmperistaltiek m.a.g. een vertraagde maagontlediging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ervolg: braken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erste  maanden van de zwangerscha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migrain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Komt vaak voor bij radiotherapie of chemotherap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Kytril en Zofran zijn krachtige anti-emetica en worden hierbij toegepas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iddelen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26920" y="1981080"/>
            <a:ext cx="7250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mperidon en primperan zorgen voor een snellere maagontlediging waardoor de misselijkheidsklachten verdwij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matour en cyclizine bij reisziekte en    migr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 drie zijn zonder recept verkrijgba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Geneesmiddelen voor darmaandoeninge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idiarrho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ntstekingsremmende 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xanti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pasmolyt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Antidiarrho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topmiddel’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operamide of imodiu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mt darmperistaltiek, maar oorzaak verdwijnt nie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arbo adsorbens (Norit) is werking nooit aangetoon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Zelfzorg: OR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69660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Ontstekingsremmende midde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Prednison (oraal) en Pentasa (rectaal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chronische darmontstek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rale toediening: tabletten vaak voorzien van maagsapresistentie: inhoud komt pas vrij in de darmen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Laxanti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toelgang bevorder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ontactlaxantia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: prikkelen van darmwand: incidenteel en kortdurend gebruik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sacodyl (O) en microlax (R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Osmotische laxantia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: houden vocht vast in dikke darm. Milde werking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ctulose (O) en movicolon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ervolg laxanti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lume vergrotende middelen: onverteerbare vezel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etamucil (O) en volcolon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el bij drink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Spasmolytic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m darmkrampen op te heffen, gat verkramping van de spieren in darmwand te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prikkelbare darmsyndroo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uspatal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Geneesmiddelen voor maagaandoeninge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acid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agzuursecretieremmende 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ucosaprotectiv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edicijnkuren bij Helicobacter Pylori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i-emet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Antacid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Verminderen maagzuur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Ze mogen zonder recept verkocht word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Ze moeten snel werken &gt; </a:t>
            </a:r>
            <a:r>
              <a:rPr b="0" lang="nl-NL" sz="2200" spc="-1" strike="noStrike">
                <a:solidFill>
                  <a:srgbClr val="aa2b1e"/>
                </a:solidFill>
                <a:latin typeface="Franklin Gothic Book"/>
              </a:rPr>
              <a:t>suspensie</a:t>
            </a: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vorm  of eventueel een </a:t>
            </a:r>
            <a:r>
              <a:rPr b="0" lang="nl-NL" sz="2200" spc="-1" strike="noStrike">
                <a:solidFill>
                  <a:srgbClr val="aa2b1e"/>
                </a:solidFill>
                <a:latin typeface="Franklin Gothic Book"/>
              </a:rPr>
              <a:t>kauw</a:t>
            </a: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tablett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4-6 per dag  innemen wanneer er veel zuur is: een uur na de maaltijd en voor de nacht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Kunnen ook tijdens zwangerschap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Antacida mogen niet gelijktijdig met maagzuursecretieremmers worden ingenom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oorbeelden antacid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ltaci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Gaviscon en Renni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318440" y="140328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7010280" y="4952880"/>
            <a:ext cx="217980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46080" y="0"/>
            <a:ext cx="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46080" y="2376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8" descr="http://t2.gstatic.com/images?q=tbn:ANd9GcSH4Qcx54xUvw7D4UnNqn80YTivu13tgQYHhsGIQoW8wyOy6doyJ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191120"/>
            <a:ext cx="2266920" cy="24955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0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1"/>
          <p:cNvSpPr/>
          <p:nvPr/>
        </p:nvSpPr>
        <p:spPr>
          <a:xfrm>
            <a:off x="1646280" y="3344760"/>
            <a:ext cx="1743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5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6"/>
          <p:cNvSpPr/>
          <p:nvPr/>
        </p:nvSpPr>
        <p:spPr>
          <a:xfrm flipH="1" flipV="1">
            <a:off x="46440" y="744120"/>
            <a:ext cx="3381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7"/>
          <p:cNvSpPr/>
          <p:nvPr/>
        </p:nvSpPr>
        <p:spPr>
          <a:xfrm flipH="1">
            <a:off x="2285280" y="6127920"/>
            <a:ext cx="104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4" descr="http://t0.gstatic.com/images?q=tbn:ANd9GcREXWYIewN_G_GLVpNzPe-G1Q0ihEYoej9FcpFA88RAUkoEZDff"/>
          <p:cNvPicPr/>
          <p:nvPr/>
        </p:nvPicPr>
        <p:blipFill>
          <a:blip r:embed="rId3"/>
          <a:stretch/>
        </p:blipFill>
        <p:spPr>
          <a:xfrm>
            <a:off x="3519360" y="4952880"/>
            <a:ext cx="2103480" cy="17748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8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9"/>
          <p:cNvSpPr/>
          <p:nvPr/>
        </p:nvSpPr>
        <p:spPr>
          <a:xfrm>
            <a:off x="5754600" y="2562120"/>
            <a:ext cx="1143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4"/>
          <p:cNvSpPr/>
          <p:nvPr/>
        </p:nvSpPr>
        <p:spPr>
          <a:xfrm flipH="1" flipV="1">
            <a:off x="1599480" y="6855840"/>
            <a:ext cx="6858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5"/>
          <p:cNvSpPr/>
          <p:nvPr/>
        </p:nvSpPr>
        <p:spPr>
          <a:xfrm flipH="1" flipV="1">
            <a:off x="5257800" y="4376160"/>
            <a:ext cx="1295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2" descr="http://t3.gstatic.com/images?q=tbn:ANd9GcRQe7_N6aKOrf4-wV2IYwFzxF1qU8brZp-ZdqJ-PMxkBcNeZm4m"/>
          <p:cNvPicPr/>
          <p:nvPr/>
        </p:nvPicPr>
        <p:blipFill>
          <a:blip r:embed="rId4"/>
          <a:stretch/>
        </p:blipFill>
        <p:spPr>
          <a:xfrm>
            <a:off x="152280" y="5105520"/>
            <a:ext cx="18590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aagzuur secretieremmer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mmen de maagzuurproduct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erken via de bloedbaa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eïnvloeden andere organen: meer bijwerk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oegepast vooral bij patiënten die chronisch NSAID’s gebruik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wee groepen: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H2 receptorantagonisten en protonpompremmer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H2 receptorantagonisten v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nitidine (Zantac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amotidine en Ranitidine zijn in lage doseringen zelfzorg medicat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nitidine geeft de minste interactie met andere genees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Protonpompremmers v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meprazol  - Lose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nso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Panto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be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ucosaprotectiva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eschermen van de maagwan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echten zich aan beschadigde slijmvliezen en leggen een beschermlaagj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ucralfaat - Ulcogan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Combinatiekuu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Toegepast bij ulcus pepticum veroorzaakt door Helicobacter Pylor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2 delen:  hoog gedoseerde antibiotica en secretie remmer (doodt de bact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De kuur heeft veel bijwerkinge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Deze kuur ook wel triple therapie genoemd duurt meestal 7 dage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Vaak: amoxicilline/clarithromycine en metronidazol </a:t>
            </a:r>
            <a:r>
              <a:rPr b="1" lang="nl-NL" sz="2800" spc="-1" strike="noStrike">
                <a:solidFill>
                  <a:srgbClr val="000000"/>
                </a:solidFill>
                <a:latin typeface="Franklin Gothic Book"/>
              </a:rPr>
              <a:t>en</a:t>
            </a: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  omeprazol of pantoprazo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Er is een standaardkuur: PantoPac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3:17:59Z</dcterms:created>
  <dc:creator>Agnieta</dc:creator>
  <dc:description/>
  <dc:language>en-US</dc:language>
  <cp:lastModifiedBy>Uw naam</cp:lastModifiedBy>
  <dcterms:modified xsi:type="dcterms:W3CDTF">2016-03-06T19:21:19Z</dcterms:modified>
  <cp:revision>9</cp:revision>
  <dc:subject/>
  <dc:title>Tractus Digestivus</dc:title>
</cp:coreProperties>
</file>