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01CB-49C4-417E-932D-B9136C7441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490-9763-4156-87F8-D6EBD819E9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D18-77FD-401A-B859-A11ACED1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578-D619-4B53-A4CF-4C881B83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E4B-A5FD-480A-B514-2889A07B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0D1-2A6C-48E2-84A9-5CFC3A5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0E8-25A7-49AF-81A7-2B13831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8C4-5CAC-4073-8CA8-84C887E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C36-5706-47F2-8F44-8BDB29C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252-E548-4E3C-AD0F-510243B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B3D-245F-49CB-B73C-9EA6F984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709-12FA-411B-B21E-784F61C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BA3-1331-4A36-9350-52958B8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9DD-6168-495B-A43C-75DA5CF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C90-E542-40E3-A16D-095CD73A53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Gray536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4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6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8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80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1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3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6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esmiddelenkennisb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estand:Gray536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1177920"/>
            <a:ext cx="5715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6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8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Uw naam</cp:lastModifiedBy>
  <dcterms:modified xsi:type="dcterms:W3CDTF">2016-02-21T15:54:38Z</dcterms:modified>
  <cp:revision>17</cp:revision>
  <dc:subject/>
  <dc:title>Aandoeningen van het Spijsverteringskanaal</dc:title>
</cp:coreProperties>
</file>