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49AB-0855-49CE-AE09-F665D96E3B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uderdomsslechthorendheid</a:t>
            </a:r>
            <a:endParaRPr b="0" lang="en-US"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9BF8-9BB6-43A5-83FC-2569DC594628}"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Het buiteno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t zichtbare, uitwendige deel van het oor wordt de oorschelp (pinna) genoemd en functioneert als een trechter om geluidsgolven de gehoorgang binnen te leiden. De gehoorgang is een korte buis waarlangs het geluid het trommelvlies bereik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Het middeno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t middenoor is een met lucht gevulde holte die via de buis van Eustachius in verbinding staat met de achterkant van de neus en de keel. Deze buis helpt de druk aan beide kanten van het trommelvlies gelijk te houden. De buis is meestal gesloten, maar gaat open als u slikt of gaapt.</a:t>
            </a:r>
            <a:br>
              <a:rPr sz="900"/>
            </a:br>
            <a:r>
              <a:rPr b="0" lang="nl-NL" sz="900" spc="-1" strike="noStrike">
                <a:solidFill>
                  <a:srgbClr val="000000"/>
                </a:solidFill>
                <a:latin typeface="Calibri"/>
              </a:rPr>
              <a:t>Op het moment dat het geluid het trommelvlies bereikt, zendt het trommelvlies trillingen uit via drie kleine botjes die gehoorbeentjes genoemd worden, de kleinste botjes in het menselijk lichaam. Deze gehoorbeentjes versterken de trillingen afkomstig van het trommelvlies en versturen ze vervolgens naar het binnenoor. </a:t>
            </a:r>
            <a:br>
              <a:rPr sz="900"/>
            </a:br>
            <a:r>
              <a:rPr b="0" lang="nl-NL"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Het binneno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t slakkenhuis, een onderdeel van het binnenoor, is gevuld met vloeistof en bevat meer dan 15.000 microscopische zintuigcellen die geluidstrillingen omzetten in zenuwimpulsen. Deze impulsen worden via de gehoorzenuw naar de hersenen geleid, waar ze vervolgens geïnterpreteerd worden als betekenisvolle geluiden. Het slakkenhuis staat ook in verbinding met het evenwichtsorgaan dat ons helpt goed in balans te blijv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Latijnse naa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amer Malleu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Aambeeld Incu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Stijgbeugel Stapes</a:t>
            </a:r>
            <a:r>
              <a:rPr b="0" lang="nl-NL"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C98E-19B4-4CE1-A995-6011594BD4F8}" type="slidenum">
              <a:rPr b="0" lang="nl-NL"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C3CB0-C730-4D06-B539-DA906787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B543D-1828-4848-B034-48330E69D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4EF73-9C0C-46A3-B6A1-FCADE71C1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7B837-3035-46F7-9D75-375047739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D5FBB-5F58-4A09-AB61-E9D011A9C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A44E4-0574-41A2-AC0D-24E231400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B0331-1C0E-40B8-B5BF-8EC9385B4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54F7E-41A3-4B98-8080-F2D366444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1BB47-994B-4065-BE96-6591129B2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0478E-6D65-4424-B673-AD6C32BB8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A2448-F869-43F9-83DB-07A1A5B19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08159-9C34-404E-AAD2-E4951FE7E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65A07-A353-413D-AEB3-69151FC37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16210-00F4-4465-B324-CC69B8939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D7C71-AF46-4FAB-96BC-CE23ED9A7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A3DB5-C0EC-4182-B89F-A4D3F8DB3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BC890-93B7-4A9A-AC3F-46A387067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C7E26-7DC1-44D2-A135-D8414862F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2C168-459B-4E49-9DCB-BA076DD55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99F6F-F2F9-442B-A110-7E4DB43A3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9F09E-8CE7-424E-8757-CC7E92499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EC664-9981-4A07-8EA0-ED01B3C6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AE13-9A1A-4124-9592-E70F4A0DA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2FD3-9CEB-4F50-9439-0F29E4F8A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BEE1-1853-43B5-887D-68600F3B02A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2032-D116-4E7F-94D1-DD8AC68D8FA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6666"/>
                </a:solidFill>
                <a:latin typeface="Arial"/>
              </a:rPr>
              <a:t>HET OOR</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2781000"/>
            <a:ext cx="7239240" cy="23986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Slechthorendheid</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99" name="Afbeelding 3" descr="slechthorend.jpg"/>
          <p:cNvPicPr/>
          <p:nvPr/>
        </p:nvPicPr>
        <p:blipFill>
          <a:blip r:embed="rId1"/>
          <a:stretch/>
        </p:blipFill>
        <p:spPr>
          <a:xfrm>
            <a:off x="5292720" y="2708280"/>
            <a:ext cx="2744640" cy="243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600" spc="-1" strike="noStrike">
              <a:solidFill>
                <a:srgbClr val="006666"/>
              </a:solidFill>
              <a:latin typeface="Arial"/>
            </a:endParaRPr>
          </a:p>
        </p:txBody>
      </p:sp>
      <p:sp>
        <p:nvSpPr>
          <p:cNvPr id="12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3" name="Picture 2" descr=""/>
          <p:cNvPicPr/>
          <p:nvPr/>
        </p:nvPicPr>
        <p:blipFill>
          <a:blip r:embed="rId1"/>
          <a:stretch/>
        </p:blipFill>
        <p:spPr>
          <a:xfrm>
            <a:off x="515880" y="476280"/>
            <a:ext cx="8497800" cy="55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nderzoek bij slechthorendheid</a:t>
            </a:r>
            <a:endParaRPr b="0" lang="en-US" sz="3600" spc="-1" strike="noStrike">
              <a:solidFill>
                <a:srgbClr val="006666"/>
              </a:solidFill>
              <a:latin typeface="Arial"/>
            </a:endParaRPr>
          </a:p>
        </p:txBody>
      </p:sp>
      <p:sp>
        <p:nvSpPr>
          <p:cNvPr id="125" name=""/>
          <p:cNvSpPr txBox="1"/>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Otoscopie: </a:t>
            </a:r>
            <a:r>
              <a:rPr b="0" lang="nl-NL" sz="2000" spc="-1" strike="noStrike">
                <a:solidFill>
                  <a:srgbClr val="000000"/>
                </a:solidFill>
                <a:latin typeface="Verdana"/>
              </a:rPr>
              <a:t>onderzoek van gehoorgang en trommelvlies</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Stemvorkproeven: </a:t>
            </a:r>
            <a:r>
              <a:rPr b="0" lang="nl-NL" sz="2000" spc="-1" strike="noStrike">
                <a:solidFill>
                  <a:srgbClr val="000000"/>
                </a:solidFill>
                <a:latin typeface="Verdana"/>
              </a:rPr>
              <a:t>aangeslagen stemvork wordt op rotsbeen achter oor geplaatst. </a:t>
            </a:r>
            <a:endParaRPr b="0" lang="en-US" sz="20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Verdana"/>
              </a:rPr>
              <a:t>Rinne test pos: perceptief gehoorverlies</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Verdana"/>
              </a:rPr>
              <a:t>Rinne test neg: geleidingsverlies</a:t>
            </a:r>
            <a:endParaRPr b="0" lang="en-US" sz="18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Audiogram: </a:t>
            </a:r>
            <a:r>
              <a:rPr b="0" lang="nl-NL" sz="2000" spc="-1" strike="noStrike">
                <a:solidFill>
                  <a:srgbClr val="000000"/>
                </a:solidFill>
                <a:latin typeface="Verdana"/>
              </a:rPr>
              <a:t>grafische weergave van werking van het oor.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temvorkproef van Rinne:</a:t>
            </a:r>
            <a:endParaRPr b="0" lang="en-US" sz="3600" spc="-1" strike="noStrike">
              <a:solidFill>
                <a:srgbClr val="006666"/>
              </a:solidFill>
              <a:latin typeface="Arial"/>
            </a:endParaRPr>
          </a:p>
        </p:txBody>
      </p:sp>
      <p:sp>
        <p:nvSpPr>
          <p:cNvPr id="127" name=""/>
          <p:cNvSpPr txBox="1"/>
          <p:nvPr/>
        </p:nvSpPr>
        <p:spPr>
          <a:xfrm>
            <a:off x="1369800" y="1827360"/>
            <a:ext cx="7313400" cy="4114800"/>
          </a:xfrm>
          <a:prstGeom prst="rect">
            <a:avLst/>
          </a:prstGeom>
          <a:noFill/>
          <a:ln w="0">
            <a:noFill/>
          </a:ln>
        </p:spPr>
        <p:txBody>
          <a:bodyPr anchor="t">
            <a:normAutofit fontScale="97000"/>
          </a:bodyPr>
          <a:p>
            <a:pPr marL="332640" indent="-33264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aangeslagen stemvork wordt op rotsbeen achter oor geplaatst. Hierdoor wordt via beengeleiding de gehoorgang en het middenoor omzeild. Wanneer de patiënt zegt de toon niet meer te kunnen horen, dan wordt de stemvork onmiddellijk naast het oor gehouden. </a:t>
            </a:r>
            <a:r>
              <a:rPr b="0" i="1" lang="nl-NL" sz="2400" spc="-1" strike="noStrike">
                <a:solidFill>
                  <a:srgbClr val="ff0000"/>
                </a:solidFill>
                <a:latin typeface="Verdana"/>
              </a:rPr>
              <a:t>Indien de patiënt het beste hoort met de vork naast het oor is de Rinne test positief</a:t>
            </a:r>
            <a:r>
              <a:rPr b="0" i="1" lang="nl-NL" sz="2400" spc="-1" strike="noStrike">
                <a:solidFill>
                  <a:srgbClr val="000000"/>
                </a:solidFill>
                <a:latin typeface="Verdana"/>
              </a:rPr>
              <a:t>. </a:t>
            </a:r>
            <a:r>
              <a:rPr b="0" i="1" lang="nl-NL" sz="2400" spc="-1" strike="noStrike">
                <a:solidFill>
                  <a:srgbClr val="ff0000"/>
                </a:solidFill>
                <a:latin typeface="Verdana"/>
              </a:rPr>
              <a:t>Dit duidt op een perceptief gehoorverlies. </a:t>
            </a:r>
            <a:r>
              <a:rPr b="0" i="1" lang="nl-NL" sz="2400" spc="-1" strike="noStrike">
                <a:solidFill>
                  <a:srgbClr val="00b0f0"/>
                </a:solidFill>
                <a:latin typeface="Verdana"/>
              </a:rPr>
              <a:t>Als de patiënt de stemvork beter hoort via de beengeleiding op het mastoid is de “Rinne” negatief. Dit duidt op een geleidingsverli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toscopie</a:t>
            </a:r>
            <a:endParaRPr b="0" lang="en-US" sz="3600" spc="-1" strike="noStrike">
              <a:solidFill>
                <a:srgbClr val="006666"/>
              </a:solidFill>
              <a:latin typeface="Arial"/>
            </a:endParaRPr>
          </a:p>
        </p:txBody>
      </p:sp>
      <p:pic>
        <p:nvPicPr>
          <p:cNvPr id="129" name="Tijdelijke aanduiding voor inhoud 6" descr="otoscopie.png"/>
          <p:cNvPicPr/>
          <p:nvPr/>
        </p:nvPicPr>
        <p:blipFill>
          <a:blip r:embed="rId1"/>
          <a:stretch/>
        </p:blipFill>
        <p:spPr>
          <a:xfrm>
            <a:off x="1258920" y="2855880"/>
            <a:ext cx="3016080" cy="2782800"/>
          </a:xfrm>
          <a:prstGeom prst="rect">
            <a:avLst/>
          </a:prstGeom>
          <a:ln w="0">
            <a:noFill/>
          </a:ln>
        </p:spPr>
      </p:pic>
      <p:pic>
        <p:nvPicPr>
          <p:cNvPr id="130" name="Tijdelijke aanduiding voor inhoud 9" descr="cerumen.jpg"/>
          <p:cNvPicPr/>
          <p:nvPr/>
        </p:nvPicPr>
        <p:blipFill>
          <a:blip r:embed="rId2"/>
          <a:stretch/>
        </p:blipFill>
        <p:spPr>
          <a:xfrm>
            <a:off x="5070600" y="2851200"/>
            <a:ext cx="2927160" cy="27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toscopie</a:t>
            </a:r>
            <a:endParaRPr b="0" lang="en-US" sz="3600" spc="-1" strike="noStrike">
              <a:solidFill>
                <a:srgbClr val="006666"/>
              </a:solidFill>
              <a:latin typeface="Arial"/>
            </a:endParaRPr>
          </a:p>
        </p:txBody>
      </p:sp>
      <p:pic>
        <p:nvPicPr>
          <p:cNvPr id="132" name="Tijdelijke aanduiding voor inhoud 7" descr="trommelvliesbuisje.png"/>
          <p:cNvPicPr/>
          <p:nvPr/>
        </p:nvPicPr>
        <p:blipFill>
          <a:blip r:embed="rId1"/>
          <a:stretch/>
        </p:blipFill>
        <p:spPr>
          <a:xfrm>
            <a:off x="1533600" y="2276640"/>
            <a:ext cx="2841480" cy="2808000"/>
          </a:xfrm>
          <a:prstGeom prst="rect">
            <a:avLst/>
          </a:prstGeom>
          <a:ln w="0">
            <a:noFill/>
          </a:ln>
        </p:spPr>
      </p:pic>
      <p:pic>
        <p:nvPicPr>
          <p:cNvPr id="133" name="Tijdelijke aanduiding voor inhoud 8" descr="trommelvliesbuisje 2.png"/>
          <p:cNvPicPr/>
          <p:nvPr/>
        </p:nvPicPr>
        <p:blipFill>
          <a:blip r:embed="rId2"/>
          <a:stretch/>
        </p:blipFill>
        <p:spPr>
          <a:xfrm>
            <a:off x="4711680" y="2276640"/>
            <a:ext cx="3043080" cy="280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Presbyacusis</a:t>
            </a:r>
            <a:endParaRPr b="0" lang="en-US" sz="3600" spc="-1" strike="noStrike">
              <a:solidFill>
                <a:srgbClr val="006666"/>
              </a:solidFill>
              <a:latin typeface="Arial"/>
            </a:endParaRPr>
          </a:p>
        </p:txBody>
      </p:sp>
      <p:sp>
        <p:nvSpPr>
          <p:cNvPr id="13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Verdana"/>
              </a:rPr>
              <a:t>Perceptie</a:t>
            </a:r>
            <a:r>
              <a:rPr b="0" lang="nl-NL" sz="2900" spc="-1" strike="noStrike">
                <a:solidFill>
                  <a:srgbClr val="000000"/>
                </a:solidFill>
                <a:latin typeface="Verdana"/>
              </a:rPr>
              <a:t>slechthorendheid : klachten beginnen na vijftigste levensjaa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Hoge tonen worden minder goed gehoord (telefoon en deurbe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Moeilijkheid gesprek te volgen bij veel mense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Presbyacusis vaak in combinatie van Tinnitus (oorsuizen)</a:t>
            </a:r>
            <a:endParaRPr b="0" lang="en-US" sz="2900" spc="-1" strike="noStrike">
              <a:solidFill>
                <a:srgbClr val="000000"/>
              </a:solidFill>
              <a:latin typeface="Verdana"/>
            </a:endParaRPr>
          </a:p>
        </p:txBody>
      </p:sp>
      <p:sp>
        <p:nvSpPr>
          <p:cNvPr id="136"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Ziekte van Ménière</a:t>
            </a:r>
            <a:endParaRPr b="0" lang="en-US" sz="3600" spc="-1" strike="noStrike">
              <a:solidFill>
                <a:srgbClr val="006666"/>
              </a:solidFill>
              <a:latin typeface="Arial"/>
            </a:endParaRPr>
          </a:p>
        </p:txBody>
      </p:sp>
      <p:sp>
        <p:nvSpPr>
          <p:cNvPr id="138" name=""/>
          <p:cNvSpPr txBox="1"/>
          <p:nvPr/>
        </p:nvSpPr>
        <p:spPr>
          <a:xfrm>
            <a:off x="1369800" y="1827360"/>
            <a:ext cx="7313400" cy="411480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Verdana"/>
              </a:rPr>
              <a:t>Omschrijving ziektebeeld</a:t>
            </a:r>
            <a:endParaRPr b="0" lang="en-US" sz="29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ziekte van Ménière is een combinatie van drie klachten: </a:t>
            </a:r>
            <a:r>
              <a:rPr b="0" i="1" lang="nl-NL" sz="2400" spc="-1" strike="noStrike">
                <a:solidFill>
                  <a:srgbClr val="000000"/>
                </a:solidFill>
                <a:latin typeface="Verdana"/>
              </a:rPr>
              <a:t>aanvallen van draaiduizelingen, slechthorendheid en oorsuizen</a:t>
            </a:r>
            <a:endParaRPr b="0" lang="en-US" sz="2400" spc="-1" strike="noStrike">
              <a:solidFill>
                <a:srgbClr val="000000"/>
              </a:solidFill>
              <a:latin typeface="Verdana"/>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Verdana"/>
              </a:rPr>
              <a:t>Oorzaken</a:t>
            </a:r>
            <a:endParaRPr b="0" lang="en-US" sz="2900" spc="-1" strike="noStrike">
              <a:solidFill>
                <a:srgbClr val="000000"/>
              </a:solidFill>
              <a:latin typeface="Verdana"/>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De ziekte komt waarschijnlijk door te veel vloeistof in de buisjes van het evenwichtsorgaan.</a:t>
            </a:r>
            <a:endParaRPr b="0" lang="en-US" sz="2900" spc="-1" strike="noStrike">
              <a:solidFill>
                <a:srgbClr val="000000"/>
              </a:solidFill>
              <a:latin typeface="Verdana"/>
            </a:endParaRPr>
          </a:p>
          <a:p>
            <a:pP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9" name="Tijdelijke aanduiding voor voettekst 3"/>
          <p:cNvSpPr/>
          <p:nvPr/>
        </p:nvSpPr>
        <p:spPr>
          <a:xfrm>
            <a:off x="3132000" y="63817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Ziekte van Ménière</a:t>
            </a:r>
            <a:endParaRPr b="0" lang="en-US" sz="3600" spc="-1" strike="noStrike">
              <a:solidFill>
                <a:srgbClr val="006666"/>
              </a:solidFill>
              <a:latin typeface="Arial"/>
            </a:endParaRPr>
          </a:p>
        </p:txBody>
      </p:sp>
      <p:sp>
        <p:nvSpPr>
          <p:cNvPr id="141" name=""/>
          <p:cNvSpPr txBox="1"/>
          <p:nvPr/>
        </p:nvSpPr>
        <p:spPr>
          <a:xfrm>
            <a:off x="1369800" y="1557360"/>
            <a:ext cx="7313400" cy="438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B</a:t>
            </a:r>
            <a:r>
              <a:rPr b="0" lang="nl-NL" sz="2400" spc="-1" strike="noStrike">
                <a:solidFill>
                  <a:srgbClr val="000000"/>
                </a:solidFill>
                <a:latin typeface="Verdana"/>
              </a:rPr>
              <a:t>ij de ziekte van Ménière is er een probleem met het evenwichtsorgaan.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lachten zijn aanvallen van draaiduizelingen, slechthorendheid en oorsuizen.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verschilt per persoon hoe vaak de aanvallen komen (van wekelijks tot zelden).</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r is geen medicijn dat de ziekte van Ménière geneest.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Ziekte van Ménière</a:t>
            </a:r>
            <a:endParaRPr b="0" lang="en-US" sz="3600" spc="-1" strike="noStrike">
              <a:solidFill>
                <a:srgbClr val="006666"/>
              </a:solidFill>
              <a:latin typeface="Arial"/>
            </a:endParaRPr>
          </a:p>
        </p:txBody>
      </p:sp>
      <p:sp>
        <p:nvSpPr>
          <p:cNvPr id="144"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enmerkend zijn aanvallen van vaak heftige, zeer hinderlijke draaiduizeligheid.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aarbij kunt u minder horen en last hebben van oorsuizen of een vol gevoel in de oren.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U kunt ook misselijk worden en overgeven. Na een of twee uur is de aanval op zijn hoogtepunt.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aanval duurt enkele uren. Daarna kunt u nog enkele dagen wat lichtere klachten houden. </a:t>
            </a:r>
            <a:endParaRPr b="0" lang="en-US" sz="2400" spc="-1" strike="noStrike">
              <a:solidFill>
                <a:srgbClr val="000000"/>
              </a:solidFill>
              <a:latin typeface="Verdana"/>
            </a:endParaRPr>
          </a:p>
        </p:txBody>
      </p:sp>
      <p:sp>
        <p:nvSpPr>
          <p:cNvPr id="14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Gehoorstelsel </a:t>
            </a:r>
            <a:endParaRPr b="0" lang="en-US" sz="3600" spc="-1" strike="noStrike">
              <a:solidFill>
                <a:srgbClr val="006666"/>
              </a:solidFill>
              <a:latin typeface="Arial"/>
            </a:endParaRPr>
          </a:p>
        </p:txBody>
      </p:sp>
      <p:sp>
        <p:nvSpPr>
          <p:cNvPr id="101" name=""/>
          <p:cNvSpPr txBox="1"/>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Buitenoor </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schelp en gehoorgang</a:t>
            </a:r>
            <a:endParaRPr b="0" lang="en-US" sz="2000" spc="-1" strike="noStrike">
              <a:solidFill>
                <a:srgbClr val="000000"/>
              </a:solidFill>
              <a:latin typeface="Verdan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Middenoor</a:t>
            </a:r>
            <a:r>
              <a:rPr b="0" lang="nl-NL" sz="2000" spc="-1" strike="noStrike">
                <a:solidFill>
                  <a:srgbClr val="000000"/>
                </a:solidFill>
                <a:latin typeface="Verdana"/>
              </a:rPr>
              <a:t> (lucht gevulde holte)</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uis van Eustachius </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Trommelvlies</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3 gehoorbeentjes</a:t>
            </a:r>
            <a:endParaRPr b="0" lang="en-US" sz="2000" spc="-1" strike="noStrike">
              <a:solidFill>
                <a:srgbClr val="000000"/>
              </a:solidFill>
              <a:latin typeface="Verdan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amer, aambeeld, stijgbeugel)</a:t>
            </a:r>
            <a:endParaRPr b="0" lang="en-US" sz="2000" spc="-1" strike="noStrike">
              <a:solidFill>
                <a:srgbClr val="000000"/>
              </a:solidFill>
              <a:latin typeface="Verdan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Binnenoor </a:t>
            </a:r>
            <a:r>
              <a:rPr b="0" lang="nl-NL" sz="2000" spc="-1" strike="noStrike">
                <a:solidFill>
                  <a:srgbClr val="000000"/>
                </a:solidFill>
                <a:latin typeface="Verdana"/>
              </a:rPr>
              <a:t>(gevuld met vloeistof)</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lakkenhuis</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ehoorzenuw</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wichtsorgaan</a:t>
            </a:r>
            <a:endParaRPr b="0" lang="en-US" sz="20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26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6666"/>
                </a:solidFill>
                <a:latin typeface="Arial"/>
              </a:rPr>
              <a:t>Gehoorstelsel</a:t>
            </a:r>
            <a:endParaRPr b="0" lang="en-US" sz="5400" spc="-1" strike="noStrike">
              <a:solidFill>
                <a:srgbClr val="006666"/>
              </a:solidFill>
              <a:latin typeface="Arial"/>
            </a:endParaRPr>
          </a:p>
        </p:txBody>
      </p:sp>
      <p:sp>
        <p:nvSpPr>
          <p:cNvPr id="104" name="PlaceHolder 2"/>
          <p:cNvSpPr>
            <a:spLocks noGrp="1"/>
          </p:cNvSpPr>
          <p:nvPr>
            <p:ph type="subTitle"/>
          </p:nvPr>
        </p:nvSpPr>
        <p:spPr>
          <a:xfrm>
            <a:off x="1251000" y="3871800"/>
            <a:ext cx="6642000" cy="17431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898989"/>
              </a:solidFill>
              <a:latin typeface="Verdana"/>
            </a:endParaRPr>
          </a:p>
        </p:txBody>
      </p:sp>
      <p:sp>
        <p:nvSpPr>
          <p:cNvPr id="10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Verdana"/>
              </a:rPr>
              <a:t>Medische kennis; D2A/B Bianka Bijsterveld</a:t>
            </a:r>
            <a:endParaRPr b="0" lang="en-US" sz="1200" spc="-1" strike="noStrike">
              <a:solidFill>
                <a:srgbClr val="000000"/>
              </a:solidFill>
              <a:latin typeface="Verdana"/>
            </a:endParaRPr>
          </a:p>
        </p:txBody>
      </p:sp>
      <p:pic>
        <p:nvPicPr>
          <p:cNvPr id="106" name="Picture 6" descr=""/>
          <p:cNvPicPr/>
          <p:nvPr/>
        </p:nvPicPr>
        <p:blipFill>
          <a:blip r:embed="rId1"/>
          <a:stretch/>
        </p:blipFill>
        <p:spPr>
          <a:xfrm>
            <a:off x="493560" y="1170000"/>
            <a:ext cx="8159760" cy="568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Geleidingsslechthorendheid</a:t>
            </a:r>
            <a:endParaRPr b="0" lang="en-US" sz="3600" spc="-1" strike="noStrike">
              <a:solidFill>
                <a:srgbClr val="006666"/>
              </a:solidFill>
              <a:latin typeface="Arial"/>
            </a:endParaRPr>
          </a:p>
        </p:txBody>
      </p:sp>
      <p:sp>
        <p:nvSpPr>
          <p:cNvPr id="108" name=""/>
          <p:cNvSpPr txBox="1"/>
          <p:nvPr/>
        </p:nvSpPr>
        <p:spPr>
          <a:xfrm>
            <a:off x="1369800" y="1827360"/>
            <a:ext cx="7313400" cy="469728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eluidstrillingen worden niet goed </a:t>
            </a:r>
            <a:r>
              <a:rPr b="0" lang="nl-NL" sz="2400" spc="-1" strike="noStrike" u="sng">
                <a:solidFill>
                  <a:srgbClr val="000000"/>
                </a:solidFill>
                <a:uFillTx/>
                <a:latin typeface="Verdana"/>
              </a:rPr>
              <a:t>voorgeleidt</a:t>
            </a:r>
            <a:r>
              <a:rPr b="0" lang="nl-NL" sz="2400" spc="-1" strike="noStrike">
                <a:solidFill>
                  <a:srgbClr val="000000"/>
                </a:solidFill>
                <a:latin typeface="Verdana"/>
              </a:rPr>
              <a:t> naar het slakkenhui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it houdt in dat het geluid in het buitenoor of middenoor gedempt doorkomt.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gelegen in </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uitwendige gehoorgang </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trommelvlies </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iddenoor</a:t>
            </a:r>
            <a:endParaRPr b="0" lang="en-US" sz="2000" spc="-1" strike="noStrike">
              <a:solidFill>
                <a:srgbClr val="000000"/>
              </a:solidFill>
              <a:latin typeface="Verdana"/>
            </a:endParaRPr>
          </a:p>
          <a:p>
            <a:pPr lvl="1" marL="7430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Geleidingsslechthorendheid -oorzaken</a:t>
            </a:r>
            <a:endParaRPr b="0" lang="en-US" sz="3600" spc="-1" strike="noStrike">
              <a:solidFill>
                <a:srgbClr val="006666"/>
              </a:solidFill>
              <a:latin typeface="Arial"/>
            </a:endParaRPr>
          </a:p>
        </p:txBody>
      </p:sp>
      <p:sp>
        <p:nvSpPr>
          <p:cNvPr id="110" name=""/>
          <p:cNvSpPr txBox="1"/>
          <p:nvPr/>
        </p:nvSpPr>
        <p:spPr>
          <a:xfrm>
            <a:off x="1369800" y="1557360"/>
            <a:ext cx="7313400" cy="438480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erumen</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titis externa</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Ontsteking van de uitwendige gehoorgang: zwelling van de huid van de gehoorgang en ontstekingsvocht kunnen de gehoorgang tijdelijk afsluiten. </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rommelvliesperforatie</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erkoudheid </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Tijdens een verkoudheid kan de buis van Eustachius (die het middenoor met de neuskeelholte verbindt) verstopt raken. </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MA</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ME</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tosclerose</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Soms kunnen de gehoorbeentjes door een soort verkalking vast gaan zitten, waardoor het gehoor geleidelijk vermindert. Otosclerose is een erfelijke afwijking. De gehoorbeentjes kunnen door een operatie weer worden losgemaakt.</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1" name="Picture 4" descr=""/>
          <p:cNvPicPr/>
          <p:nvPr/>
        </p:nvPicPr>
        <p:blipFill>
          <a:blip r:embed="rId1"/>
          <a:stretch/>
        </p:blipFill>
        <p:spPr>
          <a:xfrm>
            <a:off x="5332320" y="5732640"/>
            <a:ext cx="2737080" cy="121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MA</a:t>
            </a:r>
            <a:endParaRPr b="0" lang="en-US" sz="3600" spc="-1" strike="noStrike">
              <a:solidFill>
                <a:srgbClr val="006666"/>
              </a:solidFill>
              <a:latin typeface="Arial"/>
            </a:endParaRPr>
          </a:p>
        </p:txBody>
      </p:sp>
      <p:sp>
        <p:nvSpPr>
          <p:cNvPr id="113" name=""/>
          <p:cNvSpPr txBox="1"/>
          <p:nvPr/>
        </p:nvSpPr>
        <p:spPr>
          <a:xfrm>
            <a:off x="1369800" y="1628640"/>
            <a:ext cx="7313400" cy="48960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titis media acuta (OMA)</a:t>
            </a:r>
            <a:endParaRPr b="0" lang="en-US" sz="25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fsluiting van Buis van Eustachius (slijmvlieszwelling bij verkoudheid, allergie)</a:t>
            </a: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Lucht in middenoor wordt vocht, i.g.v. bacteriën pusvorming</a:t>
            </a:r>
            <a:endParaRPr b="0" lang="en-US" sz="18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ymptomen</a:t>
            </a:r>
            <a:endParaRPr b="0" lang="en-US" sz="21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orpijn</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lechthorendheid</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oorts</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Braken, diarree (bij hele kleine kinderen)</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herapie</a:t>
            </a:r>
            <a:endParaRPr b="0" lang="en-US" sz="21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ijnstilling</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vt. neusdruppel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ME</a:t>
            </a:r>
            <a:endParaRPr b="0" lang="en-US" sz="3600" spc="-1" strike="noStrike">
              <a:solidFill>
                <a:srgbClr val="006666"/>
              </a:solidFill>
              <a:latin typeface="Arial"/>
            </a:endParaRPr>
          </a:p>
        </p:txBody>
      </p:sp>
      <p:sp>
        <p:nvSpPr>
          <p:cNvPr id="115" name=""/>
          <p:cNvSpPr txBox="1"/>
          <p:nvPr/>
        </p:nvSpPr>
        <p:spPr>
          <a:xfrm>
            <a:off x="1331640" y="1483920"/>
            <a:ext cx="7351560" cy="5373720"/>
          </a:xfrm>
          <a:prstGeom prst="rect">
            <a:avLst/>
          </a:prstGeom>
          <a:noFill/>
          <a:ln w="0">
            <a:noFill/>
          </a:ln>
        </p:spPr>
        <p:txBody>
          <a:bodyPr anchor="t">
            <a:normAutofit/>
          </a:bodyPr>
          <a:p>
            <a:pPr lvl="2"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titis media met effusie (OME) =</a:t>
            </a:r>
            <a:endParaRPr b="0" lang="en-US" sz="2500" spc="-1" strike="noStrike">
              <a:solidFill>
                <a:srgbClr val="000000"/>
              </a:solidFill>
              <a:latin typeface="Verdana"/>
            </a:endParaRPr>
          </a:p>
          <a:p>
            <a:pPr lvl="2"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	</a:t>
            </a:r>
            <a:r>
              <a:rPr b="0" lang="nl-NL" sz="2500" spc="-1" strike="noStrike">
                <a:solidFill>
                  <a:srgbClr val="000000"/>
                </a:solidFill>
                <a:latin typeface="Verdana"/>
              </a:rPr>
              <a:t>Glue ear/lijmoor</a:t>
            </a:r>
            <a:endParaRPr b="0" lang="en-US" sz="25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Lucht in middenoor wordt vocht, vocht wordt taai en kleverig</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g.v. afsluiting buis van E. bij verkoudheid/allergie/vergroot adenoïd</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aak geen duidelijke oorzaak</a:t>
            </a:r>
            <a:endParaRPr b="0" lang="en-US" sz="18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ymptomen</a:t>
            </a:r>
            <a:endParaRPr b="0" lang="en-US" sz="21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lecht horen</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praakontwikkeling gestoord</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oms tijdelijk acute klachten: oorpijn, koorts</a:t>
            </a:r>
            <a:endParaRPr b="0" lang="en-US" sz="1800" spc="-1" strike="noStrike">
              <a:solidFill>
                <a:srgbClr val="000000"/>
              </a:solidFill>
              <a:latin typeface="Verdana"/>
            </a:endParaRPr>
          </a:p>
          <a:p>
            <a:pPr lvl="2" marL="343080" indent="-343080">
              <a:lnSpc>
                <a:spcPct val="90000"/>
              </a:lnSpc>
              <a:spcBef>
                <a:spcPts val="4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herapie</a:t>
            </a:r>
            <a:endParaRPr b="0" lang="en-US" sz="2100" spc="-1" strike="noStrike">
              <a:solidFill>
                <a:srgbClr val="000000"/>
              </a:solidFill>
              <a:latin typeface="Verdana"/>
            </a:endParaRPr>
          </a:p>
          <a:p>
            <a:pPr lvl="2" marL="343080" indent="-343080">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denotomie</a:t>
            </a:r>
            <a:endParaRPr b="0" lang="en-US" sz="1800" spc="-1" strike="noStrike">
              <a:solidFill>
                <a:srgbClr val="000000"/>
              </a:solidFill>
              <a:latin typeface="Verdana"/>
            </a:endParaRPr>
          </a:p>
          <a:p>
            <a:pPr lvl="2" marL="343080" indent="-343080">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rommelvliesbuisjes</a:t>
            </a: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Perceptieslechthorendheid</a:t>
            </a:r>
            <a:endParaRPr b="0" lang="en-US" sz="3600" spc="-1" strike="noStrike">
              <a:solidFill>
                <a:srgbClr val="006666"/>
              </a:solidFill>
              <a:latin typeface="Arial"/>
            </a:endParaRPr>
          </a:p>
        </p:txBody>
      </p:sp>
      <p:sp>
        <p:nvSpPr>
          <p:cNvPr id="117" name=""/>
          <p:cNvSpPr txBox="1"/>
          <p:nvPr/>
        </p:nvSpPr>
        <p:spPr>
          <a:xfrm>
            <a:off x="1369800" y="1827360"/>
            <a:ext cx="7313400" cy="4697280"/>
          </a:xfrm>
          <a:prstGeom prst="rect">
            <a:avLst/>
          </a:prstGeom>
          <a:noFill/>
          <a:ln w="0">
            <a:noFill/>
          </a:ln>
        </p:spPr>
        <p:txBody>
          <a:bodyPr anchor="t">
            <a:normAutofit fontScale="99000"/>
          </a:bodyPr>
          <a:p>
            <a:pPr marL="339480" indent="-3394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Geluidstrillingen worden niet goed </a:t>
            </a:r>
            <a:r>
              <a:rPr b="0" lang="nl-NL" sz="2800" spc="-1" strike="noStrike" u="sng">
                <a:solidFill>
                  <a:srgbClr val="000000"/>
                </a:solidFill>
                <a:uFillTx/>
                <a:latin typeface="Verdana"/>
              </a:rPr>
              <a:t>omgezet</a:t>
            </a:r>
            <a:r>
              <a:rPr b="0" lang="nl-NL" sz="2800" spc="-1" strike="noStrike">
                <a:solidFill>
                  <a:srgbClr val="000000"/>
                </a:solidFill>
                <a:latin typeface="Verdana"/>
              </a:rPr>
              <a:t>  in zenuwimpulsen</a:t>
            </a:r>
            <a:endParaRPr b="0" lang="en-US" sz="2800" spc="-1" strike="noStrike">
              <a:solidFill>
                <a:srgbClr val="000000"/>
              </a:solidFill>
              <a:latin typeface="Verdana"/>
            </a:endParaRPr>
          </a:p>
          <a:p>
            <a:pPr marL="339480" indent="-3394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cellen in het slakkenhuis beschadigd zijn, zijn geluiden minder goed hoorbaar en worden ze bovendien vervormd.</a:t>
            </a:r>
            <a:endParaRPr b="0" lang="en-US" sz="2800" spc="-1" strike="noStrike">
              <a:solidFill>
                <a:srgbClr val="000000"/>
              </a:solidFill>
              <a:latin typeface="Verdana"/>
            </a:endParaRPr>
          </a:p>
          <a:p>
            <a:pPr marL="339480" indent="-3394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Perceptief gehoorverlies is onherstelbaar</a:t>
            </a:r>
            <a:endParaRPr b="0" lang="en-US" sz="2800" spc="-1" strike="noStrike">
              <a:solidFill>
                <a:srgbClr val="000000"/>
              </a:solidFill>
              <a:latin typeface="Verdana"/>
            </a:endParaRPr>
          </a:p>
          <a:p>
            <a:pPr marL="339480" indent="-3394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Oorzaak gelegen in </a:t>
            </a:r>
            <a:endParaRPr b="0" lang="en-US" sz="29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Binnenoor </a:t>
            </a:r>
            <a:endParaRPr b="0" lang="en-US" sz="25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hoorszenuw</a:t>
            </a:r>
            <a:endParaRPr b="0" lang="en-US" sz="25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Hersenschors</a:t>
            </a:r>
            <a:endParaRPr b="0" lang="en-US" sz="2500" spc="-1" strike="noStrike">
              <a:solidFill>
                <a:srgbClr val="000000"/>
              </a:solidFill>
              <a:latin typeface="Verdana"/>
            </a:endParaRPr>
          </a:p>
          <a:p>
            <a:pPr marL="339480" indent="-3394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Perceptieslechthorendheid-oorzaken</a:t>
            </a:r>
            <a:endParaRPr b="0" lang="en-US" sz="3600" spc="-1" strike="noStrike">
              <a:solidFill>
                <a:srgbClr val="006666"/>
              </a:solidFill>
              <a:latin typeface="Arial"/>
            </a:endParaRPr>
          </a:p>
        </p:txBody>
      </p:sp>
      <p:sp>
        <p:nvSpPr>
          <p:cNvPr id="119" name=""/>
          <p:cNvSpPr txBox="1"/>
          <p:nvPr/>
        </p:nvSpPr>
        <p:spPr>
          <a:xfrm>
            <a:off x="1369800" y="1628640"/>
            <a:ext cx="7313400" cy="431352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Lawaai</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Regelmatige blootstelling aan lawaai (popconcert, discotheek, MP3-speler, machine op het werk)</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rfelijkheid</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In sommige families zijn er per generatie telkens een aantal personen die op jonge leeftijd (tussen 40 tot 50 jaar) slechthorend worden.</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uderdom </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M.n. hoge tonen – 4000 Hz - spraakgebied</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M. Menière</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Oorzaak ?</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Aanvallen van enkele uren met draaiduizeligheid, oorsuizen, slechthorendheid, soms ook misselijk/braken</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Uitgelokt door spanning</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Gehoor neemt na elke aanval verder af</a:t>
            </a:r>
            <a:endParaRPr b="0" lang="en-US" sz="14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9:30:33Z</dcterms:created>
  <dc:creator>vredelust</dc:creator>
  <dc:description/>
  <dc:language>en-US</dc:language>
  <cp:lastModifiedBy>Marlies Bouland</cp:lastModifiedBy>
  <dcterms:modified xsi:type="dcterms:W3CDTF">2018-03-21T11:36:07Z</dcterms:modified>
  <cp:revision>48</cp:revision>
  <dc:subject/>
  <dc:title>GROEI</dc:title>
</cp:coreProperties>
</file>