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27F-2479-452B-879B-6256E2B4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FF6-B2BB-4AEE-9ACB-10677DE6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211-2623-4E4E-B437-211A13AA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109-5C2B-4031-8DB4-EF8E1B49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DBF3-AC56-4D8D-B816-7AB63CA2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1F75-F58C-42A7-85DC-1A3C90D0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4818-703C-45AE-98D4-877AD110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7607-F3FA-49DD-90DD-1F138898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BE2C-8857-44D0-943B-0F2527D7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9E72-B714-4F93-B5CC-19004864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18F5-189D-42D7-B37E-64638B43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44C-F932-4F4B-B6A9-266ED1E6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93FF-037F-4702-84A7-7FBE239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529C-EF1D-4497-8EE0-1BAD12FB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6635-4242-4154-BFC7-8BE12388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ACE4-5664-464E-BADB-2021F727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5580-5BB3-4114-9B6B-CB207B94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F7AC-F7F9-47EF-A4A2-729E3162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CCE97-42D7-4471-9EF8-2FD3A405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B7BE-0235-4F46-9A95-6EB353B4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A308-598A-483E-BECF-2167C2CF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1881-B0AC-4F8E-BB67-75E8BFF0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506-F57C-4F4A-BB48-EBA07C0D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0785-8158-4F24-BB15-A1CB79AA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FB42-1E95-4476-AD07-C483B563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099A-1A35-4BEF-B335-5602A81B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9524-10EA-4A20-AA99-A737311A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D3AE-89E4-4BEF-AF50-0346A2D9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F91B-F55F-43A7-B26D-3C28312B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48F6-9A90-42F9-AE9E-234DD2D2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60645-B2EA-46F7-93FF-C75C6563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AFF69-9314-4C8B-9DEA-F2CDB269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37F96-7301-49DD-B1C2-B5C17774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F36-342C-45A8-84B3-70CB028C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26D4-D8CC-4BB0-9A5C-F6F661D6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F6370-8713-413A-9A0F-BAFD4CAE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C07F1-8BB2-4D7A-B0AE-040EB140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EF47-BFE0-4958-B0BA-92581BF1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516FC-18F7-44BB-A46E-16773E2B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A0C9-924C-4652-A998-A79021D3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9C19B-3ADE-4665-B440-52C4D704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EFFD-0A3F-4696-B052-52622371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33A2B-BA1A-4306-A868-B6C034B9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A78-B7A1-4889-8244-C49063B0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AD9-8F1F-4FD9-9F35-23D12619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09C-7CAF-4216-8D57-36DB8AAB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B28-2391-4AE3-B09F-4655820F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966-F786-47D7-AFAC-8FF986F3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2E129-5E2B-4A73-8A1E-F6F230FCB62B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7FBC8-14B1-408A-B30A-1F53AFA1D21E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95B69-5600-40E5-8C7E-3FCF91649D22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67E8F-2376-48CD-B3F0-FDB811F0984E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Benigne en maligne tumoren</a:t>
            </a:r>
            <a:br>
              <a:rPr sz="7200"/>
            </a:b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INLEIDING MEDISCHE KENNIS H. 9 EN 1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Secundaire preventie: ‘Seven signals of danger’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nschuldige klachten die te lang du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bnormale vormen van bloedver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Zwellingen, vooral als ze geen pijn do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Verandering afwijking huid: kleur, vorm, jeu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Zweertje dat niet binnen enkele weken genee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Vermagering, zonder re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Verandering defecatiepatroon, normale regelmaat of soort ontlast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28"/>
          <p:cNvSpPr/>
          <p:nvPr/>
        </p:nvSpPr>
        <p:spPr>
          <a:xfrm>
            <a:off x="179280" y="3570840"/>
            <a:ext cx="111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7b9899"/>
                </a:solidFill>
                <a:latin typeface="Century Gothic"/>
              </a:rPr>
              <a:t>Maar ook:</a:t>
            </a:r>
            <a:r>
              <a:rPr b="0" lang="nl-NL" sz="3600" spc="-1" strike="noStrike">
                <a:solidFill>
                  <a:srgbClr val="7b9899"/>
                </a:solidFill>
                <a:latin typeface="Century Gothic"/>
              </a:rPr>
              <a:t>	</a:t>
            </a:r>
            <a:r>
              <a:rPr b="0" lang="nl-NL" sz="3600" spc="-1" strike="noStrike">
                <a:solidFill>
                  <a:srgbClr val="7b9899"/>
                </a:solidFill>
                <a:latin typeface="Century Gothic"/>
              </a:rPr>
              <a:t>(</a:t>
            </a:r>
            <a:r>
              <a:rPr b="0" lang="en-US" sz="3600" spc="-1" strike="noStrike">
                <a:solidFill>
                  <a:srgbClr val="7b9899"/>
                </a:solidFill>
                <a:latin typeface="Century Gothic"/>
              </a:rPr>
              <a:t>bron: www.kwf.nl)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21932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lijvende heesheid of hoest</a:t>
            </a: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entury Gothic"/>
              </a:rPr>
              <a:t>Slikklachten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ieuwe of veranderende moedervlekken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en (niet genezend) schilferend plekje of bobbeltje op de hui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en verdikking of bobbel(tje) ergens in uw lichaam, m.n pijnloz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8732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bijv. in de borst, zaadbal, hals, oksel, lies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28"/>
          <p:cNvSpPr/>
          <p:nvPr/>
        </p:nvSpPr>
        <p:spPr>
          <a:xfrm>
            <a:off x="179280" y="3570840"/>
            <a:ext cx="111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	</a:t>
            </a: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	</a:t>
            </a: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(</a:t>
            </a:r>
            <a:r>
              <a:rPr b="0" lang="en-US" sz="4200" spc="-1" strike="noStrike">
                <a:solidFill>
                  <a:srgbClr val="7b9899"/>
                </a:solidFill>
                <a:latin typeface="Century Gothic"/>
              </a:rPr>
              <a:t>bron: www.kwf.nl)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rouw: Ongewoon vaginaal bloedverlies of abnormale afscheiding buiten de menstruatie om. Man: zaadbalklachten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eranderingen bij het plassen zoals moeilijker kunnen plassen, vaker moeten plassen, pijn bij het plassen of bloed in uw pla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7b9899"/>
                </a:solidFill>
                <a:latin typeface="Century Gothic"/>
              </a:rPr>
              <a:t>Verschijnselen en diagnos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oeheid &gt; </a:t>
            </a:r>
            <a:r>
              <a:rPr b="0" lang="en-US" sz="1900" spc="-1" strike="noStrike">
                <a:solidFill>
                  <a:srgbClr val="ff0000"/>
                </a:solidFill>
                <a:latin typeface="Century Gothic"/>
              </a:rPr>
              <a:t>in later stadium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Erg veel pijn &gt; bot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Kortademig &gt; long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oofdpijn, gedragsverandering &gt; hersen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Geelzucht en jeuk &gt; levermetastase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ewijs van bestaan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atholoog onderzoekt cellen/weefsel via biop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anvullend onderzoek: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loedonderzoek en beeldvormend onderzoek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7b9899"/>
                </a:solidFill>
                <a:latin typeface="Century Gothic"/>
              </a:rPr>
              <a:t>Behandeling van maligne tumoren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uratief = geneze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lliatief = verzachte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Gericht op het verlichten van het lijd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Veelal gericht op pijn in later stadiu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irurgie = curatief: alle kankercellen zijn uit lichaa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adiotherapie </a:t>
            </a:r>
            <a:r>
              <a:rPr b="0" lang="nl-NL" sz="2100" spc="-1" strike="noStrike">
                <a:solidFill>
                  <a:srgbClr val="ffffff"/>
                </a:solidFill>
                <a:latin typeface="Century Gothic"/>
              </a:rPr>
              <a:t>(bestraling)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Doet geen pijn, wel moeheid klachten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Bijwerkingen: ook gezonde, </a:t>
            </a:r>
            <a:r>
              <a:rPr b="1" lang="nl-NL" sz="1800" spc="-1" strike="noStrike">
                <a:solidFill>
                  <a:srgbClr val="ffffff"/>
                </a:solidFill>
                <a:latin typeface="Century Gothic"/>
              </a:rPr>
              <a:t>snel-delende</a:t>
            </a: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 cellen worden vernietigd, bijv. bestralingsdermatitis (irritatie en ontsteking op stralingsplek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7b9899"/>
                </a:solidFill>
                <a:latin typeface="Century Gothic"/>
              </a:rPr>
              <a:t>Vervolg 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1484280"/>
            <a:ext cx="67122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colytic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entury Gothic"/>
              </a:rPr>
              <a:t>Chemotherapie: Cytostatica=celdeling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ijwerkingen: ook gezonde snel delende cellen worden vernietigd, bijv. haaruitval, diarree, anemie, leukopenie, trombocytopenie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s een aanslag op de gezondhei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rnstig is beschadiging van beenmerg &gt; aanmaak bloedcellen verstoord. (rode: anemie, witte: infecties, bloedplaatjes: bloeding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Prognos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unstig of ongunstig - vooral afhankelijk van tijdstip van diagno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jfjaars overlev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het % patiënten dat 5 jaar na stellen van de diagnose nog leef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spelling voor de individuele patiënt is moeilijk te do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289400" cy="3456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4684680" y="1569960"/>
            <a:ext cx="411804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79280" y="892080"/>
            <a:ext cx="8766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2 betekenissen van het woord tumor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1320" y="15937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well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bij ontsteking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holte gevuld met vocht of andere substantie (cyste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zwel (toename cellen </a:t>
            </a:r>
            <a:r>
              <a:rPr b="0" i="1" lang="nl-NL" sz="2000" spc="-1" strike="noStrike">
                <a:solidFill>
                  <a:srgbClr val="ffffff"/>
                </a:solidFill>
                <a:latin typeface="Century Gothic"/>
              </a:rPr>
              <a:t>ofwel weefselgroei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Ook wel neoplasm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ellen worden dik en groei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Mal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Century Gothic"/>
              </a:rPr>
              <a:t>IMK hfst 10.7 – zelf uittreksel en vragen maken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ronchus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amma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prostaat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endometrium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ervix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olon en rectum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ela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asali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aagcarcinoom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Cel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arom delen cellen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Groei (kin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Vervangen van oude cellen &gt; in het volwassen lichaam zijn regelmechanism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Century Gothic"/>
              </a:rPr>
              <a:t>Maar.. zenuwcellen delen niet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Century Gothic"/>
              </a:rPr>
              <a:t>&gt; neuronen zijn niet in staat om te dele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ebeb"/>
                </a:solidFill>
                <a:latin typeface="Century Gothic"/>
              </a:rPr>
              <a:t>Benigne tumoren = goedaardig gezwel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entury Gothic"/>
              </a:rPr>
              <a:t>Rustige cellen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Gladde, regelmatige begrenzing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Geen infiltratieve groei (=doorgroei in omgeving)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Geen metastasering (=verspreiding via bloed- of lymfebaan)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300" spc="-1" strike="noStrike">
                <a:solidFill>
                  <a:srgbClr val="ffffff"/>
                </a:solidFill>
                <a:latin typeface="Century Gothic"/>
              </a:rPr>
              <a:t>Problemen door grootte of plaats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nl-NL" sz="2300" spc="-1" strike="noStrike">
                <a:solidFill>
                  <a:srgbClr val="ffffff"/>
                </a:solidFill>
                <a:latin typeface="Century Gothic"/>
              </a:rPr>
              <a:t>Sommige goedaardige tumoren kunnen op termijn wel kwaadaardig worden! 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Voorbeelden ben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11280" y="126792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ibroom = bindweefselgezw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poom = vetweefselgezwel (vetbultj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ruca vulgaris = wr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ollusca contagiosa = waterwratj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yoom = spierweefselgezwel (“vleesboom”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4" name="Afbeelding 3" descr="wrat 2.jpg"/>
          <p:cNvPicPr/>
          <p:nvPr/>
        </p:nvPicPr>
        <p:blipFill>
          <a:blip r:embed="rId1"/>
          <a:stretch/>
        </p:blipFill>
        <p:spPr>
          <a:xfrm>
            <a:off x="900000" y="429264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4" descr="Mollusca contagiosa.png"/>
          <p:cNvPicPr/>
          <p:nvPr/>
        </p:nvPicPr>
        <p:blipFill>
          <a:blip r:embed="rId2"/>
          <a:stretch/>
        </p:blipFill>
        <p:spPr>
          <a:xfrm>
            <a:off x="4762440" y="4292640"/>
            <a:ext cx="2986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Voorbeelden ben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ngioom (aardbei-/frambozenvlek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= Benigne tumor van bloedvaten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Komt voor bij baby’s en kleine kindere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ij geboorte meestal niet zichtbaa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Wordt rode vlek/zwelling (van speldepunt tot tennisba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Afwijking verdwijnt meestal vanzelf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Geen behandeling nodig tenzij oog wordt geblokkeerd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Afbeelding 3" descr="hemangioom 1.jpg"/>
          <p:cNvPicPr/>
          <p:nvPr/>
        </p:nvPicPr>
        <p:blipFill>
          <a:blip r:embed="rId1"/>
          <a:stretch/>
        </p:blipFill>
        <p:spPr>
          <a:xfrm>
            <a:off x="4716360" y="5292720"/>
            <a:ext cx="2024280" cy="1347840"/>
          </a:xfrm>
          <a:prstGeom prst="rect">
            <a:avLst/>
          </a:prstGeom>
          <a:ln w="0">
            <a:noFill/>
          </a:ln>
        </p:spPr>
      </p:pic>
      <p:pic>
        <p:nvPicPr>
          <p:cNvPr id="249" name="Afbeelding 4" descr="hemangioom 2.jpg"/>
          <p:cNvPicPr/>
          <p:nvPr/>
        </p:nvPicPr>
        <p:blipFill>
          <a:blip r:embed="rId2"/>
          <a:stretch/>
        </p:blipFill>
        <p:spPr>
          <a:xfrm>
            <a:off x="6919920" y="5286240"/>
            <a:ext cx="19288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benigne tumor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11280" y="126792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ffffff"/>
                </a:solidFill>
                <a:latin typeface="Century Gothic"/>
              </a:rPr>
              <a:t>Fibroadenoom = combi van bindweefsel en klierweefseltumor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omt alleen voor in de mamma (=borst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an kwaadaardig worden, groeit door oestrogeen hormoon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ffffff"/>
                </a:solidFill>
                <a:latin typeface="Century Gothic"/>
              </a:rPr>
              <a:t>Poliep = uitstulping slijmvlies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Binnenbekleding van orgaan &gt; darm of blaas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an kwaadaardig zijn/worden &gt; daarom altijd verwijderen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ffffff"/>
                </a:solidFill>
                <a:latin typeface="Century Gothic"/>
              </a:rPr>
              <a:t>Naevus = Moedervlek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Soms vlek, soms gezwelletje van pigment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Century Gothic"/>
              </a:rPr>
              <a:t>Kan kwaadaardig worden (melanoom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Century Gothic"/>
              </a:rPr>
              <a:t>Symptomen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Snelle groei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Vreemde verkleuring (lichter of donkerder)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Jeuk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Bloede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Vormverandering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Afbeelding 2" descr=""/>
          <p:cNvPicPr/>
          <p:nvPr/>
        </p:nvPicPr>
        <p:blipFill>
          <a:blip r:embed="rId1"/>
          <a:stretch/>
        </p:blipFill>
        <p:spPr>
          <a:xfrm>
            <a:off x="6012000" y="4437000"/>
            <a:ext cx="2674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ebebeb"/>
                </a:solidFill>
                <a:latin typeface="Century Gothic"/>
              </a:rPr>
              <a:t>Maligne tumoren = kwaadaardig gezwel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560" y="1852560"/>
            <a:ext cx="67122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Ongeremde celdeling door mutatie in de kern van cel &gt; Begint in 1 cel en erfelijk materiaal in cel veranderd niet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Century Gothic"/>
              </a:rPr>
              <a:t>Oorzaak lang niet altijd bekend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Century Gothic"/>
              </a:rPr>
              <a:t>Wel bekend: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entury Gothic"/>
              </a:rPr>
              <a:t>Roken (teer)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entury Gothic"/>
              </a:rPr>
              <a:t>Straling, waaronder zonlicht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buClr>
                <a:srgbClr val="ce560e"/>
              </a:buClr>
              <a:buSzPct val="80000"/>
              <a:buFont typeface="Wingdings" charset="2"/>
              <a:buChar char="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entury Gothic"/>
              </a:rPr>
              <a:t>Virus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Bij ontdekking ziekte vergevorderd!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3" marL="10969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Constante verdubbelingstijd &gt; </a:t>
            </a:r>
            <a:r>
              <a:rPr b="0" lang="nl-NL" sz="1300" spc="-1" strike="noStrike">
                <a:solidFill>
                  <a:srgbClr val="ff0000"/>
                </a:solidFill>
                <a:latin typeface="Century Gothic"/>
              </a:rPr>
              <a:t>explosieve groei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!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0000"/>
                </a:solidFill>
                <a:latin typeface="Century Gothic"/>
              </a:rPr>
              <a:t>Infiltratie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 = (soms agressief) doorgroei in omgeving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0000"/>
                </a:solidFill>
                <a:latin typeface="Century Gothic"/>
              </a:rPr>
              <a:t>Metastasen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 = uitzaaiingen </a:t>
            </a:r>
            <a:r>
              <a:rPr b="0" lang="nl-NL" sz="1200" spc="-1" strike="noStrike">
                <a:solidFill>
                  <a:srgbClr val="ffffff"/>
                </a:solidFill>
                <a:latin typeface="Century Gothic"/>
              </a:rPr>
              <a:t>(hematogeen/lymfogeen) Kankercellen door lymfaatje groeien &gt; lymfeklier &gt; lymfogee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Kankercellen door haarvaatje groeien &gt; bloed meestromen &gt; Hematogene metastase (bot, lever, 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ersenen)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Vreet lichaamsenergie en schadelijke stoffen vrij in het bloed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1300" spc="-1" strike="noStrike">
                <a:solidFill>
                  <a:srgbClr val="ffffff"/>
                </a:solidFill>
                <a:latin typeface="Century Gothic"/>
              </a:rPr>
              <a:t>&gt; moeheid &gt; </a:t>
            </a:r>
            <a:r>
              <a:rPr b="0" i="1" lang="nl-NL" sz="1300" spc="-1" strike="noStrike">
                <a:solidFill>
                  <a:srgbClr val="ffffff"/>
                </a:solidFill>
                <a:latin typeface="Century Gothic"/>
              </a:rPr>
              <a:t>algehele malaise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lvl="1" marL="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7b9899"/>
                </a:solidFill>
                <a:latin typeface="Century Gothic"/>
              </a:rPr>
              <a:t>Preventie in HAP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1341000"/>
            <a:ext cx="6712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imaire preventie (voorkomen dat de ziekte ontstaat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Voorlichting, zoal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Niet roke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Gezond eten (beperkt dierlijk vet, veel groente en fru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eperkt alcoho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Niet zonnen tussen 12 en 15 uu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ecundaire preventie (ziekte zo vroeg mogelijk vaststellen dat gevolgen ervan worden voorkome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3 bevolkingsonderzoeken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aarmoederhalskanker (uitstrijkj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Borstkanker (mammografi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228600">
              <a:lnSpc>
                <a:spcPct val="90000"/>
              </a:lnSpc>
              <a:spcBef>
                <a:spcPts val="1001"/>
              </a:spcBef>
              <a:buClr>
                <a:srgbClr val="e6b729"/>
              </a:buClr>
              <a:buSzPct val="80000"/>
              <a:buFont typeface="Wingdings 2" charset="2"/>
              <a:buChar char="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Darmkanker (fecesonderzoe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547560" indent="-2728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Marlies Bouland</cp:lastModifiedBy>
  <dcterms:modified xsi:type="dcterms:W3CDTF">2019-03-12T15:19:49Z</dcterms:modified>
  <cp:revision>108</cp:revision>
  <dc:subject/>
  <dc:title>Conclusies enquête panel DA</dc:title>
</cp:coreProperties>
</file>