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1448-4748-48E2-AEE1-330CBDB6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070-0339-4013-B630-F6C9AF60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CA70-BF08-49EC-895C-CCEAC943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679-02BC-40CF-B7C4-D008957C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B431-DACF-438D-8F2F-22F8D418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57E5-3524-4E13-97E7-E306EED1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18B8-248F-4706-93EB-577ACAFD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AE60-E306-4558-8667-96CA531C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4050-EFBF-4433-8F79-C51A5F93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E656-6A97-4609-8AD3-59410E06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12F7-4E67-4E04-BFDA-4B5EEC71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99A-18DF-4786-9361-0E16D0AD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0CD8-81AE-477D-A723-B089A3FD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53E9-455F-4260-9237-24D5FE92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D2A2-0D97-4DC3-9A77-8A24E2E2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551F-BBF5-47B5-A980-7CABCF60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C08A-4C3A-4536-A4DC-ED728414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72A06-57A8-4734-B0FF-87254749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A282D-1CC8-41DD-92C6-936C3BED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9D8C4-EB1F-4EF0-AC2E-52F405DE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FA57E-3C07-409B-BB23-D9237F3C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A71A0-FECA-4E86-991E-664C8761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C08B-BE88-4DE5-85E3-95F743CC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9134F-A869-4398-8C78-FCB898D9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663DB-016D-4002-B8FD-81930A09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B1A29-6A76-4742-806A-80C4AFEE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7F274-5091-496A-B049-C6E0E9B9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A1A11-3ACA-4451-8B57-41E257A4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602F2-19BC-4070-8B12-9565C01E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004E9-E316-4A21-8882-6F67C2F2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7EACE-2A51-4C3D-9762-96547368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6F848-C048-4762-AD0D-6A437C1E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10728-88AD-43BB-B395-31EEE927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0DAC-21F6-4867-9675-9ABA4A67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32206-C769-4BDA-B991-E4FCD2A4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AD9AB-BAD0-41AA-8D5D-357E7A43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7DAFE-58FF-4A26-B09F-4A9ED476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57724-0DEB-4D4D-BD73-D7248D99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7414A-74F4-46F0-A54F-834607F3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A8C7A-E98B-4823-B351-B3BD1B44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7B634-DD4C-4D30-9B92-B4109FB8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D091C-8A84-46EE-B8AB-42C227F6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CA22F-2B71-490E-916B-E24A362A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668-FE9C-4D84-9F79-7ABCFBB6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06D0-6758-408C-B3C9-BE244181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95CF-7080-40ED-9CF5-EC6A5B62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72C1-79CB-42D5-A1FB-0F0B8217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25C7-73C8-4636-AAB0-BC5475A2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051F-7A5E-49CD-92F9-E03DE8EB25AF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51D2-6895-44B5-B821-74817242EDD3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7AFF-30AA-4930-9AEC-A195AEB78879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07C1-87BA-4655-AF14-C035F30D06EB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antacida&amp;start=158&amp;um=1&amp;hl=nl&amp;sa=N&amp;biw=1280&amp;bih=801&amp;tbm=isch&amp;tbnid=mtfaM2B-ClcrzM:&amp;imgrefurl=http://www.lekarna-net.cz/kategorie/0109/2/hvlp/antacida-(vcetne-antiulcerosnich-leciv)&amp;docid=BsAMXflxG0bpqM&amp;imgurl=http://www.lekarna-net.cz/obrazek.php%253Fpdk%253D5000158066359&amp;w=400&amp;h=400&amp;ei=YxYqUdTqNNCW0QXNiYDoBQ&amp;zoom=1&amp;iact=hc&amp;vpx=1008&amp;vpy=199&amp;dur=1609&amp;hovh=225&amp;hovw=225&amp;tx=126&amp;ty=139&amp;sig=110308519874302738132&amp;page=5&amp;tbnh=147&amp;tbnw=146&amp;ndsp=37&amp;ved=1t:429,i:217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Constantia"/>
              </a:rPr>
              <a:t>Geneesmiddelen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72728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65e9c"/>
                </a:solidFill>
                <a:latin typeface="Franklin Gothic Book"/>
              </a:rPr>
              <a:t>Maag en darm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Anti - Emetic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nderdrukken braakneig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oepassen bij symptomatische bestrijding van misselijkheid en brak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isselijkheid is een vervelend gevoel in de buik o.a. door vertraagde darmperistaltiek m.a.g. een vertraagde maagontlediging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Vervolg: braken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erste  maanden van de zwangerschap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ij migraine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Komt vaak voor bij radiotherapie of chemotherap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Kytril en Zofran zijn krachtige anti-emetica en worden hierbij toegepas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Middelen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826920" y="1981080"/>
            <a:ext cx="7250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mperidon en primperan zorgen voor een snellere maagontlediging waardoor de misselijkheidsklachten verdwij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imatour en cyclizine bij reisziekte en    migra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le drie zijn zonder recept verkrijgbaa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nstantia"/>
              </a:rPr>
              <a:t>Geneesmiddelen voor darmaandoeninge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4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ntidiarrhoic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ntstekingsremmende midd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Laxanti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pasmolytic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nstantia"/>
              </a:rPr>
              <a:t>Antidiarrhoic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topmiddel’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Loperamide of imodium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Remt darmperistaltiek, maar oorzaak verdwijnt nie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arbo adsorbens (Norit) is werking nooit aangetoon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Zelfzorg: OR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87280" y="620640"/>
            <a:ext cx="69660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nstantia"/>
              </a:rPr>
              <a:t>Ontstekingsremmende middel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Prednison (oraal) en Pentasa (rectaal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ij chronische darmontsteki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rale toediening: tabletten vaak voorzien van maagsapresistentie: inhoud komt pas vrij in de darmen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Laxanti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toelgang bevorder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Contactlaxantia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: prikkelen van darmwand: incidenteel en kortdurend gebruik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isacodyl (O) en microlax (R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Osmotische laxantia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: houden vocht vast in dikke darm. Milde werking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Lactulose (O) en movicolon (O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Vervolg laxanti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olume vergrotende middelen: onverteerbare vezel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etamucil (O) en volcolon (O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el bij drink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Spasmolytic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m darmkrampen op te heffen, gat verkramping van de spieren in darmwand te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ij prikkelbare darmsyndroom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uspatal (O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nstantia"/>
              </a:rPr>
              <a:t>Geneesmiddelen voor maagaandoeninge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4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ntacid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agzuursecretieremmende midd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ucosaprotectiv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edicijnkuren bij Helicobacter Pylori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nti-emetic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Antacid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Verminderen maagzuur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Ze mogen zonder recept verkocht worden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Ze moeten snel werken &gt; </a:t>
            </a:r>
            <a:r>
              <a:rPr b="0" lang="nl-NL" sz="2200" spc="-1" strike="noStrike">
                <a:solidFill>
                  <a:srgbClr val="aa2b1e"/>
                </a:solidFill>
                <a:latin typeface="Franklin Gothic Book"/>
              </a:rPr>
              <a:t>suspensie</a:t>
            </a: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vorm  of eventueel een </a:t>
            </a:r>
            <a:r>
              <a:rPr b="0" lang="nl-NL" sz="2200" spc="-1" strike="noStrike">
                <a:solidFill>
                  <a:srgbClr val="aa2b1e"/>
                </a:solidFill>
                <a:latin typeface="Franklin Gothic Book"/>
              </a:rPr>
              <a:t>kauw</a:t>
            </a: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tabletten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4-6 per dag  innemen wanneer er veel zuur is: een uur na de maaltijd en voor de nacht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Kunnen ook tijdens zwangerschap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Antacida mogen niet gelijktijdig met maagzuursecretieremmers worden ingenomen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Voorbeelden antacid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Ultaci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Gaviscon en Rennie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-46080" y="-22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7318440" y="1403280"/>
            <a:ext cx="1608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7010280" y="4952880"/>
            <a:ext cx="2179800" cy="192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-46080" y="-22320"/>
            <a:ext cx="1843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46080" y="0"/>
            <a:ext cx="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46080" y="23760"/>
            <a:ext cx="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8" descr="http://t2.gstatic.com/images?q=tbn:ANd9GcSH4Qcx54xUvw7D4UnNqn80YTivu13tgQYHhsGIQoW8wyOy6doyJ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191120"/>
            <a:ext cx="2266920" cy="24955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20"/>
          <p:cNvSpPr/>
          <p:nvPr/>
        </p:nvSpPr>
        <p:spPr>
          <a:xfrm>
            <a:off x="-46080" y="-22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1"/>
          <p:cNvSpPr/>
          <p:nvPr/>
        </p:nvSpPr>
        <p:spPr>
          <a:xfrm>
            <a:off x="1646280" y="3344760"/>
            <a:ext cx="1743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5"/>
          <p:cNvSpPr/>
          <p:nvPr/>
        </p:nvSpPr>
        <p:spPr>
          <a:xfrm>
            <a:off x="-46080" y="-22320"/>
            <a:ext cx="1843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26"/>
          <p:cNvSpPr/>
          <p:nvPr/>
        </p:nvSpPr>
        <p:spPr>
          <a:xfrm flipH="1" flipV="1">
            <a:off x="46440" y="744120"/>
            <a:ext cx="33814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7"/>
          <p:cNvSpPr/>
          <p:nvPr/>
        </p:nvSpPr>
        <p:spPr>
          <a:xfrm flipH="1">
            <a:off x="2285280" y="6127920"/>
            <a:ext cx="104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24" descr="http://t0.gstatic.com/images?q=tbn:ANd9GcREXWYIewN_G_GLVpNzPe-G1Q0ihEYoej9FcpFA88RAUkoEZDff"/>
          <p:cNvPicPr/>
          <p:nvPr/>
        </p:nvPicPr>
        <p:blipFill>
          <a:blip r:embed="rId3"/>
          <a:stretch/>
        </p:blipFill>
        <p:spPr>
          <a:xfrm>
            <a:off x="3519360" y="4952880"/>
            <a:ext cx="2103480" cy="17748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28"/>
          <p:cNvSpPr/>
          <p:nvPr/>
        </p:nvSpPr>
        <p:spPr>
          <a:xfrm>
            <a:off x="-46080" y="-22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9"/>
          <p:cNvSpPr/>
          <p:nvPr/>
        </p:nvSpPr>
        <p:spPr>
          <a:xfrm>
            <a:off x="5754600" y="2562120"/>
            <a:ext cx="1143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3"/>
          <p:cNvSpPr/>
          <p:nvPr/>
        </p:nvSpPr>
        <p:spPr>
          <a:xfrm>
            <a:off x="-46080" y="-22320"/>
            <a:ext cx="1843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4"/>
          <p:cNvSpPr/>
          <p:nvPr/>
        </p:nvSpPr>
        <p:spPr>
          <a:xfrm flipH="1" flipV="1">
            <a:off x="1599480" y="6855840"/>
            <a:ext cx="6858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5"/>
          <p:cNvSpPr/>
          <p:nvPr/>
        </p:nvSpPr>
        <p:spPr>
          <a:xfrm flipH="1" flipV="1">
            <a:off x="5257800" y="4376160"/>
            <a:ext cx="1295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32" descr="http://t3.gstatic.com/images?q=tbn:ANd9GcRQe7_N6aKOrf4-wV2IYwFzxF1qU8brZp-ZdqJ-PMxkBcNeZm4m"/>
          <p:cNvPicPr/>
          <p:nvPr/>
        </p:nvPicPr>
        <p:blipFill>
          <a:blip r:embed="rId4"/>
          <a:stretch/>
        </p:blipFill>
        <p:spPr>
          <a:xfrm>
            <a:off x="152280" y="5105520"/>
            <a:ext cx="18590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Maagzuur secretieremmer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Remmen de maagzuurproduct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Werken via de bloedbaa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eïnvloeden andere organen: meer bijwerk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oegepast vooral bij patiënten die chronisch NSAID’s gebruik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wee groepen: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H2 receptorantagonisten en protonpompremmer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H2 receptorantagonisten vb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Ranitidine (Zantac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Famotidine en Ranitidine zijn in lage doseringen zelfzorg medicat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Ranitidine geeft de minste interactie met andere geneesmidd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Protonpompremmers vb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meprazol  - Losec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Lansoprazo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Pantoprazo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rabeprazo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Mucosaprotectiva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eschermen van de maagwan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echten zich aan beschadigde slijmvliezen en leggen een beschermlaagj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ucralfaat - Ulcogan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Combinatiekuur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Toegepast bij ulcus pepticum veroorzaakt door Helicobacter Pylori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2 delen:  hoog gedoseerde antibiotica en secretie remmer (doodt de bact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De kuur heeft veel bijwerkingen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Deze kuur ook wel triple therapie genoemd duurt meestal 7 dagen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Vaak: amoxicilline/clarithromycine en metronidazol </a:t>
            </a:r>
            <a:r>
              <a:rPr b="1" lang="nl-NL" sz="2800" spc="-1" strike="noStrike">
                <a:solidFill>
                  <a:srgbClr val="000000"/>
                </a:solidFill>
                <a:latin typeface="Franklin Gothic Book"/>
              </a:rPr>
              <a:t>en</a:t>
            </a: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  omeprazol of pantoprazo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Er is een standaardkuur: PantoPac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3:17:59Z</dcterms:created>
  <dc:creator>Agnieta</dc:creator>
  <dc:description/>
  <dc:language>en-US</dc:language>
  <cp:lastModifiedBy>Uw naam</cp:lastModifiedBy>
  <dcterms:modified xsi:type="dcterms:W3CDTF">2016-03-06T19:21:19Z</dcterms:modified>
  <cp:revision>9</cp:revision>
  <dc:subject/>
  <dc:title>Tractus Digestivus</dc:title>
</cp:coreProperties>
</file>