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AE24-5A50-48D9-B0B5-C036E1FADED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3A2B-E8FF-4804-A330-9E02A5F41B8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9CFA-1369-488A-9D74-A346AFDE4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0E66-5D11-45B7-97EB-3C560F67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2C14-F050-405F-82CA-3672EA79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5A44-07E4-430D-93FD-DF9D5A81A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712A-4EDC-477F-86DF-8D42A60D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1544-51F1-427E-AEB5-6C9FFFD0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0046-489E-4B27-840A-9C50DFA8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9FE6-1135-46AF-8255-21976C73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4EDA-3E89-41B5-9A49-C40AA4C2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7887-7731-4EF7-BFDA-860A836B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C1FD-930C-4C0C-AADF-386C5FC8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601A-EC2A-40A8-92E0-55333A4A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ED85-95EA-4DCC-9620-15E4363E6F2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ed-info.nl/images/images_algemeen/Diverticulitis_00.jpg" TargetMode="External"/><Relationship Id="rId2" Type="http://schemas.openxmlformats.org/officeDocument/2006/relationships/hyperlink" Target="http://www.med-info.nl/images/images_algemeen/Diverticulitis_00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d/Gray536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Aandoeningen van het Spijsverteringsstel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armaandoening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ppendectom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iverticul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tsteking van een divertikel in linker deel van de dikke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15"/>
          <p:cNvGrpSpPr/>
          <p:nvPr/>
        </p:nvGrpSpPr>
        <p:grpSpPr>
          <a:xfrm>
            <a:off x="1371600" y="1306440"/>
            <a:ext cx="9144000" cy="5551560"/>
            <a:chOff x="1371600" y="1306440"/>
            <a:chExt cx="9144000" cy="5551560"/>
          </a:xfrm>
        </p:grpSpPr>
        <p:sp>
          <p:nvSpPr>
            <p:cNvPr id="74" name="Rectangle 14"/>
            <p:cNvSpPr/>
            <p:nvPr/>
          </p:nvSpPr>
          <p:spPr>
            <a:xfrm>
              <a:off x="1371600" y="1306440"/>
              <a:ext cx="9144000" cy="555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Group 13"/>
            <p:cNvGrpSpPr/>
            <p:nvPr/>
          </p:nvGrpSpPr>
          <p:grpSpPr>
            <a:xfrm>
              <a:off x="1371600" y="1306440"/>
              <a:ext cx="9144000" cy="5551560"/>
              <a:chOff x="1371600" y="1306440"/>
              <a:chExt cx="9144000" cy="5551560"/>
            </a:xfrm>
          </p:grpSpPr>
          <p:sp>
            <p:nvSpPr>
              <p:cNvPr id="76" name="Rectangle 2"/>
              <p:cNvSpPr/>
              <p:nvPr/>
            </p:nvSpPr>
            <p:spPr>
              <a:xfrm>
                <a:off x="1371600" y="1306440"/>
                <a:ext cx="557208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" name="Group 12"/>
              <p:cNvGrpSpPr/>
              <p:nvPr/>
            </p:nvGrpSpPr>
            <p:grpSpPr>
              <a:xfrm>
                <a:off x="1371600" y="1306440"/>
                <a:ext cx="9144000" cy="5551560"/>
                <a:chOff x="1371600" y="1306440"/>
                <a:chExt cx="9144000" cy="5551560"/>
              </a:xfrm>
            </p:grpSpPr>
            <p:sp>
              <p:nvSpPr>
                <p:cNvPr id="78" name="Rectangle 3"/>
                <p:cNvSpPr/>
                <p:nvPr/>
              </p:nvSpPr>
              <p:spPr>
                <a:xfrm>
                  <a:off x="1371600" y="1306440"/>
                  <a:ext cx="9144000" cy="5551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9" name="Group 11"/>
                <p:cNvGrpSpPr/>
                <p:nvPr/>
              </p:nvGrpSpPr>
              <p:grpSpPr>
                <a:xfrm>
                  <a:off x="1371600" y="1306440"/>
                  <a:ext cx="4665600" cy="1403280"/>
                  <a:chOff x="1371600" y="1306440"/>
                  <a:chExt cx="4665600" cy="1403280"/>
                </a:xfrm>
              </p:grpSpPr>
              <p:grpSp>
                <p:nvGrpSpPr>
                  <p:cNvPr id="80" name="Group 9"/>
                  <p:cNvGrpSpPr/>
                  <p:nvPr/>
                </p:nvGrpSpPr>
                <p:grpSpPr>
                  <a:xfrm>
                    <a:off x="1371600" y="1306440"/>
                    <a:ext cx="4665600" cy="1403280"/>
                    <a:chOff x="1371600" y="1306440"/>
                    <a:chExt cx="4665600" cy="1403280"/>
                  </a:xfrm>
                </p:grpSpPr>
                <p:sp>
                  <p:nvSpPr>
                    <p:cNvPr id="81" name="Rectangle 8"/>
                    <p:cNvSpPr/>
                    <p:nvPr/>
                  </p:nvSpPr>
                  <p:spPr>
                    <a:xfrm>
                      <a:off x="1371600" y="1306440"/>
                      <a:ext cx="4665600" cy="1403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82" name="Group 7"/>
                    <p:cNvGrpSpPr/>
                    <p:nvPr/>
                  </p:nvGrpSpPr>
                  <p:grpSpPr>
                    <a:xfrm>
                      <a:off x="1371600" y="1306440"/>
                      <a:ext cx="4665600" cy="1403280"/>
                      <a:chOff x="1371600" y="1306440"/>
                      <a:chExt cx="4665600" cy="1403280"/>
                    </a:xfrm>
                  </p:grpSpPr>
                  <p:sp>
                    <p:nvSpPr>
                      <p:cNvPr id="83" name="Rectangle 4"/>
                      <p:cNvSpPr/>
                      <p:nvPr/>
                    </p:nvSpPr>
                    <p:spPr>
                      <a:xfrm>
                        <a:off x="1371600" y="1306440"/>
                        <a:ext cx="4665600" cy="1403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 fontScale="99000"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nl-NL" sz="900" spc="-1" strike="noStrike" u="sng">
                            <a:solidFill>
                              <a:srgbClr val="ccccff"/>
                            </a:solidFill>
                            <a:uFillTx/>
                            <a:latin typeface="Times New Roman"/>
                            <a:hlinkClick r:id="rId1"/>
                          </a:rPr>
                          <a:t>  </a:t>
                        </a:r>
                        <a:r>
                          <a:rPr b="0" lang="nl-NL" sz="8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 </a:t>
                        </a:r>
                        <a:r>
                          <a:rPr b="0" lang="nl-NL" sz="9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                                                       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" name="Rectangle 6"/>
                      <p:cNvSpPr/>
                      <p:nvPr/>
                    </p:nvSpPr>
                    <p:spPr>
                      <a:xfrm>
                        <a:off x="1371600" y="1306440"/>
                        <a:ext cx="4665600" cy="1403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85" name="Rectangle 10"/>
                  <p:cNvSpPr/>
                  <p:nvPr/>
                </p:nvSpPr>
                <p:spPr>
                  <a:xfrm>
                    <a:off x="1371600" y="1306440"/>
                    <a:ext cx="4665600" cy="1403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111111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86" name="Picture 5" descr="Diverticulitis_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3880" y="746280"/>
            <a:ext cx="632484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e lange aanwezigheid van veel ontlasting in de divertik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age buikpijn , acuut toenem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ram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topping , een veranderd ontlasting patro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o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gezette bu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isselijkheid en br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T-s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bcesvor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erfor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unstmatige voeding om de darm rust te g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ntibio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leen bij complicaties oper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eritonit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uikvliesontstek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acteriën  (seps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uberkelbacil geeft vaak chronische ontste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emisch via een perfor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echanisch: achter gebleven materia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eritoneale dialy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Inhou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ppendic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verticul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erito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olelithias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uikpij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isselijkheid en Br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oorts soms ook koude rilli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hockverschijnselen:dorst, klamme huid, zweten,weinig urineproductie,snelle pols, verlaagde bloeddr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XB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T-s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week van buikvoc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aandoening kan levensbedreigend zij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ehan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oorzaak aanpa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ntibio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erat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Koliekpijn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oor st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http://www.rijndejonge.nl/images/voeding/galstenen2.jpg"/>
          <p:cNvPicPr/>
          <p:nvPr/>
        </p:nvPicPr>
        <p:blipFill>
          <a:blip r:embed="rId1"/>
          <a:stretch/>
        </p:blipFill>
        <p:spPr>
          <a:xfrm>
            <a:off x="185760" y="1747800"/>
            <a:ext cx="3925800" cy="2952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http://upload.wikimedia.org/wikipedia/commons/9/92/Galstenen.jpg"/>
          <p:cNvPicPr/>
          <p:nvPr/>
        </p:nvPicPr>
        <p:blipFill>
          <a:blip r:embed="rId2"/>
          <a:stretch/>
        </p:blipFill>
        <p:spPr>
          <a:xfrm>
            <a:off x="4267080" y="620640"/>
            <a:ext cx="48769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ak en Gevol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ijn in aanvallen optredend tengevolge van  spierkrampen van glad spierweefsel gepaard gaand met bewegingsdrang, misselijkheid en braken, soms ook diarre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Uitstralend naar de rug en/of schou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 cholelithia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en, toevalsbevi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age pijn in de bovenbuik na vet eten,idem wat misselij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l gevoel na vetrijk e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inderigheid(flatulenti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oeren (ructu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tkleurde ontlast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http://us.123rf.com/400wm/400/400/alila/alila1104/alila110400002/9245821-galstenen-eps8.jpg"/>
          <p:cNvPicPr/>
          <p:nvPr/>
        </p:nvPicPr>
        <p:blipFill>
          <a:blip r:embed="rId1"/>
          <a:stretch/>
        </p:blipFill>
        <p:spPr>
          <a:xfrm>
            <a:off x="1468440" y="28440"/>
            <a:ext cx="6877080" cy="687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72400" cy="3603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choscop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RCP( via endoscoop in de galwegen kijken, kleine steentjes kunnen gelijk verwijderd worden) Endoscopische Retrograde Cholangeo-Pancreatograf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Appendicit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tsteking van het wormvormig aanhangs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(appendix vermiformis) aan de blinde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http://www.chirurgenoperatie.nl/pagina/buik_algemeen/foto/galblaas.gif"/>
          <p:cNvPicPr/>
          <p:nvPr/>
        </p:nvPicPr>
        <p:blipFill>
          <a:blip r:embed="rId1"/>
          <a:stretch/>
        </p:blipFill>
        <p:spPr>
          <a:xfrm>
            <a:off x="136440" y="981000"/>
            <a:ext cx="4145040" cy="3743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http://www.huisdokteronline.nl/images/Galstenen%201.jpg"/>
          <p:cNvPicPr/>
          <p:nvPr/>
        </p:nvPicPr>
        <p:blipFill>
          <a:blip r:embed="rId2"/>
          <a:stretch/>
        </p:blipFill>
        <p:spPr>
          <a:xfrm>
            <a:off x="4281480" y="331776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http://www.kiesbeter.nl/object_binary/o2011.jpg"/>
          <p:cNvPicPr/>
          <p:nvPr/>
        </p:nvPicPr>
        <p:blipFill>
          <a:blip r:embed="rId3"/>
          <a:stretch/>
        </p:blipFill>
        <p:spPr>
          <a:xfrm>
            <a:off x="4264200" y="260280"/>
            <a:ext cx="42177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Risicofactoren voor galsteenvor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Fatty, fourty, fairy fem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rouwelijk geslach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oven de veertig j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vergewich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nd wordt soms ook als kenmerk genoem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s van galsten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olecyst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fsluiting galwe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topping papil van Vater m.a.g. ook een pancreat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alblaasperforatie m.a.g.een perito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peratieve verwijd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5" descr="http://www.chirurgenspijkenisse.nl/wp-content/uploads/2010/05/galblaas3.jpg"/>
          <p:cNvPicPr/>
          <p:nvPr/>
        </p:nvPicPr>
        <p:blipFill>
          <a:blip r:embed="rId1"/>
          <a:stretch/>
        </p:blipFill>
        <p:spPr>
          <a:xfrm>
            <a:off x="1619280" y="2133720"/>
            <a:ext cx="604836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ehandel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1280" y="2205000"/>
            <a:ext cx="7772400" cy="4471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weinig klachten voeding aan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RCP bij kleine steentj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olecystectomie (galblaasverwijdering) door laparoscopie of door een conventionele oper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ijdens aanval supp of im-injectie met een NSAID of een spasmolytic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neesmiddelenkennisbo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eene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Bestand:Gray536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14680" y="1177920"/>
            <a:ext cx="571500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7"/>
          <p:cNvGrpSpPr/>
          <p:nvPr/>
        </p:nvGrpSpPr>
        <p:grpSpPr>
          <a:xfrm>
            <a:off x="0" y="1636560"/>
            <a:ext cx="9144000" cy="3450960"/>
            <a:chOff x="0" y="1636560"/>
            <a:chExt cx="9144000" cy="3450960"/>
          </a:xfrm>
        </p:grpSpPr>
        <p:sp>
          <p:nvSpPr>
            <p:cNvPr id="56" name="Rectangle 2"/>
            <p:cNvSpPr/>
            <p:nvPr/>
          </p:nvSpPr>
          <p:spPr>
            <a:xfrm>
              <a:off x="0" y="1636560"/>
              <a:ext cx="5680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" name="Group 6"/>
            <p:cNvGrpSpPr/>
            <p:nvPr/>
          </p:nvGrpSpPr>
          <p:grpSpPr>
            <a:xfrm>
              <a:off x="0" y="1656720"/>
              <a:ext cx="9144000" cy="3430800"/>
              <a:chOff x="0" y="1656720"/>
              <a:chExt cx="9144000" cy="3430800"/>
            </a:xfrm>
          </p:grpSpPr>
          <p:sp>
            <p:nvSpPr>
              <p:cNvPr id="58" name="Rectangle 3"/>
              <p:cNvSpPr/>
              <p:nvPr/>
            </p:nvSpPr>
            <p:spPr>
              <a:xfrm>
                <a:off x="22320" y="1676520"/>
                <a:ext cx="9099360" cy="339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0" tIns="0" bIns="33480" anchor="t">
                <a:normAutofit fontScale="98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nl-NL" sz="223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nl-NL" sz="8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Rectangle 5"/>
              <p:cNvSpPr/>
              <p:nvPr/>
            </p:nvSpPr>
            <p:spPr>
              <a:xfrm>
                <a:off x="0" y="1656720"/>
                <a:ext cx="9144000" cy="3430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60" name="Picture 4" descr="Appendicitis Illustratie - Ontsteking van het aanhangsel"/>
          <p:cNvPicPr/>
          <p:nvPr/>
        </p:nvPicPr>
        <p:blipFill>
          <a:blip r:embed="rId1"/>
          <a:stretch/>
        </p:blipFill>
        <p:spPr>
          <a:xfrm>
            <a:off x="2438280" y="1600200"/>
            <a:ext cx="449280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ak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topping van de appendix door ingedikt fae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fsluiting door zwelling van het omringende lymfeweefs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uikpijn, vaak rond de navel beginnend en later afzakkend naar rechtso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nneer het buikvlies wordt geprikkeld een hevige pijn ,doodstil lig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lies van eetl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isselijk en br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oms van te voren wat diaree  en kleine buikpijnaanvalletj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ichamelijk onderzoek, druk-loslaatpij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choscop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X B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T-s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tstaan van een ab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erforatie, gevolgd door een perito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eps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2:11:41Z</dcterms:created>
  <dc:creator>Agnieta</dc:creator>
  <dc:description/>
  <dc:language>en-US</dc:language>
  <cp:lastModifiedBy>Uw naam</cp:lastModifiedBy>
  <dcterms:modified xsi:type="dcterms:W3CDTF">2016-02-21T15:54:38Z</dcterms:modified>
  <cp:revision>17</cp:revision>
  <dc:subject/>
  <dc:title>Aandoeningen van het Spijsverteringskanaal</dc:title>
</cp:coreProperties>
</file>