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4A2-6B91-460A-A5D6-422B5D7B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EAC-343B-43E5-8199-640B0EA6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139-D3AD-4AE5-8CAB-9EF985A2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540-00F6-4A19-843A-62999390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CB1-DEB0-42E9-8C06-94E9EE24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80D-8E4E-4CAA-AC58-4127F2F6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3D2-0A8F-4D96-B720-00F9C5DA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D8B-C183-47FE-AFFB-738DEEF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CD0-0392-4029-A2B2-9A895FE0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63A-F624-461E-A978-EE8EED61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B80-E162-4E2E-94D6-127AD3B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727-BE2D-41EA-9C05-72D04BC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2E8-61DC-433C-801B-EEDE4CE514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kana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1      2de vervo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orzaak is onb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en rol sp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wegingsstoornissen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dingsfactoren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aagde pijndrempel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osociale factor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ingen in de darmflo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gelijke ontstekingscellen in de darmen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&gt; 6maanden en 3 maanden actief aan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wisselend aan- af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urende, krampende of stekende  pijn in de buik die soms vermindert na defecatie of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ijn soms zo hevig dat de activiteiten niet meer lu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end ontlasting patr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volg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wisselend diarree en obstip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andere klachten Tr. D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blazen gevo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dere kl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ofd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men met urinelo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regelmatige menstr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bij of na seksuele gemeen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pijn en/of gewrichts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specifieke onderzoeken, goede anamnese en lichamelijk onderzoek is voldo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ventueel medicijnen afh. van de klachten     bulkvormers, analgetica, vochtvasthouders, laxa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gnitieve gedragsthera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nia incarce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eu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uitstulping van ingewanden of buikvlies door een opening in de buikwand m.a.g. afsterving van het weefsel in de breukz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rbus Cr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Liesbreuk | Medinova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littekenbreuk-1"/>
          <p:cNvPicPr/>
          <p:nvPr/>
        </p:nvPicPr>
        <p:blipFill>
          <a:blip r:embed="rId1"/>
          <a:stretch/>
        </p:blipFill>
        <p:spPr>
          <a:xfrm>
            <a:off x="1752480" y="1697040"/>
            <a:ext cx="48769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avelbreu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ot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cale ontstekingsverschijn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irur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 van het slijmvlies van de dikke da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 met de Morbus Crohn hoort het tot de  Inflammatory Bowel Diseases (IB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ttp://www.youtube.com/watch?v=NGqXY9viTBA&amp;feature=relmf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265840" y="321192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e factoren spelen een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gelijk ook omgevings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loed bij de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oeidheid,  slechte eetlust, gewichtsd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oopt in go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ms alleen proct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end in zowel dunne als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eces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 -, oog- en gewrichtsklachten en ontstekingen van de galwegen in en buiten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steoporose, door verminderde kalkop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ontstekings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: colonresectie/ colect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 van Cr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itis termina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sziekte van het maag-darmstels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rohn.nl/animatie.html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0" y="0"/>
            <a:ext cx="6858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e factoren spelen wel een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g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e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 verloopt in golven(exacerbaties en remiss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tijdens opvlamming van de zi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en video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klev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pijnstillers, anti-diarree middelen, vitamines, foliumzuur en ijzer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medicijnen die werken tegen de ontstekin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xa.yimg.com/kq/groups/1660280/homepage/name/homepage.jpg?type=sn"/>
          <p:cNvPicPr/>
          <p:nvPr/>
        </p:nvPicPr>
        <p:blipFill>
          <a:blip r:embed="rId1"/>
          <a:stretch/>
        </p:blipFill>
        <p:spPr>
          <a:xfrm>
            <a:off x="1981080" y="723960"/>
            <a:ext cx="4569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topping obstructie van de darmdoor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chanische blokkade door inklemming (invaginatie), afklemming of verdraaiing (strangurat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kleving van de darmwand aan het buikv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z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verlamming(paralytische i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vallen van hevige buikpijn(kolie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bewegingen zichtbaar op de buik(niet bij paralytische ileus, stille bu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ootsteengeruisen te h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 en braken tot fecaal braken aan t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blijven van winden en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ms overloopdiar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colonin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necrose (afster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zonodig met stoma-aanle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liggende oorzaak behand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rvatief: maaghevel, infuus, clysma’s, later orale laxantia, pijnstillers, antiem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Cuperus,B.K.</cp:lastModifiedBy>
  <dcterms:modified xsi:type="dcterms:W3CDTF">2016-02-11T19:22:14Z</dcterms:modified>
  <cp:revision>17</cp:revision>
  <dc:subject/>
  <dc:title>Aandoeningen van het spijsverteringskanaal</dc:title>
</cp:coreProperties>
</file>