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43C-0FDD-4527-9BA4-47C8DDFA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027-50CE-41B5-B2FE-4E52F544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D81-4DAD-43DB-9DC3-542F3196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456-2BD5-49C7-B4FA-FE46261A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DC16-0CAD-4D14-9AD8-B8715BA4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6DE2-BD2F-40BC-8374-9C31BD8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085E-9700-4EB1-B6A6-3BF33D20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73C7-4A1D-49B4-9585-C2BCBEC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75B7-CFEB-4687-B4F0-77D85E4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D32-1D2C-4676-8D10-9EA2C8B8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56D-1095-44FC-8BD6-E1553D9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AF8-F9A2-458C-81F1-B4453EA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A44E-F4F0-4435-8E35-8DC9A68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7951-4CB5-453A-9ED3-64EC478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D78-C048-416B-8177-3754BE33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F73F-48EA-4A20-996C-D357871C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5420-AC66-4BD9-9298-6503EB20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9468-C7F5-4BB7-A3FF-DDEB218E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E266-C114-4F03-B6FA-DDC75976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C652-2530-4AD2-A9CA-5D733A81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C661-D0A7-49E4-8FA8-30C52BF9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90A6-AB64-48F7-A115-91904BA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E36-6B3D-4BD4-BFF2-8727E8FC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25BF-11B0-47D5-8236-3E4E007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93B1-57FC-4C1E-B4BD-C25B98C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6F71-221D-4FF8-BDE2-3A2980B7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4C01-0258-4852-ADE5-555E45C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30AE-A8D2-436A-90FC-4C77008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16EB-20E5-4CA9-8B52-A864339B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6DAF-4338-4F6F-B7CD-3D11EBD3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A292-A0DB-4CCC-AA1E-9B76D35A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7565-5598-4406-BDB8-A3E5B42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5B97-E57C-47D1-A10F-5652A77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FA7-2E31-414A-9644-9CB46A89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E481-0CB5-4212-BB58-D254718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A2FE-C428-456E-99F0-0AB972B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14A7-52A0-4E8C-BBF2-CE0260CC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54E7-52F2-4202-8A28-AC13EB1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5EFF-8C99-4081-AEAB-C8A57B6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C5CE-23CF-4A99-A77E-B7C4EC48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161B-A468-4994-A01A-5F56F63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AFF1-9DC4-42CC-9097-AF68FDF5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768E-B3D1-4772-A919-DCBB9E70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5D7-FA72-4BFF-A1CC-A5A1127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41A-2761-402A-A209-E869F5D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D7F-161E-4E93-8329-DE300CA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FDC-D4D1-459A-AAF5-2758AE3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5A4-00C1-44D0-8C85-364F6AB9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E1934-254B-4D45-BE0E-023CA3D113ED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ADC39-9D00-4681-ACFE-40D9AB58A6CF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B09B3-C3E3-42AC-BF4D-323D838EEB44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6ED48-D4B5-4D04-AE8D-4811E990F0DE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Benigne en maligne tumoren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INLEIDING MEDISCHE KENNIS H. 9 EN 1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Secundaire preventie: ‘Seven signals of danger’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nschuldige klachten die te lang du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bnormale vormen van bloedver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llingen, vooral als ze geen pijn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afwijking huid: kleur, vorm, jeu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ertje dat niet binnen enkele weken gene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magering, zonder re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defecatiepatroon, normale regelmaat of soort ontlas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Maar ook: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36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lijvende heesheid of hoest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entury Gothic"/>
              </a:rPr>
              <a:t>Slikklachten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euwe of veranderende moedervlekke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(niet genezend) schilferend plekje of bobbeltje op de hu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verdikking of bobbel(tje) ergens in uw lichaam, m.n pijnloz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8732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bijv. in de borst, zaadbal, hals, oksel, lies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rouw: Ongewoon vaginaal bloedverlies of abnormale afscheiding buiten de menstruatie om. Man: zaadbalklachte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randeringen bij het plassen zoals moeilijker kunnen plassen, vaker moeten plassen, pijn bij het plassen of bloed in uw pl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schijnselen en dia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oeheid &gt; </a:t>
            </a:r>
            <a:r>
              <a:rPr b="0" lang="en-US" sz="1900" spc="-1" strike="noStrike">
                <a:solidFill>
                  <a:srgbClr val="ff0000"/>
                </a:solidFill>
                <a:latin typeface="Century Gothic"/>
              </a:rPr>
              <a:t>in later stadiu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rg veel pijn &gt; bot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Kortademig &gt; long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oofdpijn, gedragsverandering &gt; hersen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eelzucht en jeuk &gt; lever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wijs van bestaa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atholoog onderzoekt cellen/weefsel via biop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anvullend onderzoek: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loedonderzoek en beeldvormend onderzo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Century Gothic"/>
              </a:rPr>
              <a:t>Behandeling van maligne tumoren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uratief = genez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lliatief = verzacht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ericht op het verlichten van het lijd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elal gericht op pijn in later stadiu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irurgie = curatief: alle kankercellen zijn uit lichaa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adiotherapie </a:t>
            </a:r>
            <a:r>
              <a:rPr b="0" lang="nl-NL" sz="2100" spc="-1" strike="noStrike">
                <a:solidFill>
                  <a:srgbClr val="ffffff"/>
                </a:solidFill>
                <a:latin typeface="Century Gothic"/>
              </a:rPr>
              <a:t>(bestraling)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Doet geen pijn, wel moeheid klachte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werkingen: ook gezonde, </a:t>
            </a:r>
            <a:r>
              <a:rPr b="1" lang="nl-NL" sz="1800" spc="-1" strike="noStrike">
                <a:solidFill>
                  <a:srgbClr val="ffffff"/>
                </a:solidFill>
                <a:latin typeface="Century Gothic"/>
              </a:rPr>
              <a:t>snel-delende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 cellen worden vernietigd, bijv. bestralingsdermatitis (irritatie en ontsteking op stralingsple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volg 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1484280"/>
            <a:ext cx="67122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colytic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Chemotherapie: Cytostatica=celdeling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ijwerkingen: ook gezonde snel delende cellen worden vernietigd, bijv. haaruitval, diarree, anemie, leukopenie, trombocytopeni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s een aanslag op de gezondhei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nstig is beschadiging van beenmerg &gt; aanmaak bloedcellen verstoord. (rode: anemie, witte: infecties, bloedplaatjes: bloed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o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unstig of ongunstig - vooral afhankelijk van tijdstip van diagn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jfjaars overlev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t % patiënten dat 5 jaar na stellen van de diagnose nog leef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spelling voor de individuele patiënt is moeilijk te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89400" cy="345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4684680" y="1569960"/>
            <a:ext cx="41180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66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2 betekenissen van het woord tumo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ell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 ontstekin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olte gevuld met vocht of andere substantie (cyst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zwel (toename cellen </a:t>
            </a:r>
            <a:r>
              <a:rPr b="0" i="1" lang="nl-NL" sz="2000" spc="-1" strike="noStrike">
                <a:solidFill>
                  <a:srgbClr val="ffffff"/>
                </a:solidFill>
                <a:latin typeface="Century Gothic"/>
              </a:rPr>
              <a:t>ofwel weefselgroei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Ook wel neoplasm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ellen worden dik en groei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l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Century Gothic"/>
              </a:rPr>
              <a:t>IMK hfst 10.7 – zelf uittreksel en vragen make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ronchus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mma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rostaat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ndometri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ervix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olon en rect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ela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sali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ag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Cel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arom delen cellen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roei (kin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rvangen van oude cellen &gt; in het volwassen lichaam zijn regelmechanism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Century Gothic"/>
              </a:rPr>
              <a:t>Maar.. zenuwcellen delen niet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Century Gothic"/>
              </a:rPr>
              <a:t>&gt; neuronen zijn niet in staat om te del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Benigne tumoren = goe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ustige cellen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ladde, regelmatige begrenz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infiltratieve groei (=doorgroei in omgeving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metastasering (=verspreiding via bloed- of lymfebaan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Problemen door grootte of plaats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2300" spc="-1" strike="noStrike">
                <a:solidFill>
                  <a:srgbClr val="ffffff"/>
                </a:solidFill>
                <a:latin typeface="Century Gothic"/>
              </a:rPr>
              <a:t>Sommige goedaardige tumoren kunnen op termijn wel kwaadaardig worden!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ibroom = bindweefselgezw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poom = vetweefselgezwel (vetbultj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ruca vulgaris = wr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llusca contagiosa = waterwratj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yoom = spierweefselgezwel (“vleesboom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Afbeelding 3" descr="wrat 2.jpg"/>
          <p:cNvPicPr/>
          <p:nvPr/>
        </p:nvPicPr>
        <p:blipFill>
          <a:blip r:embed="rId1"/>
          <a:stretch/>
        </p:blipFill>
        <p:spPr>
          <a:xfrm>
            <a:off x="900000" y="429264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4" descr="Mollusca contagiosa.png"/>
          <p:cNvPicPr/>
          <p:nvPr/>
        </p:nvPicPr>
        <p:blipFill>
          <a:blip r:embed="rId2"/>
          <a:stretch/>
        </p:blipFill>
        <p:spPr>
          <a:xfrm>
            <a:off x="4762440" y="4292640"/>
            <a:ext cx="2986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ngioom (aardbei-/frambozenvle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= Benigne tumor van bloedvat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Komt voor bij baby’s en kleine kinder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ij geboorte meestal niet zichtbaa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Wordt rode vlek/zwelling (van speldepunt tot tennisba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Afwijking verdwijnt meestal vanzel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en behandeling nodig tenzij oog wordt geblokkeer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Afbeelding 3" descr="hemangioom 1.jpg"/>
          <p:cNvPicPr/>
          <p:nvPr/>
        </p:nvPicPr>
        <p:blipFill>
          <a:blip r:embed="rId1"/>
          <a:stretch/>
        </p:blipFill>
        <p:spPr>
          <a:xfrm>
            <a:off x="4716360" y="5292720"/>
            <a:ext cx="2024280" cy="1347840"/>
          </a:xfrm>
          <a:prstGeom prst="rect">
            <a:avLst/>
          </a:prstGeom>
          <a:ln w="0">
            <a:noFill/>
          </a:ln>
        </p:spPr>
      </p:pic>
      <p:pic>
        <p:nvPicPr>
          <p:cNvPr id="249" name="Afbeelding 4" descr="hemangioom 2.jpg"/>
          <p:cNvPicPr/>
          <p:nvPr/>
        </p:nvPicPr>
        <p:blipFill>
          <a:blip r:embed="rId2"/>
          <a:stretch/>
        </p:blipFill>
        <p:spPr>
          <a:xfrm>
            <a:off x="6919920" y="5286240"/>
            <a:ext cx="19288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Fibroadenoom = combi van bindweefsel en klierweefseltumor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omt alleen voor in de mamma (=borst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, groeit door oestrogeen hormoo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Poliep = uitstulping slijmvli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Binnenbekleding van orgaan &gt; darm of blaas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zijn/worden &gt; daarom altijd verwijdere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Naevus = Moedervlek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Soms vlek, soms gezwelletje van pigment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 (melanoom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Century Gothic"/>
              </a:rPr>
              <a:t>Symptomen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Snelle groei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Vreemde verkleuring (lichter of donkerder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Jeuk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Bloed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Vormverandering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74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Maligne tumoren = kwaa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1852560"/>
            <a:ext cx="67122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Ongeremde celdeling door mutatie in de kern van cel &gt; Begint in 1 cel en erfelijk materiaal in cel veranderd nie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Oorzaak lang niet altijd bekend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Wel bekend: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Roken (teer)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Straling, waaronder zonlicht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Bij ontdekking ziekte vergevorderd!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Constante verdubbelingstijd &gt; </a:t>
            </a: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explosieve groei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!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Infiltratie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(soms agressief) doorgroei in omgeving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Metastasen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uitzaaiingen </a:t>
            </a: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(hematogeen/lymfogeen) Kankercellen door lymfaatje groeien &gt; lymfeklier &gt; lymfoge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ankercellen door haarvaatje groeien &gt; bloed meestromen &gt; Hematogene metastase (bot, lever, 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ersene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Vreet lichaamsenergie en schadelijke stoffen vrij in het bloe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&gt; moeheid &gt; </a:t>
            </a:r>
            <a:r>
              <a:rPr b="0" i="1" lang="nl-NL" sz="1300" spc="-1" strike="noStrike">
                <a:solidFill>
                  <a:srgbClr val="ffffff"/>
                </a:solidFill>
                <a:latin typeface="Century Gothic"/>
              </a:rPr>
              <a:t>algehele malais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eventie in HA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1341000"/>
            <a:ext cx="6712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maire preventie (voorkomen dat de ziekte ontstaat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oorlichting, zoa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zond eten (beperkt dierlijk vet, veel groente en fru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eperkt alcoho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zonnen tussen 12 en 15 uu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ecundaire preventie (ziekte zo vroeg mogelijk vaststellen dat gevolgen ervan worden voorkom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3 bevolkingsonderzoeke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aarmoederhalskanker (uitstrijkj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orstkanker (mammografi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Darmkanker (fecesonderzoe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Marlies Bouland</cp:lastModifiedBy>
  <dcterms:modified xsi:type="dcterms:W3CDTF">2019-03-12T15:19:49Z</dcterms:modified>
  <cp:revision>108</cp:revision>
  <dc:subject/>
  <dc:title>Conclusies enquête panel DA</dc:title>
</cp:coreProperties>
</file>