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A1-7E0A-41BF-A53D-3532B21E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01E-5C04-4C69-88D0-403D8D0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673-7DD9-4238-AFE7-9EDD1AC0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C04-BD80-4B6A-8104-44979EE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CE7B-2C99-4557-8533-1A910CD7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DC65-4E11-43DC-85C9-3EC7F5F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996-AC25-400D-8DF4-B39C6138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B620-3469-4E0C-9A0F-8ED22DD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40CA-9A73-4348-8E19-90075E5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CCB3-D67F-4B3E-8E7A-21DD53B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537-0016-4CB7-BA8F-F01E871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403-2726-4EB9-9156-B2E71A1E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B95-D4A5-444E-AA3A-C982491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642-805E-4063-9804-5321BCB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21A0-728A-40BA-AC7F-3C13464A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FBF6-1DFE-485B-B2B2-B3B90103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4C1C-13DB-4F48-B38A-C8BEF0F1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C22C-4C38-4A9F-A345-1FC82785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1B62-D8E6-47FE-999F-DB6BD92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7B2C-3860-4A59-9E05-8728C57B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8ADB-409E-4961-8C29-C57523F4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D7FE-06F1-4DB9-9813-0583792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001-9E89-44BD-9759-DCF91428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4C15-966F-4DB8-B09D-DDD43FF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4796-E475-4A88-9400-8F97BCF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FB80-5531-489C-99C5-DFC3482E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6F53-4178-4639-8BC0-3FF99DB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A158-8F3B-4DFA-A95D-4FF9D510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3D36-F5C0-40A7-9B8F-DD92CE3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C4C7-9749-4A84-AADF-4B2B6C9A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FBBC-4DAD-486D-B744-11E08CF3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C526-E9C4-41A1-B61D-63F42D83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5F00-8EF1-43D0-B4AF-43254F43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76-E164-440C-A995-7C0591F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1065-DDC8-423B-BA52-DE392079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EF2B-0A36-4AAD-B391-30047C0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26330-0211-4DE1-882D-990787D5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000E-AAAE-4C3B-927A-D026800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2781-55AB-47D3-9AE2-FAE960D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2D0F-ECAF-48F7-947D-EA9E9A36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2C58-2CBA-4230-9B5D-4C1C9110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F3FC-B85F-4628-B6BE-36F98E1A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201F-50BE-423B-8FC2-60F7340D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4F0-2D2C-4E71-A4B3-B0D29CB6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781-57ED-4267-806F-53C2AA7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3B4-5834-47FD-99F1-36B289D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97A-1858-47BD-98CE-2EE5D61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ABE-A33E-4066-A214-2C9F1F3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09B-1E12-4124-8034-68F9F98C8D0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6042-DAB4-47B3-B203-00043B6BFA8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4D6C-4C17-41C2-A5B2-8AAA181DDB1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25EB-1998-493F-8ECB-0A5BA918741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antacida&amp;start=158&amp;um=1&amp;hl=nl&amp;sa=N&amp;biw=1280&amp;bih=801&amp;tbm=isch&amp;tbnid=mtfaM2B-ClcrzM:&amp;imgrefurl=http://www.lekarna-net.cz/kategorie/0109/2/hvlp/antacida-(vcetne-antiulcerosnich-leciv)&amp;docid=BsAMXflxG0bpqM&amp;imgurl=http://www.lekarna-net.cz/obrazek.php%253Fpdk%253D5000158066359&amp;w=400&amp;h=400&amp;ei=YxYqUdTqNNCW0QXNiYDoBQ&amp;zoom=1&amp;iact=hc&amp;vpx=1008&amp;vpy=199&amp;dur=1609&amp;hovh=225&amp;hovw=225&amp;tx=126&amp;ty=139&amp;sig=110308519874302738132&amp;page=5&amp;tbnh=147&amp;tbnw=146&amp;ndsp=37&amp;ved=1t:429,i:217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nstantia"/>
              </a:rPr>
              <a:t>Geneesmiddele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5e9c"/>
                </a:solidFill>
                <a:latin typeface="Franklin Gothic Book"/>
              </a:rPr>
              <a:t>Maag en da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i - Eme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derdrukken braakneig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passen bij symptomatische bestrijding van misselijkheid en bra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isselijkheid is een vervelend gevoel in de buik o.a. door vertraagde darmperistaltiek m.a.g. een vertraagde maagontledig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: brak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erste  maanden van de zwangerscha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migrain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omt vaak voor bij radiotherapie of chemotherap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ytril en Zofran zijn krachtige anti-emetica en worden hierbij toegep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iddel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26920" y="1981080"/>
            <a:ext cx="7250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mperidon en primperan zorgen voor een snellere maagontlediging waardoor de misselijkheidsklachten verdw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matour en cyclizine bij reisziekte en    migr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 drie zijn zonder recept verkrijgba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darm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diarrho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tstekings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xan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pasmoly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Antidiarrho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pmiddel’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operamide of imodi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t darmperistaltiek, maar oorzaak verdwijnt ni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arbo adsorbens (Norit) is werking nooit aangetoo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Zelfzorg: O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966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Ontstekingsremmende midde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rednison (oraal) en Pentasa (recta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chronische darmontste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rale toediening: tabletten vaak voorzien van maagsapresistentie: inhoud komt pas vrij in de darm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elgang bevorder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ntact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prikkelen van darmwand: incidenteel en kortdurend gebruik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sacodyl (O) en microlax (R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smotische 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houden vocht vast in dikke darm. Milde werking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ctulose (O) en movi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 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lume vergrotende middelen: onverteerbare veze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tamucil (O) en vol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el bij drink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Spasmoly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 darmkrampen op te heffen, gat verkramping van de spieren in darmwand te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prikkelbare darmsyndroo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uspatal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maag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aci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agzuursecretie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ucosaprotecti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dicijnkuren bij Helicobacter Pylor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-eme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erminderen maagzuur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gen zonder recept verkocht word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eten snel werken &gt;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suspensie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orm  of eventueel een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kauw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tablett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4-6 per dag  innemen wanneer er veel zuur is: een uur na de maaltijd en voor de nach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Kunnen ook tijdens zwangerschap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Antacida mogen niet gelijktijdig met maagzuursecretieremmers worden ingenom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oorbeelden 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ltaci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Gaviscon en Renni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318440" y="140328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010280" y="4952880"/>
            <a:ext cx="21798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6080" y="0"/>
            <a:ext cx="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http://t2.gstatic.com/images?q=tbn:ANd9GcSH4Qcx54xUvw7D4UnNqn80YTivu13tgQYHhsGIQoW8wyOy6doyJ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191120"/>
            <a:ext cx="2266920" cy="2495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0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1646280" y="3344760"/>
            <a:ext cx="1743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 flipH="1" flipV="1">
            <a:off x="46440" y="744120"/>
            <a:ext cx="3381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 flipH="1">
            <a:off x="2285280" y="6127920"/>
            <a:ext cx="104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http://t0.gstatic.com/images?q=tbn:ANd9GcREXWYIewN_G_GLVpNzPe-G1Q0ihEYoej9FcpFA88RAUkoEZDff"/>
          <p:cNvPicPr/>
          <p:nvPr/>
        </p:nvPicPr>
        <p:blipFill>
          <a:blip r:embed="rId3"/>
          <a:stretch/>
        </p:blipFill>
        <p:spPr>
          <a:xfrm>
            <a:off x="3519360" y="4952880"/>
            <a:ext cx="2103480" cy="177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8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9"/>
          <p:cNvSpPr/>
          <p:nvPr/>
        </p:nvSpPr>
        <p:spPr>
          <a:xfrm>
            <a:off x="5754600" y="256212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4"/>
          <p:cNvSpPr/>
          <p:nvPr/>
        </p:nvSpPr>
        <p:spPr>
          <a:xfrm flipH="1" flipV="1">
            <a:off x="1599480" y="6855840"/>
            <a:ext cx="685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5"/>
          <p:cNvSpPr/>
          <p:nvPr/>
        </p:nvSpPr>
        <p:spPr>
          <a:xfrm flipH="1" flipV="1">
            <a:off x="5257800" y="437616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2" descr="http://t3.gstatic.com/images?q=tbn:ANd9GcRQe7_N6aKOrf4-wV2IYwFzxF1qU8brZp-ZdqJ-PMxkBcNeZm4m"/>
          <p:cNvPicPr/>
          <p:nvPr/>
        </p:nvPicPr>
        <p:blipFill>
          <a:blip r:embed="rId4"/>
          <a:stretch/>
        </p:blipFill>
        <p:spPr>
          <a:xfrm>
            <a:off x="152280" y="5105520"/>
            <a:ext cx="185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aagzuur secretieremme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men de maagzuurproduc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erken via de bloedbaa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ïnvloeden andere organen: meer bijwerk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gepast vooral bij patiënten die chronisch NSAID’s gebrui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wee groepen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H2 receptorantagonisten en protonpompremm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H2 receptorantagonisten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(Zanta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otidine en Ranitidine zijn in lage doseringen zelfzorg medica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geeft de minste interactie met andere genees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Protonpompremmers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eprazol  - Lose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ns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ant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be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ucosaprotectiva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schermen van de maagwa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echten zich aan beschadigde slijmvliezen en leggen een beschermlaagj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ucralfaat - Ulcoga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Combinatiekuu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Toegepast bij ulcus pepticum veroorzaakt door Helicobacter Pylor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2 delen:  hoog gedoseerde antibiotica en secretie remmer (doodt de bact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 kuur heeft veel bijwerkin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ze kuur ook wel triple therapie genoemd duurt meestal 7 da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Vaak: amoxicilline/clarithromycine en metronidazol </a:t>
            </a:r>
            <a:r>
              <a:rPr b="1" lang="nl-NL" sz="2800" spc="-1" strike="noStrike">
                <a:solidFill>
                  <a:srgbClr val="000000"/>
                </a:solidFill>
                <a:latin typeface="Franklin Gothic Book"/>
              </a:rPr>
              <a:t>en</a:t>
            </a: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  omeprazol of pantoprazo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Er is een standaardkuur: PantoPac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17:59Z</dcterms:created>
  <dc:creator>Agnieta</dc:creator>
  <dc:description/>
  <dc:language>en-US</dc:language>
  <cp:lastModifiedBy>Uw naam</cp:lastModifiedBy>
  <dcterms:modified xsi:type="dcterms:W3CDTF">2016-03-06T19:21:19Z</dcterms:modified>
  <cp:revision>9</cp:revision>
  <dc:subject/>
  <dc:title>Tractus Digestivus</dc:title>
</cp:coreProperties>
</file>