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A41-33B4-4B76-ACCC-534525DE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A44-14E6-496D-81B5-9A4AEF88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021-B3E2-43E7-9D57-B1D5A9C9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D27-BE41-4A9A-8E79-2C83DE36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F54-B8F0-4C8A-A3B5-401B2B18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9434-D308-4E55-88FF-E4159174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AE9-15F6-4D1B-9670-82BEBA4D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AEB-0122-4A20-BDD7-C52FF0BD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C4D-C271-405E-B786-47A4428E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93A-C392-4ADD-854E-440D52AB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5E8-83C7-418B-AD6D-F63983EB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8A0-7EAF-4672-8DAC-9695AB49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F26B-E965-4DF4-BF48-509E7DDF26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8VhCl4J_lo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rohn.nl/animatie.html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7ey8wyI5eo&amp;feature=relmfu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kana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 1      2de vervol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ikkelbare darm synd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astisch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rritable bowel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astisch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rritable bowel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yndr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x8VhCl4J_lo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oorzaak is onbek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en rol sp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wegingsstoornissen in het maagdarmkanaal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edingsfactoren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laagde pijndrempel in het maagdarmkanaal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sychosociale factor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fwijkingen in de darmflo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ogelijke ontstekingscellen in de darmen.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lachten &gt; 6maanden en 3 maanden actief aanwez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lachten wisselend aan- afwez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urende, krampende of stekende  pijn in de buik die soms vermindert na defecatie of na het e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ijn soms zo hevig dat de activiteiten niet meer lu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fwijkend ontlasting patr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volg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wisselend diarree en obstip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ook andere klachten Tr. D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uurbr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derig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blazen gevo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dere klach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ofd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blemen met urinelo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regelmatige menstru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bij of na seksuele gemeen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pijn en/of gewrichts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specifieke onderzoeken, goede anamnese en lichamelijk onderzoek is voldo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efreg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ventueel medicijnen afh. van de klachten     bulkvormers, analgetica, vochtvasthouders, laxan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gnitieve gedragsthera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klemde 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nia incarce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eu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4114800" cy="199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41148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finit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klemde uitstulping van ingewanden of buikvlies door een opening in de buikwand m.a.g. afsterving van het weefsel in de breukz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kkelbare darm synd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klemde bre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litis ulcer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rbus Cr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Liesbreuk | Medinova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tteken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littekenbreuk-1"/>
          <p:cNvPicPr/>
          <p:nvPr/>
        </p:nvPicPr>
        <p:blipFill>
          <a:blip r:embed="rId1"/>
          <a:stretch/>
        </p:blipFill>
        <p:spPr>
          <a:xfrm>
            <a:off x="1752480" y="1697040"/>
            <a:ext cx="48769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tteken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4197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avelbreu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371600" y="2222640"/>
            <a:ext cx="57150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ote 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676520" y="2017800"/>
            <a:ext cx="47242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vige 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ocale ontstekingsverschijn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irurg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litis Ulcer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chronische ontsteking van het slijmvlies van de dikke da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amen met de Morbus Crohn hoort het tot de  Inflammatory Bowel Diseases (IB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ttp://www.youtube.com/watch?v=NGqXY9viTBA&amp;feature=relmf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265840" y="321192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seases Inflammatory Bowel (IB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bek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felijke factoren spelen een 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gelijk ook omgevingsfac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ar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loed bij de ontl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moeidheid,  slechte eetlust, gewichtsd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loopt in gol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ms alleen proct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le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komend in zowel dunne als dikk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://www.accurioja.com/img/colitis.jpg"/>
          <p:cNvPicPr/>
          <p:nvPr/>
        </p:nvPicPr>
        <p:blipFill>
          <a:blip r:embed="rId1"/>
          <a:stretch/>
        </p:blipFill>
        <p:spPr>
          <a:xfrm>
            <a:off x="1714680" y="304920"/>
            <a:ext cx="5715000" cy="2941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http://www.spinabifidainfo.nl/colitisbv.jpg"/>
          <p:cNvPicPr/>
          <p:nvPr/>
        </p:nvPicPr>
        <p:blipFill>
          <a:blip r:embed="rId2"/>
          <a:stretch/>
        </p:blipFill>
        <p:spPr>
          <a:xfrm>
            <a:off x="685800" y="3597120"/>
            <a:ext cx="2997360" cy="326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gastrointestinalatlas.com/SevereUlcerative_Colitis13.jpg"/>
          <p:cNvPicPr/>
          <p:nvPr/>
        </p:nvPicPr>
        <p:blipFill>
          <a:blip r:embed="rId3"/>
          <a:stretch/>
        </p:blipFill>
        <p:spPr>
          <a:xfrm>
            <a:off x="4343400" y="380700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eces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doscopie met bioptaf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 -, oog- en gewrichtsklachten en ontstekingen van de galwegen in en buiten de l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st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steoporose, door verminderde kalkop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et niet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: ontstekingsre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: colonresectie/ colectom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 van Croh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leitis termina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chronische ontstekingsziekte van het maag-darmstels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rohn.nl/animatie.html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26" descr="http://medischcontact.artsennet.nl/static/images/medischcontact/AMGATE_6059_138_TICH_R227196430371217.jpg"/>
          <p:cNvPicPr/>
          <p:nvPr/>
        </p:nvPicPr>
        <p:blipFill>
          <a:blip r:embed="rId1"/>
          <a:stretch/>
        </p:blipFill>
        <p:spPr>
          <a:xfrm>
            <a:off x="6019920" y="3879720"/>
            <a:ext cx="3124080" cy="297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27" descr="http://www.ysl.nl/fileadmin/site/ysl/medischabc/afbeeldingen/MK_ziektevancrohn.gif"/>
          <p:cNvPicPr/>
          <p:nvPr/>
        </p:nvPicPr>
        <p:blipFill>
          <a:blip r:embed="rId2"/>
          <a:stretch/>
        </p:blipFill>
        <p:spPr>
          <a:xfrm>
            <a:off x="0" y="0"/>
            <a:ext cx="6858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bek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felijke factoren spelen wel een 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i7ey8wyI5eo&amp;feature=relmfu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ar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age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em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ekte verloopt in golven(exacerbaties en remiss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 tijdens opvlamming van de zi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doscopie met bioptaf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ken videocaps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stel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klev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seifmedgraphics.com/ileus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: pijnstillers, anti-diarree middelen, vitamines, foliumzuur en ijzer gebrui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ook medicijnen die werken tegen de ontsteking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xa.yimg.com/kq/groups/1660280/homepage/name/homepage.jpg?type=sn"/>
          <p:cNvPicPr/>
          <p:nvPr/>
        </p:nvPicPr>
        <p:blipFill>
          <a:blip r:embed="rId1"/>
          <a:stretch/>
        </p:blipFill>
        <p:spPr>
          <a:xfrm>
            <a:off x="1981080" y="723960"/>
            <a:ext cx="4569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topping obstructie van de darmdoor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chanische blokkade door inklemming (invaginatie), afklemming of verdraaiing (strangurat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kleving van de darmwand aan het buikv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rmzw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rmverlamming(paralytische i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vallen van hevige buikpijn(koliek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rmbewegingen zichtbaar op de buik(niet bij paralytische ileus, stille bu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ootsteengeruisen te ho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 en braken tot fecaal braken aan t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blijven van winden en ontl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ms overloopdiar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colonin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d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necrose (afsterv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zonodig met stoma-aanle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liggende oorzaak behand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rvatief: maaghevel, infuus, clysma’s, later orale laxantia, pijnstillers, antieme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9:38:35Z</dcterms:created>
  <dc:creator>Agnieta</dc:creator>
  <dc:description/>
  <dc:language>en-US</dc:language>
  <cp:lastModifiedBy>Cuperus,B.K.</cp:lastModifiedBy>
  <dcterms:modified xsi:type="dcterms:W3CDTF">2016-02-11T19:22:14Z</dcterms:modified>
  <cp:revision>17</cp:revision>
  <dc:subject/>
  <dc:title>Aandoeningen van het spijsverteringskanaal</dc:title>
</cp:coreProperties>
</file>