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01C-BDBD-44BD-9735-6B479925CA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800-8E9B-4FCF-8D52-A630EA40F0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8EC-9557-44A4-B8B6-F8DF98F1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64D-9295-45D8-BCBD-B10161A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8CD-05C6-4FF6-B0E2-7315E89A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4B5-93EA-469B-B2E6-A26F10AF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D4D-7B2D-4455-B220-0A95854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28F-3526-4D1F-B1DE-A992DFB7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89D-3A87-4E43-BB27-F0E8DEF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CB5-5DC5-4389-82DA-CEE2BF6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2C4-CF39-4595-AC38-D3E6847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939-38AB-429F-939B-3520F23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5F2-A5C6-4B6B-A812-E8E8491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598-7071-4E0C-BC29-64E8655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969-14AB-4EEF-A14F-E16B328EDE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tijd in 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richt op het behandelen van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bestrij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maag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8816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6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dom: atrofie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stromen van gal uit 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fectie met helicobacter pylori bac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de bovenbuik, 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opgeblazen gevoel na weinig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, soms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hankelijk oorzaak, onthouding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wandbeschermers: mucuprot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o-ente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ontsteking van het slijmvlies van maag en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wel buikgriep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een epidemiet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door voedsel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virale inf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bacterieel (oa.salmon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, min of meer water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te 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ehydr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uitdroging),  vooral 0-2 jarigen en de zeer ouden van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 van uitdroging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oge mond, l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fontanel(baby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ilen zonder tra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nder urin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baar/agressief of  s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 - intole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at vaak vanzelf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 is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nken heel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 nodig ORS (een water, zouten en glucose oplos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oede (extra) hygiëne   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lcus peptic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3789000"/>
            <a:ext cx="7775280" cy="184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ventric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duo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agzwe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epticulcer"/>
          <p:cNvPicPr/>
          <p:nvPr/>
        </p:nvPicPr>
        <p:blipFill>
          <a:blip r:embed="rId1"/>
          <a:stretch/>
        </p:blipFill>
        <p:spPr>
          <a:xfrm>
            <a:off x="2789280" y="1224000"/>
            <a:ext cx="3565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licobacter pylori,  een bacterie(&gt;6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hoge zoutzuurproductie en/of slechte kwaliteit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, hevig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vige pijn in de bovenbuik, bij ulcus ventriculi, vooral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el oprispingen / b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ekselvlo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gergevoel / hongerpijn, vooral bij ulcus duod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ge stoel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echt verdragen van sommige voedingsmiddelen, o.a. koffie, alcohol, pittig e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: gastr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908310220313257"/>
          <p:cNvPicPr/>
          <p:nvPr/>
        </p:nvPicPr>
        <p:blipFill>
          <a:blip r:embed="rId1"/>
          <a:stretch/>
        </p:blipFill>
        <p:spPr>
          <a:xfrm>
            <a:off x="4667400" y="3284640"/>
            <a:ext cx="3720960" cy="298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152280" y="2421000"/>
            <a:ext cx="3429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351080" y="2571840"/>
            <a:ext cx="6443640" cy="1646280"/>
            <a:chOff x="1351080" y="2571840"/>
            <a:chExt cx="6443640" cy="1646280"/>
          </a:xfrm>
        </p:grpSpPr>
        <p:sp>
          <p:nvSpPr>
            <p:cNvPr id="109" name="Rectangle 2"/>
            <p:cNvSpPr/>
            <p:nvPr/>
          </p:nvSpPr>
          <p:spPr>
            <a:xfrm>
              <a:off x="1351080" y="2571840"/>
              <a:ext cx="64436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Group 8"/>
            <p:cNvGrpSpPr/>
            <p:nvPr/>
          </p:nvGrpSpPr>
          <p:grpSpPr>
            <a:xfrm>
              <a:off x="1351080" y="2571840"/>
              <a:ext cx="3357720" cy="1646280"/>
              <a:chOff x="1351080" y="2571840"/>
              <a:chExt cx="3357720" cy="1646280"/>
            </a:xfrm>
          </p:grpSpPr>
          <p:sp>
            <p:nvSpPr>
              <p:cNvPr id="111" name="Rectangle 3"/>
              <p:cNvSpPr/>
              <p:nvPr/>
            </p:nvSpPr>
            <p:spPr>
              <a:xfrm>
                <a:off x="1351080" y="2571840"/>
                <a:ext cx="28576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Group 7"/>
              <p:cNvGrpSpPr/>
              <p:nvPr/>
            </p:nvGrpSpPr>
            <p:grpSpPr>
              <a:xfrm>
                <a:off x="1351080" y="2571840"/>
                <a:ext cx="3357720" cy="1646280"/>
                <a:chOff x="1351080" y="2571840"/>
                <a:chExt cx="3357720" cy="1646280"/>
              </a:xfrm>
            </p:grpSpPr>
            <p:sp>
              <p:nvSpPr>
                <p:cNvPr id="113" name="Rectangle 4"/>
                <p:cNvSpPr/>
                <p:nvPr/>
              </p:nvSpPr>
              <p:spPr>
                <a:xfrm>
                  <a:off x="1351080" y="2571840"/>
                  <a:ext cx="33577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5"/>
                <p:cNvSpPr/>
                <p:nvPr/>
              </p:nvSpPr>
              <p:spPr>
                <a:xfrm>
                  <a:off x="1351080" y="2571840"/>
                  <a:ext cx="3357720" cy="164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nl-NL" sz="10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5" name="Picture 6" descr="gastroscopie"/>
          <p:cNvPicPr/>
          <p:nvPr/>
        </p:nvPicPr>
        <p:blipFill>
          <a:blip r:embed="rId1"/>
          <a:stretch/>
        </p:blipFill>
        <p:spPr>
          <a:xfrm>
            <a:off x="1752480" y="1714680"/>
            <a:ext cx="46483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 om te kijken of de bacterie  helicobacter pylori aanwezig i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t kan ook door bloed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: jeuk, uitslag, galbulten, oed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uchtwegen: astma(piepen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ademigheid), neus- en/of oog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DK: prikkelend gevoel in de mond, braken, misselijk, diarree, verst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rt- en vaatstelsel: anafylactische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dere :excessief huilen (baby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iachterstand, gedragsklacht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bloeding :hematemesis en mela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chronische prikkeling: maagka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perforatie m.a.g.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ttekenvorming, mag een stenose en daardoor ontledigingsproblemen, projectiel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, afh. 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pen m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producten die de klachten verergeren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 in combinatie m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bindende middelen(antac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rnia diafragmatic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noniem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iatus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iding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ddenrifbre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mschrij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pening tussen borst- en buikhol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jder dan normaal waardoor de maag voor een deel de borstholte inglij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lachten door omhoog stromend van de maag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geen klachten, 40%  van de mensen boven de 60 jaar heeft 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ïrriteerde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st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branderig gevoel achter het borstbeen, soms uitstralend naar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:slokdarmontste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foto02mini"/>
          <p:cNvPicPr/>
          <p:nvPr/>
        </p:nvPicPr>
        <p:blipFill>
          <a:blip r:embed="rId1"/>
          <a:stretch/>
        </p:blipFill>
        <p:spPr>
          <a:xfrm>
            <a:off x="324000" y="184464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443640" y="18730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3"/>
          <a:stretch/>
        </p:blipFill>
        <p:spPr>
          <a:xfrm>
            <a:off x="4595760" y="3745080"/>
            <a:ext cx="3111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: slikfot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maagsap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:* boveneinde bed 10 cm omho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 voeding aanpassen(vetarm, geen alcohol, chocola,pepermunt, scherpe kruiden, citrusvruchten)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, als bovenstaande niet hel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259092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264px-Barretts_esophagus"/>
          <p:cNvPicPr/>
          <p:nvPr/>
        </p:nvPicPr>
        <p:blipFill>
          <a:blip r:embed="rId2"/>
          <a:stretch/>
        </p:blipFill>
        <p:spPr>
          <a:xfrm>
            <a:off x="5715000" y="380880"/>
            <a:ext cx="301788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36560" y="223992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ANd9GcTOdjhQBmN7t_HqIJw4IKr_4shTKHyA6oYz-cZOtd-YxZzYcrpB"/>
          <p:cNvPicPr/>
          <p:nvPr/>
        </p:nvPicPr>
        <p:blipFill>
          <a:blip r:embed="rId3"/>
          <a:stretch/>
        </p:blipFill>
        <p:spPr>
          <a:xfrm>
            <a:off x="228600" y="457200"/>
            <a:ext cx="2697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mnese en lichamelijk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:IG E, 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prik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-priktest:eerst in product, dan in de 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liminatie-Provocati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bbelblind placebo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glaten van de voedingsmiddelen waarop wordt gereagee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pipen, Anapen, dit zijn met adrenaline gevulde injectiep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cute B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oestand waarbij de buikpijn plotseling (binnen enkele uren) is ontstaan, erg hevig is en men aan een ernstige oorzaak denkt, die chirurgisch handelen nodig 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Ontstekingen: appendicitis,  peritonitis, cholecystitis, pancreatitis, ovariitis/adnex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 van holle organen: maag, darm, galblaas, bloedv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frolithiasis (niersten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-uteriene gravid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, druk- en 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ken, miss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nkharde buik (défense muscula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mptomen passend bij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Cuperus,B.K.</cp:lastModifiedBy>
  <dcterms:modified xsi:type="dcterms:W3CDTF">2016-02-11T19:19:39Z</dcterms:modified>
  <cp:revision>26</cp:revision>
  <dc:subject/>
  <dc:title>Aandoeningen van het Spijsverteringsstelsel</dc:title>
</cp:coreProperties>
</file>