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4C8-D4C3-40AE-B8AF-ACD898E1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96B8-2D2A-4210-9B61-F87A89B0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ABD-E992-4058-BCC2-E1E5809B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D05-E853-4201-9D8A-FA4F7A6E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48F1-A044-47EE-914D-C5BD73B5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2FF6F-C541-4B83-A46A-F58B20BB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1DB70-DD43-4A3D-A28F-FA8030F4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2779A-1FF9-4B1F-9507-803161F1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53490-06D6-4792-BFC4-D33FD943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43D66-4D17-439D-B147-9B31EB03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41929-0898-4FDD-AA91-E79F57B1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38F6-9720-4923-89DF-56E6CB42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950BC-3F11-4F36-BDE7-86DEDBDD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50059-2C3A-4F86-8461-2E8D159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8C805-2979-47C2-B14D-CD75ADE4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D0C7A-A10B-4863-88A2-01ABD22B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7FD15-8915-4C08-BF95-0B72A664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31C4-7BB1-4F5F-B175-07F5977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9BD-0290-4E6E-9C19-1F8608FD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946F-BB63-4676-932E-8BA4F946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8CE-7560-4B78-9F14-0770811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885-661B-411D-A056-6FDDC2A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ED4-9E42-42D6-952E-31ECCD35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9B7-166F-439C-8837-ADDC6653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DA1B-7733-4084-A652-9E7E813C9A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687-52C9-4FAF-AF72-B0B65FA252B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hartwijzer.nl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Poli Cardiolog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Ziekten van hart en bloedva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Myocardscintigraf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dioactieve stof &gt; thallium of technetium via infu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nucleaire geneesku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organkelijkheid van kransslagader beoord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AP klach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lasting: infuus, blootsteling radioactiv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Hartkatherisatie 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(Coronair angiografie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derzoek naar vernauwde kransslaga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theter met contrastvloeist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ruk en zuurstofgehalte me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nauwing kransslager &gt; dotte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oorbeelden van aandoeni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ypertens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Coronairlijden &gt; 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f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ritmestoorni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epgebr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Behande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eefreg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dic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rombolyse (een infuus met stolseloplossende medicijn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entiecardiologie (PCI=dotter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anvullend onderz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pannings-EC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X 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ho / dopplerechocard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yocardscinti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artkatheterisatie / coronairangiograf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dracht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ef een beschrijving van de boven genoemde onderzoe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ijk in je boek : Poliklinieken, jeugdgezondheidszorg en arbodienst of op </a:t>
            </a: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www.hartwijzer.n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C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lektrocardiogram / hartfilmp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gevoerd bij allerlei hartklachten en problemen of voor een 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spannings-EC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G met lichamelijke insp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Ook wel ergometrie: Fiets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ijdens onderzoek: Bloeddruk en ECG in gaten gehou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 afloop beoordel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ms belastend: hartklachten tijdens inspann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X thorax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nzichtbare str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Longfo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2 overzichtsfoto’s &gt; voorkant en zijk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belastend voor pat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ontgenstraling kan schade geven bij bv. Zwangeren &gt; aangeboren af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Echo / doppleronderz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chografie + duplex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wegende beel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romend bloed hoorba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oordeeld: functie hartkleppen pompkracht en bloedstro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j bloedvatafwijking nut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iet belastend voor patiënt. Niet schadelij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13:29:12Z</dcterms:created>
  <dc:creator>D</dc:creator>
  <dc:description/>
  <dc:language>en-US</dc:language>
  <cp:lastModifiedBy>Bouland,M.</cp:lastModifiedBy>
  <dcterms:modified xsi:type="dcterms:W3CDTF">2015-01-08T11:52:27Z</dcterms:modified>
  <cp:revision>8</cp:revision>
  <dc:subject/>
  <dc:title>Poli Cardiologie</dc:title>
</cp:coreProperties>
</file>