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B32-14A7-4415-B43B-877935ED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0713-FC78-49EC-B552-25E1D5AA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6FE-80D6-47A4-8C5E-EF9F1521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DA8C-AFDD-4712-AA9D-D09FE9C3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3D6-ED01-4DF2-851A-BC88D4C4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A55-8B63-43CD-9BE0-743FCEA3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CBA-D9CC-42EE-B150-96A3AC15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3CF-081C-4593-A8B1-29ADF92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198-E8A2-4977-8F59-3D792733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DF0-9037-4015-93E7-87F84698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DCF7-85B4-4945-82A4-4ACAB28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7B4-7D93-4756-9BE2-035D0EDD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3C8-5D4B-49BF-A333-C5B29D003F9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doeningen van hart en va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Bloeddruk meten bij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bij wie Hart Vaat Ziekten en hypertensie in de familie voorkomen  (erfelijke aanle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een verhoogd cholesterolgeha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die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n met diabetes mell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andeling:  leefreg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lichaamsbewe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der z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el groente en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 nodig afvallen - gezond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er matig met alcoholgebr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ppen met r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ak is dit niet genoeg of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 patiënt houdt zich niet voldoende aan de reg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ast leefregels :medic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s-pillen (Diure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atverwijders (Bètablokkers, Ace remmers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is keuze genoeg, vaak wordt gestart met de eerste en komen er vervolgens meer bij. De groepen komen later aan de o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image023"/>
          <p:cNvPicPr/>
          <p:nvPr/>
        </p:nvPicPr>
        <p:blipFill>
          <a:blip r:embed="rId1"/>
          <a:stretch/>
        </p:blipFill>
        <p:spPr>
          <a:xfrm>
            <a:off x="1886040" y="1305000"/>
            <a:ext cx="5371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AMGATE_6059_138_TICH_R236761194099971"/>
          <p:cNvPicPr/>
          <p:nvPr/>
        </p:nvPicPr>
        <p:blipFill>
          <a:blip r:embed="rId1"/>
          <a:stretch/>
        </p:blipFill>
        <p:spPr>
          <a:xfrm>
            <a:off x="2411280" y="1268280"/>
            <a:ext cx="43182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yperten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finitie: te hoge bloeddruk in de slagaderen, wann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loeddruk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 meerdere keren meten in rust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t de juiste hulpmiddelen de volgende waarden geef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Systolische druk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oger dan 14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Diastolische druk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oger dan 90 mm 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N.B.130/80 mm Hg bij nierpatiënten en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bet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onitoring-blood-pressure-300x240"/>
          <p:cNvPicPr/>
          <p:nvPr/>
        </p:nvPicPr>
        <p:blipFill>
          <a:blip r:embed="rId1"/>
          <a:stretch/>
        </p:blipFill>
        <p:spPr>
          <a:xfrm>
            <a:off x="2195640" y="1268280"/>
            <a:ext cx="4465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de meeste gevallen g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een snelle tensiestijging kunnen optreden: duizeligheid, hoofdp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ypertensie is een toevalsbevindin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orzaken / 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ssentiël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hypertensie; er is geen oorzaak bekend, wel spelen erfelijke factoren een rol, overgewicht, overmatig zout gebruik, overmatig alcoholgebruik en st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cundair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hypertensie ontstaat a.g.v. lichamelijke aandoeningen(nierziekten, hormonale ziekten), zwangerschap en genee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an hyperten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nelling van arteriosclerose met als gevol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Door vernauwing van de slagaders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nierschade, oogschade, hartsch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Aneurysma, verwijding van bijv buikao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gevolgd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Bloeding o.a. in de hersenen, aorta - bu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Decompensatio cordis (hartfal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ypertensie"/>
          <p:cNvPicPr/>
          <p:nvPr/>
        </p:nvPicPr>
        <p:blipFill>
          <a:blip r:embed="rId1"/>
          <a:stretch/>
        </p:blipFill>
        <p:spPr>
          <a:xfrm>
            <a:off x="2268360" y="0"/>
            <a:ext cx="400536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adeef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druk meten, patiënten komen een aantal keren langs per jaar, vaak ieder kwar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4 uurs bloeddrukmeting met dagboekje activiteiten bij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6:56:09Z</dcterms:created>
  <dc:creator>Onderwijs</dc:creator>
  <dc:description/>
  <dc:language>en-US</dc:language>
  <cp:lastModifiedBy>Dianne Knegt</cp:lastModifiedBy>
  <dcterms:modified xsi:type="dcterms:W3CDTF">2017-10-29T10:46:01Z</dcterms:modified>
  <cp:revision>9</cp:revision>
  <dc:subject/>
  <dc:title>Aandoeningen van hart en vaten</dc:title>
</cp:coreProperties>
</file>