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8E72-993F-44B2-871D-0057675C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36C-79FE-49AF-9D0F-48E63776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169-1614-4690-ABE2-0BC62E79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14E-6AB4-4E6E-B677-D318D05A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0B4-EA99-4211-9CB6-7FF57B99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E53-C7F0-4B42-81EB-0A4D50D1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796-CFA5-4668-98CF-59A9B8A4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0ED-F8DC-4889-ACD0-3145AA65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AF4-C9C5-4F47-9C54-8F1D42B6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639E-6B52-4129-9441-684B62D3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228-B34A-4BEF-8BF3-3E186B5D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FAD7-2EEB-43AE-A6C1-1CA71FD5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A33C-86A1-44B8-AA72-B1973253D11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fd293"/>
                </a:solidFill>
                <a:latin typeface="Arial"/>
              </a:rPr>
              <a:t>hart- en vaataandoeninge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rteriosclerose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lagaderverkal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fd293"/>
                </a:solidFill>
                <a:latin typeface="Arial"/>
              </a:rPr>
              <a:t>cardiovasculair risicomanagemen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iagnostiek, behandeling, begeleiding en controle van de risicofactoren voor HVZ bij mensen met een verhoogd r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el: 1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2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lijn behandelen dezelfde mensen op dezelfde man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fd293"/>
                </a:solidFill>
                <a:latin typeface="Arial"/>
              </a:rPr>
              <a:t>risicoprofiel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wi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l HVZ geh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yst. hypertens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e hoog cholest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annen &gt; 50 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rouwen &gt; 55 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ke factor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eeftijd en gesla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ystol. Bloeddru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holeste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lucosegehal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rfelijke 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lcoholgebru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Lichamelijke activit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MI en middelomtr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dfd293"/>
                </a:solidFill>
                <a:latin typeface="Arial"/>
              </a:rPr>
              <a:t>hoe werkt het?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elgroep moet herkenbaar zijn, bijv. door ‘ruiter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tingen worden via getallen ingevoe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rhaaldatum wordt ingevoe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ysteem meldt wat er moet gebeuren opdat risicoprofiel actueel blij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fd293"/>
                </a:solidFill>
                <a:latin typeface="Arial"/>
              </a:rPr>
              <a:t>arteriosclerose</a:t>
            </a:r>
            <a:br>
              <a:rPr sz="4400"/>
            </a:br>
            <a:r>
              <a:rPr b="0" lang="nl-NL" sz="2400" spc="-1" strike="noStrike">
                <a:solidFill>
                  <a:srgbClr val="dfd293"/>
                </a:solidFill>
                <a:latin typeface="Arial"/>
              </a:rPr>
              <a:t>geleidelijk proces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gint waarschijnlijk met cholesterolafze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ndotheel wordt beschadig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 beschadiging plakken bloedplaatjes vast + vaatwand gaat verdikken en verhar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oedvat wordt langzaam nauwer, collateralen worden gevormd (maanden/jar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fd293"/>
                </a:solidFill>
                <a:latin typeface="Arial"/>
              </a:rPr>
              <a:t>arteriosclerose</a:t>
            </a:r>
            <a:br>
              <a:rPr sz="4400"/>
            </a:br>
            <a:r>
              <a:rPr b="0" lang="nl-NL" sz="2400" spc="-1" strike="noStrike">
                <a:solidFill>
                  <a:srgbClr val="dfd293"/>
                </a:solidFill>
                <a:latin typeface="Arial"/>
              </a:rPr>
              <a:t>plotseling proces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rming van trombus waardoor bloedvat wordt afgesloten: achterliggende weefsel sterft af (necr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sgeschoten stukje trombus = embolie sluit vat af: achterliggende weefsel sterft af (necr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fsterven hartweefsel: hartinfar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fsterven hersenweefsel: herseninfar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fsterven weefsel in benen: gang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lerotisch vat mist elasticiteit, is bros en breekbaar, waardoor het makkelijk barst: hemorragie = bloe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fd293"/>
                </a:solidFill>
                <a:latin typeface="Arial"/>
              </a:rPr>
              <a:t>verschijnsele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Herse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IA (</a:t>
            </a: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</a:rPr>
              <a:t>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jdelijk </a:t>
            </a: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chaemische </a:t>
            </a: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nval), verdwijnen binnen 24 u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VA (</a:t>
            </a: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erebro</a:t>
            </a: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</a:rPr>
              <a:t>v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sculair </a:t>
            </a: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cid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H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ecompensatio cordis (hartfalen door verzwakte hartspier tgv sclerotische kransslagd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ngina pectoris (aanvalsgewijze pijn op de borst) door lokale vernauwing vd kransslagad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artinfarct (door totale afsluiting vd kransslagad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Been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(PAV=perifere arteriële vaataandoening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laudocatio intermittens (knijpende pijn in de kuit door gedeeltelijke afsluiting vd slagader naar het been of de aor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angreen (door totale afsluiting van een bloedva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fd293"/>
                </a:solidFill>
                <a:latin typeface="Arial"/>
              </a:rPr>
              <a:t>risicofactoren </a:t>
            </a:r>
            <a:r>
              <a:rPr b="0" lang="nl-NL" sz="2800" spc="-1" strike="noStrike">
                <a:solidFill>
                  <a:srgbClr val="dfd293"/>
                </a:solidFill>
                <a:latin typeface="Arial"/>
              </a:rPr>
              <a:t>1 + 1 = 3</a:t>
            </a: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eeftijd: art.scler. is een verouderingsziek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kse: mannen 2 x zoveel k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rfelijk belast: HVZ bij 1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ads familie &lt; 60 ja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hoogd cholesterolgehalte (bovengrens 5,0 mmol/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oeddruk (bovengrens 140 / 90 mm H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Rok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 meest te beïnvloeden factor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vergewicht (BMI 18-2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e weinig lichaamsbewe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M: hoe slechter ingesteld, hoe groter het r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fd293"/>
                </a:solidFill>
                <a:latin typeface="Arial"/>
              </a:rPr>
              <a:t>risicofactoren</a:t>
            </a:r>
            <a:br>
              <a:rPr sz="4000"/>
            </a:br>
            <a:r>
              <a:rPr b="0" lang="nl-NL" sz="2400" spc="-1" strike="noStrike">
                <a:solidFill>
                  <a:srgbClr val="dfd293"/>
                </a:solidFill>
                <a:latin typeface="Arial"/>
              </a:rPr>
              <a:t>nader bekeken</a:t>
            </a:r>
            <a:endParaRPr b="0" lang="en-US" sz="2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lz. 44 ES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: stopp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Risico daalt in korte tijd naar niveau niet-ro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ypercholesterolem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Cholesterol = bouwstof van celwanden en zenuwstels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Wordt gemaakt door de lever + plantaardige en dierlijke vetten in voedingsstoff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hoogde waarden geven op zich geen klach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DL (high-density / hoge-dichtheid lipoprotein = vettransporterend eiwit met veel cholesterol) biedt zekere bescherming; LDH bevordert art.scl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ewone gezond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Cholesterolsyntheseremmer: remt aanmaak in l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oppen met roken!! (+ gezond gewicht + voldoende bewe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etten o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MI (</a:t>
            </a: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b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dy </a:t>
            </a: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ss </a:t>
            </a:r>
            <a:r>
              <a:rPr b="1" lang="nl-NL" sz="1800" spc="-1" strike="noStrike" u="sng">
                <a:solidFill>
                  <a:srgbClr val="ffffff"/>
                </a:solidFill>
                <a:uFillTx/>
                <a:latin typeface="Arial"/>
              </a:rPr>
              <a:t>i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ndex); normaal = 18 -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MI = gewicht : (lengte)</a:t>
            </a:r>
            <a:r>
              <a:rPr b="0" lang="nl-NL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ppel- / peer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Taille-heupindex = omtrek taille : omtrek heu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&gt; 1,1 risico HV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ypertens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ystolische druk &gt;140 / diastolische druk &gt;90 mmH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oge bloeddruk op zich geeft geen klach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ypertensie is een risicofactor bij arterioscler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orzak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10% ziekte van nieren, bloedvaten, hormoonklier of zwangersch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ssentiële hypertensie (oorzaak onbekend, erfelijkheid speelt me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evolg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compensatio cordis (hartfal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stma cardiale (stuwing van bloed in longen, acute benauwdhei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arsten van een bloedvat – bl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oppen met roken, normaal gewicht, bewe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medicij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diposit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Reserve in barre tij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orzaak: balans tussen opname en verbruik gesto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dische gevolg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ivers (kans op DM, gewrichtsklachten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ans op HVZ 1,5 x als bij normaal gewic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fvallen onder begelei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oorbreken van vicieuze cirkel (psychische compon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5:15:12Z</dcterms:created>
  <dc:creator>vredelust</dc:creator>
  <dc:description/>
  <dc:language>en-US</dc:language>
  <cp:lastModifiedBy>Dianne Knegt</cp:lastModifiedBy>
  <dcterms:modified xsi:type="dcterms:W3CDTF">2017-11-21T13:41:50Z</dcterms:modified>
  <cp:revision>25</cp:revision>
  <dc:subject/>
  <dc:title>hart- en vaataandoeningen</dc:title>
</cp:coreProperties>
</file>