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A2A-1889-47A4-9E52-F73DF7E9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3F5-EB38-4B10-AEC6-A8147F60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FD43-738F-4F46-B946-8EB6B00F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C57-E68B-4B4D-B682-F6E9BC4D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ABE-3FE4-4B5E-9370-F2639AB7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B418-202F-49A2-A050-7325A50B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251E-5CF3-41ED-87CC-34FBF056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8F50-3CCE-44C7-85A8-9AC76715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D26D-24D0-4944-9679-31794E3F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5C3-5AA4-4541-9DBD-F1DE4C3F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ECEB-B01D-4C67-847D-C2F8346E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3D1-3482-4810-AE52-C545BDD7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6F13-229A-408C-82B0-35BFD69B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4EF2-AEA8-40DF-A572-CEABCD7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947E-5A5F-41D5-AA7F-30146D9C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2AE-16B1-436B-A94F-82D6D040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ABC-5A21-4345-91C7-39555E38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AE1A-857C-4B1D-826D-5398A714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CB47-1BF1-4016-B087-130C9881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5E29-8467-458E-99B3-34D8EF04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9639-3AA8-4A6C-BA93-0DFB0609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3463-6438-4FE5-90EB-2AD2A04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EA5-DA4B-4949-94BD-19B6C02F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4A1CD-F96E-4649-9E59-80BEB1CC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9BEFF-1383-4A9C-8CB3-E45AC68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3B67-2A85-45D2-8779-0B722A0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E71DD-4C11-4A84-ADEF-A0E1AC9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46B78-E059-4C44-A203-B091357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7F277-4769-4C12-8A58-A8E8967C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C7CB-66ED-4442-9890-A50CF3D0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C42A-831D-4855-ADB9-9D53C1AA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25DF4-C3B5-4CC8-9BEF-DE5A8EF2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243E5-7413-4015-955A-EB8789C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895-7755-4D1D-87C1-891C378B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5F76-C81E-4600-BEDD-1658651D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D7B4-CEA9-4C95-AABC-B34120E3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5534F-220F-4F4D-AE30-F20F7CB3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972E-52DA-442D-BE62-30ECCB5C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37AD-FABF-4F19-920B-FB5233E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CAA4-B755-441F-8304-DE50CDF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7C0D-56D2-42FF-8E4E-B225660F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98AFF-1253-4417-8E8A-F6BB5DE9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DFACA-137D-44B6-B610-EA2C0AEE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2D0-00B5-41E6-AE7F-3063426E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833-0857-42D7-9946-52DC3DAE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6D6-466C-459B-AD22-AF589C3D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CAB-4AC5-44A9-868A-83BA31E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D59-A37E-4FE4-85B1-7AD99F9B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F92A-3E8F-41AB-81C4-470EF98DAC3C}" type="slidenum"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0FF9-0FC0-4793-BC30-E301FB4250E2}" type="slidenum"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FC1-183E-4E52-949A-A305B46E5459}" type="slidenum">
              <a:rPr b="0" lang="nl-N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ige driehoek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rije v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rije v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1001-FFCC-4325-9BCF-7CD587CE4B53}" type="slidenum">
              <a:rPr b="0" lang="nl-N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542880" y="1347840"/>
            <a:ext cx="7851960" cy="1833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9640" y="3212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Constanti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Diuretica (plastabletten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Thiazide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Gelijkmatige wer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onstantia"/>
              </a:rPr>
              <a:t>hydrochloorthiazide, chloortalido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Kaliumsparende 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Gelijkmatige werk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onstantia"/>
              </a:rPr>
              <a:t>triamtereen, amilori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is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Krachtige werking (toepassing bij acuut hartfale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onstantia"/>
              </a:rPr>
              <a:t>furosemide, bumetanid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Thiazidediuretica = 1</a:t>
            </a:r>
            <a:r>
              <a:rPr b="0" lang="nl-NL" sz="5000" spc="-1" strike="noStrike" baseline="30000">
                <a:solidFill>
                  <a:srgbClr val="04617b"/>
                </a:solidFill>
                <a:latin typeface="Calibri"/>
              </a:rPr>
              <a:t>e</a:t>
            </a: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 k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werking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ypokaliëmie (kaliu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pierzwakte; hartritmestoorniss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yperurekemie (ureum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jich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yperglycemie (glu nuchter, HbA1C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(ontregeling) diabetes mellitu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Daarom geen 1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onstantia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 keus middel bij diabeten bij de behandeling van hypertensi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Kaliu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Normaal 3,5-5,0 mmol/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ypokaliëmie &lt; 2,5 mmol/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Hyperkaliëmie &gt; 6,0 mmol/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elangrijkste gevaren van te laag en te hoog kaliu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pierzwakt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Hartritmestoornissen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Bij hypertensiecontrole hoort jaarlijks bloedonderzoek; o.a. op kal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getatieve zenuwstels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onstantia"/>
              </a:rPr>
              <a:t>Bestuurt en reguleert de vitale basisfuncties van het organisme, zoals de stofwisseling, de ademhaling, de hartfunctie, de spijsvertering, het hormoonsysteem en het immuunsysteem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Sympathisch deel = actief bij acti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nellere hartfrequentie  + vaatvernauw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Snellere  ademhal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Afname darmperistaltiek  (samentrekken darmwand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Parasympatisch deel = actief in ru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Langzamere hartfrequentie  + vaatverwijd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Langzamere  ademhaling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onstantia"/>
              </a:rPr>
              <a:t>Toename darmperistaltiek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Betablokk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betasympaticolytic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(betacellen van) sympatische zenuwstelsel afremmen. Bloeddruk en hartrimte dal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imeticum = stimuler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Lyticum = remm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t is het effect van een betasympaticolyticum op hart en bloedvaten? En op de bloeddru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ACE-remm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Remmen van Angiotensine Converting Enzyme in weefsel en bloedplas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Remmen van de omzetting van angiotensine (hormo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loedvatverwij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Vermindering bloedvolu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AT1-antagonisten hebben een soortgelijke werk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t is het effect van een ACE-remmer op de bloeddru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Calciumantagon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= Werkt Calcium te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vaatverwijd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remmen de calciuminstroom in de ce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at is het effect van een Calciumantagonist op de bloeddru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Overzich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1844640"/>
          <a:ext cx="8496360" cy="4581720"/>
        </p:xfrm>
        <a:graphic>
          <a:graphicData uri="http://schemas.openxmlformats.org/drawingml/2006/table">
            <a:tbl>
              <a:tblPr/>
              <a:tblGrid>
                <a:gridCol w="2178000"/>
                <a:gridCol w="1525680"/>
                <a:gridCol w="1670040"/>
                <a:gridCol w="3122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Gro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Na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Bijwerki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oepass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tablok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nstantia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toprolol, atenolol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otal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ude ving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ortadem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tmestoornis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CE-rem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nalapril, captopril, lisino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rikkelho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diabet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gedotterden/na bypassopera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rtfa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T1-antag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sar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lciumantagon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39aa1"/>
                      </a:solidFill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ifedipin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lodip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ofdpij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uizeli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A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ypertensie bij  ast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itmestoornis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4320">
                      <a:solidFill>
                        <a:srgbClr val="039aa1"/>
                      </a:solidFill>
                    </a:lnR>
                    <a:lnT w="4320">
                      <a:solidFill>
                        <a:srgbClr val="039aa1"/>
                      </a:solidFill>
                    </a:lnT>
                    <a:lnB w="4320">
                      <a:solidFill>
                        <a:srgbClr val="039aa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Hypertensi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Meerdere malen verhoogde bloeddruk geme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Systolisch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 140 en/of diastolisch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Constantia"/>
              </a:rPr>
              <a:t>&gt;</a:t>
            </a: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 90 mmH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Geeft geen klacht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Wel risicofactor voor HVZ: bijvoorbeeld arteriosclerose, hartfal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Essentiële of </a:t>
            </a:r>
            <a:br>
              <a:rPr sz="4100"/>
            </a:b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primaire hypertensie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Met onbekende oorza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Erfelijke belasting kan rol spelen, net als overgewicht, voeding, alcohol en st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90% van alle hypertensiepatiën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Symptomatische of </a:t>
            </a:r>
            <a:br>
              <a:rPr sz="4100"/>
            </a:br>
            <a:r>
              <a:rPr b="0" lang="nl-NL" sz="4100" spc="-1" strike="noStrike">
                <a:solidFill>
                  <a:srgbClr val="04617b"/>
                </a:solidFill>
                <a:latin typeface="Calibri"/>
              </a:rPr>
              <a:t>secundaire hypertensie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10% van alle hypertensiepatiënt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Mogelijke oorzak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Nierziek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Hormonale ziek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Medicijngebrui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Vernauwing aor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nstantia"/>
              </a:rPr>
              <a:t>Zwangerschapshypertensie: Schadelijk voor placenta en dus voor ki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Behandel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Afhankelijk va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Hoogte bloeddru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Andere risicofactor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Risicotabel (Framinghamstudie) wordt hiervoor gebruik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Start behandeling met leefrege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Gezonde voed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Stoppen met rok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Afvall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onstantia"/>
              </a:rPr>
              <a:t>Meer bewege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06600" y="90360"/>
            <a:ext cx="79308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04617b"/>
                </a:solidFill>
                <a:latin typeface="Calibri"/>
              </a:rPr>
              <a:t>Behandeling met geneesmiddele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Groepe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Diure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ACE-remm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Bètablokkers = betasympathicoly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nstantia"/>
              </a:rPr>
              <a:t>Calciumantagonist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Werking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Diuretica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Als u de sproeier aan het eind van de tuinslang verder openzet, stroomt er meer water naar buiten en neemt de druk in de tuinslang af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Doordat u meer gaat plassen, neemt de druk in de bloedvaten af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Bètablokker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Als u de kraan aan het begin van de slang een beetje dichtdraait, wordt de druk in de tuinslang verlaagd</a:t>
            </a:r>
            <a:r>
              <a:rPr b="0" i="1" lang="nl-NL" sz="2600" spc="-1" strike="noStrike">
                <a:solidFill>
                  <a:srgbClr val="21b2c9"/>
                </a:solidFill>
                <a:latin typeface="Constantia"/>
              </a:rPr>
              <a:t>.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 Uw hart gaat iets minder hard pompen en daardoor neemt de druk in de bloedvaten a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Calibri"/>
              </a:rPr>
              <a:t>Vervolg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Aceremmer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Als u de tuinslang wijder maakt, zal de druk in de slang lager worden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Door de bloedvaten te verwijden, vermindert de druk in de vaten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onstantia"/>
              </a:rPr>
              <a:t>Calciumantagonisten: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Constantia"/>
              </a:rPr>
              <a:t>werken op twee manieren: ze maken de tuinslang wijder en draaien de kraan wat verder dicht.</a:t>
            </a:r>
            <a:r>
              <a:rPr b="0" lang="nl-N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nl-NL" sz="2600" spc="-1" strike="noStrike">
                <a:solidFill>
                  <a:srgbClr val="21b2c9"/>
                </a:solidFill>
                <a:latin typeface="Constantia"/>
              </a:rPr>
              <a:t>De bloedvaten worden iets wijder en het hart pompt minder hard. Daardoor neemt de druk in de bloedvaten af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06:52:07Z</dcterms:created>
  <dc:creator>Jacolien Swierstra</dc:creator>
  <dc:description/>
  <dc:language>en-US</dc:language>
  <cp:lastModifiedBy>Marlies Bouland</cp:lastModifiedBy>
  <dcterms:modified xsi:type="dcterms:W3CDTF">2019-09-30T08:45:40Z</dcterms:modified>
  <cp:revision>24</cp:revision>
  <dc:subject/>
  <dc:title>Hypertensie</dc:title>
</cp:coreProperties>
</file>