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D2CC-49C6-409D-B22D-FA262C5B5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0489-08E1-4EF4-913A-C8CD830E8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8A0A-BF4F-4EF6-9D41-9636530A2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D9EC-0E7F-4A0B-8F83-7E847F0916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B55F-F27E-4D68-B3E3-F7D3A795C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AF2A-10FD-43A6-B447-581D853DA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A68F-96B4-472A-86E4-9ED0DB3EDE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B5D5-D1BF-4480-810C-9AADF8B03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C7E1-ED55-47BA-8343-C2AD471549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DF27D-77C3-4CFF-ADA9-30DD37CDFF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93EA7-82CC-4D55-A03D-8B32CDA5EF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18FC6-B3C7-4952-9DA9-5524088A1A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5F064-EA34-44A7-B0A8-BD9DEE2ADD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3F0FE-582B-4DB6-A4E8-3C21229A21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A3F0-DFA8-41E4-8745-9C6E8370DE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A1CEC-3177-4093-88DE-BCF5DD1853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C030-2C36-46F9-B4A5-62290B29B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6400-E067-45FD-B034-76EAC147D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0C81-E372-4D92-B8A7-B14735928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2E6D-5158-4E85-9A86-8D7A12E40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C2A0-8AB3-4169-A49E-46B406FFD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9DBA-E452-446D-A6FD-43A47099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2D9-1945-4CEC-9975-3FC24265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904-B6CF-480B-BF30-CF7DF4D9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1AB-F392-406D-A0FC-9FE15E27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3599-1908-46C0-8DD3-1F471403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9112-E0BC-4903-AAAB-701D5028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267E-9D70-4760-8487-E965D351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D8F0-5705-4654-A519-AF47FBFC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6292-2E21-4323-BB89-952C77AF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D6B7-13CD-431D-905A-93389E71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9F66-5548-4845-8C46-E4655CD7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8C9E-493A-44BC-8CC6-02FBE705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541A-F305-4F8E-A426-D3CA04BC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0427-CCF9-407D-93C0-FC146F3D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0B43-2651-41C3-A235-C813FDC1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4B1B-C081-4F95-8293-26B9E3C9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0304-A928-4729-BB14-8D9F13E4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8BAF9-B5E5-4E18-BF26-B683021B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7B1A6-7CA4-438C-995F-7F3EE6E2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318B-A8EF-47F9-8B0F-7D2B2E75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0A4B-C7FC-4A26-BC64-11CE647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44D7-A486-4133-91DA-E76D269A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5B76-5590-44F0-8850-A3044CBA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977C-4B5E-4CB6-B128-377DC925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1DBA3-43F2-4B7C-AF60-D0F41C4A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79362-2008-4A46-B245-29193B62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CFE2-0D74-42F4-857F-02216710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EF5B-E7D2-400F-80C2-457BC64A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5E47-182C-4CA6-A590-88362AEA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4121-5427-4C54-BB52-EBB2A3F8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ED75-E6CE-4BC6-93A8-FD60EBD5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91C8-2536-497A-92F4-244BBAF3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E6840-5D96-4E5B-9CE7-00B411FF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5EDA-0B5F-43B3-9FBA-FAF4E3D0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3226-0574-4AAD-B068-41B2310C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4495-2679-42A5-93D7-E40B21AD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CB02E-84EA-4897-8D83-58C8E101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213DC-50B3-4C3C-8E5C-5A58B9AF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1C7B1-C4D1-4D9A-B9C1-67E43A92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3B8D-7314-4D74-94B2-0F2ACA94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AB492-DFF1-45D9-901F-37B037CC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5D1DA-7B9A-48C1-B1BA-14E9A450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D0CFF-54DB-46C4-A0DC-16BF582C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B4410-FD62-41E3-96BD-76FB8982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47C-C488-4D05-B875-C30D407A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7032D-875D-40DC-9B46-769FACA6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ACAD2-B3D3-4123-8668-E9E8EF06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6BB15-635E-41C0-A3FD-B2B8D49D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CF161-6967-4757-A81A-120A5C64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C7E9-A297-48F3-B5B1-41364412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AA46-2683-45A6-8DB7-33D6BF15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35270-0D31-4779-A9E2-E00955B8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DB439-B53F-4CC6-BE80-C6F38592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D29A8-DA30-4253-ACB2-8682A9E3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C3725-3579-4869-8C27-704AFA49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51C-7E8E-4D5E-B783-EB2D5D3C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B0A75-D5D9-496C-84EC-9E02E2A6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538EB-9004-454C-B807-A55D49EF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ECFB8-E46C-402D-AB66-703F4442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19FCF-C33F-4E5B-8801-0CDCD13B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7F41C-1558-4F37-8020-956D0C01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1B544-4799-4819-B9C0-F027BFF5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78568-1EF2-4586-8706-57D111A9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322B8-1FFF-4475-9E2D-E5B227B7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47C1A-5BB1-4233-9C58-6E8722CA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B40E0-FFED-415C-AAF3-C8B3382E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6B88-DD0E-4D4E-84DE-817D40E6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34BCE-682C-420E-A64F-65A0D8B7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EB904-B1C5-4540-8DF2-7040960E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7A19F-F661-4012-B2E0-7B20A577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A3D66-407A-4A4C-A02D-BA507DDA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054A1-E5DF-43AE-83D4-705EDA46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4FAEB-F7DB-4D95-8E6F-76853ABA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59D47-2B7E-4B2A-93C8-242EC917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74F1D-3556-48AF-BE51-9DA7477B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372C3-6B70-4A43-89A8-3B3D0B35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4C0B-38D5-4F9E-BEDC-5BB07358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02C-623A-4CAF-B1B5-18F97C7D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89E81-434E-4C6D-A1B2-CFA20B71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77785-7761-409C-B38B-5283C449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2584B-D606-4026-8FB7-9FDF4ECC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6695D-76C9-4149-B40A-92F2F9E2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81B31-E369-4A89-8B0E-182E4C84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6F29E-64FA-46CB-A5BF-3A42B834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54918-B412-48F7-A7A9-850A061F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93B19-453E-4237-BDF7-C8BC885C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61C39-5132-4766-99C9-8EA4EE9D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51538-08C5-4CC7-B258-82D8DD88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2585-1794-4CF3-8B38-D1CC416D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0E0B7-6543-4569-825F-F62F6FD6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64905-00B4-4171-A7F0-FFE67A65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6A95A-C05D-489F-9980-2A32D650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68E90-8110-44F2-AA2F-99F377B0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66D0E-BCD9-4E35-8DE5-9365A751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933AF-4094-45B5-843F-677AEE94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E9CF7-4733-4F10-A29F-ECEADB79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A914-5581-4361-9C7A-AF1DA69C1E8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4A38-AFDB-4C20-8582-DE4E4299BF2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418D-C90B-48F6-B8E4-95F3EF698F9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3297-852D-4201-BAE4-3C45C86212F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8CFE-19C2-4DAA-928E-5A3315A71FE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1369-FC39-48E9-B6FB-591D03F08C1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157A-5224-4253-865D-6514170465D4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 verbindingslijn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3189-FC35-445B-978F-91E8FAF0919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87280" y="386064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b0f0"/>
                </a:solidFill>
                <a:latin typeface="Bookman Old Style"/>
              </a:rPr>
              <a:t>Moeheid</a:t>
            </a:r>
            <a:br>
              <a:rPr sz="6000"/>
            </a:br>
            <a:endParaRPr b="0" lang="en-US" sz="6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60994"/>
                </a:solidFill>
                <a:latin typeface="Bookman Old Style"/>
              </a:rPr>
              <a:t>Het is niet eenvoudig om de oorzaak te vinden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Gill Sans MT"/>
              </a:rPr>
              <a:t>Geef een omschrijving van de volgende begrippen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464653"/>
                </a:solidFill>
                <a:latin typeface="Gill Sans MT"/>
              </a:rPr>
              <a:t>Vormen anemie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IJzergebreks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Pernicieuze 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Anemie door foliumzuurgebrek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Aplastische 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Hemolytische 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IJzergebreks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464653"/>
                </a:solidFill>
                <a:latin typeface="Gill Sans MT"/>
              </a:rPr>
              <a:t>IJzergebreksanemie 97% van alle anemieë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Oorzaken: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Tekort aan Fe (ijzer) (eenzijdig voedingspatroon: alcoholist, zwerver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Bloedverlies (zichtbaar: wond, menstruatie; occult: MDK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Zwangerschap (verdunning + evt. grotere behoefte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Microcytaire ery’s : gevolg kleinere ery’s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Th: oorzaak bestrijden + ferrofumaraat 3d0,5t 200mg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Bijw. ferrofumaraat: misselijk, obstipatie, diarree, zwarte ontlasting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N.B. bij acuut bloedverlies ook wel bloedtransfusi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Pernicieuze 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94920" y="12682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464653"/>
                </a:solidFill>
                <a:latin typeface="Gill Sans MT"/>
              </a:rPr>
              <a:t>Pernicieuze anemie: 2% van alle anemieë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Oorzaken: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Tekort aan vit B12 in voeding (vlees, vis, melk, eieren &gt; veganist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Vit b12: vorming van celwand erytrocyten.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Tekort aan  IF: Intrinsic Factor – nodig voor opname vit B12 in darm (auto-immuunziekte/maagoperatie)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Darmziekte: gestoorde opname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Macrocytaire ery’s : te grote ery’s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Th: oorzaak bestrijden + hydroxocobalamine i.m. 2m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464653"/>
                </a:solidFill>
                <a:latin typeface="Gill Sans MT"/>
              </a:rPr>
              <a:t>Eerst 2x per week gedurende 5 weken, daarna 1x per 2 maande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Anemie a.g.v. tekort aan foliumzuu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464653"/>
                </a:solidFill>
                <a:latin typeface="Gill Sans MT"/>
              </a:rPr>
              <a:t>Anemie a.g.v. foliumzuurtekor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Oorzaken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Tekort aan foliumzuur in voeding (groente, fruit &gt; ouderen, alcoholisten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Macrocytaire ery’s : te grote ery’s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Th: oorzaak bestrijden + foliumzuur tablette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Aplastische 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1" lang="nl-NL" sz="2300" spc="-1" strike="noStrike">
                <a:solidFill>
                  <a:srgbClr val="464653"/>
                </a:solidFill>
                <a:latin typeface="Gill Sans MT"/>
              </a:rPr>
              <a:t>Aanmaak van ery’s in beenmerg gestoor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Oorzaken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Virusinfect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Kwaadaardige woekering van leuko’s:  leuk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Bloedvormige cellen worden verdrongen: ery’s tekor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Nierinsufficiëntie (tekort aan erytropoëtine (EPO) – stofje dat aanmaak van ery’s stimuleert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	</a:t>
            </a: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N.B. EPO wordt in de sport als doping gebruik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Th: oorzaak bestrijden + bloedtransfus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89" name="Afbeelding 3" descr="imagesCA0NAJMS.jpg"/>
          <p:cNvPicPr/>
          <p:nvPr/>
        </p:nvPicPr>
        <p:blipFill>
          <a:blip r:embed="rId1"/>
          <a:stretch/>
        </p:blipFill>
        <p:spPr>
          <a:xfrm>
            <a:off x="7020000" y="508464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Hemolytische 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464653"/>
                </a:solidFill>
                <a:latin typeface="Gill Sans MT"/>
              </a:rPr>
              <a:t>Verhoogde afbraak van ery’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Oorzaken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Erfelijke bloedaandoening, bijv. sikkelcel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Erytrocytenwand is minder elastisch of hb is afwijkend, de ery’s vallen uit elkaar.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Behandeling: foliumzuur, bloedtransfus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Gill Sans MT"/>
              </a:rPr>
              <a:t>Sikkelcelanemie:  ery’s bevatten afwijkend type HB.  Komt uitsluitend voor bij negroide ra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Kwaadaardige ziekten van bloe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cute en chronische Leukem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 ziekte van Hodgk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 ziekte van Non-Hodgk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Gill Sans MT"/>
              </a:rPr>
              <a:t>Opdracht: geef een omschrijving van bovenstaande begrippe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Leuk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Gill Sans MT"/>
              </a:rPr>
              <a:t>Kanker van de leukocyt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Acute leukemi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ALL: Lymfocyten kunnen acuut kwaadaardig worden &gt; acute lymfatische leukemi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AML: acuut leukemie bij kinderen, de gewone leukocyten in beenmerg &gt; acute myeloide leukemi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Chronische leukemi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CLL: Vooral bij volwassenen &gt; Chronische lymfatische leukemi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CML: Chronische myeloide leukemie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CML is ernstiger dan CLL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MT"/>
              </a:rPr>
              <a:t>Prognose is beter dan vroeger &gt; chem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Ziekte van Hodgkin = Hodgkin-lymfoom</a:t>
            </a: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600" spc="-1" strike="noStrike">
                <a:solidFill>
                  <a:srgbClr val="000000"/>
                </a:solidFill>
                <a:latin typeface="Gill Sans MT"/>
              </a:rPr>
              <a:t>Kanker van abnormale groei lymfocy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nl-NL" sz="2600" spc="-1" strike="noStrike" baseline="30000">
                <a:solidFill>
                  <a:srgbClr val="000000"/>
                </a:solidFill>
                <a:latin typeface="Gill Sans MT"/>
              </a:rPr>
              <a:t>e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verschijnsel = vergrote lymfeklier in hals/nek zonder 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ter vermoeidheid, koorts, gewichts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gnose: biop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ans op overleving is groot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adium I en II: overleving 90%, stadium III: 70-80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Ziekte van Non-Hodgki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Gezwellen van lymfestelse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zamelbegrip voor alle lymfomen die </a:t>
            </a:r>
            <a:r>
              <a:rPr b="1" i="1" lang="nl-NL" sz="2600" spc="-1" strike="noStrike">
                <a:solidFill>
                  <a:srgbClr val="000000"/>
                </a:solidFill>
                <a:latin typeface="Gill Sans MT"/>
              </a:rPr>
              <a:t>niet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e ziekte van Hodgkin z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r zijn ongeveer 30 Non-Hodgkin-lymfom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loop is variabel, ligt eraan waar kanker zi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ognose is slechter dan bij ziekte van Hodgk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Moehei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geuite klacht in de spreekkam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727ca3"/>
                </a:solidFill>
                <a:latin typeface="Gill Sans MT"/>
              </a:rPr>
              <a:t>80% van de gevallen psychisch of sociaal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727ca3"/>
                </a:solidFill>
                <a:latin typeface="Gill Sans MT"/>
              </a:rPr>
              <a:t>20% van de gevallen lichamelijk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63" name="Picture 7" descr="http://www.happymoms.nl/images/media/leegnest/psyche/woman_sleeping_at_work.jpg"/>
          <p:cNvPicPr/>
          <p:nvPr/>
        </p:nvPicPr>
        <p:blipFill>
          <a:blip r:embed="rId1"/>
          <a:stretch/>
        </p:blipFill>
        <p:spPr>
          <a:xfrm>
            <a:off x="3348000" y="3716280"/>
            <a:ext cx="267984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Hemofil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rfelijk tekort aan stollingsfact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fwijkend gen op X chromosoom: alleen bij mannen voo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rouw kan wel draagster zijn van hemofil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ichte hemofilie problemen bij OK, hoe ernstiger hemofilie hoe heviger de bloedinge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ognose: sterk verbeterd. Meer mogelijkheden voor behandeling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9360">
            <a:solidFill>
              <a:srgbClr val="4646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464653"/>
                </a:solidFill>
                <a:latin typeface="Gill Sans MT"/>
              </a:rPr>
              <a:t>Samenstelling van het bl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533520" y="17524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9fb8cd"/>
                </a:solidFill>
                <a:latin typeface="Arial"/>
              </a:rPr>
              <a:t>Totale bloedhoeveelheid = 7 % van lichaamsgewic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4"/>
          <p:cNvGrpSpPr/>
          <p:nvPr/>
        </p:nvGrpSpPr>
        <p:grpSpPr>
          <a:xfrm>
            <a:off x="3580920" y="4952880"/>
            <a:ext cx="1676880" cy="685800"/>
            <a:chOff x="3580920" y="4952880"/>
            <a:chExt cx="1676880" cy="685800"/>
          </a:xfrm>
        </p:grpSpPr>
        <p:sp>
          <p:nvSpPr>
            <p:cNvPr id="405" name="Line 5"/>
            <p:cNvSpPr/>
            <p:nvPr/>
          </p:nvSpPr>
          <p:spPr>
            <a:xfrm flipH="1">
              <a:off x="3580920" y="4952880"/>
              <a:ext cx="68580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>
              <a:off x="4572000" y="4952880"/>
              <a:ext cx="68580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7"/>
          <p:cNvSpPr/>
          <p:nvPr/>
        </p:nvSpPr>
        <p:spPr>
          <a:xfrm>
            <a:off x="914400" y="5791320"/>
            <a:ext cx="3124080" cy="947160"/>
          </a:xfrm>
          <a:prstGeom prst="rect">
            <a:avLst/>
          </a:prstGeom>
          <a:solidFill>
            <a:srgbClr val="ff66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9fb8cd"/>
                </a:solidFill>
                <a:latin typeface="Times New Roman"/>
              </a:rPr>
              <a:t>0,43 l bloedcellen (=4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4495680" y="5791320"/>
            <a:ext cx="4038840" cy="520560"/>
          </a:xfrm>
          <a:prstGeom prst="rect">
            <a:avLst/>
          </a:prstGeom>
          <a:solidFill>
            <a:srgbClr val="ffcc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9fb8cd"/>
                </a:solidFill>
                <a:latin typeface="Times New Roman"/>
              </a:rPr>
              <a:t>0,57 l bloedplasma (5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9"/>
          <p:cNvGrpSpPr/>
          <p:nvPr/>
        </p:nvGrpSpPr>
        <p:grpSpPr>
          <a:xfrm>
            <a:off x="3505320" y="3657600"/>
            <a:ext cx="1828800" cy="1320480"/>
            <a:chOff x="3505320" y="3657600"/>
            <a:chExt cx="1828800" cy="1320480"/>
          </a:xfrm>
        </p:grpSpPr>
        <p:grpSp>
          <p:nvGrpSpPr>
            <p:cNvPr id="410" name="Group 10"/>
            <p:cNvGrpSpPr/>
            <p:nvPr/>
          </p:nvGrpSpPr>
          <p:grpSpPr>
            <a:xfrm>
              <a:off x="3505320" y="3657600"/>
              <a:ext cx="1828800" cy="1294920"/>
              <a:chOff x="3505320" y="3657600"/>
              <a:chExt cx="1828800" cy="1294920"/>
            </a:xfrm>
          </p:grpSpPr>
          <p:sp>
            <p:nvSpPr>
              <p:cNvPr id="411" name="AutoShape 11"/>
              <p:cNvSpPr/>
              <p:nvPr/>
            </p:nvSpPr>
            <p:spPr>
              <a:xfrm>
                <a:off x="3581640" y="3885840"/>
                <a:ext cx="1676160" cy="1066680"/>
              </a:xfrm>
              <a:custGeom>
                <a:avLst/>
                <a:gdLst>
                  <a:gd name="textAreaLeft" fmla="*/ 349200 w 1676160"/>
                  <a:gd name="textAreaRight" fmla="*/ 1326960 w 1676160"/>
                  <a:gd name="textAreaTop" fmla="*/ 222120 h 1066680"/>
                  <a:gd name="textAreaBottom" fmla="*/ 8445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46465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2"/>
              <p:cNvSpPr/>
              <p:nvPr/>
            </p:nvSpPr>
            <p:spPr>
              <a:xfrm flipH="1" flipV="1">
                <a:off x="3505320" y="3657600"/>
                <a:ext cx="7632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13"/>
              <p:cNvSpPr/>
              <p:nvPr/>
            </p:nvSpPr>
            <p:spPr>
              <a:xfrm flipV="1">
                <a:off x="5257800" y="3657600"/>
                <a:ext cx="7632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Text Box 14"/>
            <p:cNvSpPr/>
            <p:nvPr/>
          </p:nvSpPr>
          <p:spPr>
            <a:xfrm>
              <a:off x="3733920" y="3962160"/>
              <a:ext cx="1371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Times New Roman"/>
                </a:rPr>
                <a:t>1 li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2400" spc="-1" strike="noStrike">
                  <a:solidFill>
                    <a:srgbClr val="000000"/>
                  </a:solidFill>
                  <a:latin typeface="Times New Roman"/>
                </a:rPr>
                <a:t>blo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15"/>
          <p:cNvSpPr/>
          <p:nvPr/>
        </p:nvSpPr>
        <p:spPr>
          <a:xfrm>
            <a:off x="1449720" y="2284560"/>
            <a:ext cx="61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Een volwassene heeft ongeveer 4-6 liter blo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1066680"/>
            <a:ext cx="5867280" cy="2913480"/>
            <a:chOff x="0" y="1066680"/>
            <a:chExt cx="5867280" cy="2913480"/>
          </a:xfrm>
        </p:grpSpPr>
        <p:sp>
          <p:nvSpPr>
            <p:cNvPr id="417" name="Text Box 3"/>
            <p:cNvSpPr/>
            <p:nvPr/>
          </p:nvSpPr>
          <p:spPr>
            <a:xfrm>
              <a:off x="0" y="1066680"/>
              <a:ext cx="586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6000" spc="-1" strike="noStrike">
                  <a:solidFill>
                    <a:srgbClr val="000000"/>
                  </a:solidFill>
                  <a:latin typeface="Times New Roman"/>
                </a:rPr>
                <a:t>Fibrinogee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"/>
            <p:cNvSpPr/>
            <p:nvPr/>
          </p:nvSpPr>
          <p:spPr>
            <a:xfrm>
              <a:off x="0" y="2971800"/>
              <a:ext cx="510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nl-NL" sz="6000" spc="-1" strike="noStrike">
                  <a:solidFill>
                    <a:srgbClr val="000000"/>
                  </a:solidFill>
                  <a:latin typeface="Times New Roman"/>
                </a:rPr>
                <a:t>Serum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5"/>
          <p:cNvSpPr/>
          <p:nvPr/>
        </p:nvSpPr>
        <p:spPr>
          <a:xfrm>
            <a:off x="2057400" y="228600"/>
            <a:ext cx="4952880" cy="703440"/>
          </a:xfrm>
          <a:prstGeom prst="rect">
            <a:avLst/>
          </a:prstGeom>
          <a:solidFill>
            <a:srgbClr val="ffcc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9fb8cd"/>
                </a:solidFill>
                <a:latin typeface="Times New Roman"/>
              </a:rPr>
              <a:t>Bloedplas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143000" y="20574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peelt belangrijke rol bij de bloedstolling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et zich om naar fibrine(draden) </a:t>
            </a:r>
            <a:r>
              <a:rPr b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bloedcellen blijven in het fibrinenet gev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1219320" y="3809880"/>
            <a:ext cx="6933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iwitten (vb. albumine, globuline, antistoffen, H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nen (vb Na</a:t>
            </a:r>
            <a:r>
              <a:rPr b="1" lang="nl-N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orm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fval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edingsbestan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assen (vb. zuurstof en koolstofdiox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CommonBullets"/>
              <a:buChar char="&gt;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Object 8"/>
          <p:cNvGraphicFramePr/>
          <p:nvPr/>
        </p:nvGraphicFramePr>
        <p:xfrm>
          <a:off x="5334120" y="2819520"/>
          <a:ext cx="2943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819520"/>
                    <a:ext cx="2943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Bookman Old Style"/>
              </a:rPr>
              <a:t>Bloedplas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n bloedplasma vele stoffen vervoer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a-eiwitten: te kort &gt; uithongering &gt; problemen uitwisseling stoffen in haarva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ibrinogeen: plasma-eiwit &gt; bloedstoll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fwe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143000" y="533520"/>
            <a:ext cx="6781680" cy="642600"/>
          </a:xfrm>
          <a:prstGeom prst="rect">
            <a:avLst/>
          </a:prstGeom>
          <a:solidFill>
            <a:srgbClr val="ff6600">
              <a:alpha val="5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fb8cd"/>
                </a:solidFill>
                <a:latin typeface="Times New Roman"/>
              </a:rPr>
              <a:t>Bloedc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7200" y="1828080"/>
            <a:ext cx="767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95% Rode bloedlichaampjes (erythrocy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4320" y="2742480"/>
            <a:ext cx="64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0,1% Witte bloedcellen (leucocy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5760" y="5485680"/>
            <a:ext cx="58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% Bloedplaatjes (trombocyt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845360" y="3344760"/>
            <a:ext cx="282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ranulocy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ymfocy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onocy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7"/>
          <p:cNvGraphicFramePr/>
          <p:nvPr/>
        </p:nvGraphicFramePr>
        <p:xfrm>
          <a:off x="7689960" y="1828800"/>
          <a:ext cx="912600" cy="7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9960" y="1828800"/>
                    <a:ext cx="9126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8"/>
          <p:cNvGraphicFramePr/>
          <p:nvPr/>
        </p:nvGraphicFramePr>
        <p:xfrm>
          <a:off x="6934320" y="3200400"/>
          <a:ext cx="151128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3200400"/>
                    <a:ext cx="1511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Group 9"/>
          <p:cNvGrpSpPr/>
          <p:nvPr/>
        </p:nvGrpSpPr>
        <p:grpSpPr>
          <a:xfrm>
            <a:off x="6553080" y="5638680"/>
            <a:ext cx="1676160" cy="766800"/>
            <a:chOff x="6553080" y="5638680"/>
            <a:chExt cx="1676160" cy="766800"/>
          </a:xfrm>
        </p:grpSpPr>
        <p:graphicFrame>
          <p:nvGraphicFramePr>
            <p:cNvPr id="436" name="Object 10"/>
            <p:cNvGraphicFramePr/>
            <p:nvPr/>
          </p:nvGraphicFramePr>
          <p:xfrm>
            <a:off x="6553080" y="5638680"/>
            <a:ext cx="838080" cy="5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7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5638680"/>
                      <a:ext cx="83808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Object 11"/>
            <p:cNvGraphicFramePr/>
            <p:nvPr/>
          </p:nvGraphicFramePr>
          <p:xfrm>
            <a:off x="7391160" y="5867280"/>
            <a:ext cx="838080" cy="538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9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91160" y="5867280"/>
                      <a:ext cx="838080" cy="5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838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100" spc="-1" strike="noStrike">
                <a:solidFill>
                  <a:srgbClr val="a3a7c0"/>
                </a:solidFill>
                <a:latin typeface="Bookman Old Style"/>
              </a:rPr>
              <a:t>WITTE BLOEDCELLEN</a:t>
            </a:r>
            <a:endParaRPr b="0" lang="en-US" sz="31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755640" y="1268280"/>
            <a:ext cx="59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533520" y="2040480"/>
            <a:ext cx="80769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rootte: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eestal groter dan de r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loedlichaamp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evensduur: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ommige 1 dag, andere ja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zitten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ronde of gelobde k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bben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ronde of zeer wisselvallig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rm.  Bepaalde soorten kunnen zich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 vervormen en zodoende krui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verdeeld in 2/3 deel granulocyten en 1/3 deel lymfocy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5"/>
          <p:cNvGraphicFramePr/>
          <p:nvPr/>
        </p:nvGraphicFramePr>
        <p:xfrm>
          <a:off x="6172200" y="2133720"/>
          <a:ext cx="266688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266688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Granulocyt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n celplasma, kleine korrels (granula) bezit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bijdrage algemene weerst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 ontsteking: bacteriën onschadelijk maken door </a:t>
            </a:r>
            <a:r>
              <a:rPr b="0" i="1" lang="nl-NL" sz="2600" spc="-1" strike="noStrike">
                <a:solidFill>
                  <a:srgbClr val="000000"/>
                </a:solidFill>
                <a:latin typeface="Gill Sans MT"/>
              </a:rPr>
              <a:t>vreetcellen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(fagocyten). Dit heet fagocytos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Lymfocyt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pecifieke weersta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richt tegen bepaalde bacteriën en virussen = immuniteit. Berust op vorming van antistoffen (antilichamen) als reactie op binnengedrongen antigen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ntigeen: lichaamsvreemde stof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04920" y="304920"/>
            <a:ext cx="8534160" cy="914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Gill Sans MT"/>
              </a:rPr>
              <a:t>BLOEDPLAATJ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80880" y="2228040"/>
            <a:ext cx="7010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ijn geen echte cellen&gt; brokstukjes van grote cellen uit rode beenmer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rootte: veel kleiner dan andere bloedcell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zitten geen k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bben een bijna ronde vorm.  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langrijke rol bij bloedstolling. Plasma-eiwit Fibrinogeen omgezet in vezelige fibrine. Dit vormt een dicht netwe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Bloedstoll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In het draderige netwerk van fibrinedraden blijven bloedcellen hange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lsel (trombus) wordt gevorm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Fibrinedraden trekken samen &gt; serum uitgepers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4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eefselhersel &gt; korst valt eraf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Moehei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% van de gevallen psychisch of sociaa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bijv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Depress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Burn-out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Problemen relat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Bloedgroep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79280" y="1413000"/>
          <a:ext cx="8785440" cy="5111640"/>
        </p:xfrm>
        <a:graphic>
          <a:graphicData uri="http://schemas.openxmlformats.org/drawingml/2006/table">
            <a:tbl>
              <a:tblPr/>
              <a:tblGrid>
                <a:gridCol w="1987560"/>
                <a:gridCol w="1698840"/>
                <a:gridCol w="1698480"/>
                <a:gridCol w="1700280"/>
                <a:gridCol w="170028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Bloedgro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44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44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44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A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44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Antigenen op rode bloedce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-antig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B-antig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 en B antige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Geen A, geen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Antistoffen in bloedplas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nti-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nti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Geen anti-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Geen anti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nti-B en anti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Kan bloed ontvangen v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 en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B en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, B, AB en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000" spc="-1" strike="noStrike">
                          <a:solidFill>
                            <a:srgbClr val="ff3300"/>
                          </a:solidFill>
                          <a:latin typeface="Garamond"/>
                          <a:ea typeface="MS PGothic"/>
                        </a:rPr>
                        <a:t>Kan bloed geven a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 en 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B en 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Garamond"/>
                          <a:ea typeface="MS PGothic"/>
                        </a:rPr>
                        <a:t>A,B, AB en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Moehei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% van de gevallen lichamelij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ijv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Hart- en longziekten (hartfalen, COPD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Reuma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Infecties (influenza; m. Pfeiffer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Diabetes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Hypothyreoïd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Bloedarmoede (3%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b292ca"/>
                </a:solidFill>
                <a:latin typeface="Gill Sans MT"/>
              </a:rPr>
              <a:t>Leukemie, Hodgkin-lymfoom, non-Hodgkin-lymfoo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Moehei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36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Oorzaak opspore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9fb8cd"/>
                </a:solidFill>
                <a:latin typeface="Gill Sans MT"/>
              </a:rPr>
              <a:t>Anamne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9fb8cd"/>
                </a:solidFill>
                <a:latin typeface="Gill Sans MT"/>
              </a:rPr>
              <a:t>	</a:t>
            </a:r>
            <a:r>
              <a:rPr b="0" lang="nl-NL" sz="2000" spc="-1" strike="noStrike">
                <a:solidFill>
                  <a:srgbClr val="9fb8cd"/>
                </a:solidFill>
                <a:latin typeface="Gill Sans MT"/>
              </a:rPr>
              <a:t>Bloedonderzoe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Ziekte van Pfeiffer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M. Pfeiffer (oorzaak Epstein Barrvirus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80% van de volwassenen heeft antistoffen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Meestal mild beloop: keelpijn, ziek, vergrote klieren, moeheid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Soms ernstig beloop: langdurig mo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727ca3"/>
                </a:solidFill>
                <a:latin typeface="Gill Sans MT"/>
              </a:rPr>
              <a:t>Bloedonderzoek: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727ca3"/>
                </a:solidFill>
                <a:latin typeface="Gill Sans MT"/>
              </a:rPr>
              <a:t>EBV IgG verminderde afweer immuunsystee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727ca3"/>
                </a:solidFill>
                <a:latin typeface="Gill Sans MT"/>
              </a:rPr>
              <a:t>EBV IgM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372" name="Afbeelding 4" descr="untitled.bmp"/>
          <p:cNvPicPr/>
          <p:nvPr/>
        </p:nvPicPr>
        <p:blipFill>
          <a:blip r:embed="rId1"/>
          <a:stretch/>
        </p:blipFill>
        <p:spPr>
          <a:xfrm>
            <a:off x="6588000" y="3716280"/>
            <a:ext cx="14796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5310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300" spc="-1" strike="noStrike">
                <a:solidFill>
                  <a:srgbClr val="464653"/>
                </a:solidFill>
                <a:latin typeface="Gill Sans MT"/>
              </a:rPr>
              <a:t>= Te laag Hb (Hb zit in erytrocyten, bindt O2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Is geen tekort aan bloed, maar aan hemoglobine 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Hb: IJzerhoudende eiwitverbinding in erytrocyten, heeft vermogen zuurstof te binden.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64653"/>
                </a:solidFill>
                <a:latin typeface="Gill Sans MT"/>
              </a:rPr>
              <a:t>Voor produktie Hb is ijzer, foliumzuur en vit B12nodig.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64653"/>
                </a:solidFill>
                <a:latin typeface="Gill Sans MT"/>
              </a:rPr>
              <a:t>Voor aanmaak van ery’s in beenmerg is vit B12 en foliumzuur (= vit B11) nodi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64653"/>
                </a:solidFill>
                <a:latin typeface="Gill Sans MT"/>
              </a:rPr>
              <a:t>Na afbraak van ery’s wordt Fe (ijzer) uit Hb gerecycled, rest van het Hb wordt afgebroken tot bilirubine (verlaat lichaam via ontlasting)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31000" indent="-264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797400" indent="-221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Anemi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Klachten anemie – alleen bij </a:t>
            </a:r>
            <a:r>
              <a:rPr b="0" lang="nl-NL" sz="2300" spc="-1" strike="noStrike" u="sng">
                <a:solidFill>
                  <a:srgbClr val="464653"/>
                </a:solidFill>
                <a:uFillTx/>
                <a:latin typeface="Gill Sans MT"/>
              </a:rPr>
              <a:t>ernstige</a:t>
            </a:r>
            <a:r>
              <a:rPr b="0" lang="nl-NL" sz="2300" spc="-1" strike="noStrike">
                <a:solidFill>
                  <a:srgbClr val="464653"/>
                </a:solidFill>
                <a:latin typeface="Gill Sans MT"/>
              </a:rPr>
              <a:t> anemi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Duizelighei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Hartklopping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Bleekhei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Kortademigheid bij inspann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b292ca"/>
                </a:solidFill>
                <a:latin typeface="Gill Sans MT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9cbd5"/>
                </a:solidFill>
                <a:latin typeface="Bookman Old Style"/>
              </a:rPr>
              <a:t>Normaalwaarden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000000"/>
                </a:solidFill>
                <a:latin typeface="Gill Sans MT"/>
              </a:rPr>
              <a:t>Onderzoek          Waarde       Een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Mannen           8,5-11,0      mmol/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Vrouwen           7,5-10       mmol/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Gill Sans MT"/>
              </a:rPr>
              <a:t>Zwangeren       6,8-8,7      mmol/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5-01-15T11:18:07Z</dcterms:modified>
  <cp:revision>1</cp:revision>
  <dc:subject/>
  <dc:title/>
</cp:coreProperties>
</file>