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7F7-AE69-4C8F-87F5-559AEE65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A25-A82C-48F2-B3D9-8F6B6746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F88-58B0-4184-9BDC-ECCF0274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D3F-CAAF-463C-87BD-98AA573D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FF8-2B02-4B11-9D46-A9CD2833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699-E321-493F-A831-DAF92622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3CCD-78AC-4235-8772-F35CE80A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C27-AC87-4AB6-A441-5C601DD8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4249-DF69-4DD3-BC54-1F6F8E96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44F-9A1D-495E-9CDB-2D96F39A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42A-13C1-4A14-9956-4DC914CD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420-B6A3-456C-A64B-D4A6E468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536A-34DB-42E7-A4BB-E56088F9587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ffff00"/>
                </a:solidFill>
                <a:latin typeface="Arial"/>
              </a:rPr>
              <a:t>Bloed 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34290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. Anemi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. Kwaadaardige ziek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3. Stollingsstoornis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. Ontstekingen en tekor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Door</a:t>
            </a:r>
            <a:r>
              <a:rPr b="0" lang="nl-NL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(chronisch) </a:t>
            </a: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bloedverlies</a:t>
            </a:r>
            <a:r>
              <a:rPr b="0" lang="nl-NL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meest voorkome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ldt voor iedere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zwangere vrouwen en kinderen meestal    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e kort aan ijz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rouwen – menstru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udere vrouwen / mannen – occult bloedverlies (maag-darmkanaal) / urinewe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cuut (ongeval/operatie/bevall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Verstoorde aanmaa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Onvoldoende ijzer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icrocytair: kleine, lichte ery’s door gebrekkig H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al bij kinderen en zwangere vrouwen kan behoefte groter zijn dan via voeding binnenkomt (vlees, vis, soj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alpillen of drankje (langduri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sporen oorzaa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Onvoldoende B1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kort aan ery’s, die er wel zijn zitten vol Hb: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crocytair / megaloblast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a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vegetarisch) di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iekte van Croh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ort aan intrinsic factor (stof noodzakelijk voor B12-opname in blo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ERNICIEUZE ANEM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12 intramuscul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Onvoldoende foliumzuur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(= vit B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egelmatig eten van groente en f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a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volwaardige voeding (ouderen / alcoholisten / verslaafd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groente en fruit e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Folimzuurtablet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Leukem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a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adaardige cellen verdringen normale cellen, waardoor minder gezonde ery’s worden aangemaa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Nierinsufficien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a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ort aan erytropoëtine (EPO = hormoon): stimuleert aanmaak ery’s in beenme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sport wordt EPO (doping) gebruikt om aantal rode bloedcellen kunstmatig te verhogen ivm spieren extra zuurst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Verhoogde afbraa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hoogde afbraak &gt; auto-immuunziekte&gt; hemolytische anem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fbraak rode bloedcellen neemt to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rfelijke soorten anemi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ikkelcelanemie (negroide r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halessemie (middellandse zee gebi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Medicatie (stofnaam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jzerpreparaten: ferrofumuraat of ferroglucon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itamine B11: Foliumzu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itamine B12: hydroxocobalam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6804000" y="2205000"/>
            <a:ext cx="2305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licg.nl/ContentSuite/upload/lig/image/PraktischKat/AnemieKat2kl.gif"/>
          <p:cNvPicPr/>
          <p:nvPr/>
        </p:nvPicPr>
        <p:blipFill>
          <a:blip r:embed="rId1"/>
          <a:stretch/>
        </p:blipFill>
        <p:spPr>
          <a:xfrm>
            <a:off x="284040" y="18900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xead.nl/resize/500-500/upload/b4e1b38e934687955823c378d3abe9bcYmxvZWRfMzA1MzE2YS5qcGc=.jpg"/>
          <p:cNvPicPr/>
          <p:nvPr/>
        </p:nvPicPr>
        <p:blipFill>
          <a:blip r:embed="rId2"/>
          <a:stretch/>
        </p:blipFill>
        <p:spPr>
          <a:xfrm>
            <a:off x="4716360" y="189000"/>
            <a:ext cx="3627720" cy="272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2268360" y="3357720"/>
            <a:ext cx="44722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Anemi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ekort aan hemoglobine &gt; ijz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ekort aan erytrocyten &gt; aanmaak in beenmerg, hiervoor foliumzuur en Vit. B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732720" y="2000160"/>
            <a:ext cx="200484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Symptomen bloedarmoe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moeidhe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ortademighe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achycar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ofdpij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gemeen zwaktegevo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435640" y="4365720"/>
            <a:ext cx="34383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Symptomen ernstige bloedarmoe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ek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eke li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rtklopp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uizelighe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orsuiz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oude handen en voe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Bloedarmoede (=anemie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de HAP vooral te maken me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emie door ijzertek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emie door tekort aan bepaalde vitaminen (B-groe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434280" y="4557600"/>
            <a:ext cx="27097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Een inde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8" name="Group 47"/>
          <p:cNvGrpSpPr/>
          <p:nvPr/>
        </p:nvGrpSpPr>
        <p:grpSpPr>
          <a:xfrm>
            <a:off x="1447920" y="1268280"/>
            <a:ext cx="7011360" cy="4750920"/>
            <a:chOff x="1447920" y="1268280"/>
            <a:chExt cx="7011360" cy="4750920"/>
          </a:xfrm>
        </p:grpSpPr>
        <p:grpSp>
          <p:nvGrpSpPr>
            <p:cNvPr id="59" name="Group 45"/>
            <p:cNvGrpSpPr/>
            <p:nvPr/>
          </p:nvGrpSpPr>
          <p:grpSpPr>
            <a:xfrm>
              <a:off x="1452600" y="1276920"/>
              <a:ext cx="7000920" cy="4731840"/>
              <a:chOff x="1452600" y="1276920"/>
              <a:chExt cx="7000920" cy="4731840"/>
            </a:xfrm>
          </p:grpSpPr>
          <p:grpSp>
            <p:nvGrpSpPr>
              <p:cNvPr id="60" name="Group 18"/>
              <p:cNvGrpSpPr/>
              <p:nvPr/>
            </p:nvGrpSpPr>
            <p:grpSpPr>
              <a:xfrm>
                <a:off x="1452600" y="1276920"/>
                <a:ext cx="1358640" cy="579240"/>
                <a:chOff x="1452600" y="1276920"/>
                <a:chExt cx="1358640" cy="579240"/>
              </a:xfrm>
            </p:grpSpPr>
            <p:sp>
              <p:nvSpPr>
                <p:cNvPr id="61" name="Rectangle 3"/>
                <p:cNvSpPr/>
                <p:nvPr/>
              </p:nvSpPr>
              <p:spPr>
                <a:xfrm>
                  <a:off x="1526760" y="1332360"/>
                  <a:ext cx="120996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Anemie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Rectangle 17"/>
                <p:cNvSpPr/>
                <p:nvPr/>
              </p:nvSpPr>
              <p:spPr>
                <a:xfrm>
                  <a:off x="1452600" y="1276920"/>
                  <a:ext cx="135864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Group 20"/>
              <p:cNvGrpSpPr/>
              <p:nvPr/>
            </p:nvGrpSpPr>
            <p:grpSpPr>
              <a:xfrm>
                <a:off x="2811600" y="1276920"/>
                <a:ext cx="5641920" cy="579240"/>
                <a:chOff x="2811600" y="1276920"/>
                <a:chExt cx="5641920" cy="579240"/>
              </a:xfrm>
            </p:grpSpPr>
            <p:sp>
              <p:nvSpPr>
                <p:cNvPr id="64" name="Rectangle 4"/>
                <p:cNvSpPr/>
                <p:nvPr/>
              </p:nvSpPr>
              <p:spPr>
                <a:xfrm>
                  <a:off x="2885760" y="1332360"/>
                  <a:ext cx="549324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voor leeftijd en geslacht te laag Hb (referentiewaarden: regionaal laboratorium)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Rectangle 19"/>
                <p:cNvSpPr/>
                <p:nvPr/>
              </p:nvSpPr>
              <p:spPr>
                <a:xfrm>
                  <a:off x="2811600" y="1276920"/>
                  <a:ext cx="564192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Group 22"/>
              <p:cNvGrpSpPr/>
              <p:nvPr/>
            </p:nvGrpSpPr>
            <p:grpSpPr>
              <a:xfrm>
                <a:off x="1452600" y="1968840"/>
                <a:ext cx="1358640" cy="579240"/>
                <a:chOff x="1452600" y="1968840"/>
                <a:chExt cx="1358640" cy="579240"/>
              </a:xfrm>
            </p:grpSpPr>
            <p:sp>
              <p:nvSpPr>
                <p:cNvPr id="67" name="Rectangle 5"/>
                <p:cNvSpPr/>
                <p:nvPr/>
              </p:nvSpPr>
              <p:spPr>
                <a:xfrm>
                  <a:off x="1526760" y="2024280"/>
                  <a:ext cx="120996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ild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1"/>
                <p:cNvSpPr/>
                <p:nvPr/>
              </p:nvSpPr>
              <p:spPr>
                <a:xfrm>
                  <a:off x="1452600" y="1968840"/>
                  <a:ext cx="135864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24"/>
              <p:cNvGrpSpPr/>
              <p:nvPr/>
            </p:nvGrpSpPr>
            <p:grpSpPr>
              <a:xfrm>
                <a:off x="2811600" y="1968840"/>
                <a:ext cx="5641920" cy="579240"/>
                <a:chOff x="2811600" y="1968840"/>
                <a:chExt cx="5641920" cy="579240"/>
              </a:xfrm>
            </p:grpSpPr>
            <p:sp>
              <p:nvSpPr>
                <p:cNvPr id="70" name="Rectangle 6"/>
                <p:cNvSpPr/>
                <p:nvPr/>
              </p:nvSpPr>
              <p:spPr>
                <a:xfrm>
                  <a:off x="2885760" y="2024280"/>
                  <a:ext cx="549324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Hb &gt;6,0 mmol/l (vrouwen en kinderen) of &gt;6,5 mmol/l (mannen)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3"/>
                <p:cNvSpPr/>
                <p:nvPr/>
              </p:nvSpPr>
              <p:spPr>
                <a:xfrm>
                  <a:off x="2811600" y="1968840"/>
                  <a:ext cx="564192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26"/>
              <p:cNvGrpSpPr/>
              <p:nvPr/>
            </p:nvGrpSpPr>
            <p:grpSpPr>
              <a:xfrm>
                <a:off x="1452600" y="2661120"/>
                <a:ext cx="1358640" cy="579240"/>
                <a:chOff x="1452600" y="2661120"/>
                <a:chExt cx="1358640" cy="579240"/>
              </a:xfrm>
            </p:grpSpPr>
            <p:sp>
              <p:nvSpPr>
                <p:cNvPr id="73" name="Rectangle 7"/>
                <p:cNvSpPr/>
                <p:nvPr/>
              </p:nvSpPr>
              <p:spPr>
                <a:xfrm>
                  <a:off x="1526760" y="2716560"/>
                  <a:ext cx="120996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atig ernstig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25"/>
                <p:cNvSpPr/>
                <p:nvPr/>
              </p:nvSpPr>
              <p:spPr>
                <a:xfrm>
                  <a:off x="1452600" y="2661120"/>
                  <a:ext cx="135864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28"/>
              <p:cNvGrpSpPr/>
              <p:nvPr/>
            </p:nvGrpSpPr>
            <p:grpSpPr>
              <a:xfrm>
                <a:off x="2811600" y="2661120"/>
                <a:ext cx="5641920" cy="579240"/>
                <a:chOff x="2811600" y="2661120"/>
                <a:chExt cx="5641920" cy="579240"/>
              </a:xfrm>
            </p:grpSpPr>
            <p:sp>
              <p:nvSpPr>
                <p:cNvPr id="76" name="Rectangle 8"/>
                <p:cNvSpPr/>
                <p:nvPr/>
              </p:nvSpPr>
              <p:spPr>
                <a:xfrm>
                  <a:off x="2885760" y="2716560"/>
                  <a:ext cx="549324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Hb&gt;5,0 maar &lt;6,0 (vrouwen en kinderen) of &lt;6,5 (mannen) mmol/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27"/>
                <p:cNvSpPr/>
                <p:nvPr/>
              </p:nvSpPr>
              <p:spPr>
                <a:xfrm>
                  <a:off x="2811600" y="2661120"/>
                  <a:ext cx="564192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30"/>
              <p:cNvGrpSpPr/>
              <p:nvPr/>
            </p:nvGrpSpPr>
            <p:grpSpPr>
              <a:xfrm>
                <a:off x="1452600" y="3353040"/>
                <a:ext cx="1358640" cy="579240"/>
                <a:chOff x="1452600" y="3353040"/>
                <a:chExt cx="1358640" cy="579240"/>
              </a:xfrm>
            </p:grpSpPr>
            <p:sp>
              <p:nvSpPr>
                <p:cNvPr id="79" name="Rectangle 9"/>
                <p:cNvSpPr/>
                <p:nvPr/>
              </p:nvSpPr>
              <p:spPr>
                <a:xfrm>
                  <a:off x="1526760" y="3408480"/>
                  <a:ext cx="120996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Ernstig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29"/>
                <p:cNvSpPr/>
                <p:nvPr/>
              </p:nvSpPr>
              <p:spPr>
                <a:xfrm>
                  <a:off x="1452600" y="3353040"/>
                  <a:ext cx="135864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32"/>
              <p:cNvGrpSpPr/>
              <p:nvPr/>
            </p:nvGrpSpPr>
            <p:grpSpPr>
              <a:xfrm>
                <a:off x="2811600" y="3353040"/>
                <a:ext cx="5641920" cy="579240"/>
                <a:chOff x="2811600" y="3353040"/>
                <a:chExt cx="5641920" cy="579240"/>
              </a:xfrm>
            </p:grpSpPr>
            <p:sp>
              <p:nvSpPr>
                <p:cNvPr id="82" name="Rectangle 10"/>
                <p:cNvSpPr/>
                <p:nvPr/>
              </p:nvSpPr>
              <p:spPr>
                <a:xfrm>
                  <a:off x="2885760" y="3408480"/>
                  <a:ext cx="549324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Hb&lt;5,0 mmol/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1"/>
                <p:cNvSpPr/>
                <p:nvPr/>
              </p:nvSpPr>
              <p:spPr>
                <a:xfrm>
                  <a:off x="2811600" y="3353040"/>
                  <a:ext cx="564192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34"/>
              <p:cNvGrpSpPr/>
              <p:nvPr/>
            </p:nvGrpSpPr>
            <p:grpSpPr>
              <a:xfrm>
                <a:off x="1452600" y="4045320"/>
                <a:ext cx="1358640" cy="579240"/>
                <a:chOff x="1452600" y="4045320"/>
                <a:chExt cx="1358640" cy="579240"/>
              </a:xfrm>
            </p:grpSpPr>
            <p:sp>
              <p:nvSpPr>
                <p:cNvPr id="85" name="Rectangle 11"/>
                <p:cNvSpPr/>
                <p:nvPr/>
              </p:nvSpPr>
              <p:spPr>
                <a:xfrm>
                  <a:off x="1526760" y="4100760"/>
                  <a:ext cx="120996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icrocytair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33"/>
                <p:cNvSpPr/>
                <p:nvPr/>
              </p:nvSpPr>
              <p:spPr>
                <a:xfrm>
                  <a:off x="1452600" y="4045320"/>
                  <a:ext cx="135864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36"/>
              <p:cNvGrpSpPr/>
              <p:nvPr/>
            </p:nvGrpSpPr>
            <p:grpSpPr>
              <a:xfrm>
                <a:off x="2811600" y="4045320"/>
                <a:ext cx="5641920" cy="579240"/>
                <a:chOff x="2811600" y="4045320"/>
                <a:chExt cx="5641920" cy="579240"/>
              </a:xfrm>
            </p:grpSpPr>
            <p:sp>
              <p:nvSpPr>
                <p:cNvPr id="88" name="Rectangle 12"/>
                <p:cNvSpPr/>
                <p:nvPr/>
              </p:nvSpPr>
              <p:spPr>
                <a:xfrm>
                  <a:off x="2885760" y="4100760"/>
                  <a:ext cx="549324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ean corpuscular volume (MCV) &lt;80 f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35"/>
                <p:cNvSpPr/>
                <p:nvPr/>
              </p:nvSpPr>
              <p:spPr>
                <a:xfrm>
                  <a:off x="2811600" y="4045320"/>
                  <a:ext cx="564192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Group 38"/>
              <p:cNvGrpSpPr/>
              <p:nvPr/>
            </p:nvGrpSpPr>
            <p:grpSpPr>
              <a:xfrm>
                <a:off x="1452600" y="4737240"/>
                <a:ext cx="1358640" cy="579240"/>
                <a:chOff x="1452600" y="4737240"/>
                <a:chExt cx="1358640" cy="579240"/>
              </a:xfrm>
            </p:grpSpPr>
            <p:sp>
              <p:nvSpPr>
                <p:cNvPr id="91" name="Rectangle 13"/>
                <p:cNvSpPr/>
                <p:nvPr/>
              </p:nvSpPr>
              <p:spPr>
                <a:xfrm>
                  <a:off x="1526760" y="4792680"/>
                  <a:ext cx="120996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Normocytair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37"/>
                <p:cNvSpPr/>
                <p:nvPr/>
              </p:nvSpPr>
              <p:spPr>
                <a:xfrm>
                  <a:off x="1452600" y="4737240"/>
                  <a:ext cx="135864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40"/>
              <p:cNvGrpSpPr/>
              <p:nvPr/>
            </p:nvGrpSpPr>
            <p:grpSpPr>
              <a:xfrm>
                <a:off x="2811600" y="4737240"/>
                <a:ext cx="5641920" cy="579240"/>
                <a:chOff x="2811600" y="4737240"/>
                <a:chExt cx="5641920" cy="579240"/>
              </a:xfrm>
            </p:grpSpPr>
            <p:sp>
              <p:nvSpPr>
                <p:cNvPr id="94" name="Rectangle 14"/>
                <p:cNvSpPr/>
                <p:nvPr/>
              </p:nvSpPr>
              <p:spPr>
                <a:xfrm>
                  <a:off x="2885760" y="4792680"/>
                  <a:ext cx="549324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80 fl &lt;MCV &lt;100 f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39"/>
                <p:cNvSpPr/>
                <p:nvPr/>
              </p:nvSpPr>
              <p:spPr>
                <a:xfrm>
                  <a:off x="2811600" y="4737240"/>
                  <a:ext cx="564192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42"/>
              <p:cNvGrpSpPr/>
              <p:nvPr/>
            </p:nvGrpSpPr>
            <p:grpSpPr>
              <a:xfrm>
                <a:off x="1452600" y="5429520"/>
                <a:ext cx="1358640" cy="579240"/>
                <a:chOff x="1452600" y="5429520"/>
                <a:chExt cx="1358640" cy="579240"/>
              </a:xfrm>
            </p:grpSpPr>
            <p:sp>
              <p:nvSpPr>
                <p:cNvPr id="97" name="Rectangle 15"/>
                <p:cNvSpPr/>
                <p:nvPr/>
              </p:nvSpPr>
              <p:spPr>
                <a:xfrm>
                  <a:off x="1526760" y="5484960"/>
                  <a:ext cx="120996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acrocytair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41"/>
                <p:cNvSpPr/>
                <p:nvPr/>
              </p:nvSpPr>
              <p:spPr>
                <a:xfrm>
                  <a:off x="1452600" y="5429520"/>
                  <a:ext cx="135864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44"/>
              <p:cNvGrpSpPr/>
              <p:nvPr/>
            </p:nvGrpSpPr>
            <p:grpSpPr>
              <a:xfrm>
                <a:off x="2811600" y="5429520"/>
                <a:ext cx="5641920" cy="579240"/>
                <a:chOff x="2811600" y="5429520"/>
                <a:chExt cx="5641920" cy="579240"/>
              </a:xfrm>
            </p:grpSpPr>
            <p:sp>
              <p:nvSpPr>
                <p:cNvPr id="100" name="Rectangle 16"/>
                <p:cNvSpPr/>
                <p:nvPr/>
              </p:nvSpPr>
              <p:spPr>
                <a:xfrm>
                  <a:off x="2885760" y="5484960"/>
                  <a:ext cx="549324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CV &gt;100 f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43"/>
                <p:cNvSpPr/>
                <p:nvPr/>
              </p:nvSpPr>
              <p:spPr>
                <a:xfrm>
                  <a:off x="2811600" y="5429520"/>
                  <a:ext cx="564192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Rectangle 46"/>
            <p:cNvSpPr/>
            <p:nvPr/>
          </p:nvSpPr>
          <p:spPr>
            <a:xfrm>
              <a:off x="1447920" y="1268280"/>
              <a:ext cx="7011360" cy="4750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92"/>
          <p:cNvGrpSpPr/>
          <p:nvPr/>
        </p:nvGrpSpPr>
        <p:grpSpPr>
          <a:xfrm>
            <a:off x="1905120" y="1566720"/>
            <a:ext cx="6122520" cy="3995280"/>
            <a:chOff x="1905120" y="1566720"/>
            <a:chExt cx="6122520" cy="3995280"/>
          </a:xfrm>
        </p:grpSpPr>
        <p:grpSp>
          <p:nvGrpSpPr>
            <p:cNvPr id="104" name="Group 90"/>
            <p:cNvGrpSpPr/>
            <p:nvPr/>
          </p:nvGrpSpPr>
          <p:grpSpPr>
            <a:xfrm>
              <a:off x="1909080" y="1573920"/>
              <a:ext cx="6113520" cy="3978720"/>
              <a:chOff x="1909080" y="1573920"/>
              <a:chExt cx="6113520" cy="3978720"/>
            </a:xfrm>
          </p:grpSpPr>
          <p:grpSp>
            <p:nvGrpSpPr>
              <p:cNvPr id="105" name="Group 63"/>
              <p:cNvGrpSpPr/>
              <p:nvPr/>
            </p:nvGrpSpPr>
            <p:grpSpPr>
              <a:xfrm>
                <a:off x="1909080" y="1573920"/>
                <a:ext cx="1186560" cy="486720"/>
                <a:chOff x="1909080" y="1573920"/>
                <a:chExt cx="1186560" cy="486720"/>
              </a:xfrm>
            </p:grpSpPr>
            <p:sp>
              <p:nvSpPr>
                <p:cNvPr id="106" name="Rectangle 48"/>
                <p:cNvSpPr/>
                <p:nvPr/>
              </p:nvSpPr>
              <p:spPr>
                <a:xfrm>
                  <a:off x="1973880" y="1620360"/>
                  <a:ext cx="105660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Anemie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62"/>
                <p:cNvSpPr/>
                <p:nvPr/>
              </p:nvSpPr>
              <p:spPr>
                <a:xfrm>
                  <a:off x="1909080" y="1573920"/>
                  <a:ext cx="118656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65"/>
              <p:cNvGrpSpPr/>
              <p:nvPr/>
            </p:nvGrpSpPr>
            <p:grpSpPr>
              <a:xfrm>
                <a:off x="3096000" y="1573920"/>
                <a:ext cx="4926600" cy="486720"/>
                <a:chOff x="3096000" y="1573920"/>
                <a:chExt cx="4926600" cy="486720"/>
              </a:xfrm>
            </p:grpSpPr>
            <p:sp>
              <p:nvSpPr>
                <p:cNvPr id="109" name="Rectangle 49"/>
                <p:cNvSpPr/>
                <p:nvPr/>
              </p:nvSpPr>
              <p:spPr>
                <a:xfrm>
                  <a:off x="3160800" y="1620360"/>
                  <a:ext cx="479664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voor leeftijd en geslacht te laag Hb (referentiewaarden: regionaal laboratorium)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64"/>
                <p:cNvSpPr/>
                <p:nvPr/>
              </p:nvSpPr>
              <p:spPr>
                <a:xfrm>
                  <a:off x="3096000" y="1573920"/>
                  <a:ext cx="4926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67"/>
              <p:cNvGrpSpPr/>
              <p:nvPr/>
            </p:nvGrpSpPr>
            <p:grpSpPr>
              <a:xfrm>
                <a:off x="1909080" y="2155680"/>
                <a:ext cx="1186560" cy="486720"/>
                <a:chOff x="1909080" y="2155680"/>
                <a:chExt cx="1186560" cy="486720"/>
              </a:xfrm>
            </p:grpSpPr>
            <p:sp>
              <p:nvSpPr>
                <p:cNvPr id="112" name="Rectangle 50"/>
                <p:cNvSpPr/>
                <p:nvPr/>
              </p:nvSpPr>
              <p:spPr>
                <a:xfrm>
                  <a:off x="1973880" y="2202120"/>
                  <a:ext cx="105660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ild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66"/>
                <p:cNvSpPr/>
                <p:nvPr/>
              </p:nvSpPr>
              <p:spPr>
                <a:xfrm>
                  <a:off x="1909080" y="2155680"/>
                  <a:ext cx="118656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69"/>
              <p:cNvGrpSpPr/>
              <p:nvPr/>
            </p:nvGrpSpPr>
            <p:grpSpPr>
              <a:xfrm>
                <a:off x="3096000" y="2155680"/>
                <a:ext cx="4926600" cy="486720"/>
                <a:chOff x="3096000" y="2155680"/>
                <a:chExt cx="4926600" cy="486720"/>
              </a:xfrm>
            </p:grpSpPr>
            <p:sp>
              <p:nvSpPr>
                <p:cNvPr id="115" name="Rectangle 51"/>
                <p:cNvSpPr/>
                <p:nvPr/>
              </p:nvSpPr>
              <p:spPr>
                <a:xfrm>
                  <a:off x="3160800" y="2202120"/>
                  <a:ext cx="479664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Hb &gt;6,0 mmol/l (vrouwen en kinderen) of &gt;6,5 mmol/l (mannen)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68"/>
                <p:cNvSpPr/>
                <p:nvPr/>
              </p:nvSpPr>
              <p:spPr>
                <a:xfrm>
                  <a:off x="3096000" y="2155680"/>
                  <a:ext cx="4926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71"/>
              <p:cNvGrpSpPr/>
              <p:nvPr/>
            </p:nvGrpSpPr>
            <p:grpSpPr>
              <a:xfrm>
                <a:off x="1909080" y="2737800"/>
                <a:ext cx="1186560" cy="486720"/>
                <a:chOff x="1909080" y="2737800"/>
                <a:chExt cx="1186560" cy="486720"/>
              </a:xfrm>
            </p:grpSpPr>
            <p:sp>
              <p:nvSpPr>
                <p:cNvPr id="118" name="Rectangle 52"/>
                <p:cNvSpPr/>
                <p:nvPr/>
              </p:nvSpPr>
              <p:spPr>
                <a:xfrm>
                  <a:off x="1973880" y="2784240"/>
                  <a:ext cx="105660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atig ernstig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70"/>
                <p:cNvSpPr/>
                <p:nvPr/>
              </p:nvSpPr>
              <p:spPr>
                <a:xfrm>
                  <a:off x="1909080" y="2737800"/>
                  <a:ext cx="118656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73"/>
              <p:cNvGrpSpPr/>
              <p:nvPr/>
            </p:nvGrpSpPr>
            <p:grpSpPr>
              <a:xfrm>
                <a:off x="3096000" y="2737800"/>
                <a:ext cx="4926600" cy="486720"/>
                <a:chOff x="3096000" y="2737800"/>
                <a:chExt cx="4926600" cy="486720"/>
              </a:xfrm>
            </p:grpSpPr>
            <p:sp>
              <p:nvSpPr>
                <p:cNvPr id="121" name="Rectangle 53"/>
                <p:cNvSpPr/>
                <p:nvPr/>
              </p:nvSpPr>
              <p:spPr>
                <a:xfrm>
                  <a:off x="3160800" y="2784240"/>
                  <a:ext cx="479664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Hb&gt;5,0 maar &lt;6,0 (vrouwen en kinderen) of &lt;6,5 (mannen) mmol/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72"/>
                <p:cNvSpPr/>
                <p:nvPr/>
              </p:nvSpPr>
              <p:spPr>
                <a:xfrm>
                  <a:off x="3096000" y="2737800"/>
                  <a:ext cx="4926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75"/>
              <p:cNvGrpSpPr/>
              <p:nvPr/>
            </p:nvGrpSpPr>
            <p:grpSpPr>
              <a:xfrm>
                <a:off x="1909080" y="3319920"/>
                <a:ext cx="1186560" cy="486720"/>
                <a:chOff x="1909080" y="3319920"/>
                <a:chExt cx="1186560" cy="486720"/>
              </a:xfrm>
            </p:grpSpPr>
            <p:sp>
              <p:nvSpPr>
                <p:cNvPr id="124" name="Rectangle 54"/>
                <p:cNvSpPr/>
                <p:nvPr/>
              </p:nvSpPr>
              <p:spPr>
                <a:xfrm>
                  <a:off x="1973880" y="3366360"/>
                  <a:ext cx="105660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Ernstig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74"/>
                <p:cNvSpPr/>
                <p:nvPr/>
              </p:nvSpPr>
              <p:spPr>
                <a:xfrm>
                  <a:off x="1909080" y="3319920"/>
                  <a:ext cx="118656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77"/>
              <p:cNvGrpSpPr/>
              <p:nvPr/>
            </p:nvGrpSpPr>
            <p:grpSpPr>
              <a:xfrm>
                <a:off x="3096000" y="3319920"/>
                <a:ext cx="4926600" cy="486720"/>
                <a:chOff x="3096000" y="3319920"/>
                <a:chExt cx="4926600" cy="486720"/>
              </a:xfrm>
            </p:grpSpPr>
            <p:sp>
              <p:nvSpPr>
                <p:cNvPr id="127" name="Rectangle 55"/>
                <p:cNvSpPr/>
                <p:nvPr/>
              </p:nvSpPr>
              <p:spPr>
                <a:xfrm>
                  <a:off x="3160800" y="3366360"/>
                  <a:ext cx="479664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Hb&lt;5,0 mmol/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76"/>
                <p:cNvSpPr/>
                <p:nvPr/>
              </p:nvSpPr>
              <p:spPr>
                <a:xfrm>
                  <a:off x="3096000" y="3319920"/>
                  <a:ext cx="4926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9"/>
              <p:cNvGrpSpPr/>
              <p:nvPr/>
            </p:nvGrpSpPr>
            <p:grpSpPr>
              <a:xfrm>
                <a:off x="1909080" y="3902040"/>
                <a:ext cx="1186560" cy="486720"/>
                <a:chOff x="1909080" y="3902040"/>
                <a:chExt cx="1186560" cy="486720"/>
              </a:xfrm>
            </p:grpSpPr>
            <p:sp>
              <p:nvSpPr>
                <p:cNvPr id="130" name="Rectangle 56"/>
                <p:cNvSpPr/>
                <p:nvPr/>
              </p:nvSpPr>
              <p:spPr>
                <a:xfrm>
                  <a:off x="1973880" y="3948480"/>
                  <a:ext cx="105660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icrocytair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78"/>
                <p:cNvSpPr/>
                <p:nvPr/>
              </p:nvSpPr>
              <p:spPr>
                <a:xfrm>
                  <a:off x="1909080" y="3902040"/>
                  <a:ext cx="118656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81"/>
              <p:cNvGrpSpPr/>
              <p:nvPr/>
            </p:nvGrpSpPr>
            <p:grpSpPr>
              <a:xfrm>
                <a:off x="3096000" y="3902040"/>
                <a:ext cx="4926600" cy="486720"/>
                <a:chOff x="3096000" y="3902040"/>
                <a:chExt cx="4926600" cy="486720"/>
              </a:xfrm>
            </p:grpSpPr>
            <p:sp>
              <p:nvSpPr>
                <p:cNvPr id="133" name="Rectangle 57"/>
                <p:cNvSpPr/>
                <p:nvPr/>
              </p:nvSpPr>
              <p:spPr>
                <a:xfrm>
                  <a:off x="3160800" y="3948480"/>
                  <a:ext cx="479664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ean corpuscular volume (MCV) &lt;80 f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80"/>
                <p:cNvSpPr/>
                <p:nvPr/>
              </p:nvSpPr>
              <p:spPr>
                <a:xfrm>
                  <a:off x="3096000" y="3902040"/>
                  <a:ext cx="4926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83"/>
              <p:cNvGrpSpPr/>
              <p:nvPr/>
            </p:nvGrpSpPr>
            <p:grpSpPr>
              <a:xfrm>
                <a:off x="1909080" y="4483800"/>
                <a:ext cx="1186560" cy="486720"/>
                <a:chOff x="1909080" y="4483800"/>
                <a:chExt cx="1186560" cy="486720"/>
              </a:xfrm>
            </p:grpSpPr>
            <p:sp>
              <p:nvSpPr>
                <p:cNvPr id="136" name="Rectangle 58"/>
                <p:cNvSpPr/>
                <p:nvPr/>
              </p:nvSpPr>
              <p:spPr>
                <a:xfrm>
                  <a:off x="1973880" y="4530240"/>
                  <a:ext cx="105660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Normocytair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82"/>
                <p:cNvSpPr/>
                <p:nvPr/>
              </p:nvSpPr>
              <p:spPr>
                <a:xfrm>
                  <a:off x="1909080" y="4483800"/>
                  <a:ext cx="118656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85"/>
              <p:cNvGrpSpPr/>
              <p:nvPr/>
            </p:nvGrpSpPr>
            <p:grpSpPr>
              <a:xfrm>
                <a:off x="3096000" y="4483800"/>
                <a:ext cx="4926600" cy="486720"/>
                <a:chOff x="3096000" y="4483800"/>
                <a:chExt cx="4926600" cy="486720"/>
              </a:xfrm>
            </p:grpSpPr>
            <p:sp>
              <p:nvSpPr>
                <p:cNvPr id="139" name="Rectangle 59"/>
                <p:cNvSpPr/>
                <p:nvPr/>
              </p:nvSpPr>
              <p:spPr>
                <a:xfrm>
                  <a:off x="3160800" y="4530240"/>
                  <a:ext cx="479664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80 fl &lt;MCV &lt;100 f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84"/>
                <p:cNvSpPr/>
                <p:nvPr/>
              </p:nvSpPr>
              <p:spPr>
                <a:xfrm>
                  <a:off x="3096000" y="4483800"/>
                  <a:ext cx="4926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87"/>
              <p:cNvGrpSpPr/>
              <p:nvPr/>
            </p:nvGrpSpPr>
            <p:grpSpPr>
              <a:xfrm>
                <a:off x="1909080" y="5065920"/>
                <a:ext cx="1186560" cy="486720"/>
                <a:chOff x="1909080" y="5065920"/>
                <a:chExt cx="1186560" cy="486720"/>
              </a:xfrm>
            </p:grpSpPr>
            <p:sp>
              <p:nvSpPr>
                <p:cNvPr id="142" name="Rectangle 60"/>
                <p:cNvSpPr/>
                <p:nvPr/>
              </p:nvSpPr>
              <p:spPr>
                <a:xfrm>
                  <a:off x="1973880" y="5112360"/>
                  <a:ext cx="105660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acrocytair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86"/>
                <p:cNvSpPr/>
                <p:nvPr/>
              </p:nvSpPr>
              <p:spPr>
                <a:xfrm>
                  <a:off x="1909080" y="5065920"/>
                  <a:ext cx="118656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89"/>
              <p:cNvGrpSpPr/>
              <p:nvPr/>
            </p:nvGrpSpPr>
            <p:grpSpPr>
              <a:xfrm>
                <a:off x="3096000" y="5065920"/>
                <a:ext cx="4926600" cy="486720"/>
                <a:chOff x="3096000" y="5065920"/>
                <a:chExt cx="4926600" cy="486720"/>
              </a:xfrm>
            </p:grpSpPr>
            <p:sp>
              <p:nvSpPr>
                <p:cNvPr id="145" name="Rectangle 61"/>
                <p:cNvSpPr/>
                <p:nvPr/>
              </p:nvSpPr>
              <p:spPr>
                <a:xfrm>
                  <a:off x="3160800" y="5112360"/>
                  <a:ext cx="479664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CV &gt;100 f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88"/>
                <p:cNvSpPr/>
                <p:nvPr/>
              </p:nvSpPr>
              <p:spPr>
                <a:xfrm>
                  <a:off x="3096000" y="5065920"/>
                  <a:ext cx="4926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Rectangle 91"/>
            <p:cNvSpPr/>
            <p:nvPr/>
          </p:nvSpPr>
          <p:spPr>
            <a:xfrm>
              <a:off x="1905120" y="1566720"/>
              <a:ext cx="6122520" cy="3995280"/>
            </a:xfrm>
            <a:prstGeom prst="rect">
              <a:avLst/>
            </a:prstGeom>
            <a:noFill/>
            <a:ln w="6480">
              <a:solidFill>
                <a:srgbClr val="2da1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ffff00"/>
                </a:solidFill>
                <a:uFillTx/>
                <a:latin typeface="Arial"/>
              </a:rPr>
              <a:t>Anemie</a:t>
            </a:r>
            <a:br>
              <a:rPr sz="44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is een symptoom en geen ziekte.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Wat is de oorzaak?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=‘bloedarmoede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kort Hb       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kort ery’s    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b bindt O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b-concentratie </a:t>
            </a:r>
            <a:r>
              <a:rPr b="0" lang="nl-NL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Jzer (F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Foliumzuur + vit B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erschijnselen O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tek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Vermoeidhe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Bl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hartslag</a:t>
            </a:r>
            <a:r>
              <a:rPr b="0" lang="nl-NL" sz="16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duizelighe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Oorzaken </a:t>
            </a:r>
            <a:r>
              <a:rPr b="0" lang="nl-NL" sz="3200" spc="-1" strike="noStrike">
                <a:solidFill>
                  <a:srgbClr val="ffff00"/>
                </a:solidFill>
                <a:latin typeface="Arial"/>
              </a:rPr>
              <a:t>(van anemi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hronisch bloedver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stoorde aanma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hoogde afbra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7:22:05Z</dcterms:created>
  <dc:creator>vredelust</dc:creator>
  <dc:description/>
  <dc:language>en-US</dc:language>
  <cp:lastModifiedBy>Bouland,M.</cp:lastModifiedBy>
  <dcterms:modified xsi:type="dcterms:W3CDTF">2015-03-20T08:08:54Z</dcterms:modified>
  <cp:revision>42</cp:revision>
  <dc:subject/>
  <dc:title>Bloed en afweersysteem</dc:title>
</cp:coreProperties>
</file>