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ACC-63D2-4E12-B6A1-14E72508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108-1E4E-4A79-8D18-72A1A060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BCC-F696-438A-A4C2-668E4E73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C4A-139E-48C8-A1A8-3BECFE27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D1D37-33C0-4B9C-87FE-8D1A5539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52D3A-85CE-4277-9EF9-298A58E0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09CD5-A1D8-4843-9F4E-8695ADB0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FEE85-A99F-4586-B2FB-AD1AE292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783F0-71FA-4126-9227-3ABDF93E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24CC7-BB2C-498F-8E08-F6DB241F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B9A03-BB17-4032-9794-BE28A466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C7B-139D-46D0-A69E-DB49C08B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2A591-57B7-4C1B-B521-758D305B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631B3-BD89-4D1B-84CD-61AE5975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D1D5C-7685-4CD2-95B2-BDC6D622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815B1-4319-4BF9-9596-A8EF789A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58957-328E-49CD-8B3E-2E89EC35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F48-CEF2-41D9-9B40-47019BD2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08D-71AF-441D-B94E-EC6251AF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FCF-6891-4F09-888F-72D2056F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582-D290-4501-9715-29F6F83F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A7C-1BB3-49E2-91C4-F5BDBFF5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7B1-B314-43D6-BB4B-EB902395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B1A-88A3-40FB-AD6C-980904E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6BC5-3ADA-403E-A018-183CB0F19D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DCDC-8E29-4DFD-8E3F-72C85A5085E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rtwijzer.nl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oli Cardi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Ziekten van hart en bloedva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Myocardscintigraf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dioactieve stof &gt; thallium of technetium via infu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nucleaire geneesku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organkelijkheid van kransslagader beoord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AP klach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lasting: infuus, blootsteling radioactiv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Hartkatherisatie 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(Coronair angiografi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derzoek naar vernauwde kransslaga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atheter met contrastvloeist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ruk en zuurstofgehalte me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nauwing kransslager &gt; dotte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oorbeelden van aandoenin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ypertens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oronairlijden &gt; 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artfa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artritmestoorni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epgebr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Behande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eefreg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dic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rombolyse (een infuus met stolseloplossende medicijn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entiecardiologie (PCI=dotter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anvullend onderz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C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pannings-EC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X Tho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cho / dopplerechocardio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yocardscinti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artkatheterisatie / coronairangio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drach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een beschrijving van de boven genoemde onderzoe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ijk in je boek : Poliklinieken, jeugdgezondheidszorg en arbodienst of op </a:t>
            </a: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hartwijzer.n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C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lektrocardiogram / hartfilmp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gevoerd bij allerlei hartklachten en problemen of voor een 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spannings-EC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CG met lichamelijke insp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Ook wel ergometrie: Fiets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ijdens onderzoek: Bloeddruk en ECG in gaten gehou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a afloop beoorde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ms belastend: hartklachten tijdens inspan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X thora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zichtbare stra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ongfo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2 overzichtsfoto’s &gt; voorkant en zijk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iet belastend voor 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ontgenstraling kan schade geven bij bv. Zwangeren &gt; aangeboren af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cho / doppleronderz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chografie + duplex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wegende beel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omend bloed hoorba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oordeeld: functie hartkleppen pompkracht en bloedst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j bloedvatafwijking nut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iet belastend voor patiënt. Niet schadelij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3:29:12Z</dcterms:created>
  <dc:creator>D</dc:creator>
  <dc:description/>
  <dc:language>en-US</dc:language>
  <cp:lastModifiedBy>Bouland,M.</cp:lastModifiedBy>
  <dcterms:modified xsi:type="dcterms:W3CDTF">2015-01-08T11:52:27Z</dcterms:modified>
  <cp:revision>8</cp:revision>
  <dc:subject/>
  <dc:title>Poli Cardiologie</dc:title>
</cp:coreProperties>
</file>