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070-6F85-452C-9F3E-09D7447B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A4C-35B5-48A3-9989-D212741E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31EB-B5D9-43B1-BE4C-E776702A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FB0-E724-43FE-A4D5-9A2BABEE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6E9-B530-4301-B559-E68DEBA7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262-8A8D-4D2E-ADAE-A1EEFFB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E9E-328F-42B4-ADFA-1BEFE18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C44-091B-4534-8907-040B2A84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DF7-1A6B-41C5-BF56-DEB9C12F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217-65E0-4F96-B5CB-B1E8F94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DD6-6C25-4756-BB60-FA82E04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B00-229D-4C8B-89A4-61AF6E7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963C-4957-4FDB-8E2F-A754AA7AED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doeningen van hart en v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loeddruk meten bij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bij wie Hart Vaat Ziekten en hypertensie in de familie voorkomen  (erfelijke aanl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een verhoogd cholesterolgeha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die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iabetes mell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andeling:  leef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der z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groente en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nodig afvallen - gezond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er matig met alcohol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ak is dit niet genoeg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 patiënt houdt zich niet voldoende aan de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st leefregels :med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s-pillen (Diure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atverwijders (Bètablokkers, Ace remmer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is keuze genoeg, vaak wordt gestart met de eerste en komen er vervolgens meer bij. De groepen komen later aan de 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mage023"/>
          <p:cNvPicPr/>
          <p:nvPr/>
        </p:nvPicPr>
        <p:blipFill>
          <a:blip r:embed="rId1"/>
          <a:stretch/>
        </p:blipFill>
        <p:spPr>
          <a:xfrm>
            <a:off x="1886040" y="1305000"/>
            <a:ext cx="5371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AMGATE_6059_138_TICH_R236761194099971"/>
          <p:cNvPicPr/>
          <p:nvPr/>
        </p:nvPicPr>
        <p:blipFill>
          <a:blip r:embed="rId1"/>
          <a:stretch/>
        </p:blipFill>
        <p:spPr>
          <a:xfrm>
            <a:off x="2411280" y="1268280"/>
            <a:ext cx="43182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perten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te hoge bloeddruk in de slagaderen, wan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loed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 meerdere keren meten in rust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de juiste hulpmiddelen de volgende waarden gee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Systolische 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oger dan 14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iastolische 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oger dan 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N.B.130/80 mm Hg bij nierpatiënten en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b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nitoring-blood-pressure-300x240"/>
          <p:cNvPicPr/>
          <p:nvPr/>
        </p:nvPicPr>
        <p:blipFill>
          <a:blip r:embed="rId1"/>
          <a:stretch/>
        </p:blipFill>
        <p:spPr>
          <a:xfrm>
            <a:off x="2195640" y="1268280"/>
            <a:ext cx="4465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e meeste gevallen 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een snelle tensiestijging kunnen optreden: duizeligheid, hoofdp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ertensie is een toevalsbev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/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ssentiël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hypertensie; er is geen oorzaak bekend, wel spelen erfelijke factoren een rol, overgewicht, overmatig zout gebruik, overmatig alcoholgebruik en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cundai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hypertensie ontstaat a.g.v. lichamelijke aandoeningen(nierziekten, hormonale ziekten), zwangerschap en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an hyperten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nelling van arteriosclerose met als gevol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oor vernauwing van de slagaders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nierschade, oogschade, hartsch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Aneurysma, verwijding van bijv buikao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gevolgd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Bloeding o.a. in de hersenen, aorta -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ecompensatio cordis (hartfa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ypertensie"/>
          <p:cNvPicPr/>
          <p:nvPr/>
        </p:nvPicPr>
        <p:blipFill>
          <a:blip r:embed="rId1"/>
          <a:stretch/>
        </p:blipFill>
        <p:spPr>
          <a:xfrm>
            <a:off x="2268360" y="0"/>
            <a:ext cx="4005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druk meten, patiënten komen een aantal keren langs per jaar, vaak ieder kwar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4 uurs bloeddrukmeting met dagboekje activiteiten b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56:09Z</dcterms:created>
  <dc:creator>Onderwijs</dc:creator>
  <dc:description/>
  <dc:language>en-US</dc:language>
  <cp:lastModifiedBy>Dianne Knegt</cp:lastModifiedBy>
  <dcterms:modified xsi:type="dcterms:W3CDTF">2017-10-29T10:46:01Z</dcterms:modified>
  <cp:revision>9</cp:revision>
  <dc:subject/>
  <dc:title>Aandoeningen van hart en vaten</dc:title>
</cp:coreProperties>
</file>