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D35-6DEE-4B0A-9E76-ED383EDF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9C2-6277-459A-B66A-71BD833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A2E-1922-441F-AF3D-8C1E4505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050-59FC-4A24-891A-B169450F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76C-BE83-4AAE-8169-2848BA10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8CC-1D1D-4DDD-B3D7-E700B693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AC1-C248-4B40-BAD7-2F36D051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66C-C3B4-4B9C-B191-9A2A3BCA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271-D8D4-4822-B016-022A191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A1D-8673-4050-99EE-27EB57B8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571-7D05-4D4E-9893-171D451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96D-1BF6-41B7-9821-A574221D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631C-4A86-41B1-B3C6-07C58D25D6E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hart- en vaataandoeninge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rteriosclerose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agaderverka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fd293"/>
                </a:solidFill>
                <a:latin typeface="Arial"/>
              </a:rPr>
              <a:t>cardiovasculair risicomanageme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agnostiek, behandeling, begeleiding en controle van de risicofactoren voor HVZ bij mensen met een verhoogd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l: 1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2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lijn behandelen dezelfde mensen op dezelfde man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fd293"/>
                </a:solidFill>
                <a:latin typeface="Arial"/>
              </a:rPr>
              <a:t>risicoprofiel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wi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 HVZ geh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yst. hypertens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e hoog ch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annen &gt; 50 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rouwen &gt; 55 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factor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eeftijd en gesl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ystol. Bloeddr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h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lucosegehal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rfelijke 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coholgebru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ichamelijke activit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MI en middelomtr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fd293"/>
                </a:solidFill>
                <a:latin typeface="Arial"/>
              </a:rPr>
              <a:t>hoe werkt het?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lgroep moet herkenbaar zijn, bijv. door ‘ruiter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tingen worden via getallen ingevoe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rhaaldatum wordt ingevoe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ysteem meldt wat er moet gebeuren opdat risicoprofiel actueel blij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arteriosclerose</a:t>
            </a:r>
            <a:br>
              <a:rPr sz="4400"/>
            </a:br>
            <a:r>
              <a:rPr b="0" lang="nl-NL" sz="2400" spc="-1" strike="noStrike">
                <a:solidFill>
                  <a:srgbClr val="dfd293"/>
                </a:solidFill>
                <a:latin typeface="Arial"/>
              </a:rPr>
              <a:t>geleidelijk proces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gint waarschijnlijk met cholesterolafz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dotheel wordt beschadig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 beschadiging plakken bloedplaatjes vast + vaatwand gaat verdikken en verh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oedvat wordt langzaam nauwer, collateralen worden gevormd (maanden/jar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arteriosclerose</a:t>
            </a:r>
            <a:br>
              <a:rPr sz="4400"/>
            </a:br>
            <a:r>
              <a:rPr b="0" lang="nl-NL" sz="2400" spc="-1" strike="noStrike">
                <a:solidFill>
                  <a:srgbClr val="dfd293"/>
                </a:solidFill>
                <a:latin typeface="Arial"/>
              </a:rPr>
              <a:t>plotseling proces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rming van trombus waardoor bloedvat wordt afgesloten: achterliggende weefsel sterft af (necr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sgeschoten stukje trombus = embolie sluit vat af: achterliggende weefsel sterft af (necr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fsterven hartweefsel: hartinfar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fsterven hersenweefsel: herseninfar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fsterven weefsel in benen: gang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lerotisch vat mist elasticiteit, is bros en breekbaar, waardoor het makkelijk barst: hemorragie = blo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verschijnsele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Herse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IA (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jdelijk 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chaemische 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nval), verdwijnen binnen 24 u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VA (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rebro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v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sculair 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cid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ecompensatio cordis (hartfalen door verzwakte hartspier tgv sclerotische kransslagd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ngina pectoris (aanvalsgewijze pijn op de borst) door lokale vernauwing vd kransslagad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rtinfarct (door totale afsluiting vd kransslagad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Be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PAV=perifere arteriële vaataandoening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laudocatio intermittens (knijpende pijn in de kuit door gedeeltelijke afsluiting vd slagader naar het been of de aor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angreen (door totale afsluiting van een bloedva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risicofactoren </a:t>
            </a:r>
            <a:r>
              <a:rPr b="0" lang="nl-NL" sz="2800" spc="-1" strike="noStrike">
                <a:solidFill>
                  <a:srgbClr val="dfd293"/>
                </a:solidFill>
                <a:latin typeface="Arial"/>
              </a:rPr>
              <a:t>1 + 1 = 3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eftijd: art.scler. is een verouderings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kse: mannen 2 x zoveel k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rfelijk belast: HVZ bij 1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ads familie &lt; 60 j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hoogd cholesterolgehalte (bovengrens 5,0 mmol/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oeddruk (bovengrens 140 / 90 mm H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Ro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meest te beïnvloeden factor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vergewicht (BMI 18-2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 weinig lichaamsbewe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M: hoe slechter ingesteld, hoe groter het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risicofactoren</a:t>
            </a:r>
            <a:br>
              <a:rPr sz="4000"/>
            </a:br>
            <a:r>
              <a:rPr b="0" lang="nl-NL" sz="2400" spc="-1" strike="noStrike">
                <a:solidFill>
                  <a:srgbClr val="dfd293"/>
                </a:solidFill>
                <a:latin typeface="Arial"/>
              </a:rPr>
              <a:t>nader bekeken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lz. 44 ES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: stopp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isico daalt in korte tijd naar niveau niet-ro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ypercholesterolem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holesterol = bouwstof van celwanden en zenuwstel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ordt gemaakt door de lever + plantaardige en dierlijke vetten in voedingsstoff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hoogde waarden geven op zich geen kla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DL (high-density / hoge-dichtheid lipoprotein = vettransporterend eiwit met veel cholesterol) biedt zekere bescherming; LDH bevordert art.scl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wone gezond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holesterolsyntheseremmer: remt aanmaak in l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oppen met roken!! (+ gezond gewicht + voldoende bewe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etten 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MI (</a:t>
            </a: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dy </a:t>
            </a: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ss </a:t>
            </a: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ndex); normaal = 18 -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MI = gewicht : (lengte)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ppel- / peer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Taille-heupindex = omtrek taille : omtrek heu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&gt; 1,1 risico HV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ypertens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ystolische druk &gt;140 / diastolische druk &gt;90 mmH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oge bloeddruk op zich geeft geen kla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ypertensie is een risicofactor bij arterioscler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orzak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10% ziekte van nieren, bloedvaten, hormoonklier of zwangersch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ssentiële hypertensie (oorzaak onbekend, erfelijkheid speelt me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volg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compensatio cordis (hartfal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stma cardiale (stuwing van bloed in longen, acute benauwdhe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arsten van een bloedvat – bl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oppen met roken, normaal gewicht, bewe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edicij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iposit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eserve in barre 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orzaak: balans tussen opname en verbruik gesto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dische gevolg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ivers (kans op DM, gewrichtsklachten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ns op HVZ 1,5 x als bij normaal gewi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fvallen onder begelei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oorbreken van vicieuze cirkel (psychische compon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5:15:12Z</dcterms:created>
  <dc:creator>vredelust</dc:creator>
  <dc:description/>
  <dc:language>en-US</dc:language>
  <cp:lastModifiedBy>Dianne Knegt</cp:lastModifiedBy>
  <dcterms:modified xsi:type="dcterms:W3CDTF">2017-11-21T13:41:50Z</dcterms:modified>
  <cp:revision>25</cp:revision>
  <dc:subject/>
  <dc:title>hart- en vaataandoeningen</dc:title>
</cp:coreProperties>
</file>