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307-06F8-4194-962A-83D6ECF0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169-F51C-483C-84EE-81D29020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D71-B53C-4E6F-B1EC-EE3E7B3F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FB1-B0CE-468C-8C6F-F97C0E38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F276-EF58-491C-A9F6-A7EA87B4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90D7-31B8-41C8-8BA4-882E3D66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2E41-0EBD-4DCA-B2E8-110155D1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F881-413E-45CE-B4B5-1DDFABEE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2C6B-FA4F-437C-8E06-F1D0A022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8F16-05A9-401A-B5A0-02E63348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44D1-EDCA-445E-8754-C4D58948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388-5D98-497C-B19D-343E6646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E651-4F35-47E4-BDE0-048473FB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DCC2-9C51-4CA5-BE30-837DAFE6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5F91-A1AF-48EF-9C13-DE5851AB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1C71-E89A-416D-8035-77948EFC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C949-19BA-47BA-9F4F-78BAB771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06E2-EF43-4514-9F5A-83F31731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BEAD-1EB3-4396-B414-22FFC849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A3398-6B7E-4BFC-BE42-7AFA6A63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2C25-CBF3-45E7-8701-5C04BFBC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A228-8FE9-40AF-BC24-72F9D91B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369-C8D6-4D11-AE17-6DDC110A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3C73-10A5-4BCE-9EC1-C99A35CF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6782-3149-41BF-B5F1-5C8A7C5B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CAAC-BD53-4A80-80F0-9B5D5B59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2A43-5F80-410F-85E3-3706E81A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D9A14-3462-4CDB-BFAD-3BDC4D07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7BFC-31A5-4753-A54B-8C0AC7F4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50F4E-4348-441A-A227-472A3722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8C60-684D-41B9-A7D3-CEAFEEBF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A6916-67F9-4917-8ECF-D356A06C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CAB2-35CA-4237-A4F6-F731F43C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FD8-6CFE-4951-94AA-12AEA7DF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41FF9-5E35-4C35-A4AC-7CBDE889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782BF-FE79-4136-BC2B-AA678B20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B5734-FCEC-40DE-A6F4-D06C34FF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FDC6D-723C-4F28-994E-0300084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C7520-1064-45C4-8813-4B0AA814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EBB7-6DD9-4979-AEEF-34B92736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2985-FEAA-4C7F-8EE4-C8032B97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1B91D-BA4E-4F2B-A6E4-1D4B43E4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1658D-62F2-4675-BAD9-7F832D02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937-B449-4811-A334-5417CDA3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8CD-A927-4AF9-BD79-60F26DE9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564-394A-45AC-8CC2-F410A8B0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491-C797-49B5-800F-80419685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415-F49E-4B4B-8B51-151EC820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BB20-4B26-4FC4-B533-D31F9C211B46}" type="slidenum">
              <a:rPr b="0" lang="nl-N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1B32-666D-46A0-BB9B-CB7D077ADF06}" type="slidenum">
              <a:rPr b="0" lang="nl-N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2F5C-5822-4C6E-B812-0A06B9CD97E1}" type="slidenum">
              <a:rPr b="0" lang="nl-N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ige driehoek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rije v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rije v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674B-C4FE-43FB-AF8A-E4086657E293}" type="slidenum">
              <a:rPr b="0" lang="nl-N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542880" y="1347840"/>
            <a:ext cx="7851960" cy="1833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onstantia"/>
              </a:rPr>
              <a:t>behandel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Diuretica (plastabletten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Thiazidediure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Gelijkmatige werk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onstantia"/>
              </a:rPr>
              <a:t>hydrochloorthiazide, chloortalid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Kaliumsparende diure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Gelijkmatige werk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onstantia"/>
              </a:rPr>
              <a:t>triamtereen, amilorid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Lisdiure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Krachtige werking (toepassing bij acuut hartfalen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onstantia"/>
              </a:rPr>
              <a:t>furosemide, bumetanid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Thiazidediuretica = 1</a:t>
            </a:r>
            <a:r>
              <a:rPr b="0" lang="nl-NL" sz="5000" spc="-1" strike="noStrike" baseline="30000">
                <a:solidFill>
                  <a:srgbClr val="04617b"/>
                </a:solidFill>
                <a:latin typeface="Calibri"/>
              </a:rPr>
              <a:t>e</a:t>
            </a: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 ke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werking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ypokaliëmie (kaliu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spierzwakte; hartritmestoorniss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yperurekemie (ureu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jich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yperglycemie (glu nuchter, HbA1C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(ontregeling) diabetes mellitu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Daarom geen 1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onstantia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 keus middel bij diabeten bij de behandeling van hypertensi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Kaliu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Normaal 3,5-5,0 mmol/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ypokaliëmie &lt; 2,5 mmol/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yperkaliëmie &gt; 6,0 mmol/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Belangrijkste gevaren van te laag en te hoog kalium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Spierzwak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Hartritmestoorniss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 hypertensiecontrole hoort jaarlijks bloedonderzoek; o.a. op kali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Vegetatieve zenuwstels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-2311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onstantia"/>
              </a:rPr>
              <a:t>Bestuurt en reguleert de vitale basisfuncties van het organisme, zoals de stofwisseling, de ademhaling, de hartfunctie, de spijsvertering, het hormoonsysteem en het immuunsysteem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Sympathisch deel = actief bij act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Snellere hartfrequentie  + vaatvernauw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Snellere  ademhal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Afname darmperistaltiek  (samentrekken darmwand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Parasympatisch deel = actief in ru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Langzamere hartfrequentie  + vaatverwijd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Langzamere  ademhal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Toename darmperistaltiek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Betablokk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934640"/>
            <a:ext cx="8435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= betasympaticolytic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= (betacellen van) sympatische zenuwstelsel afremmen. Bloeddruk en hartrimte dal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imeticum = stimule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Lyticum = remm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Wat is het effect van een betasympaticolyticum op hart en bloedvaten? En op de bloeddruk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ACE-remm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= Remmen van Angiotensine Converting Enzyme in weefsel en bloedpla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= Remmen van de omzetting van angiotensine (hormo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Bloedvatverwij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Vermindering bloedvolu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AT1-antagonisten hebben een soortgelijke wer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Wat is het effect van een ACE-remmer op de bloeddruk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Calciumantagon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= Werkt Calcium teg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vaatverwij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remmen de calciuminstroom in de ce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Wat is het effect van een Calciumantagonist op de bloeddruk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Overzich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1844640"/>
          <a:ext cx="8496360" cy="4581720"/>
        </p:xfrm>
        <a:graphic>
          <a:graphicData uri="http://schemas.openxmlformats.org/drawingml/2006/table">
            <a:tbl>
              <a:tblPr/>
              <a:tblGrid>
                <a:gridCol w="2178000"/>
                <a:gridCol w="1525680"/>
                <a:gridCol w="1670040"/>
                <a:gridCol w="3122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Gro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39aa1"/>
                      </a:solidFill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a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Bijwerki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oepa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39aa1"/>
                      </a:solidFill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tablok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39aa1"/>
                      </a:solidFill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toprolol, atenolol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ude vi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rtadem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ypertens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tmestoornis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39aa1"/>
                      </a:solidFill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E-rem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39aa1"/>
                      </a:solidFill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alapril, captopril, lisino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kkelho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ypertensie bij diabet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ypertensie bij gedotterden/na bypassope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rtfa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39aa1"/>
                      </a:solidFill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T1-antag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39aa1"/>
                      </a:solidFill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sar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39aa1"/>
                      </a:solidFill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lciumantag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39aa1"/>
                      </a:solidFill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ifedipin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lo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ofdp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uizel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ypertensie bij A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ypertensie bij  ast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tmestoornis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39aa1"/>
                      </a:solidFill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Hypertensi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Meerdere malen verhoogde bloeddruk gemet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Systolisch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onstantia"/>
              </a:rPr>
              <a:t>&gt;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 140 en/of diastolisch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onstantia"/>
              </a:rPr>
              <a:t>&gt;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 90 mmH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Geeft geen klacht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Wel risicofactor voor HVZ: bijvoorbeeld arteriosclerose, hartfal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>
                <a:solidFill>
                  <a:srgbClr val="04617b"/>
                </a:solidFill>
                <a:latin typeface="Calibri"/>
              </a:rPr>
              <a:t>Essentiële of </a:t>
            </a:r>
            <a:br>
              <a:rPr sz="4100"/>
            </a:br>
            <a:r>
              <a:rPr b="0" lang="nl-NL" sz="4100" spc="-1" strike="noStrike">
                <a:solidFill>
                  <a:srgbClr val="04617b"/>
                </a:solidFill>
                <a:latin typeface="Calibri"/>
              </a:rPr>
              <a:t>primaire hypertensie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Met onbekende oorzaa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rfelijke belasting kan rol spelen, net als overgewicht, voeding, alcohol en st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90% van alle hypertensiepatiënt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>
                <a:solidFill>
                  <a:srgbClr val="04617b"/>
                </a:solidFill>
                <a:latin typeface="Calibri"/>
              </a:rPr>
              <a:t>Symptomatische of </a:t>
            </a:r>
            <a:br>
              <a:rPr sz="4100"/>
            </a:br>
            <a:r>
              <a:rPr b="0" lang="nl-NL" sz="4100" spc="-1" strike="noStrike">
                <a:solidFill>
                  <a:srgbClr val="04617b"/>
                </a:solidFill>
                <a:latin typeface="Calibri"/>
              </a:rPr>
              <a:t>secundaire hypertensie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10% van alle hypertensiepatiënt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Mogelijke oorzak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Nierziekt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ormonale ziekt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edicijngebru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Vernauwing aor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onstantia"/>
              </a:rPr>
              <a:t>Zwangerschapshypertensie: Schadelijk voor placenta en dus voor ki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Behandel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Afhankelijk va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Hoogte bloeddr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Andere risicofactor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Risicotabel (Framinghamstudie) wordt hiervoor gebruik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Start behandeling met leefreg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Gezonde voed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Stoppen met rok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Afvall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Meer beweg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06600" y="90360"/>
            <a:ext cx="79308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04617b"/>
                </a:solidFill>
                <a:latin typeface="Calibri"/>
              </a:rPr>
              <a:t>Behandeling met geneesmiddele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Groep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iure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ACE-remm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Bètablokkers = betasympathicoly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Calciumantagonist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Werking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onstantia"/>
              </a:rPr>
              <a:t>Diuretica: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nl-NL" sz="2600" spc="-1" strike="noStrike">
                <a:solidFill>
                  <a:srgbClr val="000000"/>
                </a:solidFill>
                <a:latin typeface="Constantia"/>
              </a:rPr>
              <a:t>Als u de sproeier aan het eind van de tuinslang verder openzet, stroomt er meer water naar buiten en neemt de druk in de tuinslang af.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nl-NL" sz="2600" spc="-1" strike="noStrike">
                <a:solidFill>
                  <a:srgbClr val="21b2c9"/>
                </a:solidFill>
                <a:latin typeface="Constantia"/>
              </a:rPr>
              <a:t>Doordat u meer gaat plassen, neemt de druk in de bloedvaten af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onstantia"/>
              </a:rPr>
              <a:t>Bètablokker: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nl-NL" sz="2600" spc="-1" strike="noStrike">
                <a:solidFill>
                  <a:srgbClr val="000000"/>
                </a:solidFill>
                <a:latin typeface="Constantia"/>
              </a:rPr>
              <a:t>Als u de kraan aan het begin van de slang een beetje dichtdraait, wordt de druk in de tuinslang verlaagd</a:t>
            </a:r>
            <a:r>
              <a:rPr b="0" i="1" lang="nl-NL" sz="2600" spc="-1" strike="noStrike">
                <a:solidFill>
                  <a:srgbClr val="21b2c9"/>
                </a:solidFill>
                <a:latin typeface="Constantia"/>
              </a:rPr>
              <a:t>.</a:t>
            </a:r>
            <a:r>
              <a:rPr b="0" lang="nl-NL" sz="2600" spc="-1" strike="noStrike">
                <a:solidFill>
                  <a:srgbClr val="21b2c9"/>
                </a:solidFill>
                <a:latin typeface="Constantia"/>
              </a:rPr>
              <a:t> Uw hart gaat iets minder hard pompen en daardoor neemt de druk in de bloedvaten a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Vervolg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onstantia"/>
              </a:rPr>
              <a:t>Aceremmer: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nl-NL" sz="2600" spc="-1" strike="noStrike">
                <a:solidFill>
                  <a:srgbClr val="000000"/>
                </a:solidFill>
                <a:latin typeface="Constantia"/>
              </a:rPr>
              <a:t>Als u de tuinslang wijder maakt, zal de druk in de slang lager worden.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nl-NL" sz="2600" spc="-1" strike="noStrike">
                <a:solidFill>
                  <a:srgbClr val="21b2c9"/>
                </a:solidFill>
                <a:latin typeface="Constantia"/>
              </a:rPr>
              <a:t>Door de bloedvaten te verwijden, vermindert de druk in de vaten.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onstantia"/>
              </a:rPr>
              <a:t>Calciumantagonisten: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nl-NL" sz="2600" spc="-1" strike="noStrike">
                <a:solidFill>
                  <a:srgbClr val="000000"/>
                </a:solidFill>
                <a:latin typeface="Constantia"/>
              </a:rPr>
              <a:t>werken op twee manieren: ze maken de tuinslang wijder en draaien de kraan wat verder dicht.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nl-NL" sz="2600" spc="-1" strike="noStrike">
                <a:solidFill>
                  <a:srgbClr val="21b2c9"/>
                </a:solidFill>
                <a:latin typeface="Constantia"/>
              </a:rPr>
              <a:t>De bloedvaten worden iets wijder en het hart pompt minder hard. Daardoor neemt de druk in de bloedvaten a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06:52:07Z</dcterms:created>
  <dc:creator>Jacolien Swierstra</dc:creator>
  <dc:description/>
  <dc:language>en-US</dc:language>
  <cp:lastModifiedBy>Marlies Bouland</cp:lastModifiedBy>
  <dcterms:modified xsi:type="dcterms:W3CDTF">2019-09-30T08:45:40Z</dcterms:modified>
  <cp:revision>24</cp:revision>
  <dc:subject/>
  <dc:title>Hypertensie</dc:title>
</cp:coreProperties>
</file>