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47E0-FE12-417F-8316-E3E79B0BF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0F7E-232C-4018-B0A8-214D21D5F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2CE5-23E2-47A2-8CFE-B1AF71EC2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054A-BA02-4D9B-9921-550A64F62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F8F6-0C67-4A45-B54D-B66C1C9B8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6A08-862D-45D0-B7EA-031A6F4D5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6902-92D4-406A-AA73-C8BFEE7E4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4E80-85C5-49A1-9AFB-74495C618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78C3-7258-4CCD-ABE3-76B3E2C5D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67C9A-8738-4651-B109-569BAB0E56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3B542-23B1-4551-A37E-C38118EDD2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C9D00-EBDD-47D4-B6DA-26F598B1BD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4ABBC-C4BB-4DFB-8DC5-5A30284635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31BE8-C83C-405E-8F56-2CC48BF7CD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545A-0857-4E0D-8B77-91A220261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5DC1B-459A-43FB-A8FE-30D06A6786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9740-3FDC-46E1-9E6E-071F0723A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402D-AF8A-465B-9B50-A24F144B5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4839-1F4F-40B7-9A21-409211F28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B4E9-180C-43CF-8389-A56F77390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CB0E-2325-4287-A82C-DB8083053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EDE-166F-4FB4-B0C6-B58E690A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311-C971-4571-9B12-59A812B6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DF5-EFB5-4FDB-952B-3B4CB00D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6B1-9D79-4F7B-A401-F86F181F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BA69-4E4C-49B4-9F8F-6899FD8F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0D20-3281-4493-A33D-91AFA099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DE8F-41A2-470A-88C8-5143225E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8332-A5BC-4BF4-ACB0-4C1A3700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8441-84FC-4608-A3CC-5946F0F0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0E4F-AA7D-4849-A76A-DA40DDC9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1136-0691-48D7-B10D-849E2B2B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1CD-D3A0-48ED-AE6A-381734B3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E5D5-92DD-454A-A935-01480F7B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93E4-D57E-49B6-8C32-FC8FCC2D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3C4C-1520-4C5A-B1DC-A6FEF43B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9AB0-564E-41B1-B4BB-7DA631C7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3BB0-DE66-4029-A555-202BE994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7C9C-6303-45DE-A492-2FF5B639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2E036-F6B5-4DA1-8A75-7FB0EC63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B60E0-733B-42CB-A6F8-0DFA88B4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2743-5A5F-46C5-8C74-7AC26824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2765-51C3-40FF-80AE-E0023938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847-C19F-4A5F-B0F3-F975D6D5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7739B-5E46-4C31-BF78-94A41B72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134A-1499-43E6-AFFB-52FA075D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1356B-7E02-4EEA-B606-C85332FF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2385-0487-41D4-A63D-9B49B351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E250-8233-4B77-8A84-983821C8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A0A68-241B-4A20-BCD2-2F25A7AA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611A7-BB37-4F8E-8E40-294F7FD2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00CC-45B2-4E82-B48A-E5D18FA6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2B3F9-00E0-4D12-8570-B6977FB7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FE7A-DBEC-4A7A-95BC-70DAEEF3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71E-E13E-4B8A-99D2-5C73FBB5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A6967-80E1-4BD0-82D2-4F13267B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A2BC7-6E57-45E3-89C8-521DECCB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30D65-F634-40CF-A398-1975659E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8E8B9-B937-4D3D-8044-F7A885F3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A358F-3BCB-4583-AD5B-AB1C2226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EBEF0-D480-4E15-B35B-7B8D66CA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A23A1-358F-41B1-A1FE-3C8A230B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DBC1-BF06-4BA9-8B54-9CF2D160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1F77-E832-4FBF-B50D-D034F095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F7232-4FD5-4978-950B-28A6C7B7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B78-EF53-42AA-BDFE-44A8F968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7026E-2B90-486A-8B71-A164A73C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F06D2-066F-45A8-8EAE-1A76D084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23B53-50DB-4795-B618-53A94793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6C462-D0D0-43CD-9733-A7CFB049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48FD6-CE0C-4240-86AA-F1AAFBCE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4A64-AC4F-4232-9330-DE886725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2E124-E052-4CC3-8F08-2A18A368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5444F-F640-47DC-8840-C677F7FD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AD69-8C38-4178-B6D6-6350A08F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EC56-39E1-4045-9996-41E15FD5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3E8C-D41D-4B76-8A07-6C432565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8D5F5-5C31-40C8-9391-6363954B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C8B83-38AC-4869-81FB-BA9430E9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D3767-6F2A-4039-BAF7-E6D2633E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F5DA5-E4D3-4986-810B-4046F0C4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D24FE-751E-4277-AB4A-EBC4C2C9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FF506-1985-4875-81B2-B73C3F28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6653B-3704-412E-ADFC-F473DA3E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2E892-4388-4FDB-B441-7331D859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A1216-D6DA-44D9-B53D-5EB85D9C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EF8D8-472D-4FDD-90DE-30C00F19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6D28-CA5C-445C-8BBE-B21AC56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9AAC4-DADA-4A71-9C82-BD379162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87085-FAF5-4B70-9C44-112FCB5C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1AFB7-8B94-4A8B-8E46-4279C0E7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6FA04-CC8E-4A44-9812-3F6251CB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2D462-82CB-41D1-914F-3B36A6D3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8F869-F2EC-4577-8E29-CF5CD3E0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227F2-E4CC-4966-935A-FD4ACD73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0C37E-1086-46A1-A584-EEABE609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9FAB3-CF77-43AB-A441-E40C0604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1CD30-1AEC-4A39-B964-2941E33D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144-62CC-4799-95C1-B99B12B7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B17C2-9E19-4BE5-9F9E-922F7E42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3B894-26A4-49EB-AAF6-B449047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2362B-C17D-44B8-A106-960DF073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C5853-C446-47A4-AD69-3981A95A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E7083-C47A-441B-BCFD-8E1FC87F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12FE0-2FF3-4BDC-A74F-6E343843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E2885-7CB9-40A8-9286-86BAF335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0003D-2A88-4C36-BFCF-70EDFC85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99C6C-0C73-4DA1-BB96-BD48BAAB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74567-3B83-40AB-8854-13F988E9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339-C2B6-4BF7-81CE-8BB153B3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47D06-AC46-422D-8E5B-315C266F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F9B09-81AE-4398-90A4-3241B7CF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F9D38-64BF-4835-831B-D3677AC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27B48-C666-4C9B-AC65-B8D1AA22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AECE7-A023-4E31-8B19-B8E5042D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5D80E-B4DB-460A-8AB4-E2267425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F7507-9CDD-4B59-87FA-6BEF6426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AA81-7809-4A1B-B763-B49D41AA51F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A16A-A60D-419C-AC94-D9D994DF349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80B8-B02D-49ED-949C-53BE4BBF90A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F526-A81B-4FF6-A1E2-A763B932D87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805A-D791-44ED-B0A3-CA9B9567BFB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F49B-54AE-43F0-A5BE-E8438F0BE75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DFE5-FCD6-49AF-A445-9000791B2D3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e verbindingslijn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5876-DD80-44DC-B609-C5FEE813632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7280" y="386064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b0f0"/>
                </a:solidFill>
                <a:latin typeface="Bookman Old Style"/>
              </a:rPr>
              <a:t>Moeheid</a:t>
            </a:r>
            <a:br>
              <a:rPr sz="6000"/>
            </a:br>
            <a:endParaRPr b="0" lang="en-US" sz="6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60994"/>
                </a:solidFill>
                <a:latin typeface="Bookman Old Style"/>
              </a:rPr>
              <a:t>Het is niet eenvoudig om de oorzaak te vinden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Gill Sans MT"/>
              </a:rPr>
              <a:t>Geef een omschrijving van de volgende begrippen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464653"/>
                </a:solidFill>
                <a:latin typeface="Gill Sans MT"/>
              </a:rPr>
              <a:t>Vormen anemie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IJzergebreksan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Pernicieuze an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Anemie door foliumzuurgebrek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Aplastische an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Hemolytische an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IJzergebreks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464653"/>
                </a:solidFill>
                <a:latin typeface="Gill Sans MT"/>
              </a:rPr>
              <a:t>IJzergebreksanemie 97% van alle anemieë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Oorzaken: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Tekort aan Fe (ijzer) (eenzijdig voedingspatroon: alcoholist, zwerver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Bloedverlies (zichtbaar: wond, menstruatie; occult: MDK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Zwangerschap (verdunning + evt. grotere behoefte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Microcytaire ery’s : gevolg kleinere ery’s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Th: oorzaak bestrijden + ferrofumaraat 3d0,5t 200mg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Bijw. ferrofumaraat: misselijk, obstipatie, diarree, zwarte ontlasting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N.B. bij acuut bloedverlies ook wel bloedtransfusi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Pernicieuze 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94920" y="12682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464653"/>
                </a:solidFill>
                <a:latin typeface="Gill Sans MT"/>
              </a:rPr>
              <a:t>Pernicieuze anemie: 2% van alle anemieë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Oorzaken: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Tekort aan vit B12 in voeding (vlees, vis, melk, eieren &gt; veganist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Vit b12: vorming van celwand erytrocyten.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Tekort aan  IF: Intrinsic Factor – nodig voor opname vit B12 in darm (auto-immuunziekte/maagoperatie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Darmziekte: gestoorde opnam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Macrocytaire ery’s : te grote ery’s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Th: oorzaak bestrijden + hydroxocobalamine i.m. 2m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Eerst 2x per week gedurende 5 weken, daarna 1x per 2 maande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Anemie a.g.v. tekort aan foliumzuu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464653"/>
                </a:solidFill>
                <a:latin typeface="Gill Sans MT"/>
              </a:rPr>
              <a:t>Anemie a.g.v. foliumzuurtekor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Oorzaken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Tekort aan foliumzuur in voeding (groente, fruit &gt; ouderen, alcoholisten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Macrocytaire ery’s : te grote ery’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Th: oorzaak bestrijden + foliumzuur tablette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Aplastische 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1" lang="nl-NL" sz="2300" spc="-1" strike="noStrike">
                <a:solidFill>
                  <a:srgbClr val="464653"/>
                </a:solidFill>
                <a:latin typeface="Gill Sans MT"/>
              </a:rPr>
              <a:t>Aanmaak van ery’s in beenmerg gestoor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Oorzaken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Virusinfect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Kwaadaardige woekering van leuko’s:  leuk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Bloedvormige cellen worden verdrongen: ery’s tekor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Nierinsufficiëntie (tekort aan erytropoëtine (EPO) – stofje dat aanmaak van ery’s stimuleert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N.B. EPO wordt in de sport als doping gebruik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Th: oorzaak bestrijden + bloedtransfus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89" name="Afbeelding 3" descr="imagesCA0NAJMS.jpg"/>
          <p:cNvPicPr/>
          <p:nvPr/>
        </p:nvPicPr>
        <p:blipFill>
          <a:blip r:embed="rId1"/>
          <a:stretch/>
        </p:blipFill>
        <p:spPr>
          <a:xfrm>
            <a:off x="7020000" y="508464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Hemolytische 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464653"/>
                </a:solidFill>
                <a:latin typeface="Gill Sans MT"/>
              </a:rPr>
              <a:t>Verhoogde afbraak van ery’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Oorzaken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Erfelijke bloedaandoening, bijv. sikkelcelan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Erytrocytenwand is minder elastisch of hb is afwijkend, de ery’s vallen uit elkaar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Behandeling: foliumzuur, bloedtransfus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ikkelcelanemie:  ery’s bevatten afwijkend type HB.  Komt uitsluitend voor bij negroide ra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Kwaadaardige ziekten van blo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cute en chronische Leukem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 ziekte van Hodgk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 ziekte van Non-Hodgk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Gill Sans MT"/>
              </a:rPr>
              <a:t>Opdracht: geef een omschrijving van bovenstaande begrippe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Leuk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Gill Sans MT"/>
              </a:rPr>
              <a:t>Kanker van de leukocyte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Acute leukemi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ALL: Lymfocyten kunnen acuut kwaadaardig worden &gt; acute lymfatische leukemi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AML: acuut leukemie bij kinderen, de gewone leukocyten in beenmerg &gt; acute myeloide leukemi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Chronische leukemi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CLL: Vooral bij volwassenen &gt; Chronische lymfatische leukemi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CML: Chronische myeloide leukemie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CML is ernstiger dan CL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Prognose is beter dan vroeger &gt; chem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Ziekte van Hodgkin = Hodgkin-lymfoom</a:t>
            </a: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600" spc="-1" strike="noStrike">
                <a:solidFill>
                  <a:srgbClr val="000000"/>
                </a:solidFill>
                <a:latin typeface="Gill Sans MT"/>
              </a:rPr>
              <a:t>Kanker van abnormale groei lymfocy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nl-NL" sz="26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verschijnsel = vergrote lymfeklier in hals/nek zonder 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ter vermoeidheid, koorts, gewichts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gnose: biop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ans op overleving is groo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adium I en II: overleving 90%, stadium III: 70-80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Ziekte van Non-Hodgki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Gezwellen van lymfestelse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zamelbegrip voor alle lymfomen die </a:t>
            </a:r>
            <a:r>
              <a:rPr b="1" i="1" lang="nl-NL" sz="2600" spc="-1" strike="noStrike">
                <a:solidFill>
                  <a:srgbClr val="000000"/>
                </a:solidFill>
                <a:latin typeface="Gill Sans MT"/>
              </a:rPr>
              <a:t>niet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 ziekte van Hodgkin z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r zijn ongeveer 30 Non-Hodgkin-lymfom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loop is variabel, ligt eraan waar kanker zi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ognose is slechter dan bij ziekte van Hodgk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Moehei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geuite klacht in de spreekkam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727ca3"/>
                </a:solidFill>
                <a:latin typeface="Gill Sans MT"/>
              </a:rPr>
              <a:t>80% van de gevallen psychisch of sociaal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727ca3"/>
                </a:solidFill>
                <a:latin typeface="Gill Sans MT"/>
              </a:rPr>
              <a:t>20% van de gevallen lichamelijk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63" name="Picture 7" descr="http://www.happymoms.nl/images/media/leegnest/psyche/woman_sleeping_at_work.jpg"/>
          <p:cNvPicPr/>
          <p:nvPr/>
        </p:nvPicPr>
        <p:blipFill>
          <a:blip r:embed="rId1"/>
          <a:stretch/>
        </p:blipFill>
        <p:spPr>
          <a:xfrm>
            <a:off x="3348000" y="3716280"/>
            <a:ext cx="26798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Hemofil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rfelijk tekort aan stollingsfac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fwijkend gen op X chromosoom: alleen bij mannen vo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rouw kan wel draagster zijn van hemofil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ichte hemofilie problemen bij OK, hoe ernstiger hemofilie hoe heviger de bloedinge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ognose: sterk verbeterd. Meer mogelijkheden voor behandel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9360">
            <a:solidFill>
              <a:srgbClr val="4646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>
                <a:solidFill>
                  <a:srgbClr val="464653"/>
                </a:solidFill>
                <a:latin typeface="Gill Sans MT"/>
              </a:rPr>
              <a:t>Samenstelling van het bl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533520" y="1752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9fb8cd"/>
                </a:solidFill>
                <a:latin typeface="Arial"/>
              </a:rPr>
              <a:t>Totale bloedhoeveelheid = 7 % van lichaamsgewi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4"/>
          <p:cNvGrpSpPr/>
          <p:nvPr/>
        </p:nvGrpSpPr>
        <p:grpSpPr>
          <a:xfrm>
            <a:off x="3580920" y="4952880"/>
            <a:ext cx="1676880" cy="685800"/>
            <a:chOff x="3580920" y="4952880"/>
            <a:chExt cx="1676880" cy="685800"/>
          </a:xfrm>
        </p:grpSpPr>
        <p:sp>
          <p:nvSpPr>
            <p:cNvPr id="405" name="Line 5"/>
            <p:cNvSpPr/>
            <p:nvPr/>
          </p:nvSpPr>
          <p:spPr>
            <a:xfrm flipH="1">
              <a:off x="3580920" y="4952880"/>
              <a:ext cx="68580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>
              <a:off x="4572000" y="4952880"/>
              <a:ext cx="68580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7"/>
          <p:cNvSpPr/>
          <p:nvPr/>
        </p:nvSpPr>
        <p:spPr>
          <a:xfrm>
            <a:off x="914400" y="5791320"/>
            <a:ext cx="3124080" cy="947160"/>
          </a:xfrm>
          <a:prstGeom prst="rect">
            <a:avLst/>
          </a:prstGeom>
          <a:solidFill>
            <a:srgbClr val="ff66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9fb8cd"/>
                </a:solidFill>
                <a:latin typeface="Times New Roman"/>
              </a:rPr>
              <a:t>0,43 l bloedcellen (=4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4495680" y="5791320"/>
            <a:ext cx="4038840" cy="520560"/>
          </a:xfrm>
          <a:prstGeom prst="rect">
            <a:avLst/>
          </a:prstGeom>
          <a:solidFill>
            <a:srgbClr val="ffcc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9fb8cd"/>
                </a:solidFill>
                <a:latin typeface="Times New Roman"/>
              </a:rPr>
              <a:t>0,57 l bloedplasma (5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9"/>
          <p:cNvGrpSpPr/>
          <p:nvPr/>
        </p:nvGrpSpPr>
        <p:grpSpPr>
          <a:xfrm>
            <a:off x="3505320" y="3657600"/>
            <a:ext cx="1828800" cy="1320480"/>
            <a:chOff x="3505320" y="3657600"/>
            <a:chExt cx="1828800" cy="1320480"/>
          </a:xfrm>
        </p:grpSpPr>
        <p:grpSp>
          <p:nvGrpSpPr>
            <p:cNvPr id="410" name="Group 10"/>
            <p:cNvGrpSpPr/>
            <p:nvPr/>
          </p:nvGrpSpPr>
          <p:grpSpPr>
            <a:xfrm>
              <a:off x="3505320" y="3657600"/>
              <a:ext cx="1828800" cy="1294920"/>
              <a:chOff x="3505320" y="3657600"/>
              <a:chExt cx="1828800" cy="1294920"/>
            </a:xfrm>
          </p:grpSpPr>
          <p:sp>
            <p:nvSpPr>
              <p:cNvPr id="411" name="AutoShape 11"/>
              <p:cNvSpPr/>
              <p:nvPr/>
            </p:nvSpPr>
            <p:spPr>
              <a:xfrm>
                <a:off x="3581640" y="3885840"/>
                <a:ext cx="1676160" cy="1066680"/>
              </a:xfrm>
              <a:custGeom>
                <a:avLst/>
                <a:gdLst>
                  <a:gd name="textAreaLeft" fmla="*/ 349200 w 1676160"/>
                  <a:gd name="textAreaRight" fmla="*/ 1326960 w 1676160"/>
                  <a:gd name="textAreaTop" fmla="*/ 222120 h 1066680"/>
                  <a:gd name="textAreaBottom" fmla="*/ 8445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4646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2"/>
              <p:cNvSpPr/>
              <p:nvPr/>
            </p:nvSpPr>
            <p:spPr>
              <a:xfrm flipH="1" flipV="1">
                <a:off x="3505320" y="3657600"/>
                <a:ext cx="7632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13"/>
              <p:cNvSpPr/>
              <p:nvPr/>
            </p:nvSpPr>
            <p:spPr>
              <a:xfrm flipV="1">
                <a:off x="5257800" y="3657600"/>
                <a:ext cx="7632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Text Box 14"/>
            <p:cNvSpPr/>
            <p:nvPr/>
          </p:nvSpPr>
          <p:spPr>
            <a:xfrm>
              <a:off x="3733920" y="3962160"/>
              <a:ext cx="1371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Times New Roman"/>
                </a:rPr>
                <a:t>1 li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Times New Roman"/>
                </a:rPr>
                <a:t>blo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15"/>
          <p:cNvSpPr/>
          <p:nvPr/>
        </p:nvSpPr>
        <p:spPr>
          <a:xfrm>
            <a:off x="1449720" y="2284560"/>
            <a:ext cx="61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Een volwassene heeft ongeveer 4-6 liter blo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1066680"/>
            <a:ext cx="5867280" cy="2913480"/>
            <a:chOff x="0" y="1066680"/>
            <a:chExt cx="5867280" cy="2913480"/>
          </a:xfrm>
        </p:grpSpPr>
        <p:sp>
          <p:nvSpPr>
            <p:cNvPr id="417" name="Text Box 3"/>
            <p:cNvSpPr/>
            <p:nvPr/>
          </p:nvSpPr>
          <p:spPr>
            <a:xfrm>
              <a:off x="0" y="1066680"/>
              <a:ext cx="586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6000" spc="-1" strike="noStrike">
                  <a:solidFill>
                    <a:srgbClr val="000000"/>
                  </a:solidFill>
                  <a:latin typeface="Times New Roman"/>
                </a:rPr>
                <a:t>Fibrinogee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"/>
            <p:cNvSpPr/>
            <p:nvPr/>
          </p:nvSpPr>
          <p:spPr>
            <a:xfrm>
              <a:off x="0" y="2971800"/>
              <a:ext cx="510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6000" spc="-1" strike="noStrike">
                  <a:solidFill>
                    <a:srgbClr val="000000"/>
                  </a:solidFill>
                  <a:latin typeface="Times New Roman"/>
                </a:rPr>
                <a:t>Serum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 Box 5"/>
          <p:cNvSpPr/>
          <p:nvPr/>
        </p:nvSpPr>
        <p:spPr>
          <a:xfrm>
            <a:off x="2057400" y="228600"/>
            <a:ext cx="4952880" cy="703440"/>
          </a:xfrm>
          <a:prstGeom prst="rect">
            <a:avLst/>
          </a:prstGeom>
          <a:solidFill>
            <a:srgbClr val="ffcc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9fb8cd"/>
                </a:solidFill>
                <a:latin typeface="Times New Roman"/>
              </a:rPr>
              <a:t>Bloedplas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143000" y="20574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peelt belangrijke rol bij de bloedstoll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et zich om naar fibrine(draden) </a:t>
            </a:r>
            <a:r>
              <a:rPr b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bloedcellen blijven in het fibrinenet gev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1219320" y="3809880"/>
            <a:ext cx="6933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iwitten (vb. albumine, globuline, antistoffen, H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nen (vb Na</a:t>
            </a:r>
            <a:r>
              <a:rPr b="1" lang="nl-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orm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i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fval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edingsbestan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assen (vb. zuurstof en koolstof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8"/>
          <p:cNvGraphicFramePr/>
          <p:nvPr/>
        </p:nvGraphicFramePr>
        <p:xfrm>
          <a:off x="5334120" y="2819520"/>
          <a:ext cx="2943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819520"/>
                    <a:ext cx="2943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Bookman Old Style"/>
              </a:rPr>
              <a:t>Bloedplas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In bloedplasma vele stoffen vervoer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a-eiwitten: te kort &gt; uithongering &gt; problemen uitwisseling stoffen in haarva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ibrinogeen: plasma-eiwit &gt; bloedstol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fwe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143000" y="533520"/>
            <a:ext cx="6781680" cy="642600"/>
          </a:xfrm>
          <a:prstGeom prst="rect">
            <a:avLst/>
          </a:prstGeom>
          <a:solidFill>
            <a:srgbClr val="ff66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fb8cd"/>
                </a:solidFill>
                <a:latin typeface="Times New Roman"/>
              </a:rPr>
              <a:t>Bloedc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7200" y="1828080"/>
            <a:ext cx="76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95% Rode bloedlichaampjes (erythrocy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320" y="2742480"/>
            <a:ext cx="64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0,1% Witte bloedcellen (leucocy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5760" y="5485680"/>
            <a:ext cx="58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% Bloedplaatjes (trombocy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845360" y="3344760"/>
            <a:ext cx="282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ranulocy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ymfocy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onocy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7"/>
          <p:cNvGraphicFramePr/>
          <p:nvPr/>
        </p:nvGraphicFramePr>
        <p:xfrm>
          <a:off x="7689960" y="1828800"/>
          <a:ext cx="91260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9960" y="1828800"/>
                    <a:ext cx="9126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8"/>
          <p:cNvGraphicFramePr/>
          <p:nvPr/>
        </p:nvGraphicFramePr>
        <p:xfrm>
          <a:off x="6934320" y="3200400"/>
          <a:ext cx="151128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3200400"/>
                    <a:ext cx="1511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Group 9"/>
          <p:cNvGrpSpPr/>
          <p:nvPr/>
        </p:nvGrpSpPr>
        <p:grpSpPr>
          <a:xfrm>
            <a:off x="6553080" y="5638680"/>
            <a:ext cx="1676160" cy="766800"/>
            <a:chOff x="6553080" y="5638680"/>
            <a:chExt cx="1676160" cy="766800"/>
          </a:xfrm>
        </p:grpSpPr>
        <p:graphicFrame>
          <p:nvGraphicFramePr>
            <p:cNvPr id="436" name="Object 10"/>
            <p:cNvGraphicFramePr/>
            <p:nvPr/>
          </p:nvGraphicFramePr>
          <p:xfrm>
            <a:off x="6553080" y="5638680"/>
            <a:ext cx="838080" cy="53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7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3080" y="5638680"/>
                      <a:ext cx="83808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Object 11"/>
            <p:cNvGraphicFramePr/>
            <p:nvPr/>
          </p:nvGraphicFramePr>
          <p:xfrm>
            <a:off x="7391160" y="5867280"/>
            <a:ext cx="838080" cy="538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9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91160" y="5867280"/>
                      <a:ext cx="83808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a3a7c0"/>
                </a:solidFill>
                <a:latin typeface="Bookman Old Style"/>
              </a:rPr>
              <a:t>WITTE BLOEDCELLEN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755640" y="1268280"/>
            <a:ext cx="59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533520" y="2040480"/>
            <a:ext cx="80769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rootte: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estal groter dan de r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loedlichaampj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nsduur: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mmige 1 dag, andere ja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zitten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ronde of gelobde k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bben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ronde of zeer wisselvallig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rm.  Bepaalde soorten kunnen zich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 vervormen en zodoende krui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verdeeld in 2/3 deel granulocyten en 1/3 deel lymfocy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5"/>
          <p:cNvGraphicFramePr/>
          <p:nvPr/>
        </p:nvGraphicFramePr>
        <p:xfrm>
          <a:off x="6172200" y="2133720"/>
          <a:ext cx="266688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266688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Granulocyt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In celplasma, kleine korrels (granula) bez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bijdrage algemene weersta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ontsteking: bacteriën onschadelijk maken door </a:t>
            </a:r>
            <a:r>
              <a:rPr b="0" i="1" lang="nl-NL" sz="2600" spc="-1" strike="noStrike">
                <a:solidFill>
                  <a:srgbClr val="000000"/>
                </a:solidFill>
                <a:latin typeface="Gill Sans MT"/>
              </a:rPr>
              <a:t>vreetcellen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(fagocyten). Dit heet fagocytos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Lymfocyt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pecifieke weersta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richt tegen bepaalde bacteriën en virussen = immuniteit. Berust op vorming van antistoffen (antilichamen) als reactie op binnengedrongen antigen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ntigeen: lichaamsvreemde stof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304920" y="304920"/>
            <a:ext cx="8534160" cy="914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Gill Sans MT"/>
              </a:rPr>
              <a:t>BLOEDPLAAT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80880" y="2228040"/>
            <a:ext cx="7010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jn geen echte cellen&gt; brokstukjes van grote cellen uit rode beenmer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rootte: veel kleiner dan andere bloedcel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zitten geen k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bben een bijna ronde vorm. 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angrijke rol bij bloedstolling. Plasma-eiwit Fibrinogeen omgezet in vezelige fibrine. Dit vormt een dicht netwe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Bloedstol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In het draderige netwerk van fibrinedraden blijven bloedcellen hang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lsel (trombus) wordt gevorm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ibrinedraden trekken samen &gt; serum uitgeper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eefselhersel &gt; korst valt eraf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Moehei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% van de gevallen psychisch of sociaa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bijv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Depress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Burn-ou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Problemen relat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Bloedgroep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79280" y="1413000"/>
          <a:ext cx="8785440" cy="5111640"/>
        </p:xfrm>
        <a:graphic>
          <a:graphicData uri="http://schemas.openxmlformats.org/drawingml/2006/table">
            <a:tbl>
              <a:tblPr/>
              <a:tblGrid>
                <a:gridCol w="1987560"/>
                <a:gridCol w="1698840"/>
                <a:gridCol w="1698480"/>
                <a:gridCol w="1700280"/>
                <a:gridCol w="170028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Bloedgro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44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44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44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A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44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Antigenen op rode bloedce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-antig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B-antig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 en B antig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Geen A, geen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Antistoffen in bloedplas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nti-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nti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Geen anti-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Geen anti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nti-B en anti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Kan bloed ontvangen v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 en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B en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, B, AB en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Kan bloed geven 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 en 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B en 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,B, AB en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Moehei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36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% van de gevallen lichamelij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v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Hart- en longziekten (hartfalen, COPD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Reum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Infecties (influenza; m. Pfeiffer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Diabet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Hypothyreoïd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Bloedarmoede (3%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Leukemie, Hodgkin-lymfoom, non-Hodgkin-lymfoo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Moehei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36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Oorzaak opspore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000" spc="-1" strike="noStrike">
                <a:solidFill>
                  <a:srgbClr val="9fb8cd"/>
                </a:solidFill>
                <a:latin typeface="Gill Sans MT"/>
              </a:rPr>
              <a:t>Anamne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9fb8cd"/>
                </a:solidFill>
                <a:latin typeface="Gill Sans MT"/>
              </a:rPr>
              <a:t>	</a:t>
            </a:r>
            <a:r>
              <a:rPr b="0" lang="nl-NL" sz="2000" spc="-1" strike="noStrike">
                <a:solidFill>
                  <a:srgbClr val="9fb8cd"/>
                </a:solidFill>
                <a:latin typeface="Gill Sans MT"/>
              </a:rPr>
              <a:t>Bloedonderzoe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Ziekte van Pfeiff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M. Pfeiffer (oorzaak Epstein Barrviru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80% van de volwassenen heeft antistoffe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Meestal mild beloop: keelpijn, ziek, vergrote klieren, moehei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Soms ernstig beloop: langdurig mo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727ca3"/>
                </a:solidFill>
                <a:latin typeface="Gill Sans MT"/>
              </a:rPr>
              <a:t>Bloedonderzoek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727ca3"/>
                </a:solidFill>
                <a:latin typeface="Gill Sans MT"/>
              </a:rPr>
              <a:t>EBV IgG verminderde afweer immuunsystee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727ca3"/>
                </a:solidFill>
                <a:latin typeface="Gill Sans MT"/>
              </a:rPr>
              <a:t>EBV Ig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72" name="Afbeelding 4" descr="untitled.bmp"/>
          <p:cNvPicPr/>
          <p:nvPr/>
        </p:nvPicPr>
        <p:blipFill>
          <a:blip r:embed="rId1"/>
          <a:stretch/>
        </p:blipFill>
        <p:spPr>
          <a:xfrm>
            <a:off x="6588000" y="3716280"/>
            <a:ext cx="14796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310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464653"/>
                </a:solidFill>
                <a:latin typeface="Gill Sans MT"/>
              </a:rPr>
              <a:t>= Te laag Hb (Hb zit in erytrocyten, bindt O2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Is geen tekort aan bloed, maar aan hemoglobin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Hb: IJzerhoudende eiwitverbinding in erytrocyten, heeft vermogen zuurstof te binde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64653"/>
                </a:solidFill>
                <a:latin typeface="Gill Sans MT"/>
              </a:rPr>
              <a:t>Voor produktie Hb is ijzer, foliumzuur en vit B12nodig.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64653"/>
                </a:solidFill>
                <a:latin typeface="Gill Sans MT"/>
              </a:rPr>
              <a:t>Voor aanmaak van ery’s in beenmerg is vit B12 en foliumzuur (= vit B11) nodi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64653"/>
                </a:solidFill>
                <a:latin typeface="Gill Sans MT"/>
              </a:rPr>
              <a:t>Na afbraak van ery’s wordt Fe (ijzer) uit Hb gerecycled, rest van het Hb wordt afgebroken tot bilirubine (verlaat lichaam via ontlasting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Klachten anemie – alleen bij </a:t>
            </a:r>
            <a:r>
              <a:rPr b="0" lang="nl-NL" sz="2300" spc="-1" strike="noStrike" u="sng">
                <a:solidFill>
                  <a:srgbClr val="464653"/>
                </a:solidFill>
                <a:uFillTx/>
                <a:latin typeface="Gill Sans MT"/>
              </a:rPr>
              <a:t>ernstige</a:t>
            </a: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 an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92ca"/>
                </a:solidFill>
                <a:latin typeface="Gill Sans MT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92ca"/>
                </a:solidFill>
                <a:latin typeface="Gill Sans MT"/>
              </a:rPr>
              <a:t>Duizelighei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92ca"/>
                </a:solidFill>
                <a:latin typeface="Gill Sans MT"/>
              </a:rPr>
              <a:t>Hartklopping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92ca"/>
                </a:solidFill>
                <a:latin typeface="Gill Sans MT"/>
              </a:rPr>
              <a:t>Bleekhei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92ca"/>
                </a:solidFill>
                <a:latin typeface="Gill Sans MT"/>
              </a:rPr>
              <a:t>Kortademigheid bij inspann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92ca"/>
                </a:solidFill>
                <a:latin typeface="Gill Sans MT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Normaalwaarde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Gill Sans MT"/>
              </a:rPr>
              <a:t>Onderzoek          Waarde       Een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Mannen           8,5-11,0      mmol/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Vrouwen           7,5-10       mmol/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Zwangeren       6,8-8,7      mmol/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1-15T11:18:07Z</dcterms:modified>
  <cp:revision>1</cp:revision>
  <dc:subject/>
  <dc:title/>
</cp:coreProperties>
</file>