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B9A-5BA4-4A0C-8035-A9F0C226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49F-A50A-40C3-AD80-8075CE89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7541E-DD5C-4B47-A474-EAD598F2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18EB6-D0B3-401C-B942-C3F00904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1C5DC-0A8F-4D6D-9F91-A884C776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CCD7B-658C-417C-8390-D6C8FB15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937DD-7787-4DDF-9A39-39DD9175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3240F-434B-4F1E-ACE2-51A9FE2D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F6E06-B4CC-43D3-A8AB-E7FD80C1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41C28-434A-4CBF-8F54-9B6CFB73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E9233-3B60-4CE5-9946-2B15373C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F9220-EFF4-4D6C-9CB2-376D5EBB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1F1-E23F-421B-9F12-B56357E0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5FFF9-2A73-4C1D-9480-581258D0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89E97-7FBF-4728-A7E3-E4BED32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F43C7-7A88-461D-8D04-3B771C99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D14BF-B180-42E4-8AB0-F3E048F0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623DD-1C58-4A1C-8325-1A80CD56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9F4DB-5A80-43EE-829E-C1FD444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2679C-9502-47B1-9186-43D569F4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A1404-CD8A-4500-999D-70FF23D1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76A12-B070-4134-83BA-514C926C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FEE1C-D7D5-4B23-80E1-1B333778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877-3666-41EB-AC69-976FE308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33EDE-50C0-4C47-B79D-D0326AE4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7DBEB-CC77-4E97-936D-C65E9E4A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42ACB-396D-436A-A726-244922CF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35EB8-381B-4076-A017-59BE4D26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92168-FE74-40E4-8D51-D401F223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5CD28-DA35-4C10-902D-79A1B819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63422-FA4F-4874-8B83-B623325A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123D0-71C5-431E-BF9F-C7741EE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1B26C-9A69-471C-9E75-E6A8BDC4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1F393-B06F-4076-B71D-7A5727C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BB3B-2925-4E13-B0AE-74928968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B7CEC-9C4F-4A8B-AEA9-8590AEE1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F5ACC-81AD-4115-BABE-A83101AC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CDFA4-9196-41DD-BA64-0189677A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B954B-E231-4276-ACCD-3B9A8F95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690F9-585D-4575-B8ED-C17C17DE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9AD16-0F8C-4EBA-9D4B-3A4D2E85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73194-B030-4D24-B376-85F6C4D6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A4B9C-34A2-4CDA-92CC-D8B8EFE9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FD419-59AB-4255-949D-5A3D7C9D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9E3C3-CD3F-4662-ADF9-D6FAA98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F2D8-A7FB-4EC8-8499-BDF19375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3DBF0-9547-486D-B61C-D2536606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9D61B-4F50-462D-B899-87D00AC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CC3D0-1EE3-4F85-BAA5-7018DE29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04508-04D4-4DC8-B7EC-070758F7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38C69-9340-41C1-B5AB-31ACEE3A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6635-8D45-43E0-8206-2B0E2B02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B272-1EF2-45BA-B820-2B188CBA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D525-E7B9-4C1D-ADD4-8425FF14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ED36-7DD6-451B-9813-9731F7ED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5915-2692-4D38-BA42-1F4717BE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D08-E1E7-46FF-99D5-D04C74E2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05E0-0409-4E64-849D-0CC23F5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9B46-29BD-4EED-84E9-F77A7F96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4448-F681-4AE6-929B-DFC80719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1206-4AA6-48CB-94CE-AA26EE1C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9ED9-CD75-4751-AE2D-3F4DA350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ABB4-FBD1-489C-BF13-4861A209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1E59-8924-452D-80BF-B0389741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42FD-DD0F-429A-B4DC-0BA6894A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B34B-407B-48FC-A12E-7CDCC8D6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D695-E931-4938-AADC-458C0AB3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4D8-15A8-436B-BA7F-AC95F0D3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0236-20AC-478A-B61E-DC137063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176C-D2DB-4EED-AA10-9809A60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8CA24-FA44-471F-94BD-36423B6E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861A-3403-47C8-B821-D4EE47A1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B73CA-077D-4AB7-9BF0-5B60D83B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70D0-65DB-4C70-8D02-9BEAA355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343D-D615-4021-9DAA-0A0ECA19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0A9F3-66A3-425D-8A79-8F87A91B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C8EC6-06BD-4906-B4B0-B6865C16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78308-EBB7-466A-B4B1-3FF2FB6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598-09D6-45B0-BB9C-C180CCD8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6AF7-91E2-487A-AB0D-859BC65B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E5C62-08BA-427B-BCFF-03E7DC3F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3ECF5-051F-4690-A5E8-CA442918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CC00-7506-4EC7-95C1-078AFFB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A674-DE21-4439-9043-38CC650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03B28-836A-4223-B622-24A550B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9F502-D292-41B2-8AF9-439A889F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BE37-845E-4D4A-A54B-E08A2990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9F04-FD21-41C8-8F71-F18F1939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C5455-A530-45FD-B059-6F8BA0E9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7C6-6C7A-4B5A-9124-B6AC6CCB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AE9E0-DB39-46BA-A262-456EBA59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A6290-EB7E-4F7E-A346-DEBE8D91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3C004-09DC-4935-BC63-57C638AA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1F71-710C-4E1B-9883-BFBADB30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8F520-7009-41E2-A57D-5308DDFB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19158-F915-4BB0-BD0C-F981371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918B3-F8B9-4D8A-9A00-A38E875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D75AE-217F-4EA4-BE57-681214A5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C970D-61D1-425D-9CA6-E56003CE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8A9E-B5B3-4DE0-9699-6F168CF4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C57-7B53-467B-A234-EDCAB24B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5884B-3A30-4E6B-9C84-6ACB332E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13AEE-E315-487C-B027-38DC3F0C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A96B-1321-4848-9A22-E44B726D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B9AF7-F307-4EC7-90E1-403B119D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F35EE-D455-4FCD-9FD5-F632C25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17FA8-C61E-47A2-9315-FA5F3236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ED8C6-6EE4-4FAB-B91E-E03CEA3D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55C0-1FEA-4FD8-8059-1454BDB4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0759A-F7E5-4B2E-8266-55376200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7F4A5-D9FF-4693-AD0F-D50C6DB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431-A328-4D97-9ECD-53115B2C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9151C-5FF6-4C4F-8438-94926327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7055D-D8E3-4570-9C72-DF68B56E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6B04A-4893-4FE1-9AE6-E524C768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C980A-E740-4901-B238-A0C78A6F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5914F-38D1-466C-B3BC-F0A0F2C2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14306-1F6B-4E02-BE85-50679B6A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B738C-4BD6-4271-A9B7-410A8000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63981-F7C4-413F-8C62-B3392F02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63BEC-49EC-450A-9C4C-A5704E70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4DA16-C3F6-4124-B7CF-0140C7D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DEC-422F-4A25-B5AC-5D56890D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A6AEA-4F4F-4069-9563-43C840A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DF495-F579-42F2-8ED9-12490F82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CF03-A7A9-4241-B877-C6487898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F9C48-F9CE-42A8-8ED7-D3D5BCE0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96901-9476-4E6C-B4B5-03689582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286AE-9BFC-4CFF-B7AB-AC3DD1E1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D6C54-1C47-4CF2-900E-C78B039E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2A686-D241-4E47-A53C-7F0B69D6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D348C-E662-4B4A-B63D-EB2BB740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F1D11-3469-49C2-A6A3-5DD8F4E4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C61-7806-4C4E-84BD-A5A78C60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01128-983A-4E45-8309-4ED60835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44C6B-8394-45C0-9C5C-C7EE5E90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C9C05-B444-44C0-B008-1FD31A9E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21406-63D9-4D61-B3BC-DF1C58EC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F4B15-28AF-4B50-991B-2E466C0F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55AB9-BC20-4B42-8ED9-02E84602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821DE-8855-4F5D-9C45-70E379E3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E400A-EB65-4430-BD47-16AE3669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ABA72-486B-4627-B277-F788F98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222EE-5351-49EC-9767-55A89D86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F95F-6E97-4623-AFC3-E8385F3FECD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BC90-D6C8-40F3-8874-8A1C36EB031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AF73-7963-40CD-8EA4-69CF2E09DF2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6714-660B-4DA6-B78A-16360A22E97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1EAC-83C9-4889-8EDB-9D4BCDBFD11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22B7-7497-4ECC-8D38-59C4A622861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519C-90E5-4616-A052-6F3AD53E3F8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7617-405B-493F-A70D-7DC237E11A2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A4AB-AD07-425B-8D05-2C7B72BC9CE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DE38-119B-47E1-B068-481758D9DF5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96FA-2AA8-46A1-997F-4EF3EA3556CB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E0B4-DDF4-4712-B460-636EAE613FD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hoolplaten.com/hoesten-t11780.jpg&amp;imgrefurl=http://www.schoolplaten.com/nl-kleurplaat-kleurplaten-foto-hoesten-i11780.html&amp;usg=__cAv-bd-1F8a2IR2us5UjTQ1T1Gg=&amp;h=531&amp;w=750&amp;sz=65&amp;hl=nl&amp;start=7&amp;um=1&amp;tbnid=3l8T0xJfJLH6YM:&amp;tbnh=100&amp;tbnw=141&amp;prev=/images%3Fq%3Dhoesten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neesmiddelen Luchtwege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411120" y="1413000"/>
            <a:ext cx="2773440" cy="20048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4778280" y="1598760"/>
            <a:ext cx="3402000" cy="16333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3"/>
          <a:stretch/>
        </p:blipFill>
        <p:spPr>
          <a:xfrm>
            <a:off x="2195640" y="3706920"/>
            <a:ext cx="1955520" cy="23796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4"/>
          <a:stretch/>
        </p:blipFill>
        <p:spPr>
          <a:xfrm>
            <a:off x="5540400" y="3384720"/>
            <a:ext cx="266364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Georgia"/>
              </a:rPr>
              <a:t>4. Antihistaminica  (cromoglicinezuur, cetirizin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Geen echte hoestmiddel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Voornamelijk in hoestsiropen vanwege hun kalmerend effect (kinderen slapen beter doo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Middelen: promethazi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eorgia"/>
              </a:rPr>
              <a:t>LET OP!: mogelijk betrokken bij wiegendood, dus niet aan kinderen &lt;2jaa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riage 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50560" y="14130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Onschuldige hoest gaat binnen 2-3 weken vanzelf ov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Alarmsignale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Bloed op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Erg ziek ki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anderd hoestpatroon bij chronische hoest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NHG telefoonwijze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Spo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Dringe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RAST t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lergietest om te kijken voor welke allergenen iemand allergisch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de RAST-test wordt de hoeveelheid IgE tegen een bepaald allergeen bepaa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 specifieke allergenen (RAST huisstofmijt, RAST katten etc) wordt bloed afgeno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Peakfl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hoeveelheid lucht die de patiënt maximaal kan uitademe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te meten met een piekstroommeter (l/min) (eenvoudig instrumen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kort en krachtig in het apparaat blaz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delijk goede maat voor de doorgankelijkheid van de luchtwegen (momentopname!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verschil tussen waard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medicijngebruik (reversibiliteit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‘</a:t>
            </a: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s morgens en ‘s avonds (astma: ‘s morgens slechter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46b86"/>
                </a:solidFill>
                <a:latin typeface="Georgia"/>
              </a:rPr>
              <a:t>voor en na lichamelijke inspanning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pirometr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189000"/>
            <a:ext cx="15112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Bronchoscop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onderzoek van de luchtpijp met een bronch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1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T-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= speciaal röntgenonderzoek, computer maakt afbeeldingen van dwarsdoorsneden door het hele lichaam (coupes, plakj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T= computertomograf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6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781360"/>
            <a:ext cx="1751040" cy="1174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longen"/>
          <p:cNvPicPr/>
          <p:nvPr/>
        </p:nvPicPr>
        <p:blipFill>
          <a:blip r:embed="rId3"/>
          <a:stretch/>
        </p:blipFill>
        <p:spPr>
          <a:xfrm>
            <a:off x="6886440" y="47656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Isotopens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v PET s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dioactieve middelen worden toegedie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den zichtbaar in de PET sc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(kleurtje, lich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0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378936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erklarende woordenlij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267920"/>
            <a:ext cx="882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stma: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chronische luchtwegaandoening, piepen, hoesten, kortademigheid, aanvalsgewij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Atopische constitut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allergische aanle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Eosinofili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toename aantal eosinofielen in het blo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RAST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specifieke allergietest, gemeten in het bloed, bepaling specifiek Ig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tbv identificatie van allerge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Dyspnoe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kortademigheid, benauwdhei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eorgia"/>
              </a:rPr>
              <a:t>Vesiculair ademgeruis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= het geluid dat bij het ademhalen word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geproduceerd door gezonde longen (afkomstig uit de fijne longblaasjes)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en met een stethoscoop hoorbaar 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000" y="3790440"/>
            <a:ext cx="82803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Wat is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Hoesten is een reactie op een prikkel in d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keelholte of in de luchtweg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Georgia"/>
              </a:rPr>
              <a:t>Functie van hoesten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verwijderen van stoffen uit de keelholte of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Georgia"/>
              </a:rPr>
              <a:t>luchtwegen die er niet thuishore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5" descr="hoesten-t117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484280"/>
            <a:ext cx="3047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http://t3.gstatic.com/images?q=tbn:ANd9GcTQA1rZxb7bOY5BQRVin8QRffs1sfX264p9B636GLC5Z7nqIjb2XjCf08URHg"/>
          <p:cNvPicPr/>
          <p:nvPr/>
        </p:nvPicPr>
        <p:blipFill>
          <a:blip r:embed="rId1"/>
          <a:stretch/>
        </p:blipFill>
        <p:spPr>
          <a:xfrm>
            <a:off x="2362320" y="1355760"/>
            <a:ext cx="3709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t slij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t-productieve 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rikkelhoest, ontstaat door andere prikke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bijv als bijwerking bij de ACE-remmer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(hartfalen, hoge bloeddruk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cute hoest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onchiolitis, aandoening bij zuigel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piglottit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ringitis subglottica (pseudokroep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 hoesten: oorzak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Langer dan 3 weken hoesten: Oorza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stm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Allergische rhiniti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Postnasal drip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Vergrote neusamand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oken of meerok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COP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Bronchuscarcinoo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Reflux= terugstromend maagzuu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Kortademighei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Hartaandoeninge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r wordt getwijfeld aan de werkzaamhei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aarschijnlijk is er een groot placebo-effect en wordt het mede daarom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niet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vergoed door de ziektekostenverzekera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79280" y="836640"/>
            <a:ext cx="896472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oestprikkeldempende stoff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ooral bij droge, niet-productieve hoes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nderdrukken hoestprikke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Nadeel: kan obstipatie veroorzake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iddelen: codeïne, noscapine, dextromethorfa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Soorten hoestmidd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162828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1. Expectora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Vergemakkelijken het ophoesten van slijm 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ammoniumchloride, succus liquiritiae in Mixtura resolvens FNA, drop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2. Mucolyt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Invloed op de taaiheid van het slijm in de luchtweg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broomhexine (Bisolvon), acetylcysteïne (Fluimucil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3. Emollient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Ter verzachting van de geprikkelde slijmvliezen 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(bewijzen voor de werking ontbreken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646b86"/>
                </a:solidFill>
                <a:latin typeface="Georgia"/>
              </a:rPr>
              <a:t>Middelen: stropen (tijmstroop, althaeastroop)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Uw naam</dc:creator>
  <dc:description/>
  <dc:language>en-US</dc:language>
  <cp:lastModifiedBy>Uw naam</cp:lastModifiedBy>
  <cp:lastPrinted>2016-01-10T15:56:28Z</cp:lastPrinted>
  <dcterms:modified xsi:type="dcterms:W3CDTF">2017-02-08T14:19:22Z</dcterms:modified>
  <cp:revision>58</cp:revision>
  <dc:subject/>
  <dc:title>Slide 1</dc:title>
</cp:coreProperties>
</file>