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20.png" ContentType="image/png"/>
  <Override PartName="/ppt/media/image13.png" ContentType="image/png"/>
  <Override PartName="/ppt/media/image6.jpeg" ContentType="image/jpeg"/>
  <Override PartName="/ppt/media/image23.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2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2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3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9D3D-32E3-4CCD-9256-D53308A916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7E5C-C669-47A6-9636-1F42782A33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0E7C8-29A2-4A56-9D8B-58690F2D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FA4F-1803-4442-9242-C7C2EFC3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87560-9188-4EBE-B927-E7138AF11E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5764D0-C198-4398-852F-81DBC5CE09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5253E9-78BC-4F50-B049-E31E3DA5A8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0B6F3-876D-446C-8078-9FDD456251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204F2-B8F2-4C9F-A91B-ABAB882218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E468C0-E7ED-4C20-8883-583461F9C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55AA4-2EE8-4BEF-B3FC-FE2C359326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865195-97B2-4C7E-A5B4-E7D96F42E4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145C0C-D487-4E5F-B9C4-ACE7BE5A93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4CDA0-8115-401A-A745-B9DA1DE3D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20DC2-F8A6-457D-9639-8781987E6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DBE3A-F2D6-4675-B12F-37A216C4A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CC108-A05A-452F-A6AA-06DD5C894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AA4B3-AC2B-4291-B78B-0910C306C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4A6BD-52B8-4570-92B9-FE926C4DB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7A80-5187-4C25-B01F-C17F5A3D9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F3E0D-4FC6-4F28-8E33-5BDB6BB0E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AA0BA-481F-4416-9F6E-F74C9AE75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6636-79E3-47E9-9575-6DFD2B02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F57D7-21D8-4175-9034-519DDDD0B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647B0-76EF-4BC2-8612-B0C9D49EF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CC14A-19EE-4A16-A8D5-656E3077B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ECDBE-67D6-426A-93E7-C3B28B645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E868B-B24F-4CE2-B3F4-6E46F7251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D183F5-ED29-485C-AC32-9824918B7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50861-0D94-49F2-8D3C-334A343BF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33E87-AA23-4B84-AAC1-410DC2C92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599C9-60D6-409E-BD7C-6615BE3D0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3245F-CC06-4E47-8DA9-9B7D8008D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8B29-C9FE-4599-8F00-EBBD9A78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9F316B-0A59-4A91-94FE-D89DB9567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39981-1C49-4C81-85F7-8EE4354C8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06762-5325-4D03-8A06-39045AA7D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9C379-1DA6-4B51-B11B-33EBA0670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81E53-7C0C-4062-8372-7E33795C0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DF2C11-1552-48D3-8EFF-7BF8217145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E7F631-332B-4A49-927A-7CA4CBFBC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2787D8-68E7-47F2-9FCA-FBBEE2B25E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F0AB8-9828-4504-96DA-4EAC857F9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5A783-AC50-440D-A086-86F17FBA6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03882-B16E-461C-A213-14096C95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338ACF-B997-46E0-8058-936FDCD0E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783FA-FF84-41C9-9A60-025ACFB1B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280CD-B97D-4C45-98D3-47D929C12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97ED8-9F58-4996-9A28-549E2FE32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77144-46A0-4C6C-92D1-5D26D59D3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DD1B3-20F8-48A5-B5E0-6B6ABD44F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151E5-2752-4BEF-B9C7-191F3D734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0D16BE-B193-4EDC-95E3-1B3866A5EE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585CFD-81FD-495D-89C6-367CC53DD5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20B38E-CAF9-44F2-AC3C-20EF77FDD1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D96C1-1FD6-4329-921E-20A31FD57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D92C40-B1AD-460C-B7D1-33944227D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3F49B-2066-442C-9EAD-296EA72B3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E00890-6FBA-4CB0-9389-AC83C213B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A627C-4BA1-4C31-B2CF-7587895B1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555AC-2BD5-4084-B7F9-ACE393F4E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EA89A-4B1E-43CB-B738-942AB17B5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043A8-AA03-48C5-9A1B-9306D2BC6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96E06-3F00-498D-ACF1-E2F5D1F0E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60F34-2D5E-49B2-BC5D-0B8608D93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4435F9-8D15-4AB2-AE51-9CDF191943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0883-D60F-4784-987D-86A707631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E5907-E974-49EB-871E-0410006038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E502B5-9403-4D16-865F-7EF8B7B440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50189B-F1FC-4C20-B871-1360E15AEB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404AD-8DE5-4B50-A79D-050EAE5E0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E7958-9685-40E4-AC65-143ED0D03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C3C16C-F17F-4202-A7FA-09C0B01A3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1C1D3F-C9D5-4BEF-9D98-9FB18061E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1194C-7776-4F52-B398-AA5375143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CD9C3-BF93-4580-98A3-1A76F8AC3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815A0-4A59-4A5A-8D9C-D5D3981DC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9628-D8B7-4866-B7B3-64304B30D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CC148-DCFB-4845-882A-BEFD53E6A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3F20B2-8CC1-4205-B8FA-447391BB5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E7844B-403E-4F99-A2FB-413AF71525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F8C1F7-CE66-4D64-90F0-5B580DFCB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51E7D7-0617-428E-83D5-DEBDE3770B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D0CC8-8FCC-47B0-BC77-F7B9B421F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6E3FD-01F0-482D-837A-4E999B175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D93C77-4B8B-4E2E-91EE-21F7DDD10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B01CB4-A656-4758-8306-9FA6739A49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15145-5A53-4127-8B7F-D5452DAB3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4ED3-E537-474F-988F-7A25CCCB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C3448C-0A8D-41DA-96A2-6709E1083E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E9D28-74C6-4EAE-8A6E-DCD7CE0BA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5F74A0-B113-48FA-A04C-769BE7E27A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38C4D2-A0C1-4671-BCCD-7996451B85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8165B0-7F1A-4163-9088-3A0B367D80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952070-D336-43E3-BAEE-FD316BF353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E64F16-19E9-4C9B-9834-59424E3777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EF95AA-BA68-430F-A155-0443BD5399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0FBD76-8A69-4522-9E51-9ACB2FA756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DE48E-3CB2-42D0-BA3D-CCCA020BA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35C4-C56D-4AE6-BC10-E54C9EC9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B02C74-D692-45A8-B3AD-C2AF90330A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40195-A2BF-4683-8910-17C2551057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D2096-6C47-4844-855A-D8531BEE1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B2EC74-C848-4907-BC49-6BC29B3594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05A3F-6B42-4405-931C-5DF38B192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D3F75B-CC63-4CBC-A3D8-414247CC80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BA9F93-CE9A-448A-B871-DC99D57AF8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971D86-08C5-4680-B121-64581DEC5E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0803F9-82EE-4302-9ECB-38DA866179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B24B0C-4F8C-446E-A597-698677572A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1"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CC0D-DFF6-431C-946E-3C1F51CA268A}" type="datetime">
              <a:rPr b="0" lang="nl-N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319A-048C-4497-A4ED-F49D549EBE6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15"/>
          <p:cNvGrpSpPr/>
          <p:nvPr/>
        </p:nvGrpSpPr>
        <p:grpSpPr>
          <a:xfrm>
            <a:off x="210960" y="1679400"/>
            <a:ext cx="8723520" cy="1330560"/>
            <a:chOff x="210960" y="1679400"/>
            <a:chExt cx="8723520" cy="1330560"/>
          </a:xfrm>
        </p:grpSpPr>
        <p:sp>
          <p:nvSpPr>
            <p:cNvPr id="4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9" name="PlaceHolder 2"/>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57F2-7B5C-4C69-94A9-3F2376507F83}"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0B9E-9578-4E4D-AC82-EDD43581014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Picture 3" descr="A:\minispir.GIF"/>
          <p:cNvPicPr/>
          <p:nvPr/>
        </p:nvPicPr>
        <p:blipFill>
          <a:blip r:embed="rId3"/>
          <a:stretch/>
        </p:blipFill>
        <p:spPr>
          <a:xfrm>
            <a:off x="0" y="50760"/>
            <a:ext cx="1181160" cy="4286160"/>
          </a:xfrm>
          <a:prstGeom prst="rect">
            <a:avLst/>
          </a:prstGeom>
          <a:ln w="0">
            <a:noFill/>
          </a:ln>
        </p:spPr>
      </p:pic>
      <p:sp>
        <p:nvSpPr>
          <p:cNvPr id="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5" descr="A:\minispir.GIF"/>
          <p:cNvPicPr/>
          <p:nvPr/>
        </p:nvPicPr>
        <p:blipFill>
          <a:blip r:embed="rId5"/>
          <a:srcRect l="0" t="40000" r="0" b="0"/>
          <a:stretch/>
        </p:blipFill>
        <p:spPr>
          <a:xfrm>
            <a:off x="0" y="4222800"/>
            <a:ext cx="1181160" cy="2571840"/>
          </a:xfrm>
          <a:prstGeom prst="rect">
            <a:avLst/>
          </a:prstGeom>
          <a:ln w="0">
            <a:noFill/>
          </a:ln>
        </p:spPr>
      </p:pic>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Click to edit the title text format</a:t>
            </a:r>
            <a:endParaRPr b="0" lang="en-US" sz="4400" spc="-1" strike="noStrike">
              <a:solidFill>
                <a:srgbClr val="221304"/>
              </a:solidFill>
              <a:latin typeface="Arial"/>
            </a:endParaRPr>
          </a:p>
        </p:txBody>
      </p:sp>
      <p:sp>
        <p:nvSpPr>
          <p:cNvPr id="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B8AA-718E-4862-BD3B-804E61BEFC71}" type="datetime">
              <a:rPr b="0" lang="nl-N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A7CC-DEE1-4143-9CC9-80CE8396B1C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9"/>
          <p:cNvGrpSpPr/>
          <p:nvPr/>
        </p:nvGrpSpPr>
        <p:grpSpPr>
          <a:xfrm>
            <a:off x="210960" y="5354640"/>
            <a:ext cx="8723520" cy="1330200"/>
            <a:chOff x="210960" y="5354640"/>
            <a:chExt cx="8723520" cy="1330200"/>
          </a:xfrm>
        </p:grpSpPr>
        <p:sp>
          <p:nvSpPr>
            <p:cNvPr id="13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4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43"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DDA4-C89F-4EE6-8E39-D28588FE2126}"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1E2F-517F-4642-8D70-DFA776028E0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9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428E-BE11-4DDD-838B-D338A4AF5AA3}"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19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FBBC-9F58-416E-9006-33A0CEEE86D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Group 5"/>
          <p:cNvGrpSpPr/>
          <p:nvPr/>
        </p:nvGrpSpPr>
        <p:grpSpPr>
          <a:xfrm>
            <a:off x="210960" y="714240"/>
            <a:ext cx="8723520" cy="1330560"/>
            <a:chOff x="210960" y="714240"/>
            <a:chExt cx="8723520" cy="1330560"/>
          </a:xfrm>
        </p:grpSpPr>
        <p:sp>
          <p:nvSpPr>
            <p:cNvPr id="231"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BD64-DA15-4174-9EA4-0E14C3D56989}"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23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EDF4-CBAE-4B7B-979E-E9B5A92A823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23"/>
          <p:cNvGrpSpPr/>
          <p:nvPr/>
        </p:nvGrpSpPr>
        <p:grpSpPr>
          <a:xfrm>
            <a:off x="210960" y="714240"/>
            <a:ext cx="8723520" cy="1332000"/>
            <a:chOff x="210960" y="714240"/>
            <a:chExt cx="8723520" cy="1332000"/>
          </a:xfrm>
        </p:grpSpPr>
        <p:sp>
          <p:nvSpPr>
            <p:cNvPr id="27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8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8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5EBC-2D44-4257-8832-7638D1623E7B}"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F6B4-3886-4101-9C13-60CF1026933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Group 8"/>
          <p:cNvGrpSpPr/>
          <p:nvPr/>
        </p:nvGrpSpPr>
        <p:grpSpPr>
          <a:xfrm>
            <a:off x="210960" y="5354640"/>
            <a:ext cx="8723520" cy="1330200"/>
            <a:chOff x="210960" y="5354640"/>
            <a:chExt cx="8723520" cy="1330200"/>
          </a:xfrm>
        </p:grpSpPr>
        <p:sp>
          <p:nvSpPr>
            <p:cNvPr id="32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3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3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B7AF-F628-4A44-ABC9-59B58D6DAD02}"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33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3C02-4D1D-499F-859E-D1F3AB1A3A2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4" name="Group 14"/>
          <p:cNvGrpSpPr/>
          <p:nvPr/>
        </p:nvGrpSpPr>
        <p:grpSpPr>
          <a:xfrm>
            <a:off x="210960" y="714240"/>
            <a:ext cx="8723520" cy="1332000"/>
            <a:chOff x="210960" y="714240"/>
            <a:chExt cx="8723520" cy="1332000"/>
          </a:xfrm>
        </p:grpSpPr>
        <p:sp>
          <p:nvSpPr>
            <p:cNvPr id="37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8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8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44C8-8D97-4AA8-85EC-D3FB0083CA4C}" type="datetime">
              <a:rPr b="0" lang="nl-NL" sz="1000" spc="-1" strike="noStrike">
                <a:solidFill>
                  <a:srgbClr val="073e87"/>
                </a:solidFill>
                <a:latin typeface="Times New Roman"/>
              </a:rPr>
              <a:t>29-07-26</a:t>
            </a:fld>
            <a:endParaRPr b="0" lang="en-US" sz="1000" spc="-1" strike="noStrike">
              <a:solidFill>
                <a:srgbClr val="000000"/>
              </a:solidFill>
              <a:latin typeface="Times New Roman"/>
            </a:endParaRPr>
          </a:p>
        </p:txBody>
      </p:sp>
      <p:sp>
        <p:nvSpPr>
          <p:cNvPr id="38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81AC-06A3-4E59-BDEE-36E53777330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https://www.google.nl/url?sa=i&amp;rct=j&amp;q=&amp;esrc=s&amp;source=images&amp;cd=&amp;cad=rja&amp;uact=8&amp;ved=0CAcQjRw&amp;url=https%3A%2F%2Fwww.borstvoeding.com%2Fbijvoeding%2Fallergie%2Fvoedsel-1.html&amp;ei=4wJCVcqgH4z9UOeFg9gC&amp;bvm=bv.92189499,d.d24&amp;psig=AFQjCNHrw8ARcXdgjz6EqvJFOEeLB58PKQ&amp;ust=1430475861931983"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0" lang="nl-NL" sz="5900" spc="-1" strike="noStrike">
                <a:solidFill>
                  <a:srgbClr val="ffffff"/>
                </a:solidFill>
                <a:latin typeface="Candara"/>
              </a:rPr>
              <a:t>ALLERGIE</a:t>
            </a:r>
            <a:endParaRPr b="0" lang="en-US" sz="5900" spc="-1" strike="noStrike">
              <a:solidFill>
                <a:srgbClr val="ffffff"/>
              </a:solidFill>
              <a:latin typeface="Candara"/>
            </a:endParaRPr>
          </a:p>
        </p:txBody>
      </p:sp>
      <p:sp>
        <p:nvSpPr>
          <p:cNvPr id="429"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000" spc="-1" strike="noStrike">
              <a:solidFill>
                <a:srgbClr val="ffffff"/>
              </a:solidFill>
              <a:latin typeface="Candara"/>
            </a:endParaRPr>
          </a:p>
        </p:txBody>
      </p:sp>
      <p:sp>
        <p:nvSpPr>
          <p:cNvPr id="430"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8FCA-6992-431C-ABBA-0C8A9176B7E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31" name="Picture 6" descr=""/>
          <p:cNvPicPr/>
          <p:nvPr/>
        </p:nvPicPr>
        <p:blipFill>
          <a:blip r:embed="rId1"/>
          <a:stretch/>
        </p:blipFill>
        <p:spPr>
          <a:xfrm>
            <a:off x="5576760" y="565200"/>
            <a:ext cx="2428920" cy="1820880"/>
          </a:xfrm>
          <a:prstGeom prst="rect">
            <a:avLst/>
          </a:prstGeom>
          <a:ln w="0">
            <a:noFill/>
          </a:ln>
        </p:spPr>
      </p:pic>
      <p:pic>
        <p:nvPicPr>
          <p:cNvPr id="432" name="Picture 8" descr=""/>
          <p:cNvPicPr/>
          <p:nvPr/>
        </p:nvPicPr>
        <p:blipFill>
          <a:blip r:embed="rId2"/>
          <a:stretch/>
        </p:blipFill>
        <p:spPr>
          <a:xfrm>
            <a:off x="1116000" y="565200"/>
            <a:ext cx="2160720" cy="1820880"/>
          </a:xfrm>
          <a:prstGeom prst="rect">
            <a:avLst/>
          </a:prstGeom>
          <a:ln w="0">
            <a:noFill/>
          </a:ln>
        </p:spPr>
      </p:pic>
      <p:pic>
        <p:nvPicPr>
          <p:cNvPr id="433" name="Picture 10" descr=""/>
          <p:cNvPicPr/>
          <p:nvPr/>
        </p:nvPicPr>
        <p:blipFill>
          <a:blip r:embed="rId3"/>
          <a:stretch/>
        </p:blipFill>
        <p:spPr>
          <a:xfrm>
            <a:off x="1116000" y="3357720"/>
            <a:ext cx="688968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871560" y="2674440"/>
            <a:ext cx="7408800" cy="3451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ijding van de bloedvaten &gt; zeer lage bloeddruk</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ctische shock</a:t>
            </a:r>
            <a:endParaRPr b="0" lang="en-US" sz="4400" spc="-1" strike="noStrike">
              <a:solidFill>
                <a:srgbClr val="ffffff"/>
              </a:solidFill>
              <a:latin typeface="Candara"/>
            </a:endParaRPr>
          </a:p>
        </p:txBody>
      </p:sp>
      <p:pic>
        <p:nvPicPr>
          <p:cNvPr id="468" name="Picture 2" descr=""/>
          <p:cNvPicPr/>
          <p:nvPr/>
        </p:nvPicPr>
        <p:blipFill>
          <a:blip r:embed="rId1"/>
          <a:stretch/>
        </p:blipFill>
        <p:spPr>
          <a:xfrm>
            <a:off x="1476360" y="1623960"/>
            <a:ext cx="5399280" cy="3708360"/>
          </a:xfrm>
          <a:prstGeom prst="rect">
            <a:avLst/>
          </a:prstGeom>
          <a:ln w="0">
            <a:noFill/>
          </a:ln>
        </p:spPr>
      </p:pic>
      <p:sp>
        <p:nvSpPr>
          <p:cNvPr id="46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B190-56F4-4A26-B592-1A587CDFE38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0" name="Picture 3" descr=""/>
          <p:cNvPicPr/>
          <p:nvPr/>
        </p:nvPicPr>
        <p:blipFill>
          <a:blip r:embed="rId2"/>
          <a:stretch/>
        </p:blipFill>
        <p:spPr>
          <a:xfrm>
            <a:off x="2502000" y="6060960"/>
            <a:ext cx="334332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anafylaxie</a:t>
            </a:r>
            <a:endParaRPr b="0" lang="en-US" sz="4400" spc="-1" strike="noStrike">
              <a:solidFill>
                <a:srgbClr val="ffffff"/>
              </a:solidFill>
              <a:latin typeface="Candara"/>
            </a:endParaRPr>
          </a:p>
        </p:txBody>
      </p:sp>
      <p:sp>
        <p:nvSpPr>
          <p:cNvPr id="47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E8D8-132A-4B31-93B1-3AA4C064C8A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pic>
        <p:nvPicPr>
          <p:cNvPr id="473" name="Picture 5" descr="http://www.allergiebehandelen.nl/sites/allergiebehandelen.nl/files/3%20balken.jpg"/>
          <p:cNvPicPr/>
          <p:nvPr/>
        </p:nvPicPr>
        <p:blipFill>
          <a:blip r:embed="rId1"/>
          <a:stretch/>
        </p:blipFill>
        <p:spPr>
          <a:xfrm>
            <a:off x="826920" y="1484280"/>
            <a:ext cx="7589880" cy="5257800"/>
          </a:xfrm>
          <a:prstGeom prst="rect">
            <a:avLst/>
          </a:prstGeom>
          <a:ln w="0">
            <a:noFill/>
          </a:ln>
        </p:spPr>
      </p:pic>
      <p:sp>
        <p:nvSpPr>
          <p:cNvPr id="474" name=""/>
          <p:cNvSpPr txBox="1"/>
          <p:nvPr/>
        </p:nvSpPr>
        <p:spPr>
          <a:xfrm>
            <a:off x="871560" y="2565360"/>
            <a:ext cx="7732800" cy="42926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rect handelen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drenaline (epinefrine) in een spier toedien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www.epipen.nl/anafylaxie/instructiefil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youtu.be/s0xiSqMdgd8</a:t>
            </a:r>
            <a:endParaRPr b="0" lang="en-US" sz="2400" spc="-1" strike="noStrike">
              <a:solidFill>
                <a:srgbClr val="073e87"/>
              </a:solidFill>
              <a:latin typeface="Candara"/>
            </a:endParaRPr>
          </a:p>
        </p:txBody>
      </p:sp>
      <p:sp>
        <p:nvSpPr>
          <p:cNvPr id="4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Behandeling anafylactische shock</a:t>
            </a:r>
            <a:endParaRPr b="0" lang="en-US" sz="4400" spc="-1" strike="noStrike">
              <a:solidFill>
                <a:srgbClr val="ffffff"/>
              </a:solidFill>
              <a:latin typeface="Candara"/>
            </a:endParaRPr>
          </a:p>
        </p:txBody>
      </p:sp>
      <p:pic>
        <p:nvPicPr>
          <p:cNvPr id="477" name="Picture 2" descr="http://ts1.mm.bing.net/th?&amp;id=JN.ksQSDeU11%2bNB8KJV9xdH1A&amp;w=300&amp;h=300&amp;c=0&amp;pid=1.9&amp;rs=0&amp;p=0"/>
          <p:cNvPicPr/>
          <p:nvPr/>
        </p:nvPicPr>
        <p:blipFill>
          <a:blip r:embed="rId1"/>
          <a:stretch/>
        </p:blipFill>
        <p:spPr>
          <a:xfrm>
            <a:off x="6499080" y="4508640"/>
            <a:ext cx="1905120" cy="1904760"/>
          </a:xfrm>
          <a:prstGeom prst="rect">
            <a:avLst/>
          </a:prstGeom>
          <a:ln w="0">
            <a:noFill/>
          </a:ln>
        </p:spPr>
      </p:pic>
      <p:pic>
        <p:nvPicPr>
          <p:cNvPr id="478" name="Picture 4" descr="http://ts1.mm.bing.net/th?&amp;id=JN.QRxg7tzPuAvdoTzTDdEgWA&amp;w=300&amp;h=300&amp;c=0&amp;pid=1.9&amp;rs=0&amp;p=0"/>
          <p:cNvPicPr/>
          <p:nvPr/>
        </p:nvPicPr>
        <p:blipFill>
          <a:blip r:embed="rId2"/>
          <a:stretch/>
        </p:blipFill>
        <p:spPr>
          <a:xfrm>
            <a:off x="6372360" y="1413000"/>
            <a:ext cx="2160360" cy="1620720"/>
          </a:xfrm>
          <a:prstGeom prst="rect">
            <a:avLst/>
          </a:prstGeom>
          <a:ln w="0">
            <a:noFill/>
          </a:ln>
        </p:spPr>
      </p:pic>
      <p:sp>
        <p:nvSpPr>
          <p:cNvPr id="47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64B2-00D7-47AC-BC12-C8C848C3006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t op! Het is belangrijk om anafylaxie niet te verwarren met reacties die gelijksoortige symptomen kunnen hebben, zoals hyperventilatie, angstaanval, alcoholvergiftiging of een lage bloedsuiker. Je (huis)arts zal je vertellen op welke mogelijke symptomen je moet letten bij jouw allergie</a:t>
            </a:r>
            <a:endParaRPr b="0" lang="en-US" sz="2400" spc="-1" strike="noStrike">
              <a:solidFill>
                <a:srgbClr val="073e87"/>
              </a:solidFill>
              <a:latin typeface="Candara"/>
            </a:endParaRPr>
          </a:p>
        </p:txBody>
      </p:sp>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afyaxie niet verwarren met</a:t>
            </a:r>
            <a:endParaRPr b="0" lang="en-US" sz="4400" spc="-1" strike="noStrike">
              <a:solidFill>
                <a:srgbClr val="ffffff"/>
              </a:solidFill>
              <a:latin typeface="Candara"/>
            </a:endParaRPr>
          </a:p>
        </p:txBody>
      </p:sp>
      <p:sp>
        <p:nvSpPr>
          <p:cNvPr id="48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7E4A-8B31-4CA8-8DDE-FBF70DA2CC8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stofmijt</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Stuifmeel </a:t>
            </a:r>
            <a:r>
              <a:rPr b="0" lang="nl-NL" sz="1900" spc="-1" strike="noStrike">
                <a:solidFill>
                  <a:srgbClr val="073e87"/>
                </a:solidFill>
                <a:latin typeface="Candara"/>
              </a:rPr>
              <a:t>(boom- en graspollen): </a:t>
            </a:r>
            <a:endParaRPr b="0" lang="en-US" sz="19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ooikoorts </a:t>
            </a:r>
            <a:r>
              <a:rPr b="0" lang="nl-NL" sz="1900" spc="-1" strike="noStrike">
                <a:solidFill>
                  <a:srgbClr val="073e87"/>
                </a:solidFill>
                <a:latin typeface="Candara"/>
              </a:rPr>
              <a:t>(conjunctivitis en rhiniti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Huisdieren </a:t>
            </a:r>
            <a:endParaRPr b="0" lang="en-US" sz="2600" spc="-1" strike="noStrike">
              <a:solidFill>
                <a:srgbClr val="073e87"/>
              </a:solidFill>
              <a:latin typeface="Candara"/>
            </a:endParaRPr>
          </a:p>
          <a:p>
            <a:pPr marL="264600" indent="-264600">
              <a:lnSpc>
                <a:spcPct val="9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Voedsel (</a:t>
            </a:r>
            <a:r>
              <a:rPr b="0" lang="nl-NL" sz="1900" spc="-1" strike="noStrike">
                <a:solidFill>
                  <a:srgbClr val="073e87"/>
                </a:solidFill>
                <a:latin typeface="Candara"/>
              </a:rPr>
              <a:t>koemelk, ei, noten, chocola, vis, varkensvlees, pinda’s)</a:t>
            </a:r>
            <a:endParaRPr b="0" lang="en-US" sz="19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Bijen en wespen </a:t>
            </a:r>
            <a:endParaRPr b="0" lang="en-US" sz="2600" spc="-1" strike="noStrike">
              <a:solidFill>
                <a:srgbClr val="073e87"/>
              </a:solidFill>
              <a:latin typeface="Candara"/>
            </a:endParaRPr>
          </a:p>
          <a:p>
            <a:pPr marL="264600" indent="-264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73e87"/>
                </a:solidFill>
                <a:latin typeface="Candara"/>
              </a:rPr>
              <a:t>Geneesmiddelen </a:t>
            </a:r>
            <a:r>
              <a:rPr b="0" lang="nl-NL" sz="1900" spc="-1" strike="noStrike">
                <a:solidFill>
                  <a:srgbClr val="073e87"/>
                </a:solidFill>
                <a:latin typeface="Candara"/>
              </a:rPr>
              <a:t>(penicilline-afgeleiden; antibiotica; acetylsalicylzuur) </a:t>
            </a:r>
            <a:r>
              <a:rPr b="0" lang="nl-NL" sz="2000" spc="-1" strike="noStrike">
                <a:solidFill>
                  <a:srgbClr val="073e87"/>
                </a:solidFill>
                <a:latin typeface="Candara"/>
              </a:rPr>
              <a:t>Wees alert bij (herhalings-)receptuur</a:t>
            </a:r>
            <a:endParaRPr b="0" lang="en-US" sz="2000" spc="-1" strike="noStrike">
              <a:solidFill>
                <a:srgbClr val="073e87"/>
              </a:solidFill>
              <a:latin typeface="Candara"/>
            </a:endParaRPr>
          </a:p>
          <a:p>
            <a:pPr marL="264600" indent="-264600">
              <a:lnSpc>
                <a:spcPct val="90000"/>
              </a:lnSpc>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84" name="PlaceHolder 1"/>
          <p:cNvSpPr>
            <a:spLocks noGrp="1"/>
          </p:cNvSpPr>
          <p:nvPr>
            <p:ph type="title"/>
          </p:nvPr>
        </p:nvSpPr>
        <p:spPr>
          <a:xfrm>
            <a:off x="611280" y="25992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llergenen </a:t>
            </a:r>
            <a:r>
              <a:rPr b="0" lang="nl-NL" sz="2000" spc="-1" strike="noStrike">
                <a:solidFill>
                  <a:srgbClr val="ffffff"/>
                </a:solidFill>
                <a:latin typeface="Candara"/>
              </a:rPr>
              <a:t>(stofjes die een allergische reactie uitlokken)</a:t>
            </a:r>
            <a:br>
              <a:rPr sz="2000"/>
            </a:br>
            <a:endParaRPr b="0" lang="en-US" sz="2000" spc="-1" strike="noStrike">
              <a:solidFill>
                <a:srgbClr val="ffffff"/>
              </a:solidFill>
              <a:latin typeface="Candara"/>
            </a:endParaRPr>
          </a:p>
        </p:txBody>
      </p:sp>
      <p:sp>
        <p:nvSpPr>
          <p:cNvPr id="48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6E89-2DBF-420F-9AC3-F207E19F428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83">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83">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act met huid, alleen last van huid</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ertraagde allergie</a:t>
            </a:r>
            <a:endParaRPr b="0" lang="en-US" sz="28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Twee dagen ‘vertraging’  contacteczeem. Blijft tot d ehuid beperkt . Niet erfelijk (geen atopie)</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nikkel,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cosmetica,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Geneesmiddelen (in zalfjes, druppels) </a:t>
            </a:r>
            <a:endParaRPr b="0" lang="en-US" sz="2000" spc="-1" strike="noStrike">
              <a:solidFill>
                <a:srgbClr val="073e87"/>
              </a:solidFill>
              <a:latin typeface="Candara"/>
            </a:endParaRPr>
          </a:p>
          <a:p>
            <a:pPr lvl="1" marL="576360" indent="-27324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73e87"/>
                </a:solidFill>
                <a:latin typeface="Candara"/>
              </a:rPr>
              <a:t>Latex (steriele handschoenen , condooms)</a:t>
            </a:r>
            <a:endParaRPr b="0" lang="en-US" sz="2000" spc="-1" strike="noStrike">
              <a:solidFill>
                <a:srgbClr val="073e87"/>
              </a:solidFill>
              <a:latin typeface="Candara"/>
            </a:endParaRPr>
          </a:p>
        </p:txBody>
      </p:sp>
      <p:sp>
        <p:nvSpPr>
          <p:cNvPr id="487" name="PlaceHolder 1"/>
          <p:cNvSpPr>
            <a:spLocks noGrp="1"/>
          </p:cNvSpPr>
          <p:nvPr>
            <p:ph type="title"/>
          </p:nvPr>
        </p:nvSpPr>
        <p:spPr>
          <a:xfrm>
            <a:off x="457200" y="404640"/>
            <a:ext cx="8229600" cy="18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Contactallergenen</a:t>
            </a:r>
            <a:br>
              <a:rPr sz="4300"/>
            </a:br>
            <a:r>
              <a:rPr b="0" lang="nl-NL" sz="4000" spc="-1" strike="noStrike">
                <a:solidFill>
                  <a:srgbClr val="ffffff"/>
                </a:solidFill>
                <a:latin typeface="Candara"/>
              </a:rPr>
              <a:t>Type IV-allergie; vertraagde allergie</a:t>
            </a:r>
            <a:br>
              <a:rPr sz="4000"/>
            </a:br>
            <a:endParaRPr b="0" lang="en-US" sz="4000" spc="-1" strike="noStrike">
              <a:solidFill>
                <a:srgbClr val="ffffff"/>
              </a:solidFill>
              <a:latin typeface="Candara"/>
            </a:endParaRPr>
          </a:p>
        </p:txBody>
      </p:sp>
      <p:sp>
        <p:nvSpPr>
          <p:cNvPr id="488"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E123-BD3A-4521-AD65-33C4C6D48B8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5" descr="allergie_soorten_contact"/>
          <p:cNvPicPr/>
          <p:nvPr/>
        </p:nvPicPr>
        <p:blipFill>
          <a:blip r:embed="rId1"/>
          <a:stretch/>
        </p:blipFill>
        <p:spPr>
          <a:xfrm>
            <a:off x="1908000" y="1700280"/>
            <a:ext cx="1513080" cy="992160"/>
          </a:xfrm>
          <a:prstGeom prst="rect">
            <a:avLst/>
          </a:prstGeom>
          <a:ln w="0">
            <a:noFill/>
          </a:ln>
        </p:spPr>
      </p:pic>
      <p:pic>
        <p:nvPicPr>
          <p:cNvPr id="490" name="Picture 8" descr="latexallergie_contacturticaria"/>
          <p:cNvPicPr/>
          <p:nvPr/>
        </p:nvPicPr>
        <p:blipFill>
          <a:blip r:embed="rId2"/>
          <a:stretch/>
        </p:blipFill>
        <p:spPr>
          <a:xfrm>
            <a:off x="2484360" y="3860640"/>
            <a:ext cx="2774880" cy="1694160"/>
          </a:xfrm>
          <a:prstGeom prst="rect">
            <a:avLst/>
          </a:prstGeom>
          <a:ln w="0">
            <a:noFill/>
          </a:ln>
        </p:spPr>
      </p:pic>
      <p:pic>
        <p:nvPicPr>
          <p:cNvPr id="491" name="Picture 26" descr="contact%20eczeem"/>
          <p:cNvPicPr/>
          <p:nvPr/>
        </p:nvPicPr>
        <p:blipFill>
          <a:blip r:embed="rId3"/>
          <a:stretch/>
        </p:blipFill>
        <p:spPr>
          <a:xfrm>
            <a:off x="5364000" y="1916280"/>
            <a:ext cx="1810080" cy="1133280"/>
          </a:xfrm>
          <a:prstGeom prst="rect">
            <a:avLst/>
          </a:prstGeom>
          <a:ln w="0">
            <a:noFill/>
          </a:ln>
        </p:spPr>
      </p:pic>
      <p:sp>
        <p:nvSpPr>
          <p:cNvPr id="49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731D-562F-4501-A7C9-6D2D5A3C546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1042560" y="1557000"/>
            <a:ext cx="7620120" cy="5543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loedonderzoek</a:t>
            </a:r>
            <a:endParaRPr b="0" lang="en-US" sz="3000" spc="-1" strike="noStrike">
              <a:solidFill>
                <a:srgbClr val="073e87"/>
              </a:solidFill>
              <a:latin typeface="Candar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hadiatop (wel of geen antistoffen tegen de bekendste allergen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AST (welke soorten antistof (IgE) in het bloed zitten</a:t>
            </a:r>
            <a:endParaRPr b="0" lang="en-US" sz="2200" spc="-1" strike="noStrike">
              <a:solidFill>
                <a:srgbClr val="073e87"/>
              </a:solidFill>
              <a:latin typeface="Candara"/>
            </a:endParaRPr>
          </a:p>
          <a:p>
            <a:pPr lvl="1" marL="576360" indent="-27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1600" spc="-1" strike="noStrike">
                <a:solidFill>
                  <a:srgbClr val="073e87"/>
                </a:solidFill>
                <a:latin typeface="Candara"/>
              </a:rPr>
              <a:t>(Rast test is nauwkeuriger vergeleken met de Phadiatop)</a:t>
            </a:r>
            <a:endParaRPr b="0" lang="en-US" sz="1600" spc="-1" strike="noStrike">
              <a:solidFill>
                <a:srgbClr val="073e87"/>
              </a:solidFill>
              <a:latin typeface="Candara"/>
            </a:endParaRPr>
          </a:p>
          <a:p>
            <a:pPr lvl="1" marL="576360" indent="-273240">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49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Onderzoek bij allergie</a:t>
            </a:r>
            <a:br>
              <a:rPr sz="4300"/>
            </a:br>
            <a:endParaRPr b="0" lang="en-US" sz="4300" spc="-1" strike="noStrike">
              <a:solidFill>
                <a:srgbClr val="ffffff"/>
              </a:solidFill>
              <a:latin typeface="Candara"/>
            </a:endParaRPr>
          </a:p>
        </p:txBody>
      </p:sp>
      <p:sp>
        <p:nvSpPr>
          <p:cNvPr id="49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634A-1CC5-4E1E-9A7B-E9FE0CF0BCF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493">
                                            <p:txEl>
                                              <p:pRg st="1" end="1"/>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493">
                                            <p:txEl>
                                              <p:pRg st="3" end="3"/>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493">
                                            <p:txEl>
                                              <p:pRg st="5" end="5"/>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priktest</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Inspuiten van allergen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Reactie door kwaddel </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pic>
        <p:nvPicPr>
          <p:cNvPr id="498" name="Picture 3" descr=""/>
          <p:cNvPicPr/>
          <p:nvPr/>
        </p:nvPicPr>
        <p:blipFill>
          <a:blip r:embed="rId1"/>
          <a:stretch/>
        </p:blipFill>
        <p:spPr>
          <a:xfrm>
            <a:off x="5502240" y="1646280"/>
            <a:ext cx="2736720" cy="2057400"/>
          </a:xfrm>
          <a:prstGeom prst="rect">
            <a:avLst/>
          </a:prstGeom>
          <a:ln w="0">
            <a:noFill/>
          </a:ln>
        </p:spPr>
      </p:pic>
      <p:pic>
        <p:nvPicPr>
          <p:cNvPr id="499" name="Picture 6" descr=""/>
          <p:cNvPicPr/>
          <p:nvPr/>
        </p:nvPicPr>
        <p:blipFill>
          <a:blip r:embed="rId2"/>
          <a:stretch/>
        </p:blipFill>
        <p:spPr>
          <a:xfrm>
            <a:off x="4510080" y="3860640"/>
            <a:ext cx="3795840" cy="2849760"/>
          </a:xfrm>
          <a:prstGeom prst="rect">
            <a:avLst/>
          </a:prstGeom>
          <a:ln w="0">
            <a:noFill/>
          </a:ln>
        </p:spPr>
      </p:pic>
      <p:sp>
        <p:nvSpPr>
          <p:cNvPr id="500"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10A8-50B8-41A8-B026-FE9844CC3F4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871560" y="2674440"/>
            <a:ext cx="7408800" cy="345132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Provocatieonderzoek</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Direct extra contact met allerge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3000" spc="-1" strike="noStrike">
                <a:solidFill>
                  <a:srgbClr val="073e87"/>
                </a:solidFill>
                <a:latin typeface="Candara"/>
              </a:rPr>
              <a:t>Plakproef (lapjesproef)</a:t>
            </a:r>
            <a:endParaRPr b="0" lang="en-US" sz="30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leister met contactallergee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nderzoek bij allergie</a:t>
            </a:r>
            <a:endParaRPr b="0" lang="en-US" sz="4400" spc="-1" strike="noStrike">
              <a:solidFill>
                <a:srgbClr val="ffffff"/>
              </a:solidFill>
              <a:latin typeface="Candara"/>
            </a:endParaRPr>
          </a:p>
        </p:txBody>
      </p:sp>
      <p:sp>
        <p:nvSpPr>
          <p:cNvPr id="50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1A99-4698-4359-8F05-C42F620EEDB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1844280"/>
            <a:ext cx="7408800" cy="4281480"/>
          </a:xfrm>
          <a:prstGeom prst="rect">
            <a:avLst/>
          </a:prstGeom>
          <a:noFill/>
          <a:ln w="0">
            <a:noFill/>
          </a:ln>
        </p:spPr>
        <p:txBody>
          <a:bodyPr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ie</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Abnormale reactie van het lichaam op bepaalde prikkel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waarbij het afweersysteem betrokken is.</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Bijzondere soort antistoffen gevormd. De stoffen die de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a:t>
            </a:r>
            <a:r>
              <a:rPr b="0" lang="nl-NL" sz="2200" spc="-1" strike="noStrike">
                <a:solidFill>
                  <a:srgbClr val="073e87"/>
                </a:solidFill>
                <a:latin typeface="Candara"/>
              </a:rPr>
              <a:t>prikkels veroorzaken worden allergenen genoemd.</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73e87"/>
                </a:solidFill>
                <a:latin typeface="Candara"/>
              </a:rPr>
              <a:t>Allergeen</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Stoffen die een overgevoeligheidsreactie oproepen bij mensen met een allergische aanleg. </a:t>
            </a: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Prikkel die allergie veroorzaakt; normaal is die prikkel niet schadelijk (onterecht) </a:t>
            </a:r>
            <a:r>
              <a:rPr b="0" lang="nl-NL" sz="2800" spc="-1" strike="noStrike">
                <a:solidFill>
                  <a:srgbClr val="073e87"/>
                </a:solidFill>
                <a:latin typeface="Candara"/>
              </a:rPr>
              <a:t>   </a:t>
            </a:r>
            <a:endParaRPr b="0" lang="en-US" sz="28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llergie</a:t>
            </a:r>
            <a:endParaRPr b="0" lang="en-US" sz="4400" spc="-1" strike="noStrike">
              <a:solidFill>
                <a:srgbClr val="ffffff"/>
              </a:solidFill>
              <a:latin typeface="Candara"/>
            </a:endParaRPr>
          </a:p>
        </p:txBody>
      </p:sp>
      <p:sp>
        <p:nvSpPr>
          <p:cNvPr id="436"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698E-B83C-41C8-81D5-73637233F86B}"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871560" y="2674440"/>
            <a:ext cx="7408800" cy="3451320"/>
          </a:xfrm>
          <a:prstGeom prst="rect">
            <a:avLst/>
          </a:prstGeom>
          <a:noFill/>
          <a:ln w="0">
            <a:noFill/>
          </a:ln>
        </p:spPr>
        <p:txBody>
          <a:bodyPr anchor="t">
            <a:normAutofit fontScale="99000"/>
          </a:bodyPr>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orkomen is beter dan genez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Saneren</a:t>
            </a:r>
            <a:endParaRPr b="0" lang="en-US" sz="3000" spc="-1" strike="noStrike">
              <a:solidFill>
                <a:srgbClr val="073e87"/>
              </a:solidFill>
              <a:latin typeface="Candara"/>
            </a:endParaRPr>
          </a:p>
          <a:p>
            <a:pPr marL="270000" indent="-27000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dicijnen</a:t>
            </a:r>
            <a:endParaRPr b="0" lang="en-US" sz="3000" spc="-1" strike="noStrike">
              <a:solidFill>
                <a:srgbClr val="073e87"/>
              </a:solidFill>
              <a:latin typeface="Candara"/>
            </a:endParaRPr>
          </a:p>
          <a:p>
            <a:pPr marL="270000" indent="-27000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Desensibilisatie </a:t>
            </a:r>
            <a:r>
              <a:rPr b="0" lang="nl-NL" sz="2000" spc="-1" strike="noStrike">
                <a:solidFill>
                  <a:srgbClr val="073e87"/>
                </a:solidFill>
                <a:latin typeface="Candara"/>
              </a:rPr>
              <a:t>(opheffen van sensibilisatie) = immunotherapie (hyposensibilisatie) ; inspuiten van een beetje allergeen; langzaam ophogen; afweersysteem er aam laten wennen)</a:t>
            </a:r>
            <a:endParaRPr b="0" lang="en-US" sz="2000" spc="-1" strike="noStrike">
              <a:solidFill>
                <a:srgbClr val="073e87"/>
              </a:solidFill>
              <a:latin typeface="Candara"/>
            </a:endParaRPr>
          </a:p>
          <a:p>
            <a:pPr lvl="1" marL="570240" indent="-27036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73e87"/>
                </a:solidFill>
                <a:latin typeface="Candara"/>
              </a:rPr>
              <a:t>Toepassing: ernstige hooikoorts; allergie voor bijen en wespen</a:t>
            </a:r>
            <a:endParaRPr b="0" lang="en-US" sz="1800" spc="-1" strike="noStrike">
              <a:solidFill>
                <a:srgbClr val="073e87"/>
              </a:solidFill>
              <a:latin typeface="Candara"/>
            </a:endParaRPr>
          </a:p>
          <a:p>
            <a:pPr marL="270000" indent="-27000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Maatregelen</a:t>
            </a:r>
            <a:endParaRPr b="0" lang="en-US" sz="4800" spc="-1" strike="noStrike">
              <a:solidFill>
                <a:srgbClr val="ffffff"/>
              </a:solidFill>
              <a:latin typeface="Candara"/>
            </a:endParaRPr>
          </a:p>
        </p:txBody>
      </p:sp>
      <p:sp>
        <p:nvSpPr>
          <p:cNvPr id="506"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FF76-54D4-42A1-A675-86B3F7C3164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tihistamine:  effecten onderdrukken van de uit de mestcellen vrijgekomen histamine</a:t>
            </a:r>
            <a:endParaRPr b="0" lang="en-US" sz="2400" spc="-1" strike="noStrike">
              <a:solidFill>
                <a:srgbClr val="073e87"/>
              </a:solidFill>
              <a:latin typeface="Candara"/>
            </a:endParaRPr>
          </a:p>
        </p:txBody>
      </p:sp>
      <p:sp>
        <p:nvSpPr>
          <p:cNvPr id="50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dicijnen</a:t>
            </a:r>
            <a:endParaRPr b="0" lang="en-US" sz="4400" spc="-1" strike="noStrike">
              <a:solidFill>
                <a:srgbClr val="ffffff"/>
              </a:solidFill>
              <a:latin typeface="Candara"/>
            </a:endParaRPr>
          </a:p>
        </p:txBody>
      </p:sp>
      <p:pic>
        <p:nvPicPr>
          <p:cNvPr id="509" name="Picture 2" descr="http://upload.wikimedia.org/wikipedia/commons/7/79/Antihistamine.jpg"/>
          <p:cNvPicPr/>
          <p:nvPr/>
        </p:nvPicPr>
        <p:blipFill>
          <a:blip r:embed="rId1"/>
          <a:stretch/>
        </p:blipFill>
        <p:spPr>
          <a:xfrm>
            <a:off x="1042920" y="3789360"/>
            <a:ext cx="4392720" cy="2629080"/>
          </a:xfrm>
          <a:prstGeom prst="rect">
            <a:avLst/>
          </a:prstGeom>
          <a:ln w="0">
            <a:noFill/>
          </a:ln>
        </p:spPr>
      </p:pic>
      <p:sp>
        <p:nvSpPr>
          <p:cNvPr id="510"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BB39-0385-47AD-BBB7-CC12CDBA469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is een </a:t>
            </a:r>
            <a:r>
              <a:rPr b="1" lang="nl-NL" sz="2400" spc="-1" strike="noStrike">
                <a:solidFill>
                  <a:srgbClr val="073e87"/>
                </a:solidFill>
                <a:latin typeface="Candara"/>
              </a:rPr>
              <a:t>anti-allergiemedicijn</a:t>
            </a:r>
            <a:r>
              <a:rPr b="0" lang="nl-NL" sz="2400" spc="-1" strike="noStrike">
                <a:solidFill>
                  <a:srgbClr val="073e87"/>
                </a:solidFill>
                <a:latin typeface="Candara"/>
              </a:rPr>
              <a:t>.</a:t>
            </a:r>
            <a:br>
              <a:rPr sz="2400"/>
            </a:br>
            <a:br>
              <a:rPr sz="2400"/>
            </a:br>
            <a:r>
              <a:rPr b="0" lang="nl-NL" sz="2400" spc="-1" strike="noStrike">
                <a:solidFill>
                  <a:srgbClr val="073e87"/>
                </a:solidFill>
                <a:latin typeface="Candara"/>
              </a:rPr>
              <a:t>Het wordt gebruikt bij verschillende vormen van allergie, zoals hooikoorts, langdurig ontstoken neusslijmvlies, ontstoken ogen door allergie, netelroos en jeuk</a:t>
            </a:r>
            <a:endParaRPr b="0" lang="en-US" sz="24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ntihistaminicum</a:t>
            </a:r>
            <a:endParaRPr b="0" lang="en-US" sz="4400" spc="-1" strike="noStrike">
              <a:solidFill>
                <a:srgbClr val="ffffff"/>
              </a:solidFill>
              <a:latin typeface="Candara"/>
            </a:endParaRPr>
          </a:p>
        </p:txBody>
      </p:sp>
      <p:sp>
        <p:nvSpPr>
          <p:cNvPr id="513" name="Tijdelijke aanduiding voor dianummer 4"/>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AD9D-8226-4BA3-8E14-6E01363DADD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871560" y="2674440"/>
            <a:ext cx="7408800" cy="34513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aangrijpingsplaatsen van histamine blokkeren (effecten van histamine tegengaa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etirizine (Zyrtec, Reactin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Levocertirizine  (Xyz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lemastine (Tavegil) injectievloeistof (behandeling anafylactiche shock)</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4F04-9066-44E1-94EF-10FAEB5AF2B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871560" y="2674440"/>
            <a:ext cx="7408800" cy="345132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1)</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corticosteroïden)</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tstekingsremmende eigenschappen. Onderdrukken heftigheid allergische react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epassing: allergisch reactie luchtwegen</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werking schimmelinfectie mond (mond spoelen)</a:t>
            </a:r>
            <a:endParaRPr b="0" lang="en-US" sz="2400" spc="-1" strike="noStrike">
              <a:solidFill>
                <a:srgbClr val="073e87"/>
              </a:solidFill>
              <a:latin typeface="Candara"/>
            </a:endParaRPr>
          </a:p>
        </p:txBody>
      </p:sp>
      <p:sp>
        <p:nvSpPr>
          <p:cNvPr id="51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1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A808-3E2B-4D50-A800-B30AFE10F91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871560" y="1699920"/>
            <a:ext cx="7408800" cy="5157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Middelen die de verschijnselen onderdrukken (2)</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neu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Becona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Rhinocor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ndara"/>
              </a:rPr>
              <a:t>Allergische klachten lo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eclometason (Qva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Budesonide (Pulmicor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ndara"/>
              </a:rPr>
              <a:t>Anafylactische reactie: corticosteroïden per injec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neesmiddelen tegen allergie</a:t>
            </a:r>
            <a:endParaRPr b="0" lang="en-US" sz="4400" spc="-1" strike="noStrike">
              <a:solidFill>
                <a:srgbClr val="ffffff"/>
              </a:solidFill>
              <a:latin typeface="Candara"/>
            </a:endParaRPr>
          </a:p>
        </p:txBody>
      </p:sp>
      <p:sp>
        <p:nvSpPr>
          <p:cNvPr id="522"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E23C-CB13-412D-9B98-556773AC90C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nieuwe neusspray combineert twee werking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werkzame stoffen in Dymista zijn azelastine (antihistaminicum) en fluticason (corticosteroïd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 medicijn bij hooikoorts</a:t>
            </a:r>
            <a:endParaRPr b="0" lang="en-US" sz="4400" spc="-1" strike="noStrike">
              <a:solidFill>
                <a:srgbClr val="ffffff"/>
              </a:solidFill>
              <a:latin typeface="Candara"/>
            </a:endParaRPr>
          </a:p>
        </p:txBody>
      </p:sp>
      <p:pic>
        <p:nvPicPr>
          <p:cNvPr id="525" name="Picture 2" descr=""/>
          <p:cNvPicPr/>
          <p:nvPr/>
        </p:nvPicPr>
        <p:blipFill>
          <a:blip r:embed="rId1"/>
          <a:stretch/>
        </p:blipFill>
        <p:spPr>
          <a:xfrm>
            <a:off x="7236000" y="4365720"/>
            <a:ext cx="1904760" cy="1904760"/>
          </a:xfrm>
          <a:prstGeom prst="rect">
            <a:avLst/>
          </a:prstGeom>
          <a:ln w="0">
            <a:noFill/>
          </a:ln>
        </p:spPr>
      </p:pic>
      <p:sp>
        <p:nvSpPr>
          <p:cNvPr id="52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3FB6-53B8-45B7-A250-CBE6CAAED06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060280"/>
            <a:ext cx="7408800" cy="406548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allergie krijgt het lichaam last van het eigen afweer systeem</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nterechte) afweer reactie van het lichaam kan zich uiten in: galbulten, eczeem, astma of hooikoort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het  verschil tussen intolerantie en een allergie?</a:t>
            </a:r>
            <a:endParaRPr b="0" lang="en-US" sz="24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vergevoeligheidsreactie waarbij het afweersysteem niet betrokken is!  </a:t>
            </a:r>
            <a:r>
              <a:rPr b="0" lang="nl-NL" sz="1600" spc="-1" strike="noStrike">
                <a:solidFill>
                  <a:srgbClr val="073e87"/>
                </a:solidFill>
                <a:latin typeface="Candara"/>
              </a:rPr>
              <a:t>(IgE; immonoglobuline type E) </a:t>
            </a:r>
            <a:endParaRPr b="0" lang="en-US" sz="1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fweersysteem</a:t>
            </a:r>
            <a:endParaRPr b="0" lang="en-US" sz="4400" spc="-1" strike="noStrike">
              <a:solidFill>
                <a:srgbClr val="ffffff"/>
              </a:solidFill>
              <a:latin typeface="Candara"/>
            </a:endParaRPr>
          </a:p>
        </p:txBody>
      </p:sp>
      <p:sp>
        <p:nvSpPr>
          <p:cNvPr id="439"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F9C8-2F04-4CD8-B347-9408AA50F0E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205000"/>
            <a:ext cx="7408800" cy="392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emand met een allergische aanleg (atopisch),   kan langzaam allergisch worden (sensibilisatie).</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antistoffen hechten zich aan de mestcellen.</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ntstaat een allergie ?</a:t>
            </a:r>
            <a:endParaRPr b="0" lang="en-US" sz="4400" spc="-1" strike="noStrike">
              <a:solidFill>
                <a:srgbClr val="ffffff"/>
              </a:solidFill>
              <a:latin typeface="Candara"/>
            </a:endParaRPr>
          </a:p>
        </p:txBody>
      </p:sp>
      <p:pic>
        <p:nvPicPr>
          <p:cNvPr id="442" name="Picture 4" descr="http://ts1.mm.bing.net/th?&amp;id=JN.rIT8wgtPf6TIExgfeTEREQ&amp;w=300&amp;h=300&amp;c=0&amp;pid=1.9&amp;rs=0&amp;p=0"/>
          <p:cNvPicPr/>
          <p:nvPr/>
        </p:nvPicPr>
        <p:blipFill>
          <a:blip r:embed="rId1"/>
          <a:stretch/>
        </p:blipFill>
        <p:spPr>
          <a:xfrm>
            <a:off x="4788000" y="3500280"/>
            <a:ext cx="2581200" cy="2857680"/>
          </a:xfrm>
          <a:prstGeom prst="rect">
            <a:avLst/>
          </a:prstGeom>
          <a:ln w="0">
            <a:noFill/>
          </a:ln>
        </p:spPr>
      </p:pic>
      <p:sp>
        <p:nvSpPr>
          <p:cNvPr id="443"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8481-2813-4B84-8710-9E85808CEBB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871560" y="2674440"/>
            <a:ext cx="7408800" cy="3451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Direct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de allergie eenmaal aanwezig, dan bij blootstelling snelle reactie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allergie</a:t>
            </a: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73e87"/>
                </a:solidFill>
                <a:latin typeface="Candara"/>
              </a:rPr>
              <a:t>Vertraagde allergie</a:t>
            </a:r>
            <a:endParaRPr b="0" lang="en-US" sz="2400" spc="-1" strike="noStrike">
              <a:solidFill>
                <a:srgbClr val="073e87"/>
              </a:solidFill>
              <a:latin typeface="Candara"/>
            </a:endParaRPr>
          </a:p>
          <a:p>
            <a:pPr>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aanwezige allergie bij blootstelling vertraagde reactie (na enkele dagen) </a:t>
            </a:r>
            <a:r>
              <a:rPr b="0" lang="nl-NL" sz="2400" spc="-1" strike="noStrike">
                <a:solidFill>
                  <a:srgbClr val="073e87"/>
                </a:solidFill>
                <a:latin typeface="Wingdings"/>
                <a:ea typeface="Wingdings"/>
              </a:rPr>
              <a:t></a:t>
            </a:r>
            <a:r>
              <a:rPr b="0" lang="nl-NL" sz="2400" spc="-1" strike="noStrike">
                <a:solidFill>
                  <a:srgbClr val="073e87"/>
                </a:solidFill>
                <a:latin typeface="Candara"/>
              </a:rPr>
              <a:t> type IV-allergi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Candara"/>
              </a:rPr>
              <a:t>Directe allergie &amp; vertraagde allergie</a:t>
            </a:r>
            <a:endParaRPr b="0" lang="en-US" sz="4000" spc="-1" strike="noStrike">
              <a:solidFill>
                <a:srgbClr val="ffffff"/>
              </a:solidFill>
              <a:latin typeface="Candara"/>
            </a:endParaRPr>
          </a:p>
        </p:txBody>
      </p:sp>
      <p:sp>
        <p:nvSpPr>
          <p:cNvPr id="446" name="Tijdelijke aanduiding voor dianumm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5E2E-59CF-49FD-B66D-8B7CCAE8161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Mestcellen – bevatten veel histamine</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een komt in lichaam, koppelt aan antistof en samen maken ze mestcel kapot, vrijkomen histamine, allergische reactie </a:t>
            </a:r>
            <a:r>
              <a:rPr b="0" lang="nl-NL" sz="3000" spc="-1" strike="noStrike">
                <a:solidFill>
                  <a:srgbClr val="073e87"/>
                </a:solidFill>
                <a:latin typeface="Wingdings"/>
                <a:ea typeface="Wingdings"/>
              </a:rPr>
              <a:t></a:t>
            </a:r>
            <a:r>
              <a:rPr b="0" lang="nl-NL" sz="3000" spc="-1" strike="noStrike">
                <a:solidFill>
                  <a:srgbClr val="073e87"/>
                </a:solidFill>
                <a:latin typeface="Candara"/>
              </a:rPr>
              <a:t> klachten</a:t>
            </a:r>
            <a:endParaRPr b="0" lang="en-US" sz="3000" spc="-1" strike="noStrike">
              <a:solidFill>
                <a:srgbClr val="073e87"/>
              </a:solidFill>
              <a:latin typeface="Candara"/>
            </a:endParaRPr>
          </a:p>
          <a:p>
            <a:pPr marL="272880" indent="-27288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Klachten afhankelijk van plaats (longen, ogen, darmen ,huid)</a:t>
            </a:r>
            <a:endParaRPr b="0" lang="en-US" sz="3000" spc="-1" strike="noStrike">
              <a:solidFill>
                <a:srgbClr val="073e87"/>
              </a:solidFill>
              <a:latin typeface="Candara"/>
            </a:endParaRPr>
          </a:p>
        </p:txBody>
      </p:sp>
      <p:sp>
        <p:nvSpPr>
          <p:cNvPr id="4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Type I-allergie (directe)</a:t>
            </a:r>
            <a:endParaRPr b="0" lang="en-US" sz="4800" spc="-1" strike="noStrike">
              <a:solidFill>
                <a:srgbClr val="ffffff"/>
              </a:solidFill>
              <a:latin typeface="Candara"/>
            </a:endParaRPr>
          </a:p>
        </p:txBody>
      </p:sp>
      <p:sp>
        <p:nvSpPr>
          <p:cNvPr id="449"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8AD-A72F-4F7C-826C-1B62DAA666F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560" y="1628280"/>
            <a:ext cx="7620120" cy="4753080"/>
          </a:xfrm>
          <a:prstGeom prst="rect">
            <a:avLst/>
          </a:prstGeom>
          <a:noFill/>
          <a:ln w="0">
            <a:noFill/>
          </a:ln>
        </p:spPr>
        <p:txBody>
          <a:bodyPr anchor="t">
            <a:normAutofit/>
          </a:bodyPr>
          <a:p>
            <a:pPr marL="272880" indent="-27288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Allergische rhinitis </a:t>
            </a:r>
            <a:r>
              <a:rPr b="0" lang="nl-NL" sz="2000" spc="-1" strike="noStrike">
                <a:solidFill>
                  <a:srgbClr val="073e87"/>
                </a:solidFill>
                <a:latin typeface="Candara"/>
              </a:rPr>
              <a:t>(hooikoorts)</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junctivitis </a:t>
            </a:r>
            <a:r>
              <a:rPr b="0" lang="nl-NL" sz="2000" spc="-1" strike="noStrike">
                <a:solidFill>
                  <a:srgbClr val="073e87"/>
                </a:solidFill>
                <a:latin typeface="Candara"/>
              </a:rPr>
              <a:t>(oogklachten: rood, branderig, trane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Bronchiën </a:t>
            </a:r>
            <a:r>
              <a:rPr b="0" lang="nl-NL" sz="2000" spc="-1" strike="noStrike">
                <a:solidFill>
                  <a:srgbClr val="073e87"/>
                </a:solidFill>
                <a:latin typeface="Candara"/>
              </a:rPr>
              <a:t>(lagere luchtwegen)  (vernauwing bronchiën &gt; kortademig = astma aanval)</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Voedselallergie  </a:t>
            </a:r>
            <a:r>
              <a:rPr b="0" lang="nl-NL" sz="2000" spc="-1" strike="noStrike">
                <a:solidFill>
                  <a:srgbClr val="073e87"/>
                </a:solidFill>
                <a:latin typeface="Candara"/>
              </a:rPr>
              <a:t>(zwellen lippen, jeuk mond lippen, buikpijn, misselijk)</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Huid: urticaria </a:t>
            </a:r>
            <a:r>
              <a:rPr b="0" lang="nl-NL" sz="2000" spc="-1" strike="noStrike">
                <a:solidFill>
                  <a:srgbClr val="073e87"/>
                </a:solidFill>
                <a:latin typeface="Candara"/>
              </a:rPr>
              <a:t>(netelroos – galbulten) </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73e87"/>
                </a:solidFill>
                <a:latin typeface="Candara"/>
              </a:rPr>
              <a:t>Constitutioneel eczeem </a:t>
            </a:r>
            <a:r>
              <a:rPr b="0" lang="nl-NL" sz="2000" spc="-1" strike="noStrike">
                <a:solidFill>
                  <a:srgbClr val="073e87"/>
                </a:solidFill>
                <a:latin typeface="Candara"/>
              </a:rPr>
              <a:t>(bij baby’s dauwworm)</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ffffff"/>
                </a:solidFill>
                <a:latin typeface="Candara"/>
              </a:rPr>
              <a:t>Allergische reacties</a:t>
            </a:r>
            <a:endParaRPr b="0" lang="en-US" sz="4800" spc="-1" strike="noStrike">
              <a:solidFill>
                <a:srgbClr val="ffffff"/>
              </a:solidFill>
              <a:latin typeface="Candara"/>
            </a:endParaRPr>
          </a:p>
        </p:txBody>
      </p:sp>
      <p:sp>
        <p:nvSpPr>
          <p:cNvPr id="452"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5CB1-A801-4B4C-B981-479733A72B3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5" descr="dauwworm2_2"/>
          <p:cNvPicPr/>
          <p:nvPr/>
        </p:nvPicPr>
        <p:blipFill>
          <a:blip r:embed="rId1"/>
          <a:stretch/>
        </p:blipFill>
        <p:spPr>
          <a:xfrm>
            <a:off x="4216320" y="4013280"/>
            <a:ext cx="1508040" cy="2232000"/>
          </a:xfrm>
          <a:prstGeom prst="rect">
            <a:avLst/>
          </a:prstGeom>
          <a:ln w="0">
            <a:noFill/>
          </a:ln>
        </p:spPr>
      </p:pic>
      <p:pic>
        <p:nvPicPr>
          <p:cNvPr id="454" name="Picture 9" descr="chmg0468urtica001"/>
          <p:cNvPicPr/>
          <p:nvPr/>
        </p:nvPicPr>
        <p:blipFill>
          <a:blip r:embed="rId2"/>
          <a:stretch/>
        </p:blipFill>
        <p:spPr>
          <a:xfrm>
            <a:off x="355680" y="4305240"/>
            <a:ext cx="3384360" cy="1928880"/>
          </a:xfrm>
          <a:prstGeom prst="rect">
            <a:avLst/>
          </a:prstGeom>
          <a:ln w="0">
            <a:noFill/>
          </a:ln>
        </p:spPr>
      </p:pic>
      <p:sp>
        <p:nvSpPr>
          <p:cNvPr id="455" name="Text Box 11"/>
          <p:cNvSpPr/>
          <p:nvPr/>
        </p:nvSpPr>
        <p:spPr>
          <a:xfrm>
            <a:off x="1547640" y="622152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rticaria</a:t>
            </a:r>
            <a:endParaRPr b="0" lang="en-US" sz="2400" spc="-1" strike="noStrike">
              <a:solidFill>
                <a:srgbClr val="000000"/>
              </a:solidFill>
              <a:latin typeface="Times New Roman"/>
            </a:endParaRPr>
          </a:p>
        </p:txBody>
      </p:sp>
      <p:pic>
        <p:nvPicPr>
          <p:cNvPr id="456" name="Picture 13" descr="https://www.borstvoeding.com/files/allerg01.jpg">
            <a:hlinkClick r:id="rId3"/>
          </p:cNvPr>
          <p:cNvPicPr/>
          <p:nvPr/>
        </p:nvPicPr>
        <p:blipFill>
          <a:blip r:embed="rId4"/>
          <a:stretch/>
        </p:blipFill>
        <p:spPr>
          <a:xfrm>
            <a:off x="523800" y="2048040"/>
            <a:ext cx="1905120" cy="1904760"/>
          </a:xfrm>
          <a:prstGeom prst="rect">
            <a:avLst/>
          </a:prstGeom>
          <a:ln w="0">
            <a:noFill/>
          </a:ln>
        </p:spPr>
      </p:pic>
      <p:pic>
        <p:nvPicPr>
          <p:cNvPr id="457" name="Picture 15" descr="http://ts1.mm.bing.net/th?&amp;id=JN.qEn%2b4hTP1Fzl6D786A3LWg&amp;w=300&amp;h=300&amp;c=0&amp;pid=1.9&amp;rs=0&amp;p=0"/>
          <p:cNvPicPr/>
          <p:nvPr/>
        </p:nvPicPr>
        <p:blipFill>
          <a:blip r:embed="rId5"/>
          <a:stretch/>
        </p:blipFill>
        <p:spPr>
          <a:xfrm>
            <a:off x="5097600" y="1413000"/>
            <a:ext cx="2190600" cy="2190600"/>
          </a:xfrm>
          <a:prstGeom prst="rect">
            <a:avLst/>
          </a:prstGeom>
          <a:ln w="0">
            <a:noFill/>
          </a:ln>
        </p:spPr>
      </p:pic>
      <p:sp>
        <p:nvSpPr>
          <p:cNvPr id="458" name="Tekstvak 2"/>
          <p:cNvSpPr/>
          <p:nvPr/>
        </p:nvSpPr>
        <p:spPr>
          <a:xfrm>
            <a:off x="2664000" y="2276640"/>
            <a:ext cx="22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edselallergie</a:t>
            </a:r>
            <a:endParaRPr b="0" lang="en-US" sz="2400" spc="-1" strike="noStrike">
              <a:solidFill>
                <a:srgbClr val="000000"/>
              </a:solidFill>
              <a:latin typeface="Times New Roman"/>
            </a:endParaRPr>
          </a:p>
        </p:txBody>
      </p:sp>
      <p:sp>
        <p:nvSpPr>
          <p:cNvPr id="459" name="Tekstvak 3"/>
          <p:cNvSpPr/>
          <p:nvPr/>
        </p:nvSpPr>
        <p:spPr>
          <a:xfrm>
            <a:off x="4216320" y="6183360"/>
            <a:ext cx="17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uwworm</a:t>
            </a:r>
            <a:endParaRPr b="0" lang="en-US" sz="2400" spc="-1" strike="noStrike">
              <a:solidFill>
                <a:srgbClr val="000000"/>
              </a:solidFill>
              <a:latin typeface="Times New Roman"/>
            </a:endParaRPr>
          </a:p>
        </p:txBody>
      </p:sp>
      <p:pic>
        <p:nvPicPr>
          <p:cNvPr id="460" name="Picture 16" descr=""/>
          <p:cNvPicPr/>
          <p:nvPr/>
        </p:nvPicPr>
        <p:blipFill>
          <a:blip r:embed="rId6"/>
          <a:stretch/>
        </p:blipFill>
        <p:spPr>
          <a:xfrm>
            <a:off x="6084720" y="4013280"/>
            <a:ext cx="2857680" cy="2000160"/>
          </a:xfrm>
          <a:prstGeom prst="rect">
            <a:avLst/>
          </a:prstGeom>
          <a:ln w="0">
            <a:noFill/>
          </a:ln>
        </p:spPr>
      </p:pic>
      <p:sp>
        <p:nvSpPr>
          <p:cNvPr id="461" name="Tekstvak 4"/>
          <p:cNvSpPr/>
          <p:nvPr/>
        </p:nvSpPr>
        <p:spPr>
          <a:xfrm>
            <a:off x="6372360" y="618336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rard Joling</a:t>
            </a:r>
            <a:endParaRPr b="0" lang="en-US" sz="2000" spc="-1" strike="noStrike">
              <a:solidFill>
                <a:srgbClr val="000000"/>
              </a:solidFill>
              <a:latin typeface="Times New Roman"/>
            </a:endParaRPr>
          </a:p>
        </p:txBody>
      </p:sp>
      <p:sp>
        <p:nvSpPr>
          <p:cNvPr id="462" name="Tijdelijke aanduiding voor dianumm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91A0-ECCE-4DC7-BDD0-883BAE1D474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871560" y="2674440"/>
            <a:ext cx="7408800" cy="3451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73e87"/>
                </a:solidFill>
                <a:latin typeface="Candara"/>
              </a:rPr>
              <a:t>Anafylactische shock (anafylaxie)</a:t>
            </a:r>
            <a:endParaRPr b="0" lang="en-US" sz="3200" spc="-1" strike="noStrike">
              <a:solidFill>
                <a:srgbClr val="073e87"/>
              </a:solidFill>
              <a:latin typeface="Candar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73e87"/>
                </a:solidFill>
                <a:latin typeface="Candara"/>
              </a:rPr>
              <a:t>levensbedreigende allergische reactie. Bij deze reactie kunnen de luchtwegen, het hart, de bloeddruk, de huid, de maag en/of de darmen reageren op een bepaalde stof. </a:t>
            </a:r>
            <a:endParaRPr b="0" lang="en-US" sz="32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a:p>
            <a:pPr lvl="1" marL="576360" indent="-273240">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3e87"/>
              </a:solidFill>
              <a:latin typeface="Candara"/>
            </a:endParaRPr>
          </a:p>
        </p:txBody>
      </p:sp>
      <p:sp>
        <p:nvSpPr>
          <p:cNvPr id="4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300" spc="-1" strike="noStrike">
                <a:solidFill>
                  <a:srgbClr val="ffffff"/>
                </a:solidFill>
                <a:latin typeface="Candara"/>
              </a:rPr>
              <a:t>Anafylaxie</a:t>
            </a:r>
            <a:br>
              <a:rPr sz="4300"/>
            </a:br>
            <a:r>
              <a:rPr b="0" lang="nl-NL" sz="4300" spc="-1" strike="noStrike">
                <a:solidFill>
                  <a:srgbClr val="ffffff"/>
                </a:solidFill>
                <a:latin typeface="Candara"/>
              </a:rPr>
              <a:t>anafylactische shock</a:t>
            </a:r>
            <a:endParaRPr b="0" lang="en-US" sz="4300" spc="-1" strike="noStrike">
              <a:solidFill>
                <a:srgbClr val="ffffff"/>
              </a:solidFill>
              <a:latin typeface="Candara"/>
            </a:endParaRPr>
          </a:p>
        </p:txBody>
      </p:sp>
      <p:sp>
        <p:nvSpPr>
          <p:cNvPr id="465" name="Tijdelijke aanduiding voor dianummer 1"/>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A72E-F1BA-43AF-8345-73F8D13EDCB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6:14Z</dcterms:created>
  <dc:creator>custom</dc:creator>
  <dc:description/>
  <dc:language>en-US</dc:language>
  <cp:lastModifiedBy>Bouke Cuperus</cp:lastModifiedBy>
  <dcterms:modified xsi:type="dcterms:W3CDTF">2017-03-10T12:55:16Z</dcterms:modified>
  <cp:revision>124</cp:revision>
  <dc:subject/>
  <dc:title>Conclusies enquête panel DA</dc:title>
</cp:coreProperties>
</file>