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83D-D8D8-4AFB-8F9F-33051544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5C3-D79F-447E-8D45-A0B52536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1C1-C0DB-4747-A6B3-73F30E70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A97-F347-4890-913F-87ABF015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BCF-8F13-437F-8D80-7BBE0492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266-ED7D-4C0F-8D28-B66D033B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930-C6F7-4CA8-8548-423531D7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233-A8DE-4DBF-84BD-3871C653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B0D-8D5D-4749-9C18-481D240F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C2D-803D-4A00-B875-0E96E490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36B-16D1-4B48-B903-8409565C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A96-0E60-44A4-951B-E1CF3128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2AC7-DA78-461E-AC77-1B0E5D47843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umedia-sciences.com/a294_l6-divergente-lens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5292720" y="1989000"/>
            <a:ext cx="3095640" cy="316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5580000" y="2852640"/>
            <a:ext cx="28908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 flipH="1">
            <a:off x="539640" y="2852640"/>
            <a:ext cx="51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 flipH="1">
            <a:off x="539640" y="4365720"/>
            <a:ext cx="51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5724360" y="3573000"/>
            <a:ext cx="266400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5724360" y="2852640"/>
            <a:ext cx="266400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24720" y="404640"/>
            <a:ext cx="20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Norm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4790520" y="54450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af: platt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2"/>
          <p:cNvSpPr/>
          <p:nvPr/>
        </p:nvSpPr>
        <p:spPr>
          <a:xfrm>
            <a:off x="5292720" y="1989000"/>
            <a:ext cx="3095640" cy="316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3"/>
          <p:cNvSpPr/>
          <p:nvPr/>
        </p:nvSpPr>
        <p:spPr>
          <a:xfrm>
            <a:off x="5435640" y="2852640"/>
            <a:ext cx="50472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 flipH="1">
            <a:off x="2484360" y="2852640"/>
            <a:ext cx="324000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 flipH="1" flipV="1">
            <a:off x="2484360" y="3500280"/>
            <a:ext cx="3240000" cy="8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V="1">
            <a:off x="5724360" y="3573000"/>
            <a:ext cx="266400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5724360" y="2852640"/>
            <a:ext cx="266400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24720" y="404640"/>
            <a:ext cx="20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Norm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792320" y="54450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chtbij: boll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5292720" y="1989000"/>
            <a:ext cx="3600360" cy="316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"/>
          <p:cNvSpPr/>
          <p:nvPr/>
        </p:nvSpPr>
        <p:spPr>
          <a:xfrm>
            <a:off x="5580000" y="2852640"/>
            <a:ext cx="28908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539640" y="2852640"/>
            <a:ext cx="51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H="1">
            <a:off x="539640" y="4365720"/>
            <a:ext cx="51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5724360" y="3429000"/>
            <a:ext cx="316872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5724360" y="2852640"/>
            <a:ext cx="316872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26160" y="40464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Bijz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799600" y="537372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orzaak: oogbol te l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28320" y="119700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chtbij scherp zien, veraf niet sch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ivergente le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637000"/>
            <a:ext cx="2060280" cy="2060280"/>
          </a:xfrm>
          <a:prstGeom prst="rect">
            <a:avLst/>
          </a:prstGeom>
          <a:ln w="0">
            <a:noFill/>
          </a:ln>
        </p:spPr>
      </p:pic>
      <p:sp>
        <p:nvSpPr>
          <p:cNvPr id="67" name="Oval 3"/>
          <p:cNvSpPr/>
          <p:nvPr/>
        </p:nvSpPr>
        <p:spPr>
          <a:xfrm>
            <a:off x="5292720" y="1989000"/>
            <a:ext cx="3600360" cy="316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5580000" y="2852640"/>
            <a:ext cx="28908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4066920" y="2852640"/>
            <a:ext cx="165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H="1" flipV="1">
            <a:off x="4066920" y="4221000"/>
            <a:ext cx="165708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5724360" y="3573000"/>
            <a:ext cx="3168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5724360" y="2852640"/>
            <a:ext cx="316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28320" y="404640"/>
            <a:ext cx="50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Bijziend, de oplo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28320" y="119700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chtbij scherp zien, veraf niet sch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 flipH="1">
            <a:off x="395280" y="422100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 flipH="1">
            <a:off x="395280" y="3068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79960" y="4869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lle (-)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5292720" y="1989000"/>
            <a:ext cx="2592360" cy="316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"/>
          <p:cNvSpPr/>
          <p:nvPr/>
        </p:nvSpPr>
        <p:spPr>
          <a:xfrm>
            <a:off x="5435640" y="2852640"/>
            <a:ext cx="50472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H="1">
            <a:off x="2484360" y="2852640"/>
            <a:ext cx="324000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 flipH="1" flipV="1">
            <a:off x="2484360" y="3500280"/>
            <a:ext cx="3240000" cy="8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V="1">
            <a:off x="5724360" y="3573000"/>
            <a:ext cx="266400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5724360" y="2852640"/>
            <a:ext cx="266400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25440" y="40464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Verz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28320" y="119700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af scherp zien, dichtbij niet sch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799960" y="537372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orzaak: oogbol te 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f lens moeite met bol w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i295-convergente-lens"/>
          <p:cNvPicPr/>
          <p:nvPr/>
        </p:nvPicPr>
        <p:blipFill>
          <a:blip r:embed="rId1"/>
          <a:stretch/>
        </p:blipFill>
        <p:spPr>
          <a:xfrm>
            <a:off x="3851280" y="2781360"/>
            <a:ext cx="1601640" cy="1601640"/>
          </a:xfrm>
          <a:prstGeom prst="rect">
            <a:avLst/>
          </a:prstGeom>
          <a:ln w="0">
            <a:noFill/>
          </a:ln>
        </p:spPr>
      </p:pic>
      <p:sp>
        <p:nvSpPr>
          <p:cNvPr id="88" name="Oval 2"/>
          <p:cNvSpPr/>
          <p:nvPr/>
        </p:nvSpPr>
        <p:spPr>
          <a:xfrm>
            <a:off x="5292720" y="1989000"/>
            <a:ext cx="2592360" cy="316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5435640" y="2852640"/>
            <a:ext cx="50472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H="1">
            <a:off x="2484360" y="2852640"/>
            <a:ext cx="324000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 flipH="1" flipV="1">
            <a:off x="2484360" y="3500280"/>
            <a:ext cx="3240000" cy="8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V="1">
            <a:off x="5724360" y="3573000"/>
            <a:ext cx="266400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724360" y="2852640"/>
            <a:ext cx="266400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27600" y="404640"/>
            <a:ext cx="51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Verziend, de oplo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28320" y="119700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af scherp zien, dichtbij niet sch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4643280" y="306864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>
            <a:off x="4643280" y="407664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 flipV="1">
            <a:off x="5724360" y="3573360"/>
            <a:ext cx="2160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5724360" y="3068640"/>
            <a:ext cx="21607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3782520" y="465300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olle (+)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2:49:48Z</dcterms:created>
  <dc:creator>Jarco Smeenk</dc:creator>
  <dc:description/>
  <dc:language>en-US</dc:language>
  <cp:lastModifiedBy>Bouke Cuperus</cp:lastModifiedBy>
  <dcterms:modified xsi:type="dcterms:W3CDTF">2020-03-27T12:37:36Z</dcterms:modified>
  <cp:revision>2</cp:revision>
  <dc:subject/>
  <dc:title>Dia 1</dc:title>
</cp:coreProperties>
</file>