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E42-01AA-4640-911A-25B95A42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405-EC9C-474C-9A88-FB183589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274-6FD6-4CAD-A98E-E5601539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86A-920C-4D89-B93D-BB6A0122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D4DE-8700-4B40-B731-5417AD01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5594-FCE6-42EA-98B5-C9C828C7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5CA4-52CF-45B2-AA5A-41B368E9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D511-4262-4658-BFA9-2B95E931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3176-BE2E-4556-8970-74F8146E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C5D9-27FF-44BB-AC09-1D42D009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5BF3-D987-4152-B4B4-B63E60A5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B06-52C6-4800-878F-8E63D8F7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5232-47A6-4E7F-BEDE-F35E5896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AA00-C457-4022-A6EE-1F1FAD81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B440-BFEE-425B-AECA-D61EEE0E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FEAB-124D-4B8F-9A89-84BA0D41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F2D5-7B8B-4969-BC82-81857B09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416B1-8925-459D-896C-F0B26C3C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4B46F-9913-4D54-A4E2-C26B59D6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541FC-D2EC-414B-9306-B85DAAAC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799F9-E23F-4455-98F8-6CE1941C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08F19-78F9-43EC-8DFA-D5AB2107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BD2-3EB9-4CA2-A217-8A5E8EFC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F2F98-252D-44A5-BEA4-61526EBE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A7D39-7AA3-447B-B6BE-A40F38E7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E88D1-CDDD-474E-8446-6D56E44C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C7988-864E-45DF-97B6-7D2F01F2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610FA-6F90-48C0-91A1-E0C357B9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B11DF-640B-49FA-B095-94B9D036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DB0D7-63E6-4475-A606-7CE6B3D6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978E-6AD1-4CC8-9941-99D1895A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A5E7B-6FC4-4FE1-987D-CE592DF1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B51BC-B9EB-4538-B8A7-3E3C8E87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940B-93D6-4628-82DC-B5D207CF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24E44-338B-4450-9FAB-CF1AD78E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F0CEF-126D-413F-9726-8E5740A3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7FE41-54CF-4889-8AFA-8B74247D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27356-4E4B-418B-BC74-F3919896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B041A-CB81-4BC6-AA9F-7EE4065F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BDFC6-4C46-4186-9DA3-5EAC359F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9C954-C3A6-4914-B3A3-05A84601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731FE-D363-4653-A0F4-C6C751F0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34613-6C43-4942-9D4A-A8F27CB3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D9D57-B4A9-4FD7-B605-67BF3BC71B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9D6-386B-4FEB-94AB-3A3ED70A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426B2E-CED8-48F4-8C0A-AA975542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8CF6B-C3FA-4A38-A967-51FEB37B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4C497-5688-4661-9188-5D48CD1E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8BD26F-9B31-41AB-9289-3BF68A7E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805F10-DE09-46E4-A5BA-3133593B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B98D5E-0900-4F3A-AB38-2C9E1279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F7ABFD-8F6A-46C8-B133-D9916869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0C7D23-F248-4141-9B13-0856B2A6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041BE0-D935-47B7-B8EC-6F33B520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D3A27-9921-4EE9-AEBA-B6E5B075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83840"/>
            <a:ext cx="7772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5B2-4F77-40B6-8C48-034F0F96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212076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237200"/>
            <a:ext cx="25023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745C6-8A9B-45C0-9C9B-7DED547CFE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BC6-E3F7-410F-B771-E3F30BC4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3720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8CDB-8A6F-493F-A11B-BD6B9FE5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20760"/>
            <a:ext cx="37926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37200"/>
            <a:ext cx="7772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D16-A7D0-47FC-8579-01E5BF38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8523360" y="6254640"/>
            <a:ext cx="392040" cy="393840"/>
            <a:chOff x="8523360" y="6254640"/>
            <a:chExt cx="392040" cy="393840"/>
          </a:xfrm>
        </p:grpSpPr>
        <p:grpSp>
          <p:nvGrpSpPr>
            <p:cNvPr id="1" name="Oval 7"/>
            <p:cNvGrpSpPr/>
            <p:nvPr/>
          </p:nvGrpSpPr>
          <p:grpSpPr>
            <a:xfrm>
              <a:off x="8523360" y="6254640"/>
              <a:ext cx="392040" cy="393840"/>
              <a:chOff x="8523360" y="6254640"/>
              <a:chExt cx="392040" cy="393840"/>
            </a:xfrm>
          </p:grpSpPr>
          <p:pic>
            <p:nvPicPr>
              <p:cNvPr id="2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8523360" y="6254640"/>
                <a:ext cx="39204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8580600" y="6312600"/>
                <a:ext cx="27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4" name="Oval 8"/>
            <p:cNvSpPr/>
            <p:nvPr/>
          </p:nvSpPr>
          <p:spPr>
            <a:xfrm>
              <a:off x="8559720" y="6291720"/>
              <a:ext cx="316800" cy="318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5992560" y="6272280"/>
            <a:ext cx="245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85440" y="6272280"/>
            <a:ext cx="474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69240c"/>
                </a:solidFill>
                <a:latin typeface="Rockwel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69240c"/>
                </a:solidFill>
                <a:latin typeface="Rockwell"/>
              </a:rPr>
              <a:t>Medische kennis Lagere Luchtwegen  bijgesteld feb.2014 Bouke Cuperus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48340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036CFE-43C5-4F50-B940-9A3E1FBDBACE}" type="slidenum">
              <a:rPr b="1" lang="nl-NL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Rectangle 6"/>
          <p:cNvGrpSpPr/>
          <p:nvPr/>
        </p:nvGrpSpPr>
        <p:grpSpPr>
          <a:xfrm>
            <a:off x="689040" y="1347840"/>
            <a:ext cx="7772040" cy="79200"/>
            <a:chOff x="689040" y="1347840"/>
            <a:chExt cx="7772040" cy="79200"/>
          </a:xfrm>
        </p:grpSpPr>
        <p:pic>
          <p:nvPicPr>
            <p:cNvPr id="47" name="Rectangle 6" descr=""/>
            <p:cNvPicPr/>
            <p:nvPr/>
          </p:nvPicPr>
          <p:blipFill>
            <a:blip r:embed="rId2"/>
            <a:stretch/>
          </p:blipFill>
          <p:spPr>
            <a:xfrm>
              <a:off x="691920" y="1349280"/>
              <a:ext cx="7769160" cy="7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89040" y="1347840"/>
              <a:ext cx="776916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49" name="Rectangle 7"/>
          <p:cNvGrpSpPr/>
          <p:nvPr/>
        </p:nvGrpSpPr>
        <p:grpSpPr>
          <a:xfrm>
            <a:off x="689040" y="4286160"/>
            <a:ext cx="7772040" cy="77760"/>
            <a:chOff x="689040" y="4286160"/>
            <a:chExt cx="7772040" cy="77760"/>
          </a:xfrm>
        </p:grpSpPr>
        <p:pic>
          <p:nvPicPr>
            <p:cNvPr id="50" name="Rectangle 7" descr=""/>
            <p:cNvPicPr/>
            <p:nvPr/>
          </p:nvPicPr>
          <p:blipFill>
            <a:blip r:embed="rId3"/>
            <a:stretch/>
          </p:blipFill>
          <p:spPr>
            <a:xfrm>
              <a:off x="691920" y="4289040"/>
              <a:ext cx="7769160" cy="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9040" y="4286160"/>
              <a:ext cx="776916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2" name="Rectangle 8"/>
          <p:cNvGrpSpPr/>
          <p:nvPr/>
        </p:nvGrpSpPr>
        <p:grpSpPr>
          <a:xfrm>
            <a:off x="689040" y="1487520"/>
            <a:ext cx="7772040" cy="2742840"/>
            <a:chOff x="689040" y="1487520"/>
            <a:chExt cx="7772040" cy="2742840"/>
          </a:xfrm>
        </p:grpSpPr>
        <p:pic>
          <p:nvPicPr>
            <p:cNvPr id="53" name="Rectangle 8" descr=""/>
            <p:cNvPicPr/>
            <p:nvPr/>
          </p:nvPicPr>
          <p:blipFill>
            <a:blip r:embed="rId4"/>
            <a:stretch/>
          </p:blipFill>
          <p:spPr>
            <a:xfrm>
              <a:off x="691920" y="1490400"/>
              <a:ext cx="7769160" cy="27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89040" y="1487520"/>
              <a:ext cx="7769160" cy="27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5" name="Group 9"/>
          <p:cNvGrpSpPr/>
          <p:nvPr/>
        </p:nvGrpSpPr>
        <p:grpSpPr>
          <a:xfrm>
            <a:off x="7234200" y="4106880"/>
            <a:ext cx="914400" cy="914400"/>
            <a:chOff x="7234200" y="4106880"/>
            <a:chExt cx="914400" cy="914400"/>
          </a:xfrm>
        </p:grpSpPr>
        <p:grpSp>
          <p:nvGrpSpPr>
            <p:cNvPr id="56" name="Oval 10"/>
            <p:cNvGrpSpPr/>
            <p:nvPr/>
          </p:nvGrpSpPr>
          <p:grpSpPr>
            <a:xfrm>
              <a:off x="7234200" y="4106880"/>
              <a:ext cx="914400" cy="914400"/>
              <a:chOff x="7234200" y="4106880"/>
              <a:chExt cx="914400" cy="914400"/>
            </a:xfrm>
          </p:grpSpPr>
          <p:pic>
            <p:nvPicPr>
              <p:cNvPr id="57" name="Oval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4200" y="41068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7366680" y="4239000"/>
                <a:ext cx="64656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59" name="Oval 11"/>
            <p:cNvSpPr/>
            <p:nvPr/>
          </p:nvSpPr>
          <p:spPr>
            <a:xfrm>
              <a:off x="7324200" y="4196520"/>
              <a:ext cx="731520" cy="7315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5992560" y="6272280"/>
            <a:ext cx="245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812880" y="6272280"/>
            <a:ext cx="474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69240c"/>
                </a:solidFill>
                <a:latin typeface="Rockwel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69240c"/>
                </a:solidFill>
                <a:latin typeface="Rockwell"/>
              </a:rPr>
              <a:t>Medische kennis Lagere Luchtwegen  bijgesteld feb.2014 Bouke Cuperus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243560" y="4227120"/>
            <a:ext cx="895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28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8E41C-EB8D-451E-BD44-F6133D46979D}" type="slidenum">
              <a:rPr b="1" lang="nl-NL" sz="28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Rectangle 6"/>
          <p:cNvGrpSpPr/>
          <p:nvPr/>
        </p:nvGrpSpPr>
        <p:grpSpPr>
          <a:xfrm>
            <a:off x="0" y="4919760"/>
            <a:ext cx="9144000" cy="1938240"/>
            <a:chOff x="0" y="4919760"/>
            <a:chExt cx="9144000" cy="1938240"/>
          </a:xfrm>
        </p:grpSpPr>
        <p:pic>
          <p:nvPicPr>
            <p:cNvPr id="102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4921200"/>
              <a:ext cx="9144000" cy="19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4919760"/>
              <a:ext cx="914400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04" name="Group 7"/>
          <p:cNvGrpSpPr/>
          <p:nvPr/>
        </p:nvGrpSpPr>
        <p:grpSpPr>
          <a:xfrm>
            <a:off x="633240" y="2430360"/>
            <a:ext cx="914400" cy="914400"/>
            <a:chOff x="633240" y="2430360"/>
            <a:chExt cx="914400" cy="914400"/>
          </a:xfrm>
        </p:grpSpPr>
        <p:grpSp>
          <p:nvGrpSpPr>
            <p:cNvPr id="105" name="Oval 8"/>
            <p:cNvGrpSpPr/>
            <p:nvPr/>
          </p:nvGrpSpPr>
          <p:grpSpPr>
            <a:xfrm>
              <a:off x="633240" y="2430360"/>
              <a:ext cx="914400" cy="914400"/>
              <a:chOff x="633240" y="2430360"/>
              <a:chExt cx="914400" cy="914400"/>
            </a:xfrm>
          </p:grpSpPr>
          <p:pic>
            <p:nvPicPr>
              <p:cNvPr id="106" name="Oval 8" descr=""/>
              <p:cNvPicPr/>
              <p:nvPr/>
            </p:nvPicPr>
            <p:blipFill>
              <a:blip r:embed="rId3"/>
              <a:stretch/>
            </p:blipFill>
            <p:spPr>
              <a:xfrm>
                <a:off x="633240" y="243036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766800" y="2562480"/>
                <a:ext cx="64656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08" name="Oval 9"/>
            <p:cNvSpPr/>
            <p:nvPr/>
          </p:nvSpPr>
          <p:spPr>
            <a:xfrm>
              <a:off x="724320" y="2520000"/>
              <a:ext cx="731520" cy="7315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445080" y="6272280"/>
            <a:ext cx="198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636200" y="6272280"/>
            <a:ext cx="474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69240c"/>
                </a:solidFill>
                <a:latin typeface="Rockwel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69240c"/>
                </a:solidFill>
                <a:latin typeface="Rockwell"/>
              </a:rPr>
              <a:t>Medische kennis Lagere Luchtwegen  bijgesteld feb.2014 Bouke Cuperus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6200" y="2508120"/>
            <a:ext cx="890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28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12202-2BED-4B04-A81E-B6FE3EA9E2FA}" type="slidenum">
              <a:rPr b="1" lang="nl-NL" sz="28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Rectangle 7"/>
          <p:cNvGrpSpPr/>
          <p:nvPr/>
        </p:nvGrpSpPr>
        <p:grpSpPr>
          <a:xfrm>
            <a:off x="6229440" y="0"/>
            <a:ext cx="2914560" cy="6858000"/>
            <a:chOff x="6229440" y="0"/>
            <a:chExt cx="2914560" cy="6858000"/>
          </a:xfrm>
        </p:grpSpPr>
        <p:pic>
          <p:nvPicPr>
            <p:cNvPr id="151" name="Rectangle 7" descr=""/>
            <p:cNvPicPr/>
            <p:nvPr/>
          </p:nvPicPr>
          <p:blipFill>
            <a:blip r:embed="rId2"/>
            <a:stretch/>
          </p:blipFill>
          <p:spPr>
            <a:xfrm>
              <a:off x="6230880" y="0"/>
              <a:ext cx="29127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229440" y="0"/>
              <a:ext cx="2914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8523360" y="6254640"/>
            <a:ext cx="392040" cy="393840"/>
            <a:chOff x="8523360" y="6254640"/>
            <a:chExt cx="392040" cy="393840"/>
          </a:xfrm>
        </p:grpSpPr>
        <p:grpSp>
          <p:nvGrpSpPr>
            <p:cNvPr id="154" name="Oval 12"/>
            <p:cNvGrpSpPr/>
            <p:nvPr/>
          </p:nvGrpSpPr>
          <p:grpSpPr>
            <a:xfrm>
              <a:off x="8523360" y="6254640"/>
              <a:ext cx="392040" cy="393840"/>
              <a:chOff x="8523360" y="6254640"/>
              <a:chExt cx="392040" cy="393840"/>
            </a:xfrm>
          </p:grpSpPr>
          <p:pic>
            <p:nvPicPr>
              <p:cNvPr id="155" name="Oval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8523360" y="6254640"/>
                <a:ext cx="39204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8580600" y="6312600"/>
                <a:ext cx="27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57" name="Oval 13"/>
            <p:cNvSpPr/>
            <p:nvPr/>
          </p:nvSpPr>
          <p:spPr>
            <a:xfrm>
              <a:off x="8559720" y="6291720"/>
              <a:ext cx="316800" cy="318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992560" y="6272280"/>
            <a:ext cx="245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85440" y="6272280"/>
            <a:ext cx="474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69240c"/>
                </a:solidFill>
                <a:latin typeface="Rockwel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69240c"/>
                </a:solidFill>
                <a:latin typeface="Rockwell"/>
              </a:rPr>
              <a:t>Medische kennis Lagere Luchtwegen  bijgesteld feb.2014 Bouke Cuperus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848340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2BF17-05CB-4D98-8CBA-D9AEAE7345C4}" type="slidenum">
              <a:rPr b="1" lang="nl-NL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Rectangle 10"/>
          <p:cNvGrpSpPr/>
          <p:nvPr/>
        </p:nvGrpSpPr>
        <p:grpSpPr>
          <a:xfrm>
            <a:off x="6229440" y="0"/>
            <a:ext cx="2914560" cy="6858000"/>
            <a:chOff x="6229440" y="0"/>
            <a:chExt cx="2914560" cy="6858000"/>
          </a:xfrm>
        </p:grpSpPr>
        <p:pic>
          <p:nvPicPr>
            <p:cNvPr id="200" name="Rectangle 10" descr=""/>
            <p:cNvPicPr/>
            <p:nvPr/>
          </p:nvPicPr>
          <p:blipFill>
            <a:blip r:embed="rId2"/>
            <a:stretch/>
          </p:blipFill>
          <p:spPr>
            <a:xfrm>
              <a:off x="6230880" y="0"/>
              <a:ext cx="29127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229440" y="0"/>
              <a:ext cx="2914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202" name="Group 11"/>
          <p:cNvGrpSpPr/>
          <p:nvPr/>
        </p:nvGrpSpPr>
        <p:grpSpPr>
          <a:xfrm>
            <a:off x="8523360" y="6254640"/>
            <a:ext cx="392040" cy="393840"/>
            <a:chOff x="8523360" y="6254640"/>
            <a:chExt cx="392040" cy="393840"/>
          </a:xfrm>
        </p:grpSpPr>
        <p:grpSp>
          <p:nvGrpSpPr>
            <p:cNvPr id="203" name="Oval 12"/>
            <p:cNvGrpSpPr/>
            <p:nvPr/>
          </p:nvGrpSpPr>
          <p:grpSpPr>
            <a:xfrm>
              <a:off x="8523360" y="6254640"/>
              <a:ext cx="392040" cy="393840"/>
              <a:chOff x="8523360" y="6254640"/>
              <a:chExt cx="392040" cy="393840"/>
            </a:xfrm>
          </p:grpSpPr>
          <p:pic>
            <p:nvPicPr>
              <p:cNvPr id="204" name="Oval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8523360" y="6254640"/>
                <a:ext cx="39204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8580600" y="6312600"/>
                <a:ext cx="27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206" name="Oval 13"/>
            <p:cNvSpPr/>
            <p:nvPr/>
          </p:nvSpPr>
          <p:spPr>
            <a:xfrm>
              <a:off x="8559720" y="6291720"/>
              <a:ext cx="316800" cy="318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5992560" y="6272280"/>
            <a:ext cx="245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4"/>
          </p:nvPr>
        </p:nvSpPr>
        <p:spPr>
          <a:xfrm>
            <a:off x="848340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5C100-EB8A-46CE-9BC4-18F143602C89}" type="slidenum">
              <a:rPr b="1" lang="nl-NL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el 1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3851280" y="88920"/>
            <a:ext cx="4238640" cy="6680160"/>
          </a:xfrm>
          <a:prstGeom prst="rect">
            <a:avLst/>
          </a:prstGeom>
          <a:ln w="0">
            <a:noFill/>
          </a:ln>
        </p:spPr>
      </p:pic>
      <p:sp>
        <p:nvSpPr>
          <p:cNvPr id="249" name="Tijdelijke aanduiding voor dianummer 1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9851E1-96A3-47F3-A0CC-840B6BDCC921}" type="slidenum">
              <a:rPr b="1" lang="nl-NL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el 1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85800" y="2120760"/>
            <a:ext cx="7772400" cy="4051440"/>
          </a:xfrm>
          <a:prstGeom prst="rect">
            <a:avLst/>
          </a:prstGeom>
          <a:ln w="0">
            <a:noFill/>
          </a:ln>
        </p:spPr>
      </p:pic>
      <p:sp>
        <p:nvSpPr>
          <p:cNvPr id="252" name="Tijdelijke aanduiding voor dianummer 1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3851B-624F-4C15-8259-BC307546609D}" type="slidenum">
              <a:rPr b="1" lang="nl-NL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3"/>
          <a:stretch/>
        </p:blipFill>
        <p:spPr>
          <a:xfrm>
            <a:off x="0" y="1484280"/>
            <a:ext cx="914400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el 1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Rockwell"/>
              </a:rPr>
              <a:t>Route van buiten naar binnen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Rockwell"/>
              </a:rPr>
              <a:t>neus</a:t>
            </a:r>
            <a:endParaRPr b="0" lang="en-US" sz="17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Rockwell"/>
              </a:rPr>
              <a:t>mondholte</a:t>
            </a:r>
            <a:endParaRPr b="0" lang="en-US" sz="17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Rockwell"/>
              </a:rPr>
              <a:t>keelholte (pharynx)</a:t>
            </a:r>
            <a:endParaRPr b="0" lang="en-US" sz="17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Rockwell"/>
              </a:rPr>
              <a:t>Stottenhoofd (larynx)</a:t>
            </a:r>
            <a:endParaRPr b="0" lang="en-US" sz="17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Rockwell"/>
              </a:rPr>
              <a:t>Luchtpijp (trachea)</a:t>
            </a:r>
            <a:endParaRPr b="0" lang="en-US" sz="17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Rockwell"/>
              </a:rPr>
              <a:t>Luchtpijptak (bronchus)</a:t>
            </a:r>
            <a:endParaRPr b="0" lang="en-US" sz="17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Rockwell"/>
              </a:rPr>
              <a:t>Luchtpijpvertakking (bronchioli)</a:t>
            </a:r>
            <a:endParaRPr b="0" lang="en-US" sz="17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Rockwell"/>
              </a:rPr>
              <a:t>Kleine luchtpijpvertakking (bronchi)</a:t>
            </a:r>
            <a:endParaRPr b="0" lang="en-US" sz="17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Rockwell"/>
              </a:rPr>
              <a:t>Eindvertakking (eindbronchiool)</a:t>
            </a:r>
            <a:endParaRPr b="0" lang="en-US" sz="17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Rockwell"/>
              </a:rPr>
              <a:t>Longblaasjes (alveoli)</a:t>
            </a:r>
            <a:endParaRPr b="0" lang="en-US" sz="17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6" name="Tijdelijke aanduiding voor dianummer 1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0FB54-98E0-4F62-9CFA-7400D9B41F4B}" type="slidenum">
              <a:rPr b="1" lang="nl-NL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el 1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Rockwell"/>
              </a:rPr>
              <a:t>Keelholte : splits zich in slokdarm en luchtpijp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Rockwell"/>
              </a:rPr>
              <a:t>Tijdens het eten: huig sluit neus af &amp; strottenklepje  sluit de luchtpijp af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Rockwell"/>
              </a:rPr>
              <a:t>In het strottenhoofd bevinden zich de stembanden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696464"/>
                </a:solidFill>
                <a:latin typeface="Rockwell"/>
              </a:rPr>
              <a:t>AFBEELDING</a:t>
            </a:r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696464"/>
                </a:solidFill>
                <a:latin typeface="Rockwell"/>
              </a:rPr>
              <a:t>1: tong</a:t>
            </a:r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696464"/>
                </a:solidFill>
                <a:latin typeface="Rockwell"/>
              </a:rPr>
              <a:t>2: linker keelamandel</a:t>
            </a:r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696464"/>
                </a:solidFill>
                <a:latin typeface="Rockwell"/>
              </a:rPr>
              <a:t>3: is de huig</a:t>
            </a:r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696464"/>
                </a:solidFill>
                <a:latin typeface="Rockwell"/>
              </a:rPr>
              <a:t>4: verhemelte</a:t>
            </a:r>
            <a:endParaRPr b="0" lang="en-US" sz="12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9" name="Tijdelijke aanduiding voor dianummer 1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609964-7273-4345-AEE6-B2F738A09D60}" type="slidenum">
              <a:rPr b="1" lang="nl-NL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5513400" y="414828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3"/>
          <a:stretch/>
        </p:blipFill>
        <p:spPr>
          <a:xfrm>
            <a:off x="2627280" y="4105440"/>
            <a:ext cx="20955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el 1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Rockwell"/>
              </a:rPr>
              <a:t>De menselijke longen zien eruit als een sponzige op zijn kop hangende boom. De stam is de luchtpijp; een holle buis van ongeveer 12 centimeter lengte en 2,5 centimeter doorsnede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Rockwell"/>
              </a:rPr>
              <a:t>In de borstholte splitst de luchtpijp zich in twee luchtpijptakken (hoofd bronchiën)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Rockwell"/>
              </a:rPr>
              <a:t>Beide hoofd bronchiën splitsen zich in steeds kleinere takken de bronchiolie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4" name="Tijdelijke aanduiding voor dianummer 1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93D74-54DF-479E-9F75-5BAE8919623E}" type="slidenum">
              <a:rPr b="1" lang="nl-NL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65" name="Picture 7" descr=""/>
          <p:cNvPicPr/>
          <p:nvPr/>
        </p:nvPicPr>
        <p:blipFill>
          <a:blip r:embed="rId2"/>
          <a:stretch/>
        </p:blipFill>
        <p:spPr>
          <a:xfrm>
            <a:off x="6659640" y="254160"/>
            <a:ext cx="106848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Titel 1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Rockwell"/>
              </a:rPr>
              <a:t>De rechterlong 3 kwabben  linkerlong in 2 kwabben.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Rockwell"/>
              </a:rPr>
              <a:t>Op iedere longkwab komt een dunne tak van de bronchiën uit. De allerkleinste vertakkingen van de bronchiën eindigen in de longblaasjes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8" name="Tijdelijke aanduiding voor dianummer 1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069DF-9545-4C6C-A75B-86CA6DDDEC78}" type="slidenum">
              <a:rPr b="1" lang="nl-NL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971640" y="4033800"/>
            <a:ext cx="27651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itel 1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Rockwell"/>
              </a:rPr>
              <a:t>De longblaasjes (alveoli) gasuitwisseling met het bloed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Rockwell"/>
              </a:rPr>
              <a:t>aantal: 3 miljoen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Rockwell"/>
              </a:rPr>
              <a:t>oppervlakte: 70 en 100 m2.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Rockwell"/>
              </a:rPr>
              <a:t>Elk longblaasje is omgeven door kleine adertjes, capillairen genaamd</a:t>
            </a:r>
            <a:r>
              <a:rPr b="0" lang="nl-NL" sz="2800" spc="-1" strike="noStrike">
                <a:solidFill>
                  <a:srgbClr val="000000"/>
                </a:solidFill>
                <a:latin typeface="Rockwel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2" name="Tijdelijke aanduiding voor dianummer 1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0D962-5405-4F45-84AE-7E970AC92F79}" type="slidenum">
              <a:rPr b="1" lang="nl-NL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2"/>
          <a:stretch/>
        </p:blipFill>
        <p:spPr>
          <a:xfrm>
            <a:off x="6084720" y="168120"/>
            <a:ext cx="223236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el 1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68360" y="181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Rockwell"/>
              </a:rPr>
              <a:t>De longen :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Rockwell"/>
              </a:rPr>
              <a:t>Beschermd door de ribben. Onderkant het middenrif (platte, uiterst krachtige spier)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Rockwell"/>
              </a:rPr>
              <a:t>Bij inademing (inspiratie) gaat het middenrif (diafragma) naar beneden waardoor de druk in de longen (borstholte) afneemt en het volume toe neemt, hierdoor stroomt de lucht de longen in.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Rockwell"/>
              </a:rPr>
              <a:t>Bij het uitademen (expiratie)  gaat het middenrif omhoog waardoor het volume van de longen afneemt en de druk in de longen toeneemt, hierdoor stroomt de lucht de longen weer uit.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6" name="Tijdelijke aanduiding voor dianummer 1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BB8E2-BE06-4AF6-9230-837AA31C2EE2}" type="slidenum">
              <a:rPr b="1" lang="nl-NL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2"/>
          <a:stretch/>
        </p:blipFill>
        <p:spPr>
          <a:xfrm>
            <a:off x="6804000" y="306360"/>
            <a:ext cx="17287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itel 1" descr=""/>
          <p:cNvPicPr/>
          <p:nvPr/>
        </p:nvPicPr>
        <p:blipFill>
          <a:blip r:embed="rId1"/>
          <a:stretch/>
        </p:blipFill>
        <p:spPr>
          <a:xfrm>
            <a:off x="689040" y="487440"/>
            <a:ext cx="7772400" cy="16095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685800" y="2120760"/>
            <a:ext cx="7772400" cy="40514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Rockwell"/>
              </a:rPr>
              <a:t>Observatie van de Ademhaling </a:t>
            </a:r>
            <a:endParaRPr b="0" lang="en-US" sz="22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Rockwell"/>
              </a:rPr>
              <a:t>Daarbij let je op:</a:t>
            </a:r>
            <a:endParaRPr b="0" lang="en-US" sz="22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Rockwell"/>
              </a:rPr>
              <a:t>Frequentie </a:t>
            </a:r>
            <a:r>
              <a:rPr b="0" lang="nl-NL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Rockwell"/>
              </a:rPr>
              <a:t>            </a:t>
            </a:r>
            <a:r>
              <a:rPr b="0" lang="nl-NL" sz="1300" spc="-1" strike="noStrike">
                <a:solidFill>
                  <a:srgbClr val="000000"/>
                </a:solidFill>
                <a:latin typeface="Rockwell"/>
              </a:rPr>
              <a:t>(volwassenen: 15-20 per minuut)</a:t>
            </a:r>
            <a:endParaRPr b="0" lang="en-US" sz="13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Rockwell"/>
              </a:rPr>
              <a:t>Diepte en gelijkmatigheid   </a:t>
            </a:r>
            <a:r>
              <a:rPr b="0" lang="nl-NL" sz="1300" spc="-1" strike="noStrike">
                <a:solidFill>
                  <a:srgbClr val="000000"/>
                </a:solidFill>
                <a:latin typeface="Rockwell"/>
              </a:rPr>
              <a:t>(oppervlakkige ademhaling b.v. longemfyseem;  </a:t>
            </a:r>
            <a:r>
              <a:rPr b="0" lang="nl-NL" sz="13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nl-NL" sz="13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nl-NL" sz="13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nl-NL" sz="13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nl-NL" sz="1300" spc="-1" strike="noStrike">
                <a:solidFill>
                  <a:srgbClr val="000000"/>
                </a:solidFill>
                <a:latin typeface="Rockwell"/>
              </a:rPr>
              <a:t>   diepe  ademhaling bewusteloosheid t.g.v. een          </a:t>
            </a:r>
            <a:r>
              <a:rPr b="0" lang="nl-NL" sz="13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nl-NL" sz="13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nl-NL" sz="13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nl-NL" sz="13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nl-NL" sz="1300" spc="-1" strike="noStrike">
                <a:solidFill>
                  <a:srgbClr val="000000"/>
                </a:solidFill>
                <a:latin typeface="Rockwell"/>
              </a:rPr>
              <a:t>   bloedsuiker?</a:t>
            </a:r>
            <a:endParaRPr b="0" lang="en-US" sz="13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Rockwell"/>
              </a:rPr>
              <a:t>Ritme </a:t>
            </a:r>
            <a:r>
              <a:rPr b="0" lang="nl-NL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nl-NL" sz="1300" spc="-1" strike="noStrike">
                <a:solidFill>
                  <a:srgbClr val="000000"/>
                </a:solidFill>
                <a:latin typeface="Rockwell"/>
              </a:rPr>
              <a:t>(pauzes tussen de ademhalingen)</a:t>
            </a:r>
            <a:endParaRPr b="0" lang="en-US" sz="13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Rockwell"/>
              </a:rPr>
              <a:t>Geluid</a:t>
            </a:r>
            <a:r>
              <a:rPr b="0" lang="nl-NL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nl-NL" sz="1300" spc="-1" strike="noStrike">
                <a:solidFill>
                  <a:srgbClr val="000000"/>
                </a:solidFill>
                <a:latin typeface="Rockwell"/>
              </a:rPr>
              <a:t>(snurken, zwelling slijmvliezen en piepende </a:t>
            </a:r>
            <a:r>
              <a:rPr b="0" lang="nl-NL" sz="13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nl-NL" sz="13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nl-NL" sz="13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nl-NL" sz="13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nl-NL" sz="1300" spc="-1" strike="noStrike">
                <a:solidFill>
                  <a:srgbClr val="000000"/>
                </a:solidFill>
                <a:latin typeface="Rockwell"/>
              </a:rPr>
              <a:t>                         ademhaling bij een astmatische aanval)</a:t>
            </a:r>
            <a:endParaRPr b="0" lang="en-US" sz="1300" spc="-1" strike="noStrike">
              <a:solidFill>
                <a:srgbClr val="000000"/>
              </a:solidFill>
              <a:latin typeface="Rockwel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0" name="Tijdelijke aanduiding voor dianummer 1"/>
          <p:cNvSpPr/>
          <p:nvPr/>
        </p:nvSpPr>
        <p:spPr>
          <a:xfrm>
            <a:off x="8483760" y="6272280"/>
            <a:ext cx="47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E6A2E-822D-4EBA-846A-6E3D461C174F}" type="slidenum">
              <a:rPr b="1" lang="nl-NL" sz="11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8:24:40Z</dcterms:created>
  <dc:creator>Rina</dc:creator>
  <dc:description/>
  <dc:language>en-US</dc:language>
  <cp:lastModifiedBy>Bouke Cuperus</cp:lastModifiedBy>
  <cp:lastPrinted>2012-11-27T09:21:08Z</cp:lastPrinted>
  <dcterms:modified xsi:type="dcterms:W3CDTF">2018-02-09T15:08:01Z</dcterms:modified>
  <cp:revision>168</cp:revision>
  <dc:subject/>
  <dc:title>Tuberculose</dc:title>
</cp:coreProperties>
</file>