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25C-2E8D-4F98-93CC-A7180EA8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643-919F-48BE-A92B-1DD5BC08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050-BB6A-4325-A57A-67CAF33E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F23-1093-4263-839F-25F479D0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5794-5434-4F65-9990-DA463537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359A-8A4A-40C1-A671-D2B3BF60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76CB-9B00-4BDC-96A7-04423DFE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F288-34D6-445F-91FE-27BC770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6B40-D658-4350-916A-C85BAE83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2AC5-364B-4912-91A6-694F70B7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C682-1F5D-466F-B002-AD8B0F8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984-B333-4738-A8E9-BEB4C117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1039-8AC8-481C-8DE3-5F3042A6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5CB6-7F56-43C0-8E21-4BFFC4A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A77-9023-420C-BD23-47685EC3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CB47-DF5F-4CDC-805F-80982D10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62A7-C071-4A22-A2BF-D391C8C3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94B-CEAD-4F55-A56C-39FE5F92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4F8-302A-4D5C-9483-B4A8C2E2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B52-3C18-481D-A03E-684DFCF3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4E9-28B4-461B-ABE0-7DA118B8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B92-9D51-4D1B-87C2-11D80520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24E-8C70-4B2C-B548-33396BC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0A2-4D6B-4AAA-BED0-30F980D9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E509-790B-43B2-834A-12BC3C7665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1C99-24F6-439C-8991-F800557FD7F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lads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ivm.nl/persberichten/2006/toenameziektevanlyme.js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133360"/>
            <a:ext cx="784836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221304"/>
                </a:solidFill>
                <a:latin typeface="Times New Roman"/>
              </a:rPr>
              <a:t>Tekenbeet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il_fi" descr="Lyme%20teek"/>
          <p:cNvPicPr/>
          <p:nvPr/>
        </p:nvPicPr>
        <p:blipFill>
          <a:blip r:embed="rId1"/>
          <a:stretch/>
        </p:blipFill>
        <p:spPr>
          <a:xfrm>
            <a:off x="2195640" y="3860640"/>
            <a:ext cx="4724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verwteek"/>
          <p:cNvPicPr/>
          <p:nvPr/>
        </p:nvPicPr>
        <p:blipFill>
          <a:blip r:embed="rId1"/>
          <a:stretch/>
        </p:blipFill>
        <p:spPr>
          <a:xfrm>
            <a:off x="2700360" y="1725480"/>
            <a:ext cx="33004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Complicati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te van Lyme: veroorzaakt door de bacterie Borrelia Burgdorferi(meestal pas na 24 uur overgebracht op gasthe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ak wordt de ziekte van Lyme in 3 stadia ingedeeld, met per stadium specifieke symptom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ze indeling moet worden gezien als een model, waarvan de werkelijkheid vaak afwijkt. Per persoon kan de ziekte namelijk heel verschillend verl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Drie stadia bij ziekte van Lym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836640"/>
            <a:ext cx="76201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adium 1, in eerste dagen tot weken na besmetting: een lokale infectie op plaats van de beet:erythema migrans (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en zich uitbreidende , rode, niet schilferende ring rond of in de buurt van de bijtpla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M komt voor bij 50% van de besmettingen en is verraderlijk. Verdwijnt ook zonder behandeli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Tekenbeet erythema migrans"/>
          <p:cNvPicPr/>
          <p:nvPr/>
        </p:nvPicPr>
        <p:blipFill>
          <a:blip r:embed="rId1"/>
          <a:stretch/>
        </p:blipFill>
        <p:spPr>
          <a:xfrm>
            <a:off x="1332000" y="549360"/>
            <a:ext cx="3014640" cy="22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tekenbeet erythema migrans op schouder"/>
          <p:cNvPicPr/>
          <p:nvPr/>
        </p:nvPicPr>
        <p:blipFill>
          <a:blip r:embed="rId2"/>
          <a:stretch/>
        </p:blipFill>
        <p:spPr>
          <a:xfrm>
            <a:off x="5148360" y="836640"/>
            <a:ext cx="2917800" cy="266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Erythema migrans"/>
          <p:cNvPicPr/>
          <p:nvPr/>
        </p:nvPicPr>
        <p:blipFill>
          <a:blip r:embed="rId3"/>
          <a:stretch/>
        </p:blipFill>
        <p:spPr>
          <a:xfrm>
            <a:off x="1692360" y="2943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Ziekte van Lym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adium 2: enkele weken tot een jaar na besmetting bedoelt men dan de fase daarna, waarbij de spirocheten(stam van dunne spiraal-vormige bacteriën) door het lichaam zijn verspr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t stadium 3 bedoelt men meestal chronische Ly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kleuring van de huid bij ziekte van L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169369_276_1178021313000-11124209"/>
          <p:cNvPicPr/>
          <p:nvPr/>
        </p:nvPicPr>
        <p:blipFill>
          <a:blip r:embed="rId1"/>
          <a:stretch/>
        </p:blipFill>
        <p:spPr>
          <a:xfrm>
            <a:off x="3059280" y="836640"/>
            <a:ext cx="31287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21304"/>
                </a:solidFill>
                <a:latin typeface="Times New Roman"/>
              </a:rPr>
              <a:t>Overige symptomen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ege symptomen is EM op de plaats van de tekenb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iepachtige klachten zoals hoofdpijn, stijve nek, koorts, spierpijnen en vermoeidheid. Deze symptomen kunnen uitblijven.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ter kunnen diverse symptomen ontstaan. De ziekte van Lyme is een multi-systeem ziek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an leiden tot o.a. neurologische (zenuwstelsel/hersenen), dermatologische (huid), reumatologische (spieren en gewrichten), cardiologische (hart), opthalmologische (ogen) en psychiatrische klachten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ehandeling van EM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de Nederlandse richtlijn wordt hooguit 14 dagen behandeling met antibiotica geadviseer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fylactische behandeling met AB bij elke tekenbeet wordt in Nederland niet geadvisee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ILAD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= International Lyme And Associated Diseases Society (een internationale Lyme organisatie), adviseert bij een EM 6 weken in hoge dos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men al langere tijd is geïnfecteerd, adviseert de ILADS zelfs maanden tot jaren antibiotica, net zolang tot de klachten wegblijv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Wetenswaardigheden van een Teek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Teek is een klein (een tot drie millimeter groot), ins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ven vooral in struiken en hoog gras, niet alleen in natuurgebieden zoals bossen maar ook in parken en tuin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e houden van een vochtige omgeving, en zijn vooral actief van maart tot okto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n verwacht dat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e toename van het aantal teken leidt tot een toename van het aantal gevallen van Lyme.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beschikbare gegevens wijzen waarschijnlijk op een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toename van de infectie in Nederlan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ieder geval neemt het aantal huisartsconsulten wegens tekenbeten de laatste jaren to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als het aantal vastgestelde gevallen van Erythema Migrans, de huiduitslag die er soms het gevolg van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Ziekte%20van%20Lyme%20Nederland"/>
          <p:cNvPicPr/>
          <p:nvPr/>
        </p:nvPicPr>
        <p:blipFill>
          <a:blip r:embed="rId1"/>
          <a:stretch/>
        </p:blipFill>
        <p:spPr>
          <a:xfrm>
            <a:off x="755640" y="1125360"/>
            <a:ext cx="8136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Triag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t de teek er no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s de teek gedeeltelijk of geheel verwijde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jn er verschijnselen zoals: roodheid, zwelling, jeuk, p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gemene ziekteverschijnselen zoals koorts, malaise, lymfeklierzwelling, dubbelzi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ar is de tekenbeet opgelo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Tot slot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Uit </a:t>
            </a: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onderzoek van het RIV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blijkt dat huisartsen in 2005 bij circa 17.000 mensen in Nederland de ziekte van Lyme hebben vastgesteld: een bijna drievoudige toename sinds 1994. Merk op dat dit alleen diagnoses zijn die zijn vastgesteld door huisartsen, en dat er ook wel diagnoses gemist zullen wo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NB: Uit eerdere gegevens was al gebleken dat jaarlijks naar schatting ruim een miljoen Nederlanders een tekenbeet oploop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lyme"/>
          <p:cNvPicPr/>
          <p:nvPr/>
        </p:nvPicPr>
        <p:blipFill>
          <a:blip r:embed="rId1"/>
          <a:stretch/>
        </p:blipFill>
        <p:spPr>
          <a:xfrm>
            <a:off x="2798640" y="260280"/>
            <a:ext cx="4275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doen z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2707920"/>
            <a:ext cx="7620120" cy="31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e kruipen of klimmen op passerende mensen en dieren en bijten zich vast in de hu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het opzuigen van bloed zwelt de teek langzaam op tot een bruin-zwart bolletje (ongeveer een centimeter groot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 enige tijd (dagen) laat de teek vanzelf l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tekenbeet"/>
          <p:cNvPicPr/>
          <p:nvPr/>
        </p:nvPicPr>
        <p:blipFill>
          <a:blip r:embed="rId1"/>
          <a:stretch/>
        </p:blipFill>
        <p:spPr>
          <a:xfrm>
            <a:off x="6443640" y="765000"/>
            <a:ext cx="208584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549744089_5_KTBr"/>
          <p:cNvPicPr/>
          <p:nvPr/>
        </p:nvPicPr>
        <p:blipFill>
          <a:blip r:embed="rId1"/>
          <a:stretch/>
        </p:blipFill>
        <p:spPr>
          <a:xfrm>
            <a:off x="2556000" y="981000"/>
            <a:ext cx="4705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tekenbeet kan overal op het lichaam voorkomen, vooral op warme vochtige plek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ksels, liezen, knieholtes en de bilsplee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kinderen vaak ook op het hoofd, achter de haargrens en achter de or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221304"/>
                </a:solidFill>
                <a:latin typeface="Times New Roman"/>
              </a:rPr>
              <a:t>Wat zijn de verschijnselen?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kenbeten zijn vaak pijnloos waardoor  ze niet worden opmerk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 de plaats van de tekenbeet en kort erna ontstaat een rood vlekj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vlekje wordt meestal niet groter dan een centimeter of twee en verdwijnt binnen twee w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mige teken zijn besmet met bacteriën. Ze kunnen dan ziekten overdragen, zoals de ziekte van Lyme. (2-30% van de teken is drager van deze bacter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de teek korter dan 24 uur op de huid is, is de kans dat men besmet wordt kl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Advi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wijderen: Met een spitse pincet (of een speciale tekenpincet) de teek zo dicht mogelijk op de huid vastpak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Nooit de teek  met alcohol, olie, nagellak of andere middelen bewerken of verdo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moed wordt dat er dan meer kans bestaat op besmetting. Als het niet lukt de teek te verwijderen, ga dan dezelfde dag nog naar de praktijk of de huisartsenpost (HAP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teek_tekentang"/>
          <p:cNvPicPr/>
          <p:nvPr/>
        </p:nvPicPr>
        <p:blipFill>
          <a:blip r:embed="rId1"/>
          <a:stretch/>
        </p:blipFill>
        <p:spPr>
          <a:xfrm>
            <a:off x="5940360" y="33336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Cuperus,B.K.</cp:lastModifiedBy>
  <dcterms:modified xsi:type="dcterms:W3CDTF">2013-12-05T19:45:13Z</dcterms:modified>
  <cp:revision>109</cp:revision>
  <dc:subject/>
  <dc:title>Conclusies enquête panel DA</dc:title>
</cp:coreProperties>
</file>