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6E21-F4C2-42B1-B6E6-178C6F20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6D6E-C3D3-4DA6-A470-74D39282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FBE0-3A87-4BB4-B364-3C3C0BD02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2273-BF24-42E9-A70B-A5954046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D9CF-F693-4627-AF79-10A62BE7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089E-1EE3-4E29-9021-324CDF67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399E-E79F-4648-B6E2-27A00599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7DC3-EB8D-478F-9900-3584B0C7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75F8-FFA5-423A-AF64-B99987A0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E9DD-AE83-43B1-847D-BF560798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0424-A625-4CAB-81BC-9D1CEB97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6080-1611-42A6-A1FE-DC6B15A8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1278-F497-48B1-B808-4C00E20153B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rt en bloedva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ar is het vo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 werkt het ook alwe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oedvoorziening van het 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rt krijgt zuurstof via kransslagaders = coronairarterien (1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zijtakken van de aor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rt geeft afvalstoffen af via kransaders = coronairv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wisseling vindt plaats via haarvaten (capillai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ircul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oer van stoffen en war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, voedingsstoffen, afvalstoffen, hormonen, afweerstoffen, geneesmiddel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venwicht in het inwendige mili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de zuurstof en voedingsmiddelen, snelle verwerking van afvalsto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erming van het lich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tte bloedcellen en antistoffen + sto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hart"/>
          <p:cNvPicPr/>
          <p:nvPr/>
        </p:nvPicPr>
        <p:blipFill>
          <a:blip r:embed="rId1"/>
          <a:stretch/>
        </p:blipFill>
        <p:spPr>
          <a:xfrm>
            <a:off x="2050920" y="1047600"/>
            <a:ext cx="504216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hthoek 1"/>
          <p:cNvSpPr/>
          <p:nvPr/>
        </p:nvSpPr>
        <p:spPr>
          <a:xfrm>
            <a:off x="3066480" y="324468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://youtu.be/pULytfpp5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https://i.ytimg.com/vi/pULytfpp5Dc/default.jpg"/>
          <p:cNvPicPr/>
          <p:nvPr/>
        </p:nvPicPr>
        <p:blipFill>
          <a:blip r:embed="rId1"/>
          <a:stretch/>
        </p:blipFill>
        <p:spPr>
          <a:xfrm>
            <a:off x="1174680" y="1628640"/>
            <a:ext cx="159696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hthoek 1"/>
          <p:cNvSpPr/>
          <p:nvPr/>
        </p:nvSpPr>
        <p:spPr>
          <a:xfrm>
            <a:off x="3001680" y="3244680"/>
            <a:ext cx="314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://youtu.be/fXQTeS8f9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: hartspierweefsel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bouw dwarsgestreept / werking gl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gla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onvermoeibaar, maar traag – onwillekeur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dwarsgestreep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vermoeibaar en snel - willekeuri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en kleine bloedsomloop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zie volgende d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ystole (samentrekking) 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astole (ontspan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rttonen = dichtslaan van kle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s = golf door samentrek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204748_962_1211882047836-bloedsomloop"/>
          <p:cNvPicPr/>
          <p:nvPr/>
        </p:nvPicPr>
        <p:blipFill>
          <a:blip r:embed="rId1"/>
          <a:stretch/>
        </p:blipFill>
        <p:spPr>
          <a:xfrm>
            <a:off x="2627280" y="260280"/>
            <a:ext cx="3797280" cy="56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nkele fei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rtslagfrequentie wordt geregeld door onwillekeurige zenuwstelsel (autono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istratie hiervan kan m.b.v. E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rtslag is bij rust ongeveer 70/75 slagen per minu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druk bestaat uit bovendruk (systolische tensie) en onderdruk (dialstolische tensie), bijv. 120/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 hebben ongeveer 5 liter blo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oedva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agader = arte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astisch bindweef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n kleppen (behalve aan het beg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----------------------------</a:t>
            </a: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Haarvaten (capillai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Goede stoffen h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r = v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unne slappe w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neden het hart: kle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ierpomp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----------------------------</a:t>
            </a: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=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Overgang van slagader naar 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Afvalstoffen te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18:42:30Z</dcterms:created>
  <dc:creator>vredelust</dc:creator>
  <dc:description/>
  <dc:language>en-US</dc:language>
  <cp:lastModifiedBy>Uw naam</cp:lastModifiedBy>
  <cp:lastPrinted>2015-02-01T15:47:56Z</cp:lastPrinted>
  <dcterms:modified xsi:type="dcterms:W3CDTF">2015-02-01T18:43:01Z</dcterms:modified>
  <cp:revision>19</cp:revision>
  <dc:subject/>
  <dc:title>Hart en bloedvaten</dc:title>
</cp:coreProperties>
</file>