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move the slide</a:t>
            </a:r>
            <a:endParaRPr b="0" lang="en-US" sz="2600" spc="-1" strike="noStrike">
              <a:solidFill>
                <a:srgbClr val="29a529"/>
              </a:solidFill>
              <a:latin typeface="Verdana"/>
            </a:endParaRPr>
          </a:p>
        </p:txBody>
      </p:sp>
      <p:sp>
        <p:nvSpPr>
          <p:cNvPr id="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8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98E6-5D0D-4E09-A2AB-5A1B6D82A7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BD05-05EF-42F5-9D25-630EC9D31B9F}"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ussen maart en oktober zijn de meeste teken actief. Bij lekker zonnig weer in de winter kunnen teken ook actief zijn. Een teek voedt 3 tot 7 dagen. Meestal zal een teek in de eerste uren na de overstap uit het groen vastbijten. In de eerste 48 uur is de teek nog erg plat, daarna pas wordt de teek het bekende donkere vaak grijze bolletje. In het buitenland kunnen teken ook andere ziekten overbrengen. De kans op ziekte na een tekenbeet is klein. Niet alle teken zijn besmet (ongeveer 1/6 van de teken draagt de </a:t>
            </a:r>
            <a:r>
              <a:rPr b="0" i="1" lang="nl-NL" sz="1200" spc="-1" strike="noStrike">
                <a:solidFill>
                  <a:srgbClr val="000000"/>
                </a:solidFill>
                <a:latin typeface="Verdana"/>
              </a:rPr>
              <a:t>Borrelia</a:t>
            </a:r>
            <a:r>
              <a:rPr b="0" lang="nl-NL" sz="1200" spc="-1" strike="noStrike">
                <a:solidFill>
                  <a:srgbClr val="000000"/>
                </a:solidFill>
                <a:latin typeface="Verdana"/>
              </a:rPr>
              <a:t> bacterie bij zich), en de meeste beten van een besmette teek veroorzaken GEEN Lymeziek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EB51-D819-4A0D-9C7D-9487F8E4263A}"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it de teek al langer dan 24 uur op uw huid? Overleg met de huisarts of behandeling gewens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eft u de teek binnen 24 uur weggehaald? Houdt tot drie maanden na de tekenbeet de huid rond de beet in de gaten. Let op het ontstaan van een rode ring of andere klachten die kunnen duiden op de ziekte van Lym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ijgt u klachten? Ga naar de huisarts en meld dat u door een teek gebeten ben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tstaat er een klein, rood plekje op de plek van de beet, dan hoeft u zich geen zorgen te maken. Dat is een reactie van de huid op de beet zelf.</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6C6D-646A-4628-8F5C-5493F991C185}"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herken je de ziekte van Lyme?</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Meest voorkomend is een rode ringvormige uitslag. Verschijnt meestal na enkele dagen tot 2 weken na de beet, soms pas na 3 maanden. De vlek wordt groter en ringvormig. Hoewel de meeste gevallen van Lymeziekte gepaard gaan met een rode ring, zijn er ook gevallen waarbij deze afwezig blijft of niet opgemerkt word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lijft de infectie onbehandeld, dan kan de bacterie zich op zich op zenuwweefsel, gewrichten, huid en soms het hart richten. In eerste instantie krijgen mensen griepachtige klachten of soms opzwelling oorlel of tepel. Dit verschijnt meestal binnen 3 maanden. </a:t>
            </a:r>
            <a:r>
              <a:rPr b="0" lang="en-US" sz="1200" spc="-1" strike="noStrike">
                <a:solidFill>
                  <a:srgbClr val="000000"/>
                </a:solidFill>
                <a:latin typeface="Verdana"/>
              </a:rPr>
              <a:t>Als de ziekte niet opgemerkt wordt, kunnen neurologische, gewrichts-, huid- of hartklachten ontstaan. Welke klachten iemand krijgt verschilt per persoon en per type Lymebacterie. Aandoeningen aan de zenuwen komen in Europa het meest voor. Deze kunnen zenuwpijn of zenuwuitval op verschillende plaatsen in het lijf tot gevolg hebben. Voorbeelden zijn verlamming van de gezichtsspieren of pijn en krachtsvermindering aan een arm of been. </a:t>
            </a: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BDB9-D857-4CE8-9999-805AAAFE300B}"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7C7C-9FE3-40B3-AE1C-3B34FB06221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Teken zijn kleine platte spinachtige beestjes. Ze leven van bloed. Teken komen in het hele land voor, </a:t>
            </a:r>
            <a:r>
              <a:rPr b="0" i="1" lang="nl-NL" sz="1200" spc="-1" strike="noStrike">
                <a:solidFill>
                  <a:srgbClr val="000000"/>
                </a:solidFill>
                <a:latin typeface="Verdana"/>
              </a:rPr>
              <a:t>vooral </a:t>
            </a:r>
            <a:r>
              <a:rPr b="0" lang="nl-NL" sz="1200" spc="-1" strike="noStrike">
                <a:solidFill>
                  <a:srgbClr val="000000"/>
                </a:solidFill>
                <a:latin typeface="Verdana"/>
              </a:rPr>
              <a:t>in bos, </a:t>
            </a:r>
            <a:r>
              <a:rPr b="0" i="1" lang="nl-NL" sz="1200" spc="-1" strike="noStrike">
                <a:solidFill>
                  <a:srgbClr val="000000"/>
                </a:solidFill>
                <a:latin typeface="Verdana"/>
              </a:rPr>
              <a:t>maar ook in </a:t>
            </a:r>
            <a:r>
              <a:rPr b="0" lang="nl-NL" sz="1200" spc="-1" strike="noStrike">
                <a:solidFill>
                  <a:srgbClr val="000000"/>
                </a:solidFill>
                <a:latin typeface="Verdana"/>
              </a:rPr>
              <a:t>park, hei duinen of de tuin. Ze zitten in de buurt van bomen of struiken in hoog gras of tussen dode bladeren. Teken kunnen niet springen, en laten zich zelden uit de boom vallen. De meeste teken wachten geduldig op een grasspriet, op dode planten of op lage struikjes tot ze op een passerend mens of dier kunnen overstappen. Dan kruipt de teek over het lichaam tot hij een geschikte bijtplek vindt.</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3196-8CE3-48FE-A1EA-69D40EEB0CA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In Nederland is er één soort teek die de ziekte van Lyme kan overbreng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leven van een teek begint als eitje. Het ei ontwikkelt zich tot larve (helemaal rechts op rechter foto). De larven dragen nooit de Lymebacterie. De larven voeden zich met bloed, meestal van een klein knaagdier zoals een muis, en op vogels. Als de muis de Lymebacterie bij zich draagt kan de teek besmet raken. Heeft een larve zich na een paar dagen volgezogen, dan laat hij los en ontwikkelt zich in de bladerlaag op de bodem zich tot tekennimf (2e van rechts op rechter foto). De nimf heeft ook bloed nodig om te leven en zich verder te kunnen ontwikkelen. De nimf kan naast kleine knaagdieren ook grotere zoogdieren bijten, zoals herten maar ook mensen. Als de nimf besmet is met de Lymebacterie kunnen mensen ook besmet raken tijdens een beet. Heeft de nimf zich volgezogen, dan laat hij los en ontwikkelt zich op de grond tot volwassen teek.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De volwassen vrouwtjesteek (helemaal links op rechter foto) heeft nog een bloedmaaltijd nodig om eitjes te kunnen leggen. De bloedmaaltijd haalt ze meestal bij een groot zoogdier zoals een hert of een mens. Als de volwassen teek besmet is met de Lymebacterie, kunnen mensen ook besmet raken. De teek zuigt zich vol met bloed en laat na ongeveer een week los. Het mannetje (tweede van links) heeft geen bloedmaaltijd nodig. Hij bevrucht alleen de eieren van de vrouwtjesteek. Na het leggen van de eieren gaat het vrouwtje dood. </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Tussen maart en oktober zijn de meeste teken actief, maar op een warm zonnige plekje in het bos kunnen teken soms ook in de winter bijten.</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Van eitje tot eitje duurt de levenscyclus ongeveer drie jaar.</a:t>
            </a: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677C-89E2-480E-87D9-1A0975C4F511}"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De ziekte van Lyme wordt veroorzaakt door de borreliabacterie, een spiraalvormige bacterie (spirochee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2009 liep naar schatting ruim 1 miljoen mensen een tekenbeet op. Huisartsen zagen zo’n 93.000 mensen met een tekenbeet waarvan ongeveer 22.000 mensen last kregen van de eerste verschijnselen van de ziekte van Lyme (een rode ringvormige uitslag rond de beetplek). (een voorbeeld van zo’n rode ring staat op sheet 12)</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5765-52E7-48D1-98B9-7CAB63BF2A08}"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sen die veel in aanraking komen met teken (zoals boswachters of hoveniers) kunnen zichzelf beschermen. De tips bieden geen garantie dat u geen tekenbeet oploopt. Het blijft belangrijk om te controleren op tekenbeten nadat u in het groen bent gewees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Blijf zoveel mogelijk op de paden en vermijd dichte begroeiing en struikgewa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dichte schoenen, lange mouwen en een lange broek. Stop  broekspijpen in uw sokken. Hierdoor is het voor de teek lastiger de huid te bereiken</a:t>
            </a:r>
            <a:r>
              <a:rPr b="0" i="1" lang="en-US" sz="1200" spc="-1" strike="noStrike">
                <a:solidFill>
                  <a:srgbClr val="000000"/>
                </a:solidFill>
                <a:latin typeface="Verdana"/>
              </a:rPr>
              <a: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Draag kleding die geïmpregneerd is met het insectenwerende middel Permitrine of spuit uw kleding in met een middel dat DEET beva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Smeer de onbedekte huid in met middel dat DEET bevat (lees de  gebruiksaanwijzing).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ET is enkele uren werkzaam en weert de teken af. Teken gaan niet dood van DE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A60D-057E-4D7B-8025-9386126EA152}"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ken kunnen overal op het lichaam bijten, maar hebben voorkeur voor de liezen, knieholtes, oksels, bilspleet, de randen van uw ondergoed, achter de oren en rond de haargrens in de nek. Gebruik zo nodig een vergrootglas en een spiegel voor plekken die u zelf moeilijk kunt zien of vraag iemand anders om u op teken te controleren. Controleer ook uw kleding. Haal teken weg die op uw kleding zitten. Zitten de teken vast in de kleding? Was uw kleding minimaal 30 minuten op 60 graden of stop de kleding in de wasdrog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C077-315F-4A1F-8A93-1E7AEF427E0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al teken </a:t>
            </a:r>
            <a:r>
              <a:rPr b="0" i="1" lang="en-US" sz="1200" spc="-1" strike="noStrike">
                <a:solidFill>
                  <a:srgbClr val="000000"/>
                </a:solidFill>
                <a:latin typeface="Verdana"/>
              </a:rPr>
              <a:t>direct</a:t>
            </a:r>
            <a:r>
              <a:rPr b="0" lang="en-US" sz="1200" spc="-1" strike="noStrike">
                <a:solidFill>
                  <a:srgbClr val="000000"/>
                </a:solidFill>
                <a:latin typeface="Verdana"/>
              </a:rPr>
              <a:t> we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e langer de teek in uw huid zit, hoe groter de kans dat hij ziekteverwekkers overdraagt. Gebruik geen alcohol, jodium, olie of andere middelen voordat u de teek verwijder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k de teek met een puntig pincet zo dicht mogelijk op de huid bij de kop vast en trek hem er langzaam uit. Als er een stukje van de kop in de huid achterblijft, is dat ongevaarlijk, net als een splinter. Gebruikt u een andere tekenverwijderaar? Volg dan de gebruiksaanwijzing. Ontsmet het beetwondje na het verwijderen van de teek.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rijf ter herinnering op wanneer en waar op het lichaam u gebeten bent.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d uw gezondheid 3 maanden na de beet in de gaten. Krijgt u klachten, neem dan contact op met de huisar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56F8F-63F6-4F9E-9C4C-329AD76E7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0"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AB52-99B7-48B8-95AB-AF798831C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3"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689E-860F-4913-BAB7-FDF5120F2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8"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2E71E-FE5A-40B0-A8D8-5600C64F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7ABB8-6600-4707-AAB0-D9B04579E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3"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91397-ACF0-494F-A551-3BF824049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5"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051AA-C749-4938-B272-ADE1390B9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57"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711F4-EC47-49A7-8662-031344655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1266B-E97B-4250-BF66-B128E9F9A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A5CEF-AD8B-4580-B6AE-EEFCB6936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2"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5E1B7-33AF-42C8-A624-B96112C08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8F4BD-3D49-4160-9F92-BAF6C3FF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66"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90023-22A2-42CA-B2F0-96532BEA3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AF3AC-2856-4770-B17C-23C86C1A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4"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6CBD2-53F2-4ED5-80D1-FE791C16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77"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11C0E-B387-4DBE-A8BB-249D876A0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82"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6C699-345E-412F-8F45-016A66AA7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682D988B-5B0B-4E9F-A0CD-4DB0CD6816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7"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9C27C7D-8306-4B60-A74D-46E58E835DB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99"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389B720-E7EA-4EE1-A4D4-8CFC1F6FD00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1"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3D3810E-7A6D-4962-921C-A7904A6634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4B59B013-6D38-4DC5-B4E7-D5A842BD57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7F95-1AAE-48DE-BC83-B7592C50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FCB6189C-47C7-42E8-A4D0-0AFFE5249A9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0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5465F85-9531-4F3A-B4F0-A83F7B9078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0"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55EA8B48-A709-4E3F-A8E3-A05B4C06A59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4"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0FB7430-B3FE-4A12-B06E-E71A5E6CE5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18"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D4F3144-506F-4E7F-849C-6D80C6C007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1"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209A9CA3-C45B-4D30-838A-BBEA003EB9E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26"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2CE7140-4A9C-4F83-ACA0-72CAC305BA4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5CE9693-815A-4EC0-AE67-578DE4CDE6B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1" name="PlaceHolder 2"/>
          <p:cNvSpPr>
            <a:spLocks noGrp="1"/>
          </p:cNvSpPr>
          <p:nvPr>
            <p:ph type="subTitle"/>
          </p:nvPr>
        </p:nvSpPr>
        <p:spPr>
          <a:xfrm>
            <a:off x="485640" y="1844280"/>
            <a:ext cx="8172720" cy="42814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2F6A21D-C476-4DCE-8B29-A6B0702996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1BA48D6-3BB9-484A-8C9E-D4CE9193AA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3"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E5FB-FE53-4D09-9E4C-1877BA993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45"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F1E9D4C-0A3A-4F87-99D1-67DD3AAF30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FD806BF-AA4B-4F43-9EED-7714A28403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454BC2E-D6F3-4F99-84C8-E89A1C740F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0"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3A4AAD8-51EF-4B26-910A-D32979532C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4"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57D533C-8677-4B36-86F4-0068A6B752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5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E4DF669-4173-4987-A10A-524CF15E093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2" name="PlaceHolder 2"/>
          <p:cNvSpPr>
            <a:spLocks noGrp="1"/>
          </p:cNvSpPr>
          <p:nvPr>
            <p:ph/>
          </p:nvPr>
        </p:nvSpPr>
        <p:spPr>
          <a:xfrm>
            <a:off x="485640" y="184428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PlaceHolder 3"/>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61EF238-4B97-4E98-A28C-034D8BC5D4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65"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PlaceHolder 5"/>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2403B3A-C661-4285-B234-355553A3EF8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70" name="PlaceHolder 2"/>
          <p:cNvSpPr>
            <a:spLocks noGrp="1"/>
          </p:cNvSpPr>
          <p:nvPr>
            <p:ph/>
          </p:nvPr>
        </p:nvSpPr>
        <p:spPr>
          <a:xfrm>
            <a:off x="48564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3"/>
          <p:cNvSpPr>
            <a:spLocks noGrp="1"/>
          </p:cNvSpPr>
          <p:nvPr>
            <p:ph/>
          </p:nvPr>
        </p:nvSpPr>
        <p:spPr>
          <a:xfrm>
            <a:off x="3249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p:nvPr>
        </p:nvSpPr>
        <p:spPr>
          <a:xfrm>
            <a:off x="6012000" y="184428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p:nvPr>
        </p:nvSpPr>
        <p:spPr>
          <a:xfrm>
            <a:off x="48564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6"/>
          <p:cNvSpPr>
            <a:spLocks noGrp="1"/>
          </p:cNvSpPr>
          <p:nvPr>
            <p:ph/>
          </p:nvPr>
        </p:nvSpPr>
        <p:spPr>
          <a:xfrm>
            <a:off x="3249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7"/>
          <p:cNvSpPr>
            <a:spLocks noGrp="1"/>
          </p:cNvSpPr>
          <p:nvPr>
            <p:ph/>
          </p:nvPr>
        </p:nvSpPr>
        <p:spPr>
          <a:xfrm>
            <a:off x="6012000" y="4080600"/>
            <a:ext cx="263124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8026B6C-21D7-4F6D-8C61-1FB742B10F3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21B5-E2F4-41AB-9EF5-8DDD5B6F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85640" y="1283760"/>
            <a:ext cx="8172720" cy="2062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DAC5-8246-40EB-9188-B3F7FD27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18"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7352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8564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E559-89D6-41E5-AC24-EE170661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2" name="PlaceHolder 2"/>
          <p:cNvSpPr>
            <a:spLocks noGrp="1"/>
          </p:cNvSpPr>
          <p:nvPr>
            <p:ph/>
          </p:nvPr>
        </p:nvSpPr>
        <p:spPr>
          <a:xfrm>
            <a:off x="485640" y="1844280"/>
            <a:ext cx="3988080" cy="428148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673520" y="408060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48F2-EA53-4F0D-94DF-ECAFDF48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a529"/>
              </a:solidFill>
              <a:latin typeface="Verdana"/>
            </a:endParaRPr>
          </a:p>
        </p:txBody>
      </p:sp>
      <p:sp>
        <p:nvSpPr>
          <p:cNvPr id="26" name="PlaceHolder 2"/>
          <p:cNvSpPr>
            <a:spLocks noGrp="1"/>
          </p:cNvSpPr>
          <p:nvPr>
            <p:ph/>
          </p:nvPr>
        </p:nvSpPr>
        <p:spPr>
          <a:xfrm>
            <a:off x="48564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673520" y="1844280"/>
            <a:ext cx="398808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 name="PlaceHolder 4"/>
          <p:cNvSpPr>
            <a:spLocks noGrp="1"/>
          </p:cNvSpPr>
          <p:nvPr>
            <p:ph/>
          </p:nvPr>
        </p:nvSpPr>
        <p:spPr>
          <a:xfrm>
            <a:off x="485640" y="4080600"/>
            <a:ext cx="8172720" cy="20419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9182-7C80-496E-AA56-4BBB40810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3"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PlaceHolder 3"/>
          <p:cNvSpPr>
            <a:spLocks noGrp="1"/>
          </p:cNvSpPr>
          <p:nvPr>
            <p:ph type="dt" idx="1"/>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8D2A-7A34-4269-959D-219E5F952CC9}"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1E5E-A414-45A0-B60A-92ED3FD27017}"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hemeBarBottom"/>
          <p:cNvSpPr/>
          <p:nvPr/>
        </p:nvSpPr>
        <p:spPr>
          <a:xfrm>
            <a:off x="0" y="6318360"/>
            <a:ext cx="9144000" cy="53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sThemeBarTop"/>
          <p:cNvSpPr/>
          <p:nvPr/>
        </p:nvSpPr>
        <p:spPr>
          <a:xfrm>
            <a:off x="0" y="0"/>
            <a:ext cx="9144000" cy="10796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47"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8" name="PlaceHolder 3"/>
          <p:cNvSpPr>
            <a:spLocks noGrp="1"/>
          </p:cNvSpPr>
          <p:nvPr>
            <p:ph type="dt" idx="4"/>
          </p:nvPr>
        </p:nvSpPr>
        <p:spPr>
          <a:xfrm>
            <a:off x="4573080" y="6405480"/>
            <a:ext cx="408780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CC20-C3B4-4B29-B96F-F8722BB2D94F}"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3080" y="6588000"/>
            <a:ext cx="408780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5"/>
          <p:cNvSpPr>
            <a:spLocks noGrp="1"/>
          </p:cNvSpPr>
          <p:nvPr>
            <p:ph type="sldNum" idx="6"/>
          </p:nvPr>
        </p:nvSpPr>
        <p:spPr>
          <a:xfrm>
            <a:off x="485280" y="6406920"/>
            <a:ext cx="360360" cy="142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1BA4-559C-4F9A-B3EB-7BA28BC1C35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sLogo" descr="RO__vervolgpagina~LPPT.png"/>
          <p:cNvPicPr/>
          <p:nvPr/>
        </p:nvPicPr>
        <p:blipFill>
          <a:blip r:embed="rId2"/>
          <a:stretch/>
        </p:blipFill>
        <p:spPr>
          <a:xfrm>
            <a:off x="0" y="-1440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6" descr="Teek_campagnebeeld -1"/>
          <p:cNvPicPr/>
          <p:nvPr/>
        </p:nvPicPr>
        <p:blipFill>
          <a:blip r:embed="rId2"/>
          <a:stretch/>
        </p:blipFill>
        <p:spPr>
          <a:xfrm>
            <a:off x="0" y="0"/>
            <a:ext cx="4573440" cy="6858000"/>
          </a:xfrm>
          <a:prstGeom prst="rect">
            <a:avLst/>
          </a:prstGeom>
          <a:ln w="0">
            <a:noFill/>
          </a:ln>
        </p:spPr>
      </p:pic>
      <p:sp>
        <p:nvSpPr>
          <p:cNvPr id="89"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0" name="sLogo" descr="tmp35A"/>
          <p:cNvPicPr/>
          <p:nvPr/>
        </p:nvPicPr>
        <p:blipFill>
          <a:blip r:embed="rId3"/>
          <a:stretch/>
        </p:blipFill>
        <p:spPr>
          <a:xfrm>
            <a:off x="0" y="-12600"/>
            <a:ext cx="9144000" cy="2003400"/>
          </a:xfrm>
          <a:prstGeom prst="rect">
            <a:avLst/>
          </a:prstGeom>
          <a:ln w="0">
            <a:noFill/>
          </a:ln>
        </p:spPr>
      </p:pic>
      <p:sp>
        <p:nvSpPr>
          <p:cNvPr id="9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a529"/>
                </a:solidFill>
                <a:latin typeface="Verdana"/>
              </a:rPr>
              <a:t>Click to edit the title text format</a:t>
            </a:r>
            <a:endParaRPr b="0" lang="en-US" sz="2600" spc="-1" strike="noStrike">
              <a:solidFill>
                <a:srgbClr val="29a529"/>
              </a:solidFill>
              <a:latin typeface="Verdana"/>
            </a:endParaRPr>
          </a:p>
        </p:txBody>
      </p:sp>
      <p:sp>
        <p:nvSpPr>
          <p:cNvPr id="92"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3" name="PlaceHolder 3"/>
          <p:cNvSpPr>
            <a:spLocks noGrp="1"/>
          </p:cNvSpPr>
          <p:nvPr>
            <p:ph type="sldNum" idx="7"/>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FBAB-A6D2-4391-A885-714E0D76B9C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94" name="PlaceHolder 4"/>
          <p:cNvSpPr>
            <a:spLocks noGrp="1"/>
          </p:cNvSpPr>
          <p:nvPr>
            <p:ph type="dt" idx="8"/>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BE48-F443-4F74-A794-C44CFF621CF5}"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95" name="PlaceHolder 5"/>
          <p:cNvSpPr>
            <a:spLocks noGrp="1"/>
          </p:cNvSpPr>
          <p:nvPr>
            <p:ph type="ftr" idx="9"/>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sImage" descr="Teek_campagnebeeld -1"/>
          <p:cNvPicPr/>
          <p:nvPr/>
        </p:nvPicPr>
        <p:blipFill>
          <a:blip r:embed="rId2"/>
          <a:stretch/>
        </p:blipFill>
        <p:spPr>
          <a:xfrm>
            <a:off x="0" y="0"/>
            <a:ext cx="4572000" cy="6858000"/>
          </a:xfrm>
          <a:prstGeom prst="rect">
            <a:avLst/>
          </a:prstGeom>
          <a:ln w="0">
            <a:noFill/>
          </a:ln>
        </p:spPr>
      </p:pic>
      <p:sp>
        <p:nvSpPr>
          <p:cNvPr id="133" name="sThemeBarRight"/>
          <p:cNvSpPr/>
          <p:nvPr/>
        </p:nvSpPr>
        <p:spPr>
          <a:xfrm>
            <a:off x="4573440" y="0"/>
            <a:ext cx="4570560" cy="6859440"/>
          </a:xfrm>
          <a:prstGeom prst="rect">
            <a:avLst/>
          </a:prstGeom>
          <a:solidFill>
            <a:srgbClr val="27593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34" name="sLogo" descr="tmp35B"/>
          <p:cNvPicPr/>
          <p:nvPr/>
        </p:nvPicPr>
        <p:blipFill>
          <a:blip r:embed="rId3"/>
          <a:stretch/>
        </p:blipFill>
        <p:spPr>
          <a:xfrm>
            <a:off x="0" y="-12600"/>
            <a:ext cx="9144000" cy="2003400"/>
          </a:xfrm>
          <a:prstGeom prst="rect">
            <a:avLst/>
          </a:prstGeom>
          <a:ln w="0">
            <a:noFill/>
          </a:ln>
        </p:spPr>
      </p:pic>
      <p:sp>
        <p:nvSpPr>
          <p:cNvPr id="135"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0061"/>
                </a:solidFill>
                <a:latin typeface="Verdana"/>
              </a:rPr>
              <a:t>Click to edit the title text format</a:t>
            </a:r>
            <a:endParaRPr b="0" lang="en-US" sz="2600" spc="-1" strike="noStrike">
              <a:solidFill>
                <a:srgbClr val="a90061"/>
              </a:solidFill>
              <a:latin typeface="Verdana"/>
            </a:endParaRPr>
          </a:p>
        </p:txBody>
      </p:sp>
      <p:sp>
        <p:nvSpPr>
          <p:cNvPr id="136" name="PlaceHolder 2"/>
          <p:cNvSpPr>
            <a:spLocks noGrp="1"/>
          </p:cNvSpPr>
          <p:nvPr>
            <p:ph type="body"/>
          </p:nvPr>
        </p:nvSpPr>
        <p:spPr>
          <a:xfrm>
            <a:off x="485640" y="1844280"/>
            <a:ext cx="8172720" cy="4281480"/>
          </a:xfrm>
          <a:prstGeom prst="rect">
            <a:avLst/>
          </a:prstGeom>
          <a:noFill/>
          <a:ln w="0">
            <a:noFill/>
          </a:ln>
        </p:spPr>
        <p:txBody>
          <a:bodyPr lIns="0" rIns="0" tIns="0" bIns="0" anchor="t">
            <a:normAutofit/>
          </a:bodyPr>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539640" indent="-2728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804960" indent="-263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071720" indent="-2653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347840" indent="-2746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37" name="PlaceHolder 3"/>
          <p:cNvSpPr>
            <a:spLocks noGrp="1"/>
          </p:cNvSpPr>
          <p:nvPr>
            <p:ph type="sldNum" idx="10"/>
          </p:nvPr>
        </p:nvSpPr>
        <p:spPr>
          <a:xfrm>
            <a:off x="485280" y="6405480"/>
            <a:ext cx="3603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0304-7597-4138-973B-C232615C653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8" name="PlaceHolder 4"/>
          <p:cNvSpPr>
            <a:spLocks noGrp="1"/>
          </p:cNvSpPr>
          <p:nvPr>
            <p:ph type="dt" idx="11"/>
          </p:nvPr>
        </p:nvSpPr>
        <p:spPr>
          <a:xfrm>
            <a:off x="5002200" y="6405480"/>
            <a:ext cx="3656160" cy="144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ACCF-96AE-4F93-AA3E-A4B0992B8077}" type="datetime3">
              <a:rPr b="0" lang="nl-NL" sz="1000" spc="-1" strike="noStrike">
                <a:solidFill>
                  <a:srgbClr val="ffffff"/>
                </a:solidFill>
                <a:latin typeface="Times New Roman"/>
              </a:rPr>
              <a:t>29 juli 2026</a:t>
            </a:fld>
            <a:endParaRPr b="0" lang="en-US" sz="1000" spc="-1" strike="noStrike">
              <a:solidFill>
                <a:srgbClr val="000000"/>
              </a:solidFill>
              <a:latin typeface="Times New Roman"/>
            </a:endParaRPr>
          </a:p>
        </p:txBody>
      </p:sp>
      <p:sp>
        <p:nvSpPr>
          <p:cNvPr id="139" name="PlaceHolder 5"/>
          <p:cNvSpPr>
            <a:spLocks noGrp="1"/>
          </p:cNvSpPr>
          <p:nvPr>
            <p:ph type="ftr" idx="12"/>
          </p:nvPr>
        </p:nvSpPr>
        <p:spPr>
          <a:xfrm>
            <a:off x="5002200" y="6588000"/>
            <a:ext cx="3656160" cy="144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D805-30A6-44A4-BE6C-8967CBFF242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4"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6553-6D10-4F81-8FDA-CDCD45ECD265}"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5"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Een teek? </a:t>
            </a:r>
            <a:br>
              <a:rPr sz="2600"/>
            </a:br>
            <a:r>
              <a:rPr b="0" lang="nl-NL" sz="2600" spc="-1" strike="noStrike">
                <a:solidFill>
                  <a:srgbClr val="ffffff"/>
                </a:solidFill>
                <a:latin typeface="Verdana"/>
              </a:rPr>
              <a:t>Pak 'm beet!</a:t>
            </a:r>
            <a:endParaRPr b="0" lang="en-US" sz="2600" spc="-1" strike="noStrike">
              <a:solidFill>
                <a:srgbClr val="29a529"/>
              </a:solidFill>
              <a:latin typeface="Verdana"/>
            </a:endParaRPr>
          </a:p>
        </p:txBody>
      </p:sp>
      <p:sp>
        <p:nvSpPr>
          <p:cNvPr id="186"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FCA1-E392-4C53-B241-337325909AAB}"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6"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1CB1-0E33-46B0-ACE9-AB139892044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et</a:t>
            </a:r>
            <a:endParaRPr b="0" lang="en-US" sz="2600" spc="-1" strike="noStrike">
              <a:solidFill>
                <a:srgbClr val="29a529"/>
              </a:solidFill>
              <a:latin typeface="Verdana"/>
            </a:endParaRPr>
          </a:p>
        </p:txBody>
      </p:sp>
      <p:pic>
        <p:nvPicPr>
          <p:cNvPr id="228" name="Picture 4" descr="teek_vastgebeten"/>
          <p:cNvPicPr/>
          <p:nvPr/>
        </p:nvPicPr>
        <p:blipFill>
          <a:blip r:embed="rId1"/>
          <a:stretch/>
        </p:blipFill>
        <p:spPr>
          <a:xfrm>
            <a:off x="4427640" y="1916280"/>
            <a:ext cx="3887640" cy="384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AF4E-32F7-4F35-9B35-FD72EDA5C20F}"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0"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F8A7-F678-4E0A-91E4-E7D91274894F}"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1"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En daarna? </a:t>
            </a:r>
            <a:endParaRPr b="0" lang="en-US" sz="2600" spc="-1" strike="noStrike">
              <a:solidFill>
                <a:srgbClr val="29a529"/>
              </a:solidFill>
              <a:latin typeface="Verdana"/>
            </a:endParaRPr>
          </a:p>
        </p:txBody>
      </p:sp>
      <p:pic>
        <p:nvPicPr>
          <p:cNvPr id="232" name="Picture 5" descr="7"/>
          <p:cNvPicPr/>
          <p:nvPr/>
        </p:nvPicPr>
        <p:blipFill>
          <a:blip r:embed="rId1"/>
          <a:stretch/>
        </p:blipFill>
        <p:spPr>
          <a:xfrm>
            <a:off x="4716360" y="1989000"/>
            <a:ext cx="3857760" cy="3889440"/>
          </a:xfrm>
          <a:prstGeom prst="rect">
            <a:avLst/>
          </a:prstGeom>
          <a:ln w="0">
            <a:noFill/>
          </a:ln>
        </p:spPr>
      </p:pic>
      <p:pic>
        <p:nvPicPr>
          <p:cNvPr id="233" name="Picture 7" descr="6"/>
          <p:cNvPicPr/>
          <p:nvPr/>
        </p:nvPicPr>
        <p:blipFill>
          <a:blip r:embed="rId2"/>
          <a:stretch/>
        </p:blipFill>
        <p:spPr>
          <a:xfrm>
            <a:off x="395280" y="1916280"/>
            <a:ext cx="4010040" cy="39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5176-67FF-44D3-A3B2-B7008F7316E4}"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35"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CB90-2698-490D-9461-31EE2C7F8B24}"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36"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Symptomen Ziekte van Lyme </a:t>
            </a:r>
            <a:endParaRPr b="0" lang="en-US" sz="2600" spc="-1" strike="noStrike">
              <a:solidFill>
                <a:srgbClr val="29a529"/>
              </a:solidFill>
              <a:latin typeface="Verdana"/>
            </a:endParaRPr>
          </a:p>
        </p:txBody>
      </p:sp>
      <p:pic>
        <p:nvPicPr>
          <p:cNvPr id="237" name="Picture 4" descr="Rode ring vierkant"/>
          <p:cNvPicPr/>
          <p:nvPr/>
        </p:nvPicPr>
        <p:blipFill>
          <a:blip r:embed="rId1"/>
          <a:stretch/>
        </p:blipFill>
        <p:spPr>
          <a:xfrm>
            <a:off x="468360" y="1963800"/>
            <a:ext cx="3743280" cy="3743280"/>
          </a:xfrm>
          <a:prstGeom prst="rect">
            <a:avLst/>
          </a:prstGeom>
          <a:ln w="0">
            <a:noFill/>
          </a:ln>
        </p:spPr>
      </p:pic>
      <p:sp>
        <p:nvSpPr>
          <p:cNvPr id="238" name="PlaceHolder 2"/>
          <p:cNvSpPr>
            <a:spLocks noGrp="1"/>
          </p:cNvSpPr>
          <p:nvPr>
            <p:ph/>
          </p:nvPr>
        </p:nvSpPr>
        <p:spPr>
          <a:xfrm>
            <a:off x="5079600" y="5805000"/>
            <a:ext cx="2156040" cy="320760"/>
          </a:xfrm>
          <a:prstGeom prst="rect">
            <a:avLst/>
          </a:prstGeom>
          <a:noFill/>
          <a:ln w="0">
            <a:noFill/>
          </a:ln>
        </p:spPr>
        <p:txBody>
          <a:bodyPr lIns="0" rIns="0" tIns="0" bIns="0" anchor="t">
            <a:normAutofit/>
          </a:bodyPr>
          <a:p>
            <a:pPr marL="264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Foto: CDC Atlanta</a:t>
            </a:r>
            <a:endParaRPr b="0" lang="en-US" sz="1200" spc="-1" strike="noStrike">
              <a:solidFill>
                <a:srgbClr val="000000"/>
              </a:solidFill>
              <a:latin typeface="Verdana"/>
            </a:endParaRPr>
          </a:p>
        </p:txBody>
      </p:sp>
      <p:pic>
        <p:nvPicPr>
          <p:cNvPr id="239" name="Picture 8" descr="PHIL Image 9873"/>
          <p:cNvPicPr/>
          <p:nvPr/>
        </p:nvPicPr>
        <p:blipFill>
          <a:blip r:embed="rId2"/>
          <a:stretch/>
        </p:blipFill>
        <p:spPr>
          <a:xfrm>
            <a:off x="5046840" y="1916280"/>
            <a:ext cx="2549520" cy="38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2CFF-1D1D-4B9E-BFD0-66898D261467}"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41"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055F-C0E4-4062-8C53-2BA5E6FD1C6F}"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4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Meer weten? </a:t>
            </a:r>
            <a:endParaRPr b="0" lang="en-US" sz="2600" spc="-1" strike="noStrike">
              <a:solidFill>
                <a:srgbClr val="29a529"/>
              </a:solidFill>
              <a:latin typeface="Verdana"/>
            </a:endParaRPr>
          </a:p>
        </p:txBody>
      </p:sp>
      <p:sp>
        <p:nvSpPr>
          <p:cNvPr id="243"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ijk ook eens op: </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kenradar.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teekcontrol.nl (spel voor kinderen over tekenbeten)</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rivm.nl/tekenbeet/film</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ww.weekvandeteek.nl</a:t>
            </a: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SlideNumber"/>
          <p:cNvSpPr/>
          <p:nvPr/>
        </p:nvSpPr>
        <p:spPr>
          <a:xfrm>
            <a:off x="485640" y="6405480"/>
            <a:ext cx="3603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A676-D221-4513-B952-14848B1D58DE}"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88" name="sDateTime"/>
          <p:cNvSpPr/>
          <p:nvPr/>
        </p:nvSpPr>
        <p:spPr>
          <a:xfrm>
            <a:off x="5002200" y="6405480"/>
            <a:ext cx="365616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47BA-EC0A-4747-B25A-562D74843990}"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89" name="PlaceHolder 1"/>
          <p:cNvSpPr>
            <a:spLocks noGrp="1"/>
          </p:cNvSpPr>
          <p:nvPr>
            <p:ph type="title"/>
          </p:nvPr>
        </p:nvSpPr>
        <p:spPr>
          <a:xfrm>
            <a:off x="5002200" y="2097000"/>
            <a:ext cx="3656160" cy="1224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Verdana"/>
              </a:rPr>
              <a:t>Inhoud</a:t>
            </a:r>
            <a:endParaRPr b="0" lang="en-US" sz="2600" spc="-1" strike="noStrike">
              <a:solidFill>
                <a:srgbClr val="a90061"/>
              </a:solidFill>
              <a:latin typeface="Verdana"/>
            </a:endParaRPr>
          </a:p>
        </p:txBody>
      </p:sp>
      <p:sp>
        <p:nvSpPr>
          <p:cNvPr id="190" name="PlaceHolder 2"/>
          <p:cNvSpPr>
            <a:spLocks noGrp="1"/>
          </p:cNvSpPr>
          <p:nvPr>
            <p:ph type="subTitle"/>
          </p:nvPr>
        </p:nvSpPr>
        <p:spPr>
          <a:xfrm>
            <a:off x="5002200" y="3568320"/>
            <a:ext cx="3656160" cy="2739960"/>
          </a:xfrm>
          <a:prstGeom prst="rect">
            <a:avLst/>
          </a:prstGeom>
          <a:noFill/>
          <a:ln w="0">
            <a:noFill/>
          </a:ln>
        </p:spPr>
        <p:txBody>
          <a:bodyPr lIns="0" rIns="0" tIns="0" bIns="0" anchor="t">
            <a:noAutofit/>
          </a:bodyPr>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 teek</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Ziekte van Lyme </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ekenbet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troler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Weghalen</a:t>
            </a:r>
            <a:endParaRPr b="0" lang="en-US" sz="1800" spc="-1" strike="noStrike">
              <a:solidFill>
                <a:srgbClr val="000000"/>
              </a:solidFill>
              <a:latin typeface="Verdana"/>
            </a:endParaRPr>
          </a:p>
          <a:p>
            <a:pPr marL="270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6CE1-0445-4BC5-A349-4497CB2BAFB2}"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2" name="Slide Number Placeholder 5"/>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ECC5-6634-41F9-8A3D-AE41769314A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3"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en ziekte van Lyme</a:t>
            </a:r>
            <a:endParaRPr b="0" lang="en-US" sz="2600" spc="-1" strike="noStrike">
              <a:solidFill>
                <a:srgbClr val="29a529"/>
              </a:solidFill>
              <a:latin typeface="Verdana"/>
            </a:endParaRPr>
          </a:p>
        </p:txBody>
      </p:sp>
      <p:sp>
        <p:nvSpPr>
          <p:cNvPr id="194" name="PlaceHolder 2"/>
          <p:cNvSpPr>
            <a:spLocks noGrp="1"/>
          </p:cNvSpPr>
          <p:nvPr>
            <p:ph/>
          </p:nvPr>
        </p:nvSpPr>
        <p:spPr>
          <a:xfrm>
            <a:off x="485640" y="1844280"/>
            <a:ext cx="8172720" cy="4281480"/>
          </a:xfrm>
          <a:prstGeom prst="rect">
            <a:avLst/>
          </a:prstGeom>
          <a:noFill/>
          <a:ln w="0">
            <a:noFill/>
          </a:ln>
        </p:spPr>
        <p:txBody>
          <a:bodyPr lIns="0" rIns="0" tIns="0" bIns="0" anchor="t">
            <a:normAutofit/>
          </a:bodyPr>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n een tekenbeet kunt u ziek worden. </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ontroleer uzelf en anderen nadat u in het groen bent geweest</a:t>
            </a:r>
            <a:endParaRPr b="0" lang="en-US" sz="1800" spc="-1" strike="noStrike">
              <a:solidFill>
                <a:srgbClr val="000000"/>
              </a:solidFill>
              <a:latin typeface="Verdana"/>
            </a:endParaRPr>
          </a:p>
          <a:p>
            <a:pPr marL="26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ent u gebeten door een teek, verwijder deze dan dir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9B78-C53D-412D-A715-BF5E3DFE544E}"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19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C661-AAE1-40A4-B7F7-E00B8C2B9D2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19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De teek</a:t>
            </a:r>
            <a:endParaRPr b="0" lang="en-US" sz="2600" spc="-1" strike="noStrike">
              <a:solidFill>
                <a:srgbClr val="29a529"/>
              </a:solidFill>
              <a:latin typeface="Verdana"/>
            </a:endParaRPr>
          </a:p>
        </p:txBody>
      </p:sp>
      <p:pic>
        <p:nvPicPr>
          <p:cNvPr id="198" name="Picture 6" descr="Bos - locatie teek"/>
          <p:cNvPicPr/>
          <p:nvPr/>
        </p:nvPicPr>
        <p:blipFill>
          <a:blip r:embed="rId1"/>
          <a:stretch/>
        </p:blipFill>
        <p:spPr>
          <a:xfrm>
            <a:off x="5091120" y="1949400"/>
            <a:ext cx="3672000" cy="3672000"/>
          </a:xfrm>
          <a:prstGeom prst="rect">
            <a:avLst/>
          </a:prstGeom>
          <a:ln w="0">
            <a:noFill/>
          </a:ln>
        </p:spPr>
      </p:pic>
      <p:pic>
        <p:nvPicPr>
          <p:cNvPr id="199" name="Picture 9" descr="Teek_campagnebeeld"/>
          <p:cNvPicPr/>
          <p:nvPr/>
        </p:nvPicPr>
        <p:blipFill>
          <a:blip r:embed="rId2"/>
          <a:stretch/>
        </p:blipFill>
        <p:spPr>
          <a:xfrm>
            <a:off x="466560" y="1949400"/>
            <a:ext cx="4176720" cy="36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A260-80FA-4F4C-9575-1E23AE973E9F}"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4262-D7A6-48AD-9FAB-93657BA55F02}"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et leven van een teek</a:t>
            </a:r>
            <a:endParaRPr b="0" lang="en-US" sz="2600" spc="-1" strike="noStrike">
              <a:solidFill>
                <a:srgbClr val="29a529"/>
              </a:solidFill>
              <a:latin typeface="Verdana"/>
            </a:endParaRPr>
          </a:p>
        </p:txBody>
      </p:sp>
      <p:pic>
        <p:nvPicPr>
          <p:cNvPr id="203" name="Picture 4" descr="levenscyclus van een teek"/>
          <p:cNvPicPr/>
          <p:nvPr/>
        </p:nvPicPr>
        <p:blipFill>
          <a:blip r:embed="rId1"/>
          <a:stretch/>
        </p:blipFill>
        <p:spPr>
          <a:xfrm>
            <a:off x="250920" y="2492280"/>
            <a:ext cx="4010040" cy="2909880"/>
          </a:xfrm>
          <a:prstGeom prst="rect">
            <a:avLst/>
          </a:prstGeom>
          <a:ln w="0">
            <a:noFill/>
          </a:ln>
        </p:spPr>
      </p:pic>
      <p:pic>
        <p:nvPicPr>
          <p:cNvPr id="204" name="Picture 8" descr="Teken bij lineaal"/>
          <p:cNvPicPr/>
          <p:nvPr/>
        </p:nvPicPr>
        <p:blipFill>
          <a:blip r:embed="rId2"/>
          <a:stretch/>
        </p:blipFill>
        <p:spPr>
          <a:xfrm>
            <a:off x="4211640" y="2622600"/>
            <a:ext cx="4753080" cy="262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E3FF-007A-447D-88D2-29063AD4B64A}"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0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7405-CA73-43F8-A020-7191A544C365}"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0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Ziekte van Lyme</a:t>
            </a:r>
            <a:endParaRPr b="0" lang="en-US" sz="2600" spc="-1" strike="noStrike">
              <a:solidFill>
                <a:srgbClr val="29a529"/>
              </a:solidFill>
              <a:latin typeface="Verdana"/>
            </a:endParaRPr>
          </a:p>
        </p:txBody>
      </p:sp>
      <p:sp>
        <p:nvSpPr>
          <p:cNvPr id="208" name="PlaceHolder 2"/>
          <p:cNvSpPr>
            <a:spLocks noGrp="1"/>
          </p:cNvSpPr>
          <p:nvPr>
            <p:ph/>
          </p:nvPr>
        </p:nvSpPr>
        <p:spPr>
          <a:xfrm>
            <a:off x="485280" y="1844280"/>
            <a:ext cx="4010040" cy="4281480"/>
          </a:xfrm>
          <a:prstGeom prst="rect">
            <a:avLst/>
          </a:prstGeom>
          <a:noFill/>
          <a:ln w="0">
            <a:noFill/>
          </a:ln>
        </p:spPr>
        <p:txBody>
          <a:bodyPr lIns="0" rIns="0" tIns="0" bIns="0" anchor="t">
            <a:normAutofit fontScale="98000"/>
          </a:bodyPr>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oorzaakt door bacterie </a:t>
            </a:r>
            <a:r>
              <a:rPr b="0" i="1" lang="nl-NL" sz="1400" spc="-1" strike="noStrike">
                <a:solidFill>
                  <a:srgbClr val="000000"/>
                </a:solidFill>
                <a:latin typeface="Verdana"/>
              </a:rPr>
              <a:t>Borrelia burgdorferi</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uit zich in de meeste gevallen (niet altijd) door een rode ringvormige uitslag: Erythema migrans. </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Verder kan de ziekte zich in een later stadium uiten door neurologische, gewrichts-, huid- of hartklachten.</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tal mensen met eerste verschijnsel ziekte van Lyme neemt toe</a:t>
            </a:r>
            <a:endParaRPr b="0" lang="en-US" sz="1400" spc="-1" strike="noStrike">
              <a:solidFill>
                <a:srgbClr val="000000"/>
              </a:solidFill>
              <a:latin typeface="Verdana"/>
            </a:endParaRPr>
          </a:p>
          <a:p>
            <a:pPr marL="259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59560" indent="-2595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Ziekte is goed te behandelen met antibiotica. Hoe eerder de behandeling start hoe beter. </a:t>
            </a:r>
            <a:endParaRPr b="0" lang="en-US" sz="1400" spc="-1" strike="noStrike">
              <a:solidFill>
                <a:srgbClr val="000000"/>
              </a:solidFill>
              <a:latin typeface="Verdana"/>
            </a:endParaRPr>
          </a:p>
        </p:txBody>
      </p:sp>
      <p:pic>
        <p:nvPicPr>
          <p:cNvPr id="209" name="Picture 7" descr="Borrelia burgdorferi - Foto CDC-PHIL"/>
          <p:cNvPicPr/>
          <p:nvPr/>
        </p:nvPicPr>
        <p:blipFill>
          <a:blip r:embed="rId1"/>
          <a:stretch/>
        </p:blipFill>
        <p:spPr>
          <a:xfrm>
            <a:off x="5364000" y="1916280"/>
            <a:ext cx="3270240" cy="327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5"/>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3F33-3B45-42BE-8BF5-62D83DA5EABE}"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1" name="Slide Number Placeholder 7"/>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4E88-8B19-42D1-B488-D775D3D8028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Tekenbeten voorkomen</a:t>
            </a:r>
            <a:endParaRPr b="0" lang="en-US" sz="2600" spc="-1" strike="noStrike">
              <a:solidFill>
                <a:srgbClr val="29a529"/>
              </a:solidFill>
              <a:latin typeface="Verdana"/>
            </a:endParaRPr>
          </a:p>
        </p:txBody>
      </p:sp>
      <p:sp>
        <p:nvSpPr>
          <p:cNvPr id="213" name="PlaceHolder 2"/>
          <p:cNvSpPr>
            <a:spLocks noGrp="1"/>
          </p:cNvSpPr>
          <p:nvPr>
            <p:ph/>
          </p:nvPr>
        </p:nvSpPr>
        <p:spPr>
          <a:xfrm>
            <a:off x="485280" y="1844280"/>
            <a:ext cx="4010040" cy="4281480"/>
          </a:xfrm>
          <a:prstGeom prst="rect">
            <a:avLst/>
          </a:prstGeom>
          <a:noFill/>
          <a:ln w="0">
            <a:noFill/>
          </a:ln>
        </p:spPr>
        <p:txBody>
          <a:bodyPr lIns="0" rIns="0" tIns="0" bIns="0" anchor="t">
            <a:normAutofit/>
          </a:bodyPr>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Tips:</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Na een bezoek aan het groen ALTIJD controleren op teken</a:t>
            </a: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aarnaast kunt u het volgende do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Blijf op de paden, voorkom daarmee contact met teken</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raag bedekkende kleding en doe de broek in de sokken. Geïmpregneerde kleding of kleding inspuiten met DEET</a:t>
            </a:r>
            <a:endParaRPr b="0" lang="en-US" sz="1600" spc="-1" strike="noStrike">
              <a:solidFill>
                <a:srgbClr val="000000"/>
              </a:solidFill>
              <a:latin typeface="Verdana"/>
            </a:endParaRPr>
          </a:p>
          <a:p>
            <a:pPr marL="264960" indent="-26496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Smeer onbedekte huid in met DEET</a:t>
            </a:r>
            <a:endParaRPr b="0" lang="en-US" sz="1600" spc="-1" strike="noStrike">
              <a:solidFill>
                <a:srgbClr val="000000"/>
              </a:solidFill>
              <a:latin typeface="Verdana"/>
            </a:endParaRPr>
          </a:p>
          <a:p>
            <a:pPr marL="264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Maatregelen verminderen de kans op beten, maar een tekencontrole blijft nodig</a:t>
            </a:r>
            <a:endParaRPr b="0" lang="en-US" sz="1600" spc="-1" strike="noStrike">
              <a:solidFill>
                <a:srgbClr val="000000"/>
              </a:solidFill>
              <a:latin typeface="Verdana"/>
            </a:endParaRPr>
          </a:p>
        </p:txBody>
      </p:sp>
      <p:pic>
        <p:nvPicPr>
          <p:cNvPr id="214" name="Picture 7" descr="wandelen_17"/>
          <p:cNvPicPr/>
          <p:nvPr/>
        </p:nvPicPr>
        <p:blipFill>
          <a:blip r:embed="rId1"/>
          <a:stretch/>
        </p:blipFill>
        <p:spPr>
          <a:xfrm>
            <a:off x="5651640" y="1628640"/>
            <a:ext cx="2784240" cy="41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A418-D080-4701-B388-4FAF40D8209B}"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16"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E1E8-CD70-469A-BA1D-F084E1BB33B9}"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17"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Controleer op tekenbeten</a:t>
            </a:r>
            <a:endParaRPr b="0" lang="en-US" sz="2600" spc="-1" strike="noStrike">
              <a:solidFill>
                <a:srgbClr val="29a529"/>
              </a:solidFill>
              <a:latin typeface="Verdana"/>
            </a:endParaRPr>
          </a:p>
        </p:txBody>
      </p:sp>
      <p:pic>
        <p:nvPicPr>
          <p:cNvPr id="218" name="Picture 4" descr="Tekencontrole man"/>
          <p:cNvPicPr/>
          <p:nvPr/>
        </p:nvPicPr>
        <p:blipFill>
          <a:blip r:embed="rId1"/>
          <a:stretch/>
        </p:blipFill>
        <p:spPr>
          <a:xfrm>
            <a:off x="539640" y="1844640"/>
            <a:ext cx="4010040" cy="3983040"/>
          </a:xfrm>
          <a:prstGeom prst="rect">
            <a:avLst/>
          </a:prstGeom>
          <a:ln w="0">
            <a:noFill/>
          </a:ln>
        </p:spPr>
      </p:pic>
      <p:pic>
        <p:nvPicPr>
          <p:cNvPr id="219" name="Picture 8" descr="4"/>
          <p:cNvPicPr/>
          <p:nvPr/>
        </p:nvPicPr>
        <p:blipFill>
          <a:blip r:embed="rId2"/>
          <a:stretch/>
        </p:blipFill>
        <p:spPr>
          <a:xfrm>
            <a:off x="4788000" y="1773360"/>
            <a:ext cx="401004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4"/>
          <p:cNvSpPr/>
          <p:nvPr/>
        </p:nvSpPr>
        <p:spPr>
          <a:xfrm>
            <a:off x="4573440" y="6405480"/>
            <a:ext cx="4087800" cy="144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99CA-B55D-4AD8-92CE-EDFC97FFDAE5}" type="datetime3">
              <a:rPr b="0" lang="nl-NL" sz="1000" spc="-1" strike="noStrike">
                <a:solidFill>
                  <a:srgbClr val="ffffff"/>
                </a:solidFill>
                <a:latin typeface="Verdana"/>
              </a:rPr>
              <a:t>29 juli 2026</a:t>
            </a:fld>
            <a:endParaRPr b="0" lang="en-US" sz="1000" spc="-1" strike="noStrike">
              <a:solidFill>
                <a:srgbClr val="000000"/>
              </a:solidFill>
              <a:latin typeface="Verdana"/>
            </a:endParaRPr>
          </a:p>
        </p:txBody>
      </p:sp>
      <p:sp>
        <p:nvSpPr>
          <p:cNvPr id="221" name="Slide Number Placeholder 6"/>
          <p:cNvSpPr/>
          <p:nvPr/>
        </p:nvSpPr>
        <p:spPr>
          <a:xfrm>
            <a:off x="485640" y="6407280"/>
            <a:ext cx="36036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C309-5EFD-4DBB-8BF0-717E9F27D0DA}" type="slidenum">
              <a:rPr b="0" lang="nl-NL" sz="1000" spc="-1" strike="noStrike">
                <a:solidFill>
                  <a:srgbClr val="ffffff"/>
                </a:solidFill>
                <a:latin typeface="Verdana"/>
              </a:rPr>
              <a:t>&lt;number&gt;</a:t>
            </a:fld>
            <a:endParaRPr b="0" lang="en-US" sz="1000" spc="-1" strike="noStrike">
              <a:solidFill>
                <a:srgbClr val="000000"/>
              </a:solidFill>
              <a:latin typeface="Verdana"/>
            </a:endParaRPr>
          </a:p>
        </p:txBody>
      </p:sp>
      <p:sp>
        <p:nvSpPr>
          <p:cNvPr id="222" name="PlaceHolder 1"/>
          <p:cNvSpPr>
            <a:spLocks noGrp="1"/>
          </p:cNvSpPr>
          <p:nvPr>
            <p:ph type="title"/>
          </p:nvPr>
        </p:nvSpPr>
        <p:spPr>
          <a:xfrm>
            <a:off x="485640" y="1283760"/>
            <a:ext cx="8172720" cy="44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29a529"/>
                </a:solidFill>
                <a:latin typeface="Verdana"/>
              </a:rPr>
              <a:t>Haal teken direct weg</a:t>
            </a:r>
            <a:endParaRPr b="0" lang="en-US" sz="2600" spc="-1" strike="noStrike">
              <a:solidFill>
                <a:srgbClr val="29a529"/>
              </a:solidFill>
              <a:latin typeface="Verdana"/>
            </a:endParaRPr>
          </a:p>
        </p:txBody>
      </p:sp>
      <p:pic>
        <p:nvPicPr>
          <p:cNvPr id="223" name="Picture 4" descr="Teek verwijderen"/>
          <p:cNvPicPr/>
          <p:nvPr/>
        </p:nvPicPr>
        <p:blipFill>
          <a:blip r:embed="rId1"/>
          <a:stretch/>
        </p:blipFill>
        <p:spPr>
          <a:xfrm>
            <a:off x="4498920" y="2036880"/>
            <a:ext cx="4176720" cy="4091040"/>
          </a:xfrm>
          <a:prstGeom prst="rect">
            <a:avLst/>
          </a:prstGeom>
          <a:ln w="0">
            <a:noFill/>
          </a:ln>
        </p:spPr>
      </p:pic>
      <p:pic>
        <p:nvPicPr>
          <p:cNvPr id="224" name="Picture 6" descr="Hand pincet"/>
          <p:cNvPicPr/>
          <p:nvPr/>
        </p:nvPicPr>
        <p:blipFill>
          <a:blip r:embed="rId2"/>
          <a:stretch/>
        </p:blipFill>
        <p:spPr>
          <a:xfrm>
            <a:off x="684360" y="2060640"/>
            <a:ext cx="4032000" cy="394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8:05:52Z</dcterms:created>
  <dc:creator>Marieke Timmer</dc:creator>
  <dc:description/>
  <dc:language>en-US</dc:language>
  <cp:lastModifiedBy>Cuperus,B.K.</cp:lastModifiedBy>
  <dcterms:modified xsi:type="dcterms:W3CDTF">2014-02-18T07:56:57Z</dcterms:modified>
  <cp:revision>60</cp:revision>
  <dc:subject/>
  <dc:title>Een teek? _x000b_Pak 'm beet!</dc:title>
</cp:coreProperties>
</file>