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BD30E-F1B6-432C-A82B-EC119DA251D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ijdelijke aanduiding voor dianumm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C0EEC-E419-4ECA-9152-38C0A7772BA3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ijdelijke aanduiding voor dianumm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1A6EA-09DF-45FF-BE91-B098190BDF0C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318A-5C64-4D17-A36A-06F9098E2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5DED-2FB5-4D57-BC95-EAAF44715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D68A-7DFF-4A56-B367-690E09EB6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F5E5-A3FB-4F4F-935D-CDA7B77CE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D8BA-7668-496E-8FB8-3AE39C768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C1FC-1B3C-4307-A5B9-C654A9A84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576F-3C78-409D-9D32-64D6A1015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17FD-BE18-4FE1-9D9C-E31C606B8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ECE3-9737-47DA-BDBA-C19D0498C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9644-B330-4647-9E35-40222E231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125C-F949-4F46-A118-A633B1C8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0361-5664-4741-A8A4-83DC57366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5A87A-DE23-4351-A390-75CB98B011CA}" type="datetime">
              <a:rPr b="0" lang="nl-NL" sz="1200" spc="-1" strike="noStrike">
                <a:solidFill>
                  <a:srgbClr val="898989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edische kennis Lagere Luchtwegen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8C33A-8394-436E-89FD-5C5FC450752F}" type="slidenum">
              <a:rPr b="0" lang="nl-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283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Ziekten van de lagere luchtweg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Inhou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oest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cute bronchit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Pneumon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ronchiolit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6516720" y="1628640"/>
            <a:ext cx="1763640" cy="3095640"/>
          </a:xfrm>
          <a:prstGeom prst="rect">
            <a:avLst/>
          </a:prstGeom>
          <a:ln w="0">
            <a:noFill/>
          </a:ln>
        </p:spPr>
      </p:pic>
      <p:sp>
        <p:nvSpPr>
          <p:cNvPr id="51" name="Tijdelijke aanduiding voor voettekst 1"/>
          <p:cNvSpPr/>
          <p:nvPr/>
        </p:nvSpPr>
        <p:spPr>
          <a:xfrm>
            <a:off x="2590920" y="6356520"/>
            <a:ext cx="414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edische kennis Lagere Luchtwegen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jdelijke aanduiding voor datum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AE081-8357-4EBB-B1D9-4474E39A32AF}" type="datetime">
              <a:rPr b="0" lang="nl-NL" sz="1200" spc="-1" strike="noStrike">
                <a:solidFill>
                  <a:srgbClr val="898989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Afbeelding 2" descr=""/>
          <p:cNvPicPr/>
          <p:nvPr/>
        </p:nvPicPr>
        <p:blipFill>
          <a:blip r:embed="rId2"/>
          <a:stretch/>
        </p:blipFill>
        <p:spPr>
          <a:xfrm>
            <a:off x="3171960" y="1692360"/>
            <a:ext cx="299880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cute bronchit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Acute bronchitis geneest meestal vanzelf. De ontsteking is na ongeveer twee weken verdwene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AT KUNT U ZELF DOEN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rustig aan do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oldoende drinken, zeker als u koorts heef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Paracetam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oestdrankjes en drankjes met een ‘slijmoplosser’ helpen meestal nie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edische kennis Lagere Luchtwegen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Pneumoni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9528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Beschrijving: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Bij een longontsteking zijn de kleinere luchtwegen en de longblaasjes ontstoke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Oorzaken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bacteri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ir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schimmel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parasiet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ijdelijke aanduiding voor voettekst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edische kennis Lagere Luchtwegen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1"/>
          <a:stretch/>
        </p:blipFill>
        <p:spPr>
          <a:xfrm>
            <a:off x="4021200" y="2416320"/>
            <a:ext cx="3997440" cy="3200400"/>
          </a:xfrm>
          <a:prstGeom prst="rect">
            <a:avLst/>
          </a:prstGeom>
          <a:ln w="0">
            <a:noFill/>
          </a:ln>
        </p:spPr>
      </p:pic>
      <p:sp>
        <p:nvSpPr>
          <p:cNvPr id="99" name="Tijdelijke aanduiding voor datum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901B6-074F-4964-BF71-BCCEB317935A}" type="datetime">
              <a:rPr b="0" lang="nl-NL" sz="1200" spc="-1" strike="noStrike">
                <a:solidFill>
                  <a:srgbClr val="898989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Pneumon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Symptom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oest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kortademighei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koorts (meer dan 38o C; meet de temperatuur via de anu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snelle ademh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snelle hartsla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soms: pijn bij diep inadem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slap en lusteloos gevo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rg moe zij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pgeven van slijm (wit, geel, groen of bloederig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ijdelijke aanduiding voor datum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75A05-CC4C-49D1-B95A-3544A14D63D6}" type="datetime">
              <a:rPr b="0" lang="nl-NL" sz="1200" spc="-1" strike="noStrike">
                <a:solidFill>
                  <a:srgbClr val="898989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edische kennis Lagere Luchtwegen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Afbeelding 5" descr=""/>
          <p:cNvPicPr/>
          <p:nvPr/>
        </p:nvPicPr>
        <p:blipFill>
          <a:blip r:embed="rId1"/>
          <a:stretch/>
        </p:blipFill>
        <p:spPr>
          <a:xfrm>
            <a:off x="5435640" y="2852640"/>
            <a:ext cx="2305080" cy="15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Meer kans om longontsteking te krijge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jonge kinderen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kinderen en volwassenen met astma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mensen met COPD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mensen met diabetes mellitus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ouderen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rokers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mensen die regelmatig alcohol drinken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mensen die langdurig op bed liggen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mensen met minder weerstand door ziekte of medicijngebruik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mensen met hartfa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edische kennis Lagere Luchtwegen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ijdelijke aanduiding voor datum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3372A-E3E5-4741-93B2-4EDB8B7E9D41}" type="datetime">
              <a:rPr b="0" lang="nl-NL" sz="1200" spc="-1" strike="noStrike">
                <a:solidFill>
                  <a:srgbClr val="898989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Pneumon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Onderzo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namnes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usculta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RP-sneltest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(bij matige tot zieke patiënte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XF-Thora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putumkwee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edische kennis Lagere Luchtwegen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6235560" y="4011480"/>
            <a:ext cx="1973520" cy="1312920"/>
          </a:xfrm>
          <a:prstGeom prst="rect">
            <a:avLst/>
          </a:prstGeom>
          <a:ln w="0">
            <a:noFill/>
          </a:ln>
        </p:spPr>
      </p:pic>
      <p:sp>
        <p:nvSpPr>
          <p:cNvPr id="113" name="Tijdelijke aanduiding voor datum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00A13-9E30-45FC-870D-1A9635721F45}" type="datetime">
              <a:rPr b="0" lang="nl-NL" sz="1200" spc="-1" strike="noStrike">
                <a:solidFill>
                  <a:srgbClr val="898989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Afbeelding 4" descr=""/>
          <p:cNvPicPr/>
          <p:nvPr/>
        </p:nvPicPr>
        <p:blipFill>
          <a:blip r:embed="rId2"/>
          <a:stretch/>
        </p:blipFill>
        <p:spPr>
          <a:xfrm>
            <a:off x="6235560" y="1233360"/>
            <a:ext cx="196236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Pneumon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Behande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et is vaak niet duidelijk of een longontsteking door een virus of bacterie komt. Een longontsteking door bacteriën kan ernstig verlop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aarom krijgen (risicogroepen) meestal voor de zekerheid een antibioticakuur. Antibiotica helpen meestal snel en goed tegen bacterië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edische kennis Lagere Luchtwegen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ijdelijke aanduiding voor datum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EFE1B-3139-48BB-A0D8-134CA833CAB2}" type="datetime">
              <a:rPr b="0" lang="nl-NL" sz="1200" spc="-1" strike="noStrike">
                <a:solidFill>
                  <a:srgbClr val="898989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Pneumon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Adviez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e volgende adviezen zijn belangrijk bij een longontsteking: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rink voldoende, zeker als u koorts heef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Neem rust als u slap, zwak of moe b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Rook niet en vraag de mensen in uw omgeving om niet te rok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edische kennis Lagere Luchtwegen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ijdelijke aanduiding voor datum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F9DAC-686B-4746-B5AF-17E5969873F4}" type="datetime">
              <a:rPr b="0" lang="nl-NL" sz="1200" spc="-1" strike="noStrike">
                <a:solidFill>
                  <a:srgbClr val="898989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Pneumon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Wanneer contact opnemen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ls de klachten na 3 dagen antibiotica nog niet minder zijn of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ls u of uw kind ondanks de antibiotica zieker wordt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Calibri"/>
              </a:rPr>
              <a:t>Let daarbij op de volgende klachten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enauwdheid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een heel snelle ademhaling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demhaling die af en toe even stopt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iepende ademhaling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ufheid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verwardheid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koorts die niet weggaat tijdens het begin van de kuur (meet de temperatuur via de anus)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koorts die weer terugkomt na een paar koortsvrije dagen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koude rillingen.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Wanneer u langdurig hoest, afvalt of bloed ophoest, is verder onderzoek nodig. Er wordt dan gekeken of er een andere oorzaak voor het hoesten i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ijdelijke aanduiding voor datum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AF821-12DF-4A0F-8EC2-80E8754E1DBD}" type="datetime">
              <a:rPr b="0" lang="nl-NL" sz="1200" spc="-1" strike="noStrike">
                <a:solidFill>
                  <a:srgbClr val="898989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edische kennis Lagere Luchtwegen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Pneumonie als complicatie van influenz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luenza (gevaarlijke grie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Meest voorkomende doodsoorzaak bij griep is pneumonie. Dit virus kan de luchtwegen beschadig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Superinfectie: naast virale infectie een bacteriële infectie; dan antibiotica gev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Let op kortademigheid  bij griep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ijdelijke aanduiding voor datum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FB430-01B6-4669-B3C3-B5E138582995}" type="datetime">
              <a:rPr b="0" lang="nl-NL" sz="1200" spc="-1" strike="noStrike">
                <a:solidFill>
                  <a:srgbClr val="898989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edische kennis Lagere Luchtwegen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ronchiolit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Omschrijv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ntsteking van de kleine luchtwegen (bronchiolen) die naar de longblaasjes lop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Oorzaa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irus; meestal 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Influenza (grie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0000"/>
                </a:solidFill>
                <a:latin typeface="Calibri"/>
              </a:rPr>
              <a:t>Erg besmettelijk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ijdelijke aanduiding voor datum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4D16A-8E0D-4EEA-BA5B-309443E27F78}" type="datetime">
              <a:rPr b="0" lang="nl-NL" sz="1200" spc="-1" strike="noStrike">
                <a:solidFill>
                  <a:srgbClr val="898989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edische kennis Lagere Luchtwegen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Afbeelding 5" descr=""/>
          <p:cNvPicPr/>
          <p:nvPr/>
        </p:nvPicPr>
        <p:blipFill>
          <a:blip r:embed="rId1"/>
          <a:stretch/>
        </p:blipFill>
        <p:spPr>
          <a:xfrm>
            <a:off x="4788000" y="2492280"/>
            <a:ext cx="32655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oes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Hoesten: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explosief verlopende uitademing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ij gesloten strottenklep (epiglottis) en stemspleet wordt druk opgebouw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Onproductieve hoest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: hoest die geen slijm vrijmaakt uit de long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Productieve hoest: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et ophoesten van slij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edische kennis Lagere Luchtwegen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ijdelijke aanduiding voor datum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FAE68-4503-41D7-89D8-C8C2BD4AA5B0}" type="datetime">
              <a:rPr b="0" lang="nl-NL" sz="1200" spc="-1" strike="noStrike">
                <a:solidFill>
                  <a:srgbClr val="898989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ronchiolit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Symptom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oest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Piepende ademh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Kortademigheid, benauwdhei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Slecht drink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erhoging en koor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nrust of suffer zij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Stoken van de ademhaling (apneu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ijdelijke aanduiding voor datum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D8331-7816-413A-91B9-AD630D97C87F}" type="datetime">
              <a:rPr b="0" lang="nl-NL" sz="1200" spc="-1" strike="noStrike">
                <a:solidFill>
                  <a:srgbClr val="898989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edische kennis Lagere Luchtwegen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ronchiolit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Behande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ndersteunend; soms opname; behandeling kan bestaan uit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zuurstof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maagsond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ernevelen met  medicatie voor de long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ntibiotica indien de longontsteking door een bacterie veroorzaakt word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ijdelijke aanduiding voor datum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6E5D5-7619-44FD-9826-8E5C46E4A48E}" type="datetime">
              <a:rPr b="0" lang="nl-NL" sz="1200" spc="-1" strike="noStrike">
                <a:solidFill>
                  <a:srgbClr val="898989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edische kennis Lagere Luchtwegen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ronchiolit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Onderzo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namne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lichamelijk onderzo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oms XF-thora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ijdelijke aanduiding voor datum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0562C-CB57-48B9-87A0-AA2D452152F5}" type="datetime">
              <a:rPr b="0" lang="nl-NL" sz="1200" spc="-1" strike="noStrike">
                <a:solidFill>
                  <a:srgbClr val="898989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edische kennis Lagere Luchtwegen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erwijzing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https://www.longfonds.nl/longontsteking/oorzaken-longontstek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http://www.mijnlongen.nl/Hoesten/49bfd7af/1/Hoesten.asp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https://youtu.be/n1GNua2JvyM (longontstekin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https://youtu.be/Roahgmt43dA (acute bronchiti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https://kindergeneeskunde.slingeland.nl/kenniscentrum/Ziekte-Aandoening/Longen-en-luchtwegen/Bronchiolitis/1464/1465/153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https://www.longfonds.nl/over-longen/test-je-longen/longen-qui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edische kennis Lagere Luchtwegen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ijdelijke aanduiding voor datum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81A16-DBFD-4FEA-A6B9-8FEDC311BA4E}" type="datetime">
              <a:rPr b="0" lang="nl-NL" sz="1200" spc="-1" strike="noStrike">
                <a:solidFill>
                  <a:srgbClr val="898989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oes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433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Oorza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esten:  reactie lichaam op prikke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oor infectie (bacterie of virus) meer slij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esten voert slijm af (sputu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ij verkoudheid  slijmvlies ontstoken;  slij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edische kennis Lagere Luchtwegen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IJL-OMLAAG 4"/>
          <p:cNvSpPr/>
          <p:nvPr/>
        </p:nvSpPr>
        <p:spPr>
          <a:xfrm flipV="1">
            <a:off x="7956720" y="4507920"/>
            <a:ext cx="242640" cy="433080"/>
          </a:xfrm>
          <a:prstGeom prst="downArrow">
            <a:avLst>
              <a:gd name="adj1" fmla="val 50000"/>
              <a:gd name="adj2" fmla="val 5001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ijdelijke aanduiding voor datum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6D9F3-CBE6-4459-9B0C-8369950E646D}" type="datetime">
              <a:rPr b="0" lang="nl-NL" sz="1200" spc="-1" strike="noStrike">
                <a:solidFill>
                  <a:srgbClr val="898989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oesten door Tabaksro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abaksrook:  kan COPD en longkanker veroorzak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edische kennis Lagere Luchtwegen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5796000" y="2814480"/>
            <a:ext cx="2857320" cy="1857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"/>
          <p:cNvPicPr/>
          <p:nvPr/>
        </p:nvPicPr>
        <p:blipFill>
          <a:blip r:embed="rId2"/>
          <a:stretch/>
        </p:blipFill>
        <p:spPr>
          <a:xfrm>
            <a:off x="3780000" y="2827440"/>
            <a:ext cx="1923840" cy="2857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"/>
          <p:cNvPicPr/>
          <p:nvPr/>
        </p:nvPicPr>
        <p:blipFill>
          <a:blip r:embed="rId3"/>
          <a:stretch/>
        </p:blipFill>
        <p:spPr>
          <a:xfrm>
            <a:off x="685800" y="2827440"/>
            <a:ext cx="2857680" cy="1600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"/>
          <p:cNvPicPr/>
          <p:nvPr/>
        </p:nvPicPr>
        <p:blipFill>
          <a:blip r:embed="rId4"/>
          <a:stretch/>
        </p:blipFill>
        <p:spPr>
          <a:xfrm>
            <a:off x="685800" y="4581360"/>
            <a:ext cx="2286000" cy="1705320"/>
          </a:xfrm>
          <a:prstGeom prst="rect">
            <a:avLst/>
          </a:prstGeom>
          <a:ln w="0">
            <a:noFill/>
          </a:ln>
        </p:spPr>
      </p:pic>
      <p:sp>
        <p:nvSpPr>
          <p:cNvPr id="70" name="Tijdelijke aanduiding voor datum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8A24A-9FAC-47A8-A95C-74BABC8E9C8B}" type="datetime">
              <a:rPr b="0" lang="nl-NL" sz="1200" spc="-1" strike="noStrike">
                <a:solidFill>
                  <a:srgbClr val="898989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orzaken chronische ho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8360" y="141264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stm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COP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Chronische bronchit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astro-oesophageale reflux (maagzuu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ronchie-ectasien (abnormaal permanent verwijde luchtpijpjes (bronchiën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ronchiolit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Longkank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erslikken als gevolg van slecht functionerend slikmechanis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Medicijnen (ACE remmer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Werk- en omgeving gerelateer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Tuberculose en andere langdurige infec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edische kennis Lagere Luchtwegen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ijdelijke aanduiding voor datum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6009F-C8FC-4705-8C38-A531829883BB}" type="datetime">
              <a:rPr b="0" lang="nl-NL" sz="1200" spc="-1" strike="noStrike">
                <a:solidFill>
                  <a:srgbClr val="898989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31520"/>
            <a:ext cx="822960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at is bronchitis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Bij bronchitis is de wand van de bronchiën ontstoke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Er zijn twee soorten: </a:t>
            </a: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acute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en </a:t>
            </a: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chronische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bronchiti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Bij acute bronchitis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ontstaat de ontsteking van de bronchiën na een verkoudheid of griep. Deze ontsteking gaat na een tijdje weer over. 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(https://www.longfonds.nl/acute-bronchiti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Bij chronische bronchitis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bent u niet eerst grieperig of verkouden geweest. Bij chronische bronchitis merkt u dat het soms even wat beter gaat, maar dat het hoesten weer terugkomt. De ontsteking is blijvend.(oorzaak o.a. rok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edische kennis Lagere Luchtwegen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ijdelijke aanduiding voor datum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A705F-0F3E-459F-ACD0-A626BF376F06}" type="datetime">
              <a:rPr b="0" lang="nl-NL" sz="1200" spc="-1" strike="noStrike">
                <a:solidFill>
                  <a:srgbClr val="898989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cute Bronchit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61800" y="148428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Beschrijv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Ontsteking van het slijmvlies in de Bronchië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Wat gebeurd e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Bij een bronchitis zwelt het slijmvlies aan de binnenkant van de buisjes op. Veel slijm gemaakt, daardoor worden de luchtwegen worden nauw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Oorzaak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Meestal een virus (verkoudheid of griep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Soms is een bacter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edische kennis Lagere Luchtwegen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ijdelijke aanduiding voor datum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93315-1A04-40FB-B7A7-233C512746EE}" type="datetime">
              <a:rPr b="0" lang="nl-NL" sz="1200" spc="-1" strike="noStrike">
                <a:solidFill>
                  <a:srgbClr val="898989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Acute Bronchiti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24000" y="141264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Symptom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evig hoesten, eerst enkele dagen droog 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aarna slijm opgev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Benauwd gevoel/ kortademi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branderige pijn achter het borstbeen bij het hoes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Soms ook piepende ademha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Soms koor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5940360" y="3635280"/>
            <a:ext cx="2524320" cy="1809720"/>
          </a:xfrm>
          <a:prstGeom prst="rect">
            <a:avLst/>
          </a:prstGeom>
          <a:ln w="0">
            <a:noFill/>
          </a:ln>
        </p:spPr>
      </p:pic>
      <p:sp>
        <p:nvSpPr>
          <p:cNvPr id="86" name="Tijdelijke aanduiding voor voettekst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edische kennis Lagere Luchtwegen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ijdelijke aanduiding voor datum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68BBF-FB7A-4C27-8B62-05D70DD1FA8F}" type="datetime">
              <a:rPr b="0" lang="nl-NL" sz="1200" spc="-1" strike="noStrike">
                <a:solidFill>
                  <a:srgbClr val="898989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cute Bronchit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Onderzo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namnes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usculta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j de meeste patiënten met acuut hoesten is sprake van een ongecompliceerde luchtweginfectie (bovensteluchtweginfectie of een milde ondersteluchtweginfectie) bij wie aanvullend onderzoek (CRP, X-thorax) niet zinvol is. Bron: NH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edische kennis Lagere Luchtwegen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ijdelijke aanduiding voor datum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F1E93-9709-451F-BB0B-C79DEC6F35F9}" type="datetime">
              <a:rPr b="0" lang="nl-NL" sz="1200" spc="-1" strike="noStrike">
                <a:solidFill>
                  <a:srgbClr val="898989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18:24:40Z</dcterms:created>
  <dc:creator>Rina</dc:creator>
  <dc:description/>
  <dc:language>en-US</dc:language>
  <cp:lastModifiedBy>Bouke Cuperus</cp:lastModifiedBy>
  <cp:lastPrinted>2012-11-27T09:21:08Z</cp:lastPrinted>
  <dcterms:modified xsi:type="dcterms:W3CDTF">2018-02-13T09:07:29Z</dcterms:modified>
  <cp:revision>206</cp:revision>
  <dc:subject/>
  <dc:title>Tuberculose</dc:title>
</cp:coreProperties>
</file>