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u="sng">
              <a:solidFill>
                <a:srgbClr val="000000"/>
              </a:solidFill>
              <a:uFillTx/>
              <a:latin typeface="Verdana"/>
            </a:endParaRPr>
          </a:p>
        </p:txBody>
      </p:sp>
      <p:sp>
        <p:nvSpPr>
          <p:cNvPr id="6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9D19-D6F7-4DD6-8AB6-A9CDA9C697F7}"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12144-E94C-4423-9744-B024F1B2C3D7}"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A3AF-FF50-40BD-BB55-458D3671CCCD}"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F984-FF3C-474A-AA0B-E7FA5E92496F}"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nam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veel wratten en op welke plaats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oe lang de wratten al aanwezig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lke hinder de wrat veroorzaakt; pijn, en ongemak, of cosmetische kl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mmuunstoornis gebruik immunosuppress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at heeft de patiënt gegaan met welk resulta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de patiënt de wrat wil laten behand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C720-6E91-4073-A590-2719910481AB}"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F3F8-3296-4804-BE8E-55CE4FE878D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C146-2857-4BC3-B29B-5466ABFFB328}"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D25F-9095-4133-AB5E-93F927C96A6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6839-205F-4DB0-A68A-15535F76F3BC}"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ndParaRPr>
          </a:p>
        </p:txBody>
      </p:sp>
      <p:sp>
        <p:nvSpPr>
          <p:cNvPr id="6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7101-31BC-4F63-AF2F-2DD13A138F14}" type="slidenum">
              <a:rPr b="0" lang="nl-NL" sz="1200" spc="-1" strike="noStrike">
                <a:solidFill>
                  <a:srgbClr val="000000"/>
                </a:solidFill>
                <a:latin typeface="Arial"/>
              </a:rPr>
              <a:t>&lt;number&gt;</a:t>
            </a:fld>
            <a:endParaRPr b="0" lang="en-US" sz="1200" spc="-1" strike="noStrike" u="sng">
              <a:solidFill>
                <a:srgbClr val="000000"/>
              </a:solidFill>
              <a:uFillTx/>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C1F61-540F-43A8-AE39-CE23AE54B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B55B1-B1CD-4361-9FBE-7D58D6373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B7FE255-6351-43D2-9D13-A5CAFB95DD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1ED6748-D721-4518-BDD2-B61E4B36E51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E8751A2-5F68-4232-A72F-83ACB7E9719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89A7041-7B1C-49C2-A3C3-132E9C91F5D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70E0F9E-05CA-43BE-AAB2-52DA991841D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08E68EB-297E-41C8-BF2A-62414027657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E26F6E8-4350-4100-B705-EDA41A44A71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1FAFE20-2F42-4908-8830-4DCDE46D99A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3BC6617-7BBD-4AEC-921F-A6BA6918C69A}"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636C238-E6C5-4BC5-A18A-4EAAB9A4AD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9CA62-8CBE-41D7-ADF1-01AC00F1E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0534DF5-0D45-44B6-AF80-672DBA2113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04A4F2B-9920-40DC-85C3-54FBD1CF0F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92EF214-109F-415C-BFA4-881ACC39880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FD67A28-AD58-4D84-A2F2-19D06C4DB6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AB60D25-CE48-4798-B393-6D31BBB0F2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FC9B70D-5BA4-42B1-85B5-36D5D19BEF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7DBB79B-A893-4847-9943-5E4E76C451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E4680BA-5527-407E-9F28-1E2E9D32C3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46D628-CD32-4F24-9790-FEAD71AA1A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C9B4293-CC41-41AC-BEFD-3B6A3A9801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3C471-4A35-4306-BE17-BAB9113FB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69A15F60-2595-4867-A22C-6120FF362B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4D7F74E-4D52-4C5B-8D72-247F5AE006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498BEA-D93C-4705-8944-709499FEBD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6C6F4B-4B74-4B2F-824A-ADB2423A235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F82F95-B2F4-4D46-BEEF-1D78150A020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FC1CB6-DC3A-4F1B-BC5E-2B9CD2CE95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6DBB68-746A-4653-9CA6-6F82EB8F1E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B389E3-1065-40B0-9FE3-2C2D0B5A57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079523-026C-4B82-89D3-B97320CDFD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83B5AA-9FD1-4BEF-B9F6-279442435B2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77BF1-272F-4394-8DAE-5C878320E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C62F46-0019-4264-9CBA-B0897EB28B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BDFAAD9-541A-4CE3-A4F7-8B9652CF69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FA48C36-BB8B-4D18-8C88-528B2E0E74A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2F8F1EC-0854-4DC6-9FD3-460FB36B16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6C9728F-133A-4D64-A591-6DCDEEFF68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CA2F4F8-A010-4B9C-AA0D-3CC3815FB1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E90EE68-8518-4D75-A3EF-7D022EA15F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EEC4FE0-9745-4E9D-98A8-3BF251DAE6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62F7121-D2BE-4DC5-B574-6B82C388A8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B3108FF-F75B-4DA4-9132-34BD4FF8C0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89ADD1-C3E7-479C-ACE9-1115E0DFA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221B13E-82DC-43EE-A9F1-75CCF329A5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644A8BA-3E69-4001-97D6-5410C589A0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0D974C2-0F2D-497B-8E34-94BFCA245D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001B61B-C205-4A99-A2EF-80E923EB1B1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DB15AFF-0D75-4536-8433-8E08DDD85E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E5992-E2FC-48BE-93CE-DDBC2EAD0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F7D0F-94CD-44D3-9F7C-176C3D606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BE72F-2620-46F1-A986-A486806BC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88884-1230-4D93-BB7B-601F50DF6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B325D-A6D2-49D0-9F22-F9943DA8F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2AB42-9C4D-4F8E-B17D-6DB0EE547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21344-09F8-42E6-9527-195AE389C8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79741-09DB-4699-865E-61729CB0C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EC4824-0E84-444E-94CD-9871E104C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82E16-FD9E-4547-83B1-597C48898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136980-186A-4816-89E1-6579E3E2A2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582E8A-90FC-4766-AB27-68B3C53739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F591D2-B4FB-4E9A-A7B2-AF6914A820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B7414-18CE-486C-B784-0CDED2A7F8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0F101D-DED7-4A4A-9AAB-E910597A96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216ED-EADB-4D2B-A4C9-408D41B81B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845D6-7B44-43DD-895C-107779BB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6289A-F60A-48A1-B375-AFE7486011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785735-C02B-4832-B33E-8A8962727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C5C863-99AA-42F8-BD6E-CD184950FE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B6B233-C064-4E0F-A899-497E1CD4C9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CD3065-916D-4B11-9364-571DB1002E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8289B4-78E1-4F74-AE68-257322CAFC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705B60-F7A3-43C3-845B-D3213D97D7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0D70A34-DD43-4D32-84CF-3A3AC9448E5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7FD4B31-80B6-4862-A0AE-5582C44FECC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9AFFFC1-D53A-4EA8-9318-4EF5DC21B50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B8374-A9C8-4A6A-BA16-0063EBEC6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D1EC19D-0D3E-4311-B3B2-7319F86E104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7580D00-0468-49E5-B429-4F39A15EA7B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5C75470-E52B-4931-92B0-0175FA656F9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3924304-0002-4E8D-8E2D-94AAAAB415F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3579564-2769-4384-BEE7-3383A975B7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1A548F9-8A64-4B57-97CD-49F48BFF986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E0E39E1-3953-4090-A3DD-B00C41A9FF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52709B2-9914-40AD-AB35-1ECF1DC0599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80D0920D-4FBA-4522-82FE-92E75397229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EC68DF-3C2F-43AB-AAE7-CF79B83FFB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791D7-9FE3-4345-A060-742216E92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FC0FC9-5A06-4421-AB35-37ADB563D9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6A9ED-0986-4FA1-8D48-694B2944A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35D26F-E0EC-4542-B52B-6BF44FAB9E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B1918-78E3-45D3-B3AD-4887AE01C1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B5B594-5218-4E5D-99B4-26DBD273D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CCEBC8-557D-4DA6-87A8-4F1A365B4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786E1-4FB7-4631-9AF2-630D4E78C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CB83C2-6F1B-4918-987F-5EACFA759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2B3EF4-5E88-4D6B-9293-0DCD8F574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14672B-BECE-4C69-8B7D-B607200267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9D65B-96C1-49C1-8B65-D54F6DFDA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B06FAE-6F10-4330-A8E4-D79CF55A71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50C5CF-840A-43F7-BA33-D95F1D4C96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C67565-2E2C-4B8A-9214-8FD5CF3E06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C3BCA2-F188-45CB-81CE-4CB2C93D30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529813-55C4-4CDD-9BD4-E1493D37A9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6ED81C-F961-4D63-A76E-1B1FDBC587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CBF492-6231-4BEF-8D88-189028F518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26D1D-CA39-4E2F-BC8E-28BAD4EB70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7268D2-51B4-4B13-B6BD-BBAD507A57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86A45-8668-41CF-9B61-83C5216156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CDFC8-F405-4280-A3A5-699E154FA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B649A8-D38F-43A8-8E85-19CB46A6B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827A73-4B73-40B3-A1D5-F5C79261CA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D80295-8D86-46EA-BB29-8F91A1B8F4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F45830-13E3-40DC-AC21-7654C42F51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92358C-884A-45B3-827A-522F48C26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D89593-A438-44BE-A35D-095E9558DA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BFB20C-DEF9-41B5-ADA2-1B32E4E3B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7B6410-A770-4D28-BFD4-87C8BED952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01DC3B-3CE6-4D2B-8587-95647478F9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768AA8-7A6A-4BBA-B933-B4C38FB82C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09275-A705-4522-AFFF-FCC73D43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B1A95C-2464-49D2-AF49-1D7F8A5F3C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96201-FB8C-4E24-A598-7325F9D9F6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B9A83E-EF76-4B8B-A2AB-3A1B0B5C0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7C3714-D83D-4C49-AFAA-F9B2EBCF78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08FCFF-5ABD-4516-B7B6-250D5E3101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6FE9CE-ED10-4432-92C1-7C7D27B3FF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656C21-AE47-48C4-B3DF-6FC47D1BF9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990E1-18B3-46D0-BA23-7F7D0CE5D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5BF46B-0EE6-4CCE-8210-2295D8B99A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02B0E2-759A-4C91-86A6-1EED052AA5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FEAC2-0197-48FB-9B0E-876DC542C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C19251-844D-4FC0-A698-BBC8F41547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5F0DCD-EF6C-4C13-93A4-517F40AD50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F01C6D-2FB2-476F-920A-3453630C1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2BD19C-ECAD-4AC5-96D2-E7B0B83B87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D63D88-6A4F-4633-9C28-024D153E1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B83164-DB4B-41C7-91B4-C0CAD6892C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0DA1FB-A7AF-43C9-87EF-C0D96DABBC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B90C12E-20A3-4C6B-BC48-189981F48F9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366CC7A5-CAF9-4D68-95F4-654305930C3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3F118FD-9242-4620-9B6E-505B76B1B44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D4FA-9DF8-46D6-AB90-FA90C2B4E951}"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Rechte verbindingslijn 15"/>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55"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6"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7" name="Rechthoek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8"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59" name="Rechthoek 20"/>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0" name="Rechthoek 23"/>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1" name="Rechthoek 2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2"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3"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4"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FBA2-1B00-443B-8272-9EF1F12C4089}"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7"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8"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09"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0"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1"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2"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13"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4"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DA17-8BCC-4CA2-9224-445E33536D28}"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7" name="Rechthoek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8" name="Rechthoek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9"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0"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1" name="Rechthoek 20"/>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2" name="Rechte verbindingslijn 23"/>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3" name="Ovaal 24"/>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4" name="Ovaal 25"/>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82EE8-8151-4685-8712-39958CEA94A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1" name="Rechthoek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2" name="Rechthoek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3" name="Rechthoek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4"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5" name="Rechte verbindingslijn 20"/>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56"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7" name="Ovaal 24"/>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8" name="Ovaal 25"/>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0095-7C81-4B5E-A11E-36F0E392CC3A}"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1"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2"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3"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4"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5"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6"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07"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8"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C97BE-E851-4C30-8C51-415885526929}"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hthoek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1"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2" name="Rechthoek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3" name="Rechthoek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4" name="Rechthoek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5" name="Rechthoek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6" name="Rechthoek 23"/>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7" name="Rechthoek 24"/>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58" name="Rechte verbindingslijn 25"/>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159" name="Ovaal 26"/>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0" name="Ovaal 27"/>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EF3B-ECF2-463D-8305-33CDD04645CB}"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3"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4"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5"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6"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7"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08"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09"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0"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1" name="Rechte verbindingslijn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E92FF-A549-4D6D-967E-F9FCDB3E45E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Rechte verbindingslijn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54" name="Rechthoek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5" name="Rechthoek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6"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7" name="Rechthoek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8" name="Rechthoek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59" name="Rechthoek 23"/>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0" name="Rechte verbindingslijn 2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261" name="Rechthoek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2" name="Ovaal 26"/>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3" name="Ovaal 27"/>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81EE8-5080-4B63-B6F6-ECB8D4F30D50}"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hthoek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6" name="Rechthoek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7" name="Rechthoek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8" name="Rechthoek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09" name="Rechthoek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0" name="Rechthoek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1" name="Rechte verbindingslijn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312" name="Ova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3" name="Ova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418F8-4A7F-49FF-AFB2-25C350D925D4}"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hthoek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6" name="Rechthoek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7"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8" name="Rechthoek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59" name="Rechthoek 19"/>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0" name="Rechthoek 20"/>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783F-7224-41B7-96CC-269A0E3F9D96}" type="slidenum">
              <a:rPr b="0" lang="nl-NL"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hthoek 15"/>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3" name="Rechthoek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4" name="Rechthoek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5" name="Rechthoek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6" name="Rechthoek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7" name="Rechthoek 20"/>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8" name="Rechthoek 2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09" name="Rechte verbindingslijn 24"/>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2400" spc="-1" strike="noStrike" u="sng">
              <a:solidFill>
                <a:srgbClr val="000000"/>
              </a:solidFill>
              <a:uFillTx/>
              <a:latin typeface="Verdana"/>
            </a:endParaRPr>
          </a:p>
        </p:txBody>
      </p:sp>
      <p:sp>
        <p:nvSpPr>
          <p:cNvPr id="410" name="Ovaal 25"/>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1" name="Ovaal 26"/>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2" name="Rechthoek 27"/>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FD67-2804-4C4C-9EBC-FBBE35488793}" type="slidenum">
              <a:rPr b="0" lang="nl-NL"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u="sng">
              <a:solidFill>
                <a:srgbClr val="000000"/>
              </a:solidFill>
              <a:uFillTx/>
              <a:latin typeface="Verdan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ubTitle"/>
          </p:nvPr>
        </p:nvSpPr>
        <p:spPr>
          <a:xfrm>
            <a:off x="1371600" y="2819520"/>
            <a:ext cx="6400800" cy="1752480"/>
          </a:xfrm>
          <a:prstGeom prst="rect">
            <a:avLst/>
          </a:prstGeom>
          <a:noFill/>
          <a:ln w="0">
            <a:noFill/>
          </a:ln>
        </p:spPr>
        <p:txBody>
          <a:bodyPr lIns="0" rIns="0" tIns="0" bIns="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1600" spc="-1" strike="noStrike">
              <a:solidFill>
                <a:srgbClr val="646b86"/>
              </a:solidFill>
              <a:latin typeface="Georgia"/>
            </a:endParaRPr>
          </a:p>
        </p:txBody>
      </p:sp>
      <p:sp>
        <p:nvSpPr>
          <p:cNvPr id="614"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200" spc="-1" strike="noStrike">
                <a:solidFill>
                  <a:srgbClr val="d16349"/>
                </a:solidFill>
                <a:latin typeface="Georgia"/>
              </a:rPr>
              <a:t>Wratten (verrucae)</a:t>
            </a:r>
            <a:br>
              <a:rPr sz="4200"/>
            </a:br>
            <a:br>
              <a:rPr sz="4200"/>
            </a:br>
            <a:r>
              <a:rPr b="0" lang="nl-NL" sz="1100" spc="-1" strike="noStrike">
                <a:solidFill>
                  <a:srgbClr val="d16349"/>
                </a:solidFill>
                <a:latin typeface="Georgia"/>
              </a:rPr>
              <a:t>(bijgesteld :29-11-2017 Bouke Cuperus)</a:t>
            </a:r>
            <a:endParaRPr b="0" lang="en-US" sz="1100" spc="-1" strike="noStrike">
              <a:solidFill>
                <a:srgbClr val="7b9899"/>
              </a:solidFill>
              <a:latin typeface="Georgia"/>
            </a:endParaRPr>
          </a:p>
        </p:txBody>
      </p:sp>
      <p:pic>
        <p:nvPicPr>
          <p:cNvPr id="615" name="Picture 5" descr=""/>
          <p:cNvPicPr/>
          <p:nvPr/>
        </p:nvPicPr>
        <p:blipFill>
          <a:blip r:embed="rId1"/>
          <a:stretch/>
        </p:blipFill>
        <p:spPr>
          <a:xfrm>
            <a:off x="5408640" y="2836800"/>
            <a:ext cx="2511360" cy="1638360"/>
          </a:xfrm>
          <a:prstGeom prst="rect">
            <a:avLst/>
          </a:prstGeom>
          <a:ln w="0">
            <a:noFill/>
          </a:ln>
        </p:spPr>
      </p:pic>
      <p:pic>
        <p:nvPicPr>
          <p:cNvPr id="616" name="Picture 6" descr=""/>
          <p:cNvPicPr/>
          <p:nvPr/>
        </p:nvPicPr>
        <p:blipFill>
          <a:blip r:embed="rId2"/>
          <a:stretch/>
        </p:blipFill>
        <p:spPr>
          <a:xfrm>
            <a:off x="5435640" y="4475160"/>
            <a:ext cx="2521080" cy="1165320"/>
          </a:xfrm>
          <a:prstGeom prst="rect">
            <a:avLst/>
          </a:prstGeom>
          <a:ln w="0">
            <a:noFill/>
          </a:ln>
        </p:spPr>
      </p:pic>
      <p:pic>
        <p:nvPicPr>
          <p:cNvPr id="617" name="Picture 8" descr=""/>
          <p:cNvPicPr/>
          <p:nvPr/>
        </p:nvPicPr>
        <p:blipFill>
          <a:blip r:embed="rId3"/>
          <a:stretch/>
        </p:blipFill>
        <p:spPr>
          <a:xfrm>
            <a:off x="1041480" y="2803680"/>
            <a:ext cx="4292640" cy="2827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Ouderdomswrat (Verrucae Seborrhoica / sensilis)</a:t>
            </a:r>
            <a:endParaRPr b="0" lang="en-US" sz="2400" spc="-1" strike="noStrike">
              <a:solidFill>
                <a:srgbClr val="7b9899"/>
              </a:solidFill>
              <a:latin typeface="Georgia"/>
            </a:endParaRPr>
          </a:p>
        </p:txBody>
      </p:sp>
      <p:sp>
        <p:nvSpPr>
          <p:cNvPr id="642" name=""/>
          <p:cNvSpPr txBox="1"/>
          <p:nvPr/>
        </p:nvSpPr>
        <p:spPr>
          <a:xfrm>
            <a:off x="301680" y="1371600"/>
            <a:ext cx="4038480" cy="468144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uderdomswr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Goedaardig</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nker brui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Ruwe structuur</a:t>
            </a:r>
            <a:endParaRPr b="0" lang="en-US" sz="2000" spc="-1" strike="noStrike">
              <a:solidFill>
                <a:srgbClr val="000000"/>
              </a:solidFill>
              <a:latin typeface="Georgia"/>
            </a:endParaRPr>
          </a:p>
        </p:txBody>
      </p:sp>
      <p:pic>
        <p:nvPicPr>
          <p:cNvPr id="643" name="Picture 6" descr=""/>
          <p:cNvPicPr/>
          <p:nvPr/>
        </p:nvPicPr>
        <p:blipFill>
          <a:blip r:embed="rId1"/>
          <a:stretch/>
        </p:blipFill>
        <p:spPr>
          <a:xfrm>
            <a:off x="4903920" y="1773360"/>
            <a:ext cx="3628800" cy="2803320"/>
          </a:xfrm>
          <a:prstGeom prst="rect">
            <a:avLst/>
          </a:prstGeom>
          <a:ln w="0">
            <a:noFill/>
          </a:ln>
        </p:spPr>
      </p:pic>
      <p:sp>
        <p:nvSpPr>
          <p:cNvPr id="644" name=""/>
          <p:cNvSpPr txBox="1"/>
          <p:nvPr/>
        </p:nvSpPr>
        <p:spPr>
          <a:xfrm>
            <a:off x="4800600" y="1371600"/>
            <a:ext cx="4038480" cy="4681440"/>
          </a:xfrm>
          <a:prstGeom prst="rect">
            <a:avLst/>
          </a:prstGeom>
          <a:noFill/>
          <a:ln w="0">
            <a:noFill/>
          </a:ln>
        </p:spPr>
        <p:txBody>
          <a:bodyPr anchor="t">
            <a:normAutofit/>
          </a:bodyPr>
          <a:p>
            <a:pPr marL="272880" indent="-27288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Genitale wratten (condyloma acuminatum)</a:t>
            </a:r>
            <a:endParaRPr b="0" lang="en-US" sz="2800" spc="-1" strike="noStrike">
              <a:solidFill>
                <a:srgbClr val="7b9899"/>
              </a:solidFill>
              <a:latin typeface="Georgia"/>
            </a:endParaRPr>
          </a:p>
        </p:txBody>
      </p:sp>
      <p:sp>
        <p:nvSpPr>
          <p:cNvPr id="646"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er besmettelijk&gt;SOA </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epaald type van Humaan Papilloma virus</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loemkoolachtig gesteeld vormsel</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estelt zich op de slijmvliezen</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ocatie: anus en/of geslachtsorganen man/vrouw</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of uitwendig</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47" name="Picture 5" descr=""/>
          <p:cNvPicPr/>
          <p:nvPr/>
        </p:nvPicPr>
        <p:blipFill>
          <a:blip r:embed="rId1"/>
          <a:stretch/>
        </p:blipFill>
        <p:spPr>
          <a:xfrm>
            <a:off x="6440400" y="4508640"/>
            <a:ext cx="2238480" cy="1671480"/>
          </a:xfrm>
          <a:prstGeom prst="rect">
            <a:avLst/>
          </a:prstGeom>
          <a:ln w="0">
            <a:noFill/>
          </a:ln>
        </p:spPr>
      </p:pic>
      <p:pic>
        <p:nvPicPr>
          <p:cNvPr id="648" name="Picture 6" descr=""/>
          <p:cNvPicPr/>
          <p:nvPr/>
        </p:nvPicPr>
        <p:blipFill>
          <a:blip r:embed="rId2"/>
          <a:stretch/>
        </p:blipFill>
        <p:spPr>
          <a:xfrm>
            <a:off x="6230880" y="1773360"/>
            <a:ext cx="2467080" cy="1584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er wratjes (mollusca contagiosa)</a:t>
            </a:r>
            <a:endParaRPr b="0" lang="en-US" sz="3300" spc="-1" strike="noStrike">
              <a:solidFill>
                <a:srgbClr val="7b9899"/>
              </a:solidFill>
              <a:latin typeface="Georgia"/>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Oorzaak: Pokviru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Zeer besmettelijk door intensief huidcontact  (zwembad,gymzaal</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Vooral bij kinderen</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Doorschijnend of wit, bol, vast bultje met in het   midden vaak een inzinking</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Gevuld met substantie</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pic>
        <p:nvPicPr>
          <p:cNvPr id="651" name="Picture 2" descr=""/>
          <p:cNvPicPr/>
          <p:nvPr/>
        </p:nvPicPr>
        <p:blipFill>
          <a:blip r:embed="rId1"/>
          <a:stretch/>
        </p:blipFill>
        <p:spPr>
          <a:xfrm>
            <a:off x="4211640" y="3357720"/>
            <a:ext cx="2530440" cy="2474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Diagnose: Wratten</a:t>
            </a:r>
            <a:endParaRPr b="0" lang="en-US" sz="2800" spc="-1" strike="noStrike">
              <a:solidFill>
                <a:srgbClr val="7b9899"/>
              </a:solidFill>
              <a:latin typeface="Georgia"/>
            </a:endParaRPr>
          </a:p>
        </p:txBody>
      </p:sp>
      <p:sp>
        <p:nvSpPr>
          <p:cNvPr id="65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wordt diagnose gesteld?</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oor de huisarts (anamnese)</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Kenmerkend, geen nader onderzoek nodi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ms biopt afnemen,voor aanvullend onderzoek</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rst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dere behandeling evt delegeren naar assistente a.d.h.v. protocol (afhankelijk van aard, locatie, behandeling)</a:t>
            </a:r>
            <a:endParaRPr b="0" lang="en-US" sz="2000" spc="-1" strike="noStrike">
              <a:solidFill>
                <a:srgbClr val="000000"/>
              </a:solidFill>
              <a:latin typeface="Georgia"/>
            </a:endParaRPr>
          </a:p>
          <a:p>
            <a:pPr marL="272880" indent="-272880">
              <a:lnSpc>
                <a:spcPct val="9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ventueel verwijzing dermatologie</a:t>
            </a:r>
            <a:endParaRPr b="0" lang="en-US" sz="2000" spc="-1" strike="noStrike">
              <a:solidFill>
                <a:srgbClr val="000000"/>
              </a:solidFill>
              <a:latin typeface="Georg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Behandelingsmogelijkheden</a:t>
            </a:r>
            <a:endParaRPr b="0" lang="en-US" sz="3300" spc="-1" strike="noStrike">
              <a:solidFill>
                <a:srgbClr val="7b9899"/>
              </a:solidFill>
              <a:latin typeface="Georgia"/>
            </a:endParaRPr>
          </a:p>
        </p:txBody>
      </p:sp>
      <p:sp>
        <p:nvSpPr>
          <p:cNvPr id="655"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1. Afwachten (expectatief beleid)</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2. Aanstippen; patiënt kan zelf aanstipvloeistof bij de apotheek kopen</a:t>
            </a:r>
            <a:endParaRPr b="0" lang="en-US" sz="2000" spc="-1" strike="noStrike">
              <a:solidFill>
                <a:srgbClr val="000000"/>
              </a:solidFill>
              <a:latin typeface="Georgia"/>
            </a:endParaRPr>
          </a:p>
          <a:p>
            <a:pPr marL="264600" indent="-264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3. Cryotherapie (bevriezing) , aanstippen met vloeibare stikstok  wrattenspreekuur.</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 </a:t>
            </a:r>
            <a:r>
              <a:rPr b="0" lang="nl-NL" sz="2000" spc="-1" strike="noStrike">
                <a:solidFill>
                  <a:srgbClr val="000000"/>
                </a:solidFill>
                <a:latin typeface="Georgia"/>
              </a:rPr>
              <a:t>4. Uitlepelen </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5. Wegsnijden</a:t>
            </a: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64600" indent="-26460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eorgia"/>
              </a:rPr>
              <a:t>6.Wegbranden (coagulatie)….is pijnlijk daardoor  weinig toegepast</a:t>
            </a:r>
            <a:endParaRPr b="0" lang="en-US" sz="2000" spc="-1" strike="noStrike">
              <a:solidFill>
                <a:srgbClr val="000000"/>
              </a:solidFill>
              <a:latin typeface="Georgi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weghalen van een stukje huid onder lokale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dicati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ekerheid over “klinische diagnose” te krijg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7b9899"/>
                </a:solidFill>
                <a:latin typeface="Verdana"/>
              </a:rPr>
              <a:t>Huidbiopsie</a:t>
            </a:r>
            <a:endParaRPr b="0" lang="en-US" sz="2400" spc="-1" strike="noStrike">
              <a:solidFill>
                <a:srgbClr val="7b9899"/>
              </a:solidFill>
              <a:latin typeface="Georgia"/>
            </a:endParaRPr>
          </a:p>
        </p:txBody>
      </p:sp>
      <p:sp>
        <p:nvSpPr>
          <p:cNvPr id="65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ovaaltje:</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rmatoloo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j verdenking melanoom</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teriel onder verdoving</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vaalvormig gebied rondom huidafwijking uitgesned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chting na 7-14 dagen verwijderen bij huisarts</a:t>
            </a:r>
            <a:endParaRPr b="0" lang="en-US" sz="2000" spc="-1" strike="noStrike">
              <a:solidFill>
                <a:srgbClr val="000000"/>
              </a:solidFill>
              <a:latin typeface="Georgia"/>
            </a:endParaRPr>
          </a:p>
        </p:txBody>
      </p:sp>
      <p:pic>
        <p:nvPicPr>
          <p:cNvPr id="660" name="Picture 5" descr="melanoma_malign"/>
          <p:cNvPicPr/>
          <p:nvPr/>
        </p:nvPicPr>
        <p:blipFill>
          <a:blip r:embed="rId1"/>
          <a:stretch/>
        </p:blipFill>
        <p:spPr>
          <a:xfrm>
            <a:off x="5003640" y="2421000"/>
            <a:ext cx="190512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Tip: Geen lesstof</a:t>
            </a:r>
            <a:endParaRPr b="0" lang="en-US" sz="3300" spc="-1" strike="noStrike">
              <a:solidFill>
                <a:srgbClr val="7b9899"/>
              </a:solidFill>
              <a:latin typeface="Georgia"/>
            </a:endParaRPr>
          </a:p>
        </p:txBody>
      </p:sp>
      <p:sp>
        <p:nvSpPr>
          <p:cNvPr id="66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oede informatie over wratten spreekuur is te vinden in het boe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igen spreekuur en chronische ziekten</a:t>
            </a:r>
            <a:endParaRPr b="0" lang="en-US" sz="2700" spc="-1" strike="noStrike">
              <a:solidFill>
                <a:srgbClr val="000000"/>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7b9899"/>
                </a:solidFill>
                <a:latin typeface="Verdana"/>
              </a:rPr>
              <a:t>        </a:t>
            </a:r>
            <a:r>
              <a:rPr b="0" lang="nl-NL" sz="2800" spc="-1" strike="noStrike">
                <a:solidFill>
                  <a:srgbClr val="7b9899"/>
                </a:solidFill>
                <a:latin typeface="Verdana"/>
              </a:rPr>
              <a:t>Leerdoelen:</a:t>
            </a:r>
            <a:endParaRPr b="0" lang="en-US" sz="28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afloop van deze  powerpoint kan je: </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schillende soorten wratten benoem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nkele behandelmethoden beschrijv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Wat zijn wratten?</a:t>
            </a:r>
            <a:endParaRPr b="0" lang="en-US" sz="3300" spc="-1" strike="noStrike">
              <a:solidFill>
                <a:srgbClr val="7b9899"/>
              </a:solidFill>
              <a:latin typeface="Georgia"/>
            </a:endParaRPr>
          </a:p>
        </p:txBody>
      </p:sp>
      <p:sp>
        <p:nvSpPr>
          <p:cNvPr id="621" name=""/>
          <p:cNvSpPr txBox="1"/>
          <p:nvPr/>
        </p:nvSpPr>
        <p:spPr>
          <a:xfrm>
            <a:off x="301320" y="1527120"/>
            <a:ext cx="850428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Georgia"/>
              </a:rPr>
              <a:t>Wratten zijn knobbeltjes die ruw en hard aanvoelen. Soms zien ze er een beetje bloemkoolachtig uit. Ze komen vooral voor op de handen en voeten, maar ze kunnen ook op andere plaatsen zitten. Door lopen worden voetwratten in het eelt van de voetzool gedrukt. Voetwratten doen soms pijn bij staan of lopen.</a:t>
            </a:r>
            <a:endParaRPr b="0" lang="en-US" sz="2400" spc="-1" strike="noStrike">
              <a:solidFill>
                <a:srgbClr val="000000"/>
              </a:solidFill>
              <a:latin typeface="Georg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Wratten (Verrucae)</a:t>
            </a:r>
            <a:endParaRPr b="0" lang="en-US" sz="2800" spc="-1" strike="noStrike">
              <a:solidFill>
                <a:srgbClr val="7b9899"/>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 </a:t>
            </a:r>
            <a:r>
              <a:rPr b="0" lang="nl-NL" sz="2000" spc="-1" strike="noStrike">
                <a:solidFill>
                  <a:srgbClr val="000000"/>
                </a:solidFill>
                <a:latin typeface="Verdana"/>
              </a:rPr>
              <a:t>Hoe ontstaan wratten?</a:t>
            </a: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Oorzaak: Humane Papillomavirus (HPV-virus) van de huid</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Zijn besmettelijk</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cubatietijd: 3-6 maanden of langer</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 1 jaar zijn de wratten bij ongeveer de helft van de mensen spontaan verdwenen.</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0000"/>
                </a:solidFill>
                <a:latin typeface="Verdana"/>
              </a:rPr>
              <a:t>Het is niet aangetoond dat u wratten krijgt van zwembaden, openbare douches, of van sporten op blote voeten. </a:t>
            </a:r>
            <a:endParaRPr b="0" lang="en-US" sz="2000" spc="-1" strike="noStrike">
              <a:solidFill>
                <a:srgbClr val="000000"/>
              </a:solidFill>
              <a:latin typeface="Georg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schillende soorten wratten</a:t>
            </a:r>
            <a:endParaRPr b="0" lang="en-US" sz="3300" spc="-1" strike="noStrike">
              <a:solidFill>
                <a:srgbClr val="7b9899"/>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ewone wrat (handen /vingers  (</a:t>
            </a:r>
            <a:r>
              <a:rPr b="0" i="1" lang="nl-NL" sz="2700" spc="-1" strike="noStrike">
                <a:solidFill>
                  <a:srgbClr val="000000"/>
                </a:solidFill>
                <a:latin typeface="Georgia"/>
              </a:rPr>
              <a:t>verrucae vulgaris</a:t>
            </a:r>
            <a:r>
              <a:rPr b="0" lang="nl-NL" sz="2700" spc="-1" strike="noStrike">
                <a:solidFill>
                  <a:srgbClr val="000000"/>
                </a:solidFill>
                <a:latin typeface="Georgia"/>
              </a:rPr>
              <a: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oetwratten   (</a:t>
            </a:r>
            <a:r>
              <a:rPr b="0" i="1" lang="nl-NL" sz="2700" spc="-1" strike="noStrike">
                <a:solidFill>
                  <a:srgbClr val="000000"/>
                </a:solidFill>
                <a:latin typeface="Georgia"/>
              </a:rPr>
              <a:t>verrucae plantar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enerische wratten (</a:t>
            </a:r>
            <a:r>
              <a:rPr b="0" i="1" lang="nl-NL" sz="2700" spc="-1" strike="noStrike">
                <a:solidFill>
                  <a:srgbClr val="000000"/>
                </a:solidFill>
                <a:latin typeface="Georgia"/>
              </a:rPr>
              <a:t>condylomata acuminata </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uderdomswrat (</a:t>
            </a:r>
            <a:r>
              <a:rPr b="0" i="1" lang="nl-NL" sz="2700" spc="-1" strike="noStrike">
                <a:solidFill>
                  <a:srgbClr val="000000"/>
                </a:solidFill>
                <a:latin typeface="Georgia"/>
              </a:rPr>
              <a:t>verrrucae senilis</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waterwratjes: (</a:t>
            </a:r>
            <a:r>
              <a:rPr b="0" i="1" lang="nl-NL" sz="2700" spc="-1" strike="noStrike">
                <a:solidFill>
                  <a:srgbClr val="000000"/>
                </a:solidFill>
                <a:latin typeface="Georgia"/>
              </a:rPr>
              <a:t>mollusca contagiosa</a:t>
            </a:r>
            <a:r>
              <a:rPr b="0" lang="nl-NL"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vulgaris (‘gewone wrat’)</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Rond, bloemkoolachti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cherp begrensd</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Sterke verhoorning</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Meestal meerdere</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handen, knieën,</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llebogen, gelaat</a:t>
            </a:r>
            <a:endParaRPr b="0" lang="en-US" sz="2700" spc="-1" strike="noStrike">
              <a:solidFill>
                <a:srgbClr val="000000"/>
              </a:solidFill>
              <a:latin typeface="Georgia"/>
            </a:endParaRPr>
          </a:p>
          <a:p>
            <a:pPr>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8" name="Picture 3" descr=""/>
          <p:cNvPicPr/>
          <p:nvPr/>
        </p:nvPicPr>
        <p:blipFill>
          <a:blip r:embed="rId1"/>
          <a:stretch/>
        </p:blipFill>
        <p:spPr>
          <a:xfrm>
            <a:off x="4932360" y="2205000"/>
            <a:ext cx="3511440" cy="1530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7b9899"/>
                </a:solidFill>
                <a:latin typeface="Verdana"/>
              </a:rPr>
              <a:t>Voetwrat (verruca plantaris)</a:t>
            </a:r>
            <a:endParaRPr b="0" lang="en-US" sz="2800" spc="-1" strike="noStrike">
              <a:solidFill>
                <a:srgbClr val="7b9899"/>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erruca plantaris:  ligt verzonken in het eelt van de voetzoel</a:t>
            </a:r>
            <a:endParaRPr b="0" lang="en-US" sz="20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ozaïekwrat: breidt zich oppervlakkig uit.</a:t>
            </a: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   </a:t>
            </a:r>
            <a:r>
              <a:rPr b="0" lang="nl-NL" sz="1000" spc="-1" strike="noStrike">
                <a:solidFill>
                  <a:srgbClr val="000000"/>
                </a:solidFill>
                <a:latin typeface="Verdana"/>
              </a:rPr>
              <a:t>Bron:htt</a:t>
            </a:r>
            <a:r>
              <a:rPr b="0" lang="nl-NL" sz="1100" spc="-1" strike="noStrike">
                <a:solidFill>
                  <a:srgbClr val="000000"/>
                </a:solidFill>
                <a:latin typeface="Verdana"/>
              </a:rPr>
              <a:t>p://www.huidziekten.nl/zakboek/dermatosen/vtxt/VerrucaVulgaris.htm</a:t>
            </a:r>
            <a:endParaRPr b="0" lang="en-US" sz="11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499"/>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100000"/>
              </a:lnSpc>
              <a:spcBef>
                <a:spcPts val="601"/>
              </a:spcBef>
              <a:buClr>
                <a:srgbClr val="d16349"/>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pic>
        <p:nvPicPr>
          <p:cNvPr id="631" name="Picture 4" descr=""/>
          <p:cNvPicPr/>
          <p:nvPr/>
        </p:nvPicPr>
        <p:blipFill>
          <a:blip r:embed="rId1"/>
          <a:stretch/>
        </p:blipFill>
        <p:spPr>
          <a:xfrm>
            <a:off x="6372360" y="4292640"/>
            <a:ext cx="2303280" cy="1538280"/>
          </a:xfrm>
          <a:prstGeom prst="rect">
            <a:avLst/>
          </a:prstGeom>
          <a:ln w="0">
            <a:noFill/>
          </a:ln>
        </p:spPr>
      </p:pic>
      <p:pic>
        <p:nvPicPr>
          <p:cNvPr id="632" name="Picture 5" descr=""/>
          <p:cNvPicPr/>
          <p:nvPr/>
        </p:nvPicPr>
        <p:blipFill>
          <a:blip r:embed="rId2"/>
          <a:stretch/>
        </p:blipFill>
        <p:spPr>
          <a:xfrm>
            <a:off x="6364440" y="2060640"/>
            <a:ext cx="2208240" cy="165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Verruca plana</a:t>
            </a:r>
            <a:endParaRPr b="0" lang="en-US" sz="3300" spc="-1" strike="noStrike">
              <a:solidFill>
                <a:srgbClr val="7b9899"/>
              </a:solidFill>
              <a:latin typeface="Georgia"/>
            </a:endParaRPr>
          </a:p>
        </p:txBody>
      </p:sp>
      <p:sp>
        <p:nvSpPr>
          <p:cNvPr id="63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Vlakke wra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Enkele millimeters groo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Huidkleurig of lichtbruin bobbeltj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Grote getale aanwezig</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 gelaat, armen en ben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5" name="Picture 2" descr=""/>
          <p:cNvPicPr/>
          <p:nvPr/>
        </p:nvPicPr>
        <p:blipFill>
          <a:blip r:embed="rId1"/>
          <a:stretch/>
        </p:blipFill>
        <p:spPr>
          <a:xfrm>
            <a:off x="6084720" y="1628640"/>
            <a:ext cx="2616480" cy="2649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300" spc="-1" strike="noStrike">
                <a:solidFill>
                  <a:srgbClr val="7b9899"/>
                </a:solidFill>
                <a:latin typeface="Georgia"/>
              </a:rPr>
              <a:t>Steelwrat (verruca filiformis)</a:t>
            </a:r>
            <a:endParaRPr b="0" lang="en-US" sz="3300" spc="-1" strike="noStrike">
              <a:solidFill>
                <a:srgbClr val="7b9899"/>
              </a:solidFill>
              <a:latin typeface="Georgia"/>
            </a:endParaRPr>
          </a:p>
        </p:txBody>
      </p:sp>
      <p:sp>
        <p:nvSpPr>
          <p:cNvPr id="637" name=""/>
          <p:cNvSpPr txBox="1"/>
          <p:nvPr/>
        </p:nvSpPr>
        <p:spPr>
          <a:xfrm>
            <a:off x="247320" y="145908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Locati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700" spc="-1" strike="noStrike">
                <a:solidFill>
                  <a:srgbClr val="000000"/>
                </a:solidFill>
                <a:latin typeface="Georgia"/>
              </a:rPr>
              <a:t>oksel,lippen, oogleden</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38" name="Picture 4" descr=""/>
          <p:cNvPicPr/>
          <p:nvPr/>
        </p:nvPicPr>
        <p:blipFill>
          <a:blip r:embed="rId1"/>
          <a:stretch/>
        </p:blipFill>
        <p:spPr>
          <a:xfrm>
            <a:off x="4500720" y="1700280"/>
            <a:ext cx="3517920" cy="2314440"/>
          </a:xfrm>
          <a:prstGeom prst="rect">
            <a:avLst/>
          </a:prstGeom>
          <a:ln w="0">
            <a:noFill/>
          </a:ln>
        </p:spPr>
      </p:pic>
      <p:pic>
        <p:nvPicPr>
          <p:cNvPr id="639" name="Picture 5" descr=""/>
          <p:cNvPicPr/>
          <p:nvPr/>
        </p:nvPicPr>
        <p:blipFill>
          <a:blip r:embed="rId2"/>
          <a:stretch/>
        </p:blipFill>
        <p:spPr>
          <a:xfrm>
            <a:off x="826920" y="3833640"/>
            <a:ext cx="2903760" cy="2165400"/>
          </a:xfrm>
          <a:prstGeom prst="rect">
            <a:avLst/>
          </a:prstGeom>
          <a:ln w="0">
            <a:noFill/>
          </a:ln>
        </p:spPr>
      </p:pic>
      <p:pic>
        <p:nvPicPr>
          <p:cNvPr id="640" name="Picture 6" descr=""/>
          <p:cNvPicPr/>
          <p:nvPr/>
        </p:nvPicPr>
        <p:blipFill>
          <a:blip r:embed="rId3"/>
          <a:stretch/>
        </p:blipFill>
        <p:spPr>
          <a:xfrm>
            <a:off x="4500720" y="4403880"/>
            <a:ext cx="3517920" cy="159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7:58:39Z</dcterms:created>
  <dc:creator>Gebruiker</dc:creator>
  <dc:description/>
  <dc:language>en-US</dc:language>
  <cp:lastModifiedBy>Annelies de Groot</cp:lastModifiedBy>
  <dcterms:modified xsi:type="dcterms:W3CDTF">2018-01-14T17:48:09Z</dcterms:modified>
  <cp:revision>24</cp:revision>
  <dc:subject/>
  <dc:title>Dermatologie</dc:title>
</cp:coreProperties>
</file>