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69CF-9356-4C86-934E-10CDCE89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309F-7607-4775-BBB9-E57342A8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7FD5-54FA-438D-B843-DB5D7324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CC5-E937-4FAA-BB9C-C665CC8C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D96B-7034-41D8-97EC-4A9FA1A0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9847-0080-4D90-B6A5-573BF1E3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96C8-736A-4E33-85B4-84FB31BE7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D774-B7C9-4E27-8DC9-2D6BFBC3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2753-0AF8-4A3B-A28B-EA976AC2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2911-EB29-4D5C-8C7B-FC47C175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5F2F-BA33-4112-8058-FDE125E9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1616-4226-407A-A92D-88FF1E06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8184-88D9-4CAC-9901-83FCA670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7B68-FAE4-4A2C-9326-863ED5B0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62EC-7F5B-4050-B4B4-1C5A279B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CEBD1-4D53-4600-8DB7-F85D38C4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6DE2-914F-487E-8035-43B0367F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991-79A2-4126-865C-5AF67318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DC0-E278-46BA-B0F5-157621AB4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6CC0-8523-4AD9-8451-A6F1D4BA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ED7-0D6D-46FC-AC8F-D7486DC1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0BB-BEB5-40FF-99CA-24DFB4B4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52C9-380A-442B-B7BE-C8A912BE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AE2-B410-4BF9-A6F9-AE8FD672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56CD-DE6C-46DC-8AD4-840D070CDB0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2E4F-4B58-4DE7-836E-7BD500ED9E9D}" type="slidenum">
              <a:rPr b="0" lang="nl-NL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Hondenbeet en Tetan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il_fi" descr="hond135"/>
          <p:cNvPicPr/>
          <p:nvPr/>
        </p:nvPicPr>
        <p:blipFill>
          <a:blip r:embed="rId1"/>
          <a:stretch/>
        </p:blipFill>
        <p:spPr>
          <a:xfrm>
            <a:off x="5753160" y="3213000"/>
            <a:ext cx="235908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riagecriter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oor wat/wanneer bent u gebe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rake van een open wo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loedverlies, in welke mat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et de wond eru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ste tetanusinjecti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minderde weerstand (DM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92360" y="549000"/>
            <a:ext cx="6865920" cy="54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utine: Ontstekingsverschijnselen zoals roodheid, zwelling, pus, ko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ingend: Bijtwond, behalve oppervlakkige  kleine verwond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oed: Beet van een giftig dier zoals een slang, spin, haged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20px-PHIL_tetanus"/>
          <p:cNvPicPr/>
          <p:nvPr/>
        </p:nvPicPr>
        <p:blipFill>
          <a:blip r:embed="rId1"/>
          <a:stretch/>
        </p:blipFill>
        <p:spPr>
          <a:xfrm>
            <a:off x="1908000" y="435924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ndsdolheid: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Hondsdolheid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rabiës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, is een ernstige aandoening als gevolg van een infectie met het </a:t>
            </a:r>
            <a:r>
              <a:rPr b="0" i="1" lang="nl-NL" sz="3000" spc="-1" strike="noStrike">
                <a:solidFill>
                  <a:srgbClr val="000000"/>
                </a:solidFill>
                <a:latin typeface="Arial"/>
              </a:rPr>
              <a:t>rabiësvirus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, meestal door een beet van een door rabiës besmet dier (honden, vossen, vleermuizen). Hondsdolheid is uiterst gevaarlijk voor mensen en leidt onbehandeld tot de do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Nog vrag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vraagteken%2520poppetje"/>
          <p:cNvPicPr/>
          <p:nvPr/>
        </p:nvPicPr>
        <p:blipFill>
          <a:blip r:embed="rId1"/>
          <a:stretch/>
        </p:blipFill>
        <p:spPr>
          <a:xfrm>
            <a:off x="755640" y="1125360"/>
            <a:ext cx="1857240" cy="39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:</a:t>
            </a:r>
            <a:br>
              <a:rPr sz="4200"/>
            </a:b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47640" y="24922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twonden ontstaan door: 90 % door een hondenbeet en 6% door een ka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middeld 13-20 personen op 10.000 mensen opname in een ziekenhuis noodzakelij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0 personen op 10.000 door huisarts gezi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¾ is jonger dan 14 jaa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37767-hondenbeet-kan-levensgevaarlijk-zijn"/>
          <p:cNvPicPr/>
          <p:nvPr/>
        </p:nvPicPr>
        <p:blipFill>
          <a:blip r:embed="rId1"/>
          <a:stretch/>
        </p:blipFill>
        <p:spPr>
          <a:xfrm>
            <a:off x="6516720" y="40464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6000" y="2743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door een bekend dier: uit de buurt of eigen huisd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hebt risicohonden bijten altij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k kindvriendelijke honden kunnen bijt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twond is indicatie voor tetanusprofyla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hondenbeet"/>
          <p:cNvPicPr/>
          <p:nvPr/>
        </p:nvPicPr>
        <p:blipFill>
          <a:blip r:embed="rId1"/>
          <a:stretch/>
        </p:blipFill>
        <p:spPr>
          <a:xfrm>
            <a:off x="5508720" y="765000"/>
            <a:ext cx="2923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Aandachtspunten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bservatie wond: hoe ernstig? Zegt altijd iets over de maatregelen die worden genomen(diepte/aard/bloed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iniging: Stromend water/ fysiologisch zout. Bij infecterende wonden:Povidon jod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geïnfecteerde wonden: duurt genezing lan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hondenbee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 bijtwond wordt in het algemeen niet gehecht vanwege infectiegevaar in later stadium. Alleen wonden in gezicht worden losjes gehecht/afde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oms preventief antibiotica bij infectiegevaar of verminderde we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profylax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Complicati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ndsdol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hondenbeet_292x237"/>
          <p:cNvPicPr/>
          <p:nvPr/>
        </p:nvPicPr>
        <p:blipFill>
          <a:blip r:embed="rId1"/>
          <a:stretch/>
        </p:blipFill>
        <p:spPr>
          <a:xfrm>
            <a:off x="5651640" y="3141720"/>
            <a:ext cx="2781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etanus    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31640" y="2565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tanus:”kaakklem” genoem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ordt veroorzaakt door de Bacteri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Clostridium Tetani. Anaerobe bacterie, waarvan de sporen in aarde, straat vuil, mest lang kunnen overleven. Deze sporen kunnen door een verwonding zich in het lichaam voortpla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79tetanus"/>
          <p:cNvPicPr/>
          <p:nvPr/>
        </p:nvPicPr>
        <p:blipFill>
          <a:blip r:embed="rId1"/>
          <a:stretch/>
        </p:blipFill>
        <p:spPr>
          <a:xfrm>
            <a:off x="7093080" y="189000"/>
            <a:ext cx="18381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58920" y="3403440"/>
            <a:ext cx="713088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volg: productie van tetanustoxine, een krachtige gifstof die pijnlijke en hevige spierkrampen veroorzaakt in het hele lichaa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Uiteindelijk ook de ademhalingsspieren met hartstil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tetanus"/>
          <p:cNvPicPr/>
          <p:nvPr/>
        </p:nvPicPr>
        <p:blipFill>
          <a:blip r:embed="rId1"/>
          <a:stretch/>
        </p:blipFill>
        <p:spPr>
          <a:xfrm>
            <a:off x="2843280" y="260280"/>
            <a:ext cx="39304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76000" y="1890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0000"/>
                </a:solidFill>
                <a:latin typeface="Arial"/>
              </a:rPr>
              <a:t>Tetanusprofylaxe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bijtwonden: bij laatste vaccinatie &lt;10 jaar, niets. Geeft vrijwel 100% bescherming bij welke verwonding dan ook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tste vaccinatie &gt;10 jaar: 1 tetanus toxo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nsen zijn van nature niet beschermd tegen tetanus: vormen nooit zelf antistoffen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2:10:57Z</dcterms:created>
  <dc:creator>Rina</dc:creator>
  <dc:description/>
  <dc:language>en-US</dc:language>
  <cp:lastModifiedBy>Annelies de Groot</cp:lastModifiedBy>
  <dcterms:modified xsi:type="dcterms:W3CDTF">2018-01-14T17:50:20Z</dcterms:modified>
  <cp:revision>3</cp:revision>
  <dc:subject/>
  <dc:title>Hondenbeet en Tetanus</dc:title>
</cp:coreProperties>
</file>