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8A1C-887A-40E6-8D7E-8556E32F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066-7E45-4765-A485-64090A52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4F50-DCB8-434B-AC96-C67FCA6E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EC46-8509-4F70-A9A3-87E9798B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A0A-C00D-4ACC-AF8E-BF93FCBF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1D22-E38D-47F1-A463-60E3D78F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F09-3DC8-4687-926E-1B6AC6B1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C28-97CD-473C-B373-1F400935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6F1-8291-488F-BAE3-694AEF52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834-65AD-4D8D-A6F3-6C7C00D1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2CE-89B9-4C05-B70F-9AA7D4D5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4E9B-ED6A-4509-B661-ADF74FF6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9CC3-BD04-4310-A540-E46C68D123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dC7E1U-6THc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neesmiddelen en P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com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bi van paracetamol met codeïne (opiaat) of coffeï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deïne versterkt niet-opioï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ffeïne: niet bewe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000000"/>
                </a:solidFill>
                <a:latin typeface="Arial"/>
              </a:rPr>
              <a:t>Opioïd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e pijnst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dere bel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ak alleen geschikt voor hevige acute p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werkingen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bstip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ufh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emhalingsdepress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WE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L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000000"/>
                </a:solidFill>
                <a:latin typeface="Arial"/>
              </a:rPr>
              <a:t>Anesthetic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atselijke verd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pervlakteanesthesie (op weefs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filtratieanesthesie (in weefs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leidingsanesthesie (via zenu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docaï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ijnstillers bij reuma / j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hoofdstuk 3 GM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IJ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gnaalfunctie: er is iets m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ute en chronische p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gnaalfunctie gaat verloren, het wordt een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cuut: oorzaak (vaak) duid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ijnstillers 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ronisch: bestaat langer, oorzaak onduidel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nh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ijnstillers, acupunctuur, chirurgisch ingrijpen, zenuwblokkade, hypnose, gedragstherapie, kalmeringsmiddelen, antidepres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ijnbestrij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ghalen signaal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-opioïden=gewone pijnstil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ioïden=sterke pijnstillers (opiumw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000000"/>
                </a:solidFill>
                <a:latin typeface="Arial"/>
              </a:rPr>
              <a:t>Niet-opioïd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of die bij weefselbeschadiging vrijkomt, ka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enuwprikkel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en bij lichte tot matige p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cl. middelen met koortsdempende of ontstekingsremmende we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aceta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SAID’s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roid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ti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flammatory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b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aracetam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jnstilling + koortsde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n interac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uwelijks contra-indic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deel: zeer giftig bij chronisch gebruik of overdosering (onherstelbare leverbeschadig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il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prostagland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NSAID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18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jnbestrij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tekingsremming en/of koortsde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lichte/matige p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ontstekingen van gewrichten en spieren/pe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werk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gklachten (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staglandinebescher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gevoeligheid (eens en nooit we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ronisch gebruik: nierbeschadi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3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Vervolg NSA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5520" y="11430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ra ind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gzw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rt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a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tistolling (wordt versterkt)- trombosedienst laten we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laspillen (werking neemt a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etylsalicylzuur / carbasalaatcalcium / diclofenac / ibuprufen / naprox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4:34:56Z</dcterms:created>
  <dc:creator>-</dc:creator>
  <dc:description/>
  <dc:language>en-US</dc:language>
  <cp:lastModifiedBy>erik zoer</cp:lastModifiedBy>
  <dcterms:modified xsi:type="dcterms:W3CDTF">2016-12-01T15:18:15Z</dcterms:modified>
  <cp:revision>17</cp:revision>
  <dc:subject/>
  <dc:title>Geneesmiddelen en PIJN</dc:title>
</cp:coreProperties>
</file>