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026A9-E425-4031-871F-44C261CB3F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https://pento.nl/gehoor/gehoorproblemen/slechthorendheid/</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Slechthorendheid</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Slechthorendheid is er in twee vormen: geleidingsverlies en perceptieverlie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Geleidingsverlie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Bij geleidingsverlies zijn er afwijkingen in het uitwendige oor of het middenoor. Daardoor wordt het geluid niet goed naar het slakkenhuis doorgegeven. Slechthorendheid die veroorzaakt wordt door geleidingsverlies is vaak te behandelen met medicijnen of door een operatie. Mogelijke oorzaken van een geleidingsverlies zijn:</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a:t>
            </a:r>
            <a:r>
              <a:rPr b="0" lang="nl-NL" sz="600" spc="-1" strike="noStrike">
                <a:solidFill>
                  <a:srgbClr val="000000"/>
                </a:solidFill>
                <a:latin typeface="Calibri"/>
              </a:rPr>
              <a:t>verstopping van de gehoorgang door een prop oorsmeer;</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a:t>
            </a:r>
            <a:r>
              <a:rPr b="0" lang="nl-NL" sz="600" spc="-1" strike="noStrike">
                <a:solidFill>
                  <a:srgbClr val="000000"/>
                </a:solidFill>
                <a:latin typeface="Calibri"/>
              </a:rPr>
              <a:t>vocht achter het trommelvlie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a:t>
            </a:r>
            <a:r>
              <a:rPr b="0" lang="nl-NL" sz="600" spc="-1" strike="noStrike">
                <a:solidFill>
                  <a:srgbClr val="000000"/>
                </a:solidFill>
                <a:latin typeface="Calibri"/>
              </a:rPr>
              <a:t>oorontsteking;</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a:t>
            </a:r>
            <a:r>
              <a:rPr b="0" lang="nl-NL" sz="600" spc="-1" strike="noStrike">
                <a:solidFill>
                  <a:srgbClr val="000000"/>
                </a:solidFill>
                <a:latin typeface="Calibri"/>
              </a:rPr>
              <a:t>verkalking van de gehoorbeentje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Perceptieverlie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Afwijkingen in het slakkenhuis of bij de gehoorzenuw heten perceptieverlies. Perceptieslechthorendheid is niet met medicijnen of een operatie te behandelen. In veel gevallen is een hoortoestel een goed hulpmiddel.</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Slechthorendheid door perceptieverlies kan verschillende oorzaken hebben, zoal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a:t>
            </a:r>
            <a:r>
              <a:rPr b="0" lang="nl-NL" sz="600" spc="-1" strike="noStrike">
                <a:solidFill>
                  <a:srgbClr val="000000"/>
                </a:solidFill>
                <a:latin typeface="Calibri"/>
              </a:rPr>
              <a:t>rode hond tijdens de zwangerschap of zwangerschapsvergiftiging;</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a:t>
            </a:r>
            <a:r>
              <a:rPr b="0" lang="nl-NL" sz="600" spc="-1" strike="noStrike">
                <a:solidFill>
                  <a:srgbClr val="000000"/>
                </a:solidFill>
                <a:latin typeface="Calibri"/>
              </a:rPr>
              <a:t>zuurstofgebrek of complicaties tijdens de geboorte;</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a:t>
            </a:r>
            <a:r>
              <a:rPr b="0" lang="nl-NL" sz="600" spc="-1" strike="noStrike">
                <a:solidFill>
                  <a:srgbClr val="000000"/>
                </a:solidFill>
                <a:latin typeface="Calibri"/>
              </a:rPr>
              <a:t>hersenvliesontsteking;</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a:t>
            </a:r>
            <a:r>
              <a:rPr b="0" lang="nl-NL" sz="600" spc="-1" strike="noStrike">
                <a:solidFill>
                  <a:srgbClr val="000000"/>
                </a:solidFill>
                <a:latin typeface="Calibri"/>
              </a:rPr>
              <a:t>ernstige oorontsteking;</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a:t>
            </a:r>
            <a:r>
              <a:rPr b="0" lang="nl-NL" sz="600" spc="-1" strike="noStrike">
                <a:solidFill>
                  <a:srgbClr val="000000"/>
                </a:solidFill>
                <a:latin typeface="Calibri"/>
              </a:rPr>
              <a:t>een tumor;</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a:t>
            </a:r>
            <a:r>
              <a:rPr b="0" lang="nl-NL" sz="600" spc="-1" strike="noStrike">
                <a:solidFill>
                  <a:srgbClr val="000000"/>
                </a:solidFill>
                <a:latin typeface="Calibri"/>
              </a:rPr>
              <a:t>gebruik van bepaalde medicijnen;</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a:t>
            </a:r>
            <a:r>
              <a:rPr b="0" lang="nl-NL" sz="600" spc="-1" strike="noStrike">
                <a:solidFill>
                  <a:srgbClr val="000000"/>
                </a:solidFill>
                <a:latin typeface="Calibri"/>
              </a:rPr>
              <a:t>een ongeluk;</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a:t>
            </a:r>
            <a:r>
              <a:rPr b="0" lang="nl-NL" sz="600" spc="-1" strike="noStrike">
                <a:solidFill>
                  <a:srgbClr val="000000"/>
                </a:solidFill>
                <a:latin typeface="Calibri"/>
              </a:rPr>
              <a:t>lawaaitrauma;</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a:t>
            </a:r>
            <a:r>
              <a:rPr b="0" lang="nl-NL" sz="600" spc="-1" strike="noStrike">
                <a:solidFill>
                  <a:srgbClr val="000000"/>
                </a:solidFill>
                <a:latin typeface="Calibri"/>
              </a:rPr>
              <a:t>erfelijke aandoeningen;</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 spc="-1" strike="noStrike">
                <a:solidFill>
                  <a:srgbClr val="000000"/>
                </a:solidFill>
                <a:latin typeface="Calibri"/>
              </a:rPr>
              <a:t>•</a:t>
            </a:r>
            <a:r>
              <a:rPr b="0" lang="nl-NL" sz="600" spc="-1" strike="noStrike">
                <a:solidFill>
                  <a:srgbClr val="000000"/>
                </a:solidFill>
                <a:latin typeface="Calibri"/>
              </a:rPr>
              <a:t>ouderdom.</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9197C-C6F4-4AE4-86E4-AA8AF03A4E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3B0E71-FA79-4B29-A3EF-A8D26F6694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05C2B-9C4E-459E-B43A-243D93B90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FC70A2-4A0A-499A-A9F0-661810A46B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E88E7-FDA1-4C27-9927-0FB31ACD38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7B6CD-AD65-4463-81FA-0343520C8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5E17C-8FEE-4CA3-8241-F58C1950E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E1387-DEF5-4DA2-8CCC-D393C501C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91DD4-F128-4AEF-A1BA-E755C2689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782E4-65D7-4432-B00F-65A165D7D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09724-9AF5-4A8D-A35B-A778F4A89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DC7FE-36C6-4654-B305-169F3FABE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239C2-BED2-4497-85DD-D6ED4496AF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443AE-4535-4AD6-8232-3E3C317F8CAD}" type="datetime">
              <a:rPr b="0" lang="nl-NL" sz="1200" spc="-1" strike="noStrike">
                <a:solidFill>
                  <a:srgbClr val="898989"/>
                </a:solidFill>
                <a:latin typeface="Arial"/>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Arial"/>
              </a:rPr>
              <a:t>Medische kennis Bouke Cuperus</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5B04B-9B37-4365-BF6E-4E6FEAE7B308}" type="slidenum">
              <a:rPr b="0" lang="nl-NL"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Slechthorendheid</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Geluiden: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Zachter, vaak vervormd of dof.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arde geluiden ervaren ze meestal als onprettig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Bepalen waar een geluid vandaan komt is lastig.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Iemand verstaan in rumoerige omgeving, lukt vaak niet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nformatie slechthorendheid</a:t>
            </a:r>
            <a:endParaRPr b="0" lang="en-US" sz="4400" spc="-1" strike="noStrike">
              <a:solidFill>
                <a:srgbClr val="000000"/>
              </a:solidFill>
              <a:latin typeface="Calibri"/>
            </a:endParaRPr>
          </a:p>
        </p:txBody>
      </p:sp>
      <p:sp>
        <p:nvSpPr>
          <p:cNvPr id="72" name="Tijdelijke aanduiding voor voettekst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Arial"/>
              </a:rPr>
              <a:t>Medische kennis Bouke Cuperus</a:t>
            </a:r>
            <a:endParaRPr b="0" lang="en-US" sz="1200" spc="-1" strike="noStrike">
              <a:solidFill>
                <a:srgbClr val="000000"/>
              </a:solidFill>
              <a:latin typeface="Arial"/>
            </a:endParaRPr>
          </a:p>
        </p:txBody>
      </p:sp>
      <p:sp>
        <p:nvSpPr>
          <p:cNvPr id="73" name="Rechthoek 3"/>
          <p:cNvSpPr/>
          <p:nvPr/>
        </p:nvSpPr>
        <p:spPr>
          <a:xfrm>
            <a:off x="1187280" y="1720800"/>
            <a:ext cx="6840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tichting Hoormij</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ww.shjong.nl: voor slechthorende jonger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oorwijzer: u kunt zelf een gehoortest doen en krijgt informatie over hoortoestellen en hoorhulpmiddel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no.nl, voor voorlichtingsfolders van kno-arts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ww.fenac.nl, de website van audiologische centra</a:t>
            </a:r>
            <a:endParaRPr b="0" lang="en-US" sz="1800" spc="-1" strike="noStrike">
              <a:solidFill>
                <a:srgbClr val="000000"/>
              </a:solidFill>
              <a:latin typeface="Arial"/>
            </a:endParaRPr>
          </a:p>
        </p:txBody>
      </p:sp>
      <p:sp>
        <p:nvSpPr>
          <p:cNvPr id="74" name="Rechthoek 4"/>
          <p:cNvSpPr/>
          <p:nvPr/>
        </p:nvSpPr>
        <p:spPr>
          <a:xfrm>
            <a:off x="1189080" y="4592520"/>
            <a:ext cx="662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ttps://pento.nl/gehoor/gehoorproblemen/slechthorendhe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Slechthorendheid</a:t>
            </a:r>
            <a:endParaRPr b="0" lang="en-US" sz="4400" spc="-1" strike="noStrike">
              <a:solidFill>
                <a:srgbClr val="000000"/>
              </a:solidFill>
              <a:latin typeface="Calibri"/>
            </a:endParaRPr>
          </a:p>
        </p:txBody>
      </p:sp>
      <p:pic>
        <p:nvPicPr>
          <p:cNvPr id="51" name="Picture 3" descr=""/>
          <p:cNvPicPr/>
          <p:nvPr/>
        </p:nvPicPr>
        <p:blipFill>
          <a:blip r:embed="rId1"/>
          <a:stretch/>
        </p:blipFill>
        <p:spPr>
          <a:xfrm>
            <a:off x="3432240" y="3249720"/>
            <a:ext cx="2279520" cy="1226880"/>
          </a:xfrm>
          <a:prstGeom prst="rect">
            <a:avLst/>
          </a:prstGeom>
          <a:ln w="0">
            <a:noFill/>
          </a:ln>
        </p:spPr>
      </p:pic>
      <p:sp>
        <p:nvSpPr>
          <p:cNvPr id="52" name="Rechthoek 4"/>
          <p:cNvSpPr/>
          <p:nvPr/>
        </p:nvSpPr>
        <p:spPr>
          <a:xfrm>
            <a:off x="960480" y="2565360"/>
            <a:ext cx="7705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ttp://www.hoorzaken.nl/gehoorproblemen/slechthorendheid/perceptief-gehoorverlies/</a:t>
            </a:r>
            <a:endParaRPr b="0" lang="en-US" sz="1800" spc="-1" strike="noStrike">
              <a:solidFill>
                <a:srgbClr val="000000"/>
              </a:solidFill>
              <a:latin typeface="Arial"/>
            </a:endParaRPr>
          </a:p>
        </p:txBody>
      </p:sp>
      <p:pic>
        <p:nvPicPr>
          <p:cNvPr id="53" name="Picture 4" descr=""/>
          <p:cNvPicPr/>
          <p:nvPr/>
        </p:nvPicPr>
        <p:blipFill>
          <a:blip r:embed="rId2"/>
          <a:stretch/>
        </p:blipFill>
        <p:spPr>
          <a:xfrm>
            <a:off x="2735280" y="3211560"/>
            <a:ext cx="3889440" cy="3306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Slechthorendheid</a:t>
            </a:r>
            <a:endParaRPr b="0" lang="en-US" sz="4400" spc="-1" strike="noStrike">
              <a:solidFill>
                <a:srgbClr val="000000"/>
              </a:solidFill>
              <a:latin typeface="Calibri"/>
            </a:endParaRPr>
          </a:p>
        </p:txBody>
      </p:sp>
      <p:pic>
        <p:nvPicPr>
          <p:cNvPr id="55" name="Picture 2" descr=""/>
          <p:cNvPicPr/>
          <p:nvPr/>
        </p:nvPicPr>
        <p:blipFill>
          <a:blip r:embed="rId1"/>
          <a:stretch/>
        </p:blipFill>
        <p:spPr>
          <a:xfrm>
            <a:off x="1123920" y="1600200"/>
            <a:ext cx="689616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Twee vormen gehoorverlies (doofheid)</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Calibri"/>
              </a:rPr>
              <a:t>Geleidingsverlie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fwijkingen in het uitwendige oor of het middenoor. Daardoor wordt het geluid niet goed naar het slakkenhuis doorgeve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Calibri"/>
              </a:rPr>
              <a:t>Perceptief verlie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fwijkingen in het slakkenhuis of bij de gehoorzenuw</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Arial"/>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Oorzaken Geleidingsdoofheid</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Geluid bereikt het trommelvlies niet oorprop (cerumen), puist, eczeem, ontstek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Trommelvlies beschadigd; harde knal, ferme klap ,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Mechanisch trauma trommelvlies: perforati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Littekenweefsel trommelvl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verkalking trommelvl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defect  gehoorbeentjes (otoscleros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eustachius verstopt zit, kan dit eveneens leiden tot een verminderde beweeglijkheid van het trommelvl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Arial"/>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Oorzaken Perceptiedoofheid</a:t>
            </a:r>
            <a:br>
              <a:rPr sz="4400"/>
            </a:br>
            <a:r>
              <a:rPr b="0" lang="nl-NL" sz="4400" spc="-1" strike="noStrike">
                <a:solidFill>
                  <a:srgbClr val="000000"/>
                </a:solidFill>
                <a:latin typeface="Calibri"/>
              </a:rPr>
              <a:t>(zintuigverlies)</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Lawaaibeschadig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Ouderdomsslechthorendheid (presbyacusi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Zuurstofgebrek</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sudden deafness' (plotsdoofhei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ototoxische stoffen (b.v.:  antibiotica of  cytostatica, anti-malariamiddel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Aangedane zenuwfunctie (tumor die op de gehoorzenuw druk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Perceptief gehoorverlies door mechanisch traum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Arial"/>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Presbyacusis (ouderdomsdoofheid)</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Perceptieslechthorendheid : klachten beginnen na vijftigste levensja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oge tonen worden minder goed gehoord (telefoon en deurb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Moeilijkheid gesprek te volgen bij veel mens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Presbyacusis vaak in combinatie van Tinnitus (oorsuiz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Calibri"/>
            </a:endParaRPr>
          </a:p>
        </p:txBody>
      </p:sp>
      <p:pic>
        <p:nvPicPr>
          <p:cNvPr id="68" name="Picture 2" descr=""/>
          <p:cNvPicPr/>
          <p:nvPr/>
        </p:nvPicPr>
        <p:blipFill>
          <a:blip r:embed="rId1"/>
          <a:stretch/>
        </p:blipFill>
        <p:spPr>
          <a:xfrm>
            <a:off x="3524400" y="2751120"/>
            <a:ext cx="2095200" cy="2224080"/>
          </a:xfrm>
          <a:prstGeom prst="rect">
            <a:avLst/>
          </a:prstGeom>
          <a:ln w="0">
            <a:noFill/>
          </a:ln>
        </p:spPr>
      </p:pic>
      <p:pic>
        <p:nvPicPr>
          <p:cNvPr id="69" name="Afbeelding 4" descr=""/>
          <p:cNvPicPr/>
          <p:nvPr/>
        </p:nvPicPr>
        <p:blipFill>
          <a:blip r:embed="rId2"/>
          <a:stretch/>
        </p:blipFill>
        <p:spPr>
          <a:xfrm>
            <a:off x="250920" y="366840"/>
            <a:ext cx="8454960" cy="5635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
          <p:cNvPicPr/>
          <p:nvPr/>
        </p:nvPicPr>
        <p:blipFill>
          <a:blip r:embed="rId1"/>
          <a:stretch/>
        </p:blipFill>
        <p:spPr>
          <a:xfrm>
            <a:off x="2147760" y="193680"/>
            <a:ext cx="4992840" cy="6664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6T16:16:25Z</dcterms:created>
  <dc:creator>3512</dc:creator>
  <dc:description/>
  <dc:language>en-US</dc:language>
  <cp:lastModifiedBy>Uw naam</cp:lastModifiedBy>
  <dcterms:modified xsi:type="dcterms:W3CDTF">2018-01-02T12:55:59Z</dcterms:modified>
  <cp:revision>144</cp:revision>
  <dc:subject/>
  <dc:title>Gehoorstelsel</dc:title>
</cp:coreProperties>
</file>