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B7D5-EE28-4E83-AAE9-37C65756CC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https://pento.nl/gehoor/gehoorproblemen/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is er in twee vormen: geleidingsverlies en 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Geleidings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Bij geleidingsverlies zijn er afwijkingen in het uitwendige oor of het middenoor. Daardoor wordt het geluid niet goed naar het slakkenhuis doorgegeven. Slechthorendheid die veroorzaakt wordt door geleidingsverlies is vaak te behandelen met medicijnen of door een operatie. Mogelijke oorzaken van een geleidingsverlies zij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stopping van de gehoorgang door een prop oorsmee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ocht achter het trommelv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verkalking van de gehoorbeentj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Perceptieverlie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fwijkingen in het slakkenhuis of bij de gehoorzenuw heten perceptieverlies. Perceptieslechthorendheid is niet met medicijnen of een operatie te behandelen. In veel gevallen is een hoortoestel een goed hulpmiddel.</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Slechthorendheid door perceptieverlies kan verschillende oorzaken hebben, zoals:</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rode hond tijdens de zwangerschap of zwangerschapsvergiftig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zuurstofgebrek of complicaties tijdens de geboorte;</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hersenvlies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nstige oorontsteking;</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tumor;</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gebruik van bepaalde medicijn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en ongeluk;</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lawaaitrauma;</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erfelijke aandoeningen;</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00" spc="-1" strike="noStrike">
                <a:solidFill>
                  <a:srgbClr val="000000"/>
                </a:solidFill>
                <a:latin typeface="Calibri"/>
              </a:rPr>
              <a:t>•</a:t>
            </a:r>
            <a:r>
              <a:rPr b="0" lang="nl-NL" sz="700" spc="-1" strike="noStrike">
                <a:solidFill>
                  <a:srgbClr val="000000"/>
                </a:solidFill>
                <a:latin typeface="Calibri"/>
              </a:rPr>
              <a:t>ouderdom.</a:t>
            </a:r>
            <a:endParaRPr b="0" lang="en-US" sz="7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86231-4AD1-46D1-AF68-44A3A86E20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05BD-D16F-45CE-9000-E1B412F490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BCF1E1-CBBF-4072-BBF5-44F7A164C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E9065-88C4-4BB4-B21D-1BB6FEBB3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D0FBD-5AC2-4583-9598-3C0516063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962B5-A436-464E-8917-B28440042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D71145-E65F-4AF0-BB4B-994CE9C6D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852FB-95BD-4E2A-B8B3-0860FE49D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3748-82A4-42AB-9F65-8FA69C9F6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DF601-7A8B-48E5-9D49-0C0133204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4929-3895-414D-AF34-6CB440E46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60E0C-64F7-487B-A5F5-E6CE4767A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B863-0351-4D28-9B7A-98CBED5E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24B0-863C-44B7-B783-90F28409FA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EA1F-4937-47AD-90F8-3DF8EF80E715}" type="datetime">
              <a:rPr b="0" lang="nl-NL" sz="1200" spc="-1" strike="noStrike">
                <a:solidFill>
                  <a:srgbClr val="898989"/>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45D2-4C96-49CD-B3D7-A1544F036505}" type="slidenum">
              <a:rPr b="0" lang="nl-NL"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Geluiden: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Zachter, vaak vervormd of dof.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Harde geluiden ervaren ze meestal als onpret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Bepalen waar een geluid vandaan komt is lastig. </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Calibri"/>
              </a:rPr>
              <a:t>Iemand verstaan in rumoerige omgeving, lukt vaak niet </a:t>
            </a:r>
            <a:endParaRPr b="0" lang="en-US" sz="30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http://www.hoorzaken.nl/gehoorproblemen/slechthorendheid/</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Informatie slechthorendheid</a:t>
            </a:r>
            <a:endParaRPr b="0" lang="en-US" sz="4400" spc="-1" strike="noStrike">
              <a:solidFill>
                <a:srgbClr val="000000"/>
              </a:solidFill>
              <a:latin typeface="Calibri"/>
            </a:endParaRPr>
          </a:p>
        </p:txBody>
      </p:sp>
      <p:sp>
        <p:nvSpPr>
          <p:cNvPr id="71" name="Tijdelijke aanduiding voor voettekst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
        <p:nvSpPr>
          <p:cNvPr id="72" name="Rechthoek 3"/>
          <p:cNvSpPr/>
          <p:nvPr/>
        </p:nvSpPr>
        <p:spPr>
          <a:xfrm>
            <a:off x="1187280" y="1720800"/>
            <a:ext cx="6840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Stichting Hoormi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shjong.nl: voor slechthorende jonger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oorwijzer: u kunt zelf een gehoortest doen en krijgt informatie over hoortoestellen en hoorhulpmiddel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kno.nl, voor voorlichtingsfolders van kno-arts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www.fenac.nl, de website van audiologische centra</a:t>
            </a:r>
            <a:endParaRPr b="0" lang="en-US" sz="1800" spc="-1" strike="noStrike">
              <a:solidFill>
                <a:srgbClr val="000000"/>
              </a:solidFill>
              <a:latin typeface="Arial"/>
            </a:endParaRPr>
          </a:p>
        </p:txBody>
      </p:sp>
      <p:sp>
        <p:nvSpPr>
          <p:cNvPr id="73" name="Rechthoek 4"/>
          <p:cNvSpPr/>
          <p:nvPr/>
        </p:nvSpPr>
        <p:spPr>
          <a:xfrm>
            <a:off x="1189080" y="4592520"/>
            <a:ext cx="662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ttps://pento.nl/gehoor/gehoorproblemen/slechthorendhe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Twee vormen gehoorverlies </a:t>
            </a:r>
            <a:r>
              <a:rPr b="0" lang="nl-NL" sz="2000" spc="-1" strike="noStrike">
                <a:solidFill>
                  <a:srgbClr val="000000"/>
                </a:solidFill>
                <a:latin typeface="Calibri"/>
              </a:rPr>
              <a:t>(doofheid)</a:t>
            </a:r>
            <a:endParaRPr b="0" lang="en-US" sz="20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Conductiefverlies (geleidings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uitwendige oor of het middenoor. Daardoor wordt het geluid niet goed naar het slakkenhuis doorgev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Calibri"/>
              </a:rPr>
              <a:t>Perceptief verlies (zintuigverl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fwijkingen in het slakkenhuis of bij de gehoorzenuw</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Slechthorendheid</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1123920" y="1600200"/>
            <a:ext cx="68961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552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conductiefverlies </a:t>
            </a:r>
            <a:r>
              <a:rPr b="0" lang="nl-NL" sz="2400" spc="-1" strike="noStrike">
                <a:solidFill>
                  <a:srgbClr val="000000"/>
                </a:solidFill>
                <a:latin typeface="Calibri"/>
              </a:rPr>
              <a:t>(Geleidingsdoofheid)</a:t>
            </a:r>
            <a:endParaRPr b="0" lang="en-US" sz="2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Geluid bereikt het trommelvlies niet oorprop (cerumen), puist, eczeem, ontstek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Trommelvlies beschadigd; harde knal, ferme klap ,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Mechanisch trauma trommelvlies: perforati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ittekenweefsel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verkalking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defect  gehoorbeentjes (otoscleros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ustachius verstopt zit, kan dit eveneens leiden tot een verminderde beweeglijkheid van het trommelvl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Oorzaken Perceptiedoofheid</a:t>
            </a:r>
            <a:br>
              <a:rPr sz="4400"/>
            </a:br>
            <a:r>
              <a:rPr b="0" lang="nl-NL" sz="2400" spc="-1" strike="noStrike">
                <a:solidFill>
                  <a:srgbClr val="000000"/>
                </a:solidFill>
                <a:latin typeface="Calibri"/>
              </a:rPr>
              <a:t>(zintuigverlies)</a:t>
            </a:r>
            <a:endParaRPr b="0" lang="en-US" sz="2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Lawaaibeschadig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uderdomsslechthorendheid (presbyacu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Zuurstofgebrek</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udden deafness' (plotsdoofhei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ototoxische stoffen (b.v.:  antibiotica of  cytostatica, anti-malariamiddele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Aangedane zenuwfunctie (tumor die op de gehoorzenuw druk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Perceptief gehoorverlies door mechanisch trau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Lawaaidoofheid</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Calibri"/>
              </a:rPr>
              <a:t>Oorzake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stopping oorsmeer (gehoorappara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ntsteking uitwendige gehoorgang</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Verkoudheid (verstopte buis van Eustachius ) Regelmatige blootstelling aan extreem lawaai (popconcert, discotheek). Hierdoor kan lawaaidoofheid ontstaan</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Erfelijkhei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Ouderdo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Tijdelijke aanduiding voor voettekst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Arial"/>
              </a:rPr>
              <a:t>Medische kennis Bouke Cuperu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Calibri"/>
              </a:rPr>
              <a:t>Presbyacusis (ouderdomsdoofheid)</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erceptieslechthorendheid : klachten beginnen na vijftigste levensja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oge tonen worden minder goed gehoord (telefoon en deurb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Moeilijkheid gesprek te volgen bij veel mens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Presbyacusis vaak in combinatie van Tinnitus (oorsuiz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Calibri"/>
            </a:endParaRPr>
          </a:p>
        </p:txBody>
      </p:sp>
      <p:pic>
        <p:nvPicPr>
          <p:cNvPr id="67" name="Picture 2" descr=""/>
          <p:cNvPicPr/>
          <p:nvPr/>
        </p:nvPicPr>
        <p:blipFill>
          <a:blip r:embed="rId1"/>
          <a:stretch/>
        </p:blipFill>
        <p:spPr>
          <a:xfrm>
            <a:off x="3524400" y="2751120"/>
            <a:ext cx="2095200" cy="2224080"/>
          </a:xfrm>
          <a:prstGeom prst="rect">
            <a:avLst/>
          </a:prstGeom>
          <a:ln w="0">
            <a:noFill/>
          </a:ln>
        </p:spPr>
      </p:pic>
      <p:pic>
        <p:nvPicPr>
          <p:cNvPr id="68" name="Afbeelding 4" descr=""/>
          <p:cNvPicPr/>
          <p:nvPr/>
        </p:nvPicPr>
        <p:blipFill>
          <a:blip r:embed="rId2"/>
          <a:stretch/>
        </p:blipFill>
        <p:spPr>
          <a:xfrm>
            <a:off x="250920" y="366840"/>
            <a:ext cx="8454960" cy="563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2147760" y="193680"/>
            <a:ext cx="4992840" cy="666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6T16:16:25Z</dcterms:created>
  <dc:creator>3512</dc:creator>
  <dc:description/>
  <dc:language>en-US</dc:language>
  <cp:lastModifiedBy>Uw naam</cp:lastModifiedBy>
  <dcterms:modified xsi:type="dcterms:W3CDTF">2018-01-07T16:49:01Z</dcterms:modified>
  <cp:revision>150</cp:revision>
  <dc:subject/>
  <dc:title>Gehoorstelsel</dc:title>
</cp:coreProperties>
</file>