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491-438C-485D-B1A4-02D934AD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F97-78B1-41CC-A309-8521A410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8462-38FF-41CA-B386-5004732D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678-B5C4-4FF7-90FE-8D9100B3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AC38-18A6-4DCA-A2A5-19B22FE5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5948-D306-446D-A4D4-489B9B0C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504D-7403-4820-8BB5-23300344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7C77-22D2-45A1-982E-21FC6E5A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BED7-72FC-4328-A7D5-87678B2A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1DFB-4551-40B1-88D1-BCE2E567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942C-ED3F-4542-AAF3-76E2DABA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834E-7F46-49B0-B174-B8D3BBEC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EAD0-3337-4C02-9333-3218BBB7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AA3B-AFF4-4660-9E75-8E77AB07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532A-7C08-4ECD-87BC-A00C315D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73D1-18DF-49CF-A892-2545E374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8078-DCF6-4F26-843D-684D708D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4454-F341-4962-9109-A6A744A0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5E2-177B-4FA8-9D58-B5D06FF5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864-D936-45AF-BD9A-DFA0AD0B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5F1-7847-42CB-9238-DB879008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AF97-EA84-4FFC-974E-41E3577B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E5D-49F6-4F16-A3D9-185A3E9D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294-0B66-4228-91C9-6DFAEC41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1948-B04E-460B-8675-EEA828D3678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D3A6-1683-489A-87FA-9346D7367AC9}" type="slidenum">
              <a:rPr b="0" lang="nl-NL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Hondenbeet en Tetan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l_fi" descr="hond135"/>
          <p:cNvPicPr/>
          <p:nvPr/>
        </p:nvPicPr>
        <p:blipFill>
          <a:blip r:embed="rId1"/>
          <a:stretch/>
        </p:blipFill>
        <p:spPr>
          <a:xfrm>
            <a:off x="5753160" y="3213000"/>
            <a:ext cx="23590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riagecriteri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or wat/wanneer bent u gebe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rake van een open wo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loedverlies, in welke ma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et de wond eru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tste tetanusinjecti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minderde weerstand (DM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92360" y="549000"/>
            <a:ext cx="6865920" cy="54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utine: Ontstekingsverschijnselen zoals roodheid, zwelling, pus, koo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ingend: Bijtwond, behalve oppervlakkige  kleine verwond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oed: Beet van een giftig dier zoals een slang, spin, haged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120px-PHIL_tetanus"/>
          <p:cNvPicPr/>
          <p:nvPr/>
        </p:nvPicPr>
        <p:blipFill>
          <a:blip r:embed="rId1"/>
          <a:stretch/>
        </p:blipFill>
        <p:spPr>
          <a:xfrm>
            <a:off x="1908000" y="4359240"/>
            <a:ext cx="26640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ndsdolheid:</a:t>
            </a: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Hondsdolheid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rabiës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, is een ernstige aandoening als gevolg van een infectie met het </a:t>
            </a:r>
            <a:r>
              <a:rPr b="0" i="1" lang="nl-NL" sz="3000" spc="-1" strike="noStrike">
                <a:solidFill>
                  <a:srgbClr val="000000"/>
                </a:solidFill>
                <a:latin typeface="Arial"/>
              </a:rPr>
              <a:t>rabiësvirus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, meestal door een beet van een door rabiës besmet dier (honden, vossen, vleermuizen). Hondsdolheid is uiterst gevaarlijk voor mensen en leidt onbehandeld tot de d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Nog vrag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vraagteken%2520poppetje"/>
          <p:cNvPicPr/>
          <p:nvPr/>
        </p:nvPicPr>
        <p:blipFill>
          <a:blip r:embed="rId1"/>
          <a:stretch/>
        </p:blipFill>
        <p:spPr>
          <a:xfrm>
            <a:off x="755640" y="1125360"/>
            <a:ext cx="1857240" cy="39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:</a:t>
            </a:r>
            <a:br>
              <a:rPr sz="4200"/>
            </a:b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47640" y="2492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twonden ontstaan door: 90 % door een hondenbeet en 6% door een ka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middeld 13-20 personen op 10.000 mensen opname in een ziekenhuis noodzakelij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0 personen op 10.000 door huisarts gez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¾ is jonger dan 14 jaar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37767-hondenbeet-kan-levensgevaarlijk-zijn"/>
          <p:cNvPicPr/>
          <p:nvPr/>
        </p:nvPicPr>
        <p:blipFill>
          <a:blip r:embed="rId1"/>
          <a:stretch/>
        </p:blipFill>
        <p:spPr>
          <a:xfrm>
            <a:off x="6516720" y="40464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6000" y="2743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door een bekend dier: uit de buurt of eigen huisd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hebt risicohonden bijten altij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k kindvriendelijke honden kunnen bijt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twond is indicatie voor tetanusprofylax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hondenbeet"/>
          <p:cNvPicPr/>
          <p:nvPr/>
        </p:nvPicPr>
        <p:blipFill>
          <a:blip r:embed="rId1"/>
          <a:stretch/>
        </p:blipFill>
        <p:spPr>
          <a:xfrm>
            <a:off x="5508720" y="765000"/>
            <a:ext cx="29239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bservatie wond: hoe ernstig? Zegt altijd iets over de maatregelen die worden genomen(diepte/aard/bloed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iniging: Stromend water/ fysiologisch zout. Bij infecterende wonden:Povidon jod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geïnfecteerde wonden: duurt genezing lan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 bijtwond wordt in het algemeen niet gehecht vanwege infectiegevaar in later stadium. Alleen wonden in gezicht worden losjes gehecht/afde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oms preventief antibiotica bij infectiegevaar of verminderde we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profylax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Complica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ndsdol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hondenbeet_292x237"/>
          <p:cNvPicPr/>
          <p:nvPr/>
        </p:nvPicPr>
        <p:blipFill>
          <a:blip r:embed="rId1"/>
          <a:stretch/>
        </p:blipFill>
        <p:spPr>
          <a:xfrm>
            <a:off x="5651640" y="3141720"/>
            <a:ext cx="2781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etanus      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1640" y="2565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:”kaakklem” genoem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ordt veroorzaakt door de Bacter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lostridium Tetani. Anaerobe bacterie, waarvan de sporen in aarde, straat vuil, mest lang kunnen overleven. Deze sporen kunnen door een verwonding zich in het lichaam voortpla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79tetanus"/>
          <p:cNvPicPr/>
          <p:nvPr/>
        </p:nvPicPr>
        <p:blipFill>
          <a:blip r:embed="rId1"/>
          <a:stretch/>
        </p:blipFill>
        <p:spPr>
          <a:xfrm>
            <a:off x="7093080" y="189000"/>
            <a:ext cx="18381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58920" y="3403440"/>
            <a:ext cx="713088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volg: productie van tetanustoxine, een krachtige gifstof die pijnlijke en hevige spierkrampen veroorzaakt in het hele licha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eindelijk ook de ademhalingsspieren met hartstil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tetanus"/>
          <p:cNvPicPr/>
          <p:nvPr/>
        </p:nvPicPr>
        <p:blipFill>
          <a:blip r:embed="rId1"/>
          <a:stretch/>
        </p:blipFill>
        <p:spPr>
          <a:xfrm>
            <a:off x="2843280" y="260280"/>
            <a:ext cx="39304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etanusprofylaxe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bijtwonden: bij laatste vaccinatie &lt;10 jaar, niets. Geeft vrijwel 100% bescherming bij welke verwonding dan ook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tste vaccinatie &gt;10 jaar: 1 tetanus tox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nsen zijn van nature niet beschermd tegen tetanus: vormen nooit zelf antistoff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2:10:57Z</dcterms:created>
  <dc:creator>Rina</dc:creator>
  <dc:description/>
  <dc:language>en-US</dc:language>
  <cp:lastModifiedBy>Annelies de Groot</cp:lastModifiedBy>
  <dcterms:modified xsi:type="dcterms:W3CDTF">2018-01-14T17:50:20Z</dcterms:modified>
  <cp:revision>3</cp:revision>
  <dc:subject/>
  <dc:title>Hondenbeet en Tetanus</dc:title>
</cp:coreProperties>
</file>