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691A-3792-4B8D-9525-0D40290E53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https://pento.nl/gehoor/gehoorproblemen/slechthorendhei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lechthorendhei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lechthorendheid is er in twee vormen: geleidingsverlies en perceptiever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leidingsver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ij geleidingsverlies zijn er afwijkingen in het uitwendige oor of het middenoor. Daardoor wordt het geluid niet goed naar het slakkenhuis doorgegeven. Slechthorendheid die veroorzaakt wordt door geleidingsverlies is vaak te behandelen met medicijnen of door een operatie. Mogelijke oorzaken van een geleidingsverlies zij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verstopping van de gehoorgang door een prop oorsmeer;</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vocht achter het trommelv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oorontstek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verkalking van de gehoorbeentj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Perceptiever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fwijkingen in het slakkenhuis of bij de gehoorzenuw heten perceptieverlies. Perceptieslechthorendheid is niet met medicijnen of een operatie te behandelen. In veel gevallen is een hoortoestel een goed hulpmidd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lechthorendheid door perceptieverlies kan verschillende oorzaken hebben, zoal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rode hond tijdens de zwangerschap of zwangerschapsvergiftig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zuurstofgebrek of complicaties tijdens de geboort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hersenvliesontstek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rnstige oorontstek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en tumor;</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gebruik van bepaalde medicijne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en ongeluk;</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lawaaitraum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rfelijke aandoeninge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ouderdo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EC29-0F6D-4289-91C9-615D711CBD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A8AD1-D854-489C-B6E5-AD90F9B25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C7199-BF24-4C6E-B2BE-48664AD07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B9C78-0C32-4598-9DEC-2D09D28D9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576FE-E68B-4F70-B953-B84B6CCA1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27867-2C91-4324-9C57-C6636852E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82F2E-E701-444E-987F-5ED7A116E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3271E-AEFC-407E-83DA-5C0DC3140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58B06-77FC-4845-AF8B-371D85DFC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4B319-6FA0-4B9E-AA27-9D31B390B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4522A-8F13-4006-BC16-E10F75412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37D93-D483-44BB-A715-7CC2CE8E2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210B9-6F9B-4639-8E49-9D2CB72D6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B1F1-7906-4391-9CAA-A4A39396D3FA}" type="datetime">
              <a:rPr b="0" lang="nl-NL"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95D5-C397-42B4-BAA3-F8C0C2D875F6}" type="slidenum">
              <a:rPr b="0" lang="nl-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luide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achter, vaak vervormd of dof.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arde geluiden ervaren ze meestal als onpretti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palen waar een geluid vandaan komt is lasti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emand verstaan in rumoerige omgeving, lukt vaak nie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formatie slechthorendheid</a:t>
            </a:r>
            <a:endParaRPr b="0" lang="en-US" sz="4400" spc="-1" strike="noStrike">
              <a:solidFill>
                <a:srgbClr val="000000"/>
              </a:solidFill>
              <a:latin typeface="Calibri"/>
            </a:endParaRPr>
          </a:p>
        </p:txBody>
      </p:sp>
      <p:sp>
        <p:nvSpPr>
          <p:cNvPr id="72" name="Tijdelijke aanduiding voor voettekst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73" name="Rechthoek 3"/>
          <p:cNvSpPr/>
          <p:nvPr/>
        </p:nvSpPr>
        <p:spPr>
          <a:xfrm>
            <a:off x="1187280" y="1720800"/>
            <a:ext cx="684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ichting Hoormi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shjong.nl: voor slechthorende jonge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oorwijzer: u kunt zelf een gehoortest doen en krijgt informatie over hoortoestellen en hoorhulpmidde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no.nl, voor voorlichtingsfolders van kno-art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fenac.nl, de website van audiologische centra</a:t>
            </a:r>
            <a:endParaRPr b="0" lang="en-US" sz="1800" spc="-1" strike="noStrike">
              <a:solidFill>
                <a:srgbClr val="000000"/>
              </a:solidFill>
              <a:latin typeface="Arial"/>
            </a:endParaRPr>
          </a:p>
        </p:txBody>
      </p:sp>
      <p:sp>
        <p:nvSpPr>
          <p:cNvPr id="74" name="Rechthoek 4"/>
          <p:cNvSpPr/>
          <p:nvPr/>
        </p:nvSpPr>
        <p:spPr>
          <a:xfrm>
            <a:off x="1189080" y="4592520"/>
            <a:ext cx="662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ttps://pento.nl/gehoor/gehoorproblemen/slechthorendhe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pic>
        <p:nvPicPr>
          <p:cNvPr id="51" name="Picture 3" descr=""/>
          <p:cNvPicPr/>
          <p:nvPr/>
        </p:nvPicPr>
        <p:blipFill>
          <a:blip r:embed="rId1"/>
          <a:stretch/>
        </p:blipFill>
        <p:spPr>
          <a:xfrm>
            <a:off x="3432240" y="3249720"/>
            <a:ext cx="2279520" cy="1226880"/>
          </a:xfrm>
          <a:prstGeom prst="rect">
            <a:avLst/>
          </a:prstGeom>
          <a:ln w="0">
            <a:noFill/>
          </a:ln>
        </p:spPr>
      </p:pic>
      <p:sp>
        <p:nvSpPr>
          <p:cNvPr id="52" name="Rechthoek 4"/>
          <p:cNvSpPr/>
          <p:nvPr/>
        </p:nvSpPr>
        <p:spPr>
          <a:xfrm>
            <a:off x="960480" y="256536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ttp://www.hoorzaken.nl/gehoorproblemen/slechthorendheid/perceptief-gehoorverlies/</a:t>
            </a:r>
            <a:endParaRPr b="0" lang="en-US" sz="1800" spc="-1" strike="noStrike">
              <a:solidFill>
                <a:srgbClr val="000000"/>
              </a:solidFill>
              <a:latin typeface="Arial"/>
            </a:endParaRPr>
          </a:p>
        </p:txBody>
      </p:sp>
      <p:pic>
        <p:nvPicPr>
          <p:cNvPr id="53" name="Picture 4" descr=""/>
          <p:cNvPicPr/>
          <p:nvPr/>
        </p:nvPicPr>
        <p:blipFill>
          <a:blip r:embed="rId2"/>
          <a:stretch/>
        </p:blipFill>
        <p:spPr>
          <a:xfrm>
            <a:off x="2735280" y="3211560"/>
            <a:ext cx="388944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1123920" y="1600200"/>
            <a:ext cx="68961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wee vormen gehoorverlies (doofheid)</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Geleidings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uitwendige oor of het middenoor. Daardoor wordt het geluid niet goed naar het slakkenhuis doorgev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Perceptief 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slakkenhuis of bij de gehoorzenuw</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Geleidingsdoofheid</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luid bereikt het trommelvlies niet oorprop (cerumen), puist, eczeem, ontste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Trommelvlies beschadigd; harde knal, ferme klap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chanisch trauma trommelvlies: perforati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ittekenweefsel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kalking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efect  gehoorbeentjes (otosclero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stachius verstopt zit, kan dit eveneens leiden tot een verminderde beweeglijkheid van het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Perceptiedoofheid</a:t>
            </a:r>
            <a:br>
              <a:rPr sz="4400"/>
            </a:br>
            <a:r>
              <a:rPr b="0" lang="nl-NL" sz="4400" spc="-1" strike="noStrike">
                <a:solidFill>
                  <a:srgbClr val="000000"/>
                </a:solidFill>
                <a:latin typeface="Calibri"/>
              </a:rPr>
              <a:t>(zintuigverli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awaaibeschadig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uderdomsslechthorendheid (presbyacu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Zuurstofgebre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dden deafness' (plotsdoofhei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totoxische stoffen (b.v.:  antibiotica of  cytostatica, anti-malariamiddel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angedane zenuwfunctie (tumor die op de gehoorzenuw druk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erceptief gehoorverlies door mechanisch trau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Presbyacusis (ouderdomsdoofheid)</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erceptieslechthorendheid : klachten beginnen na vijftigste levensja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ge tonen worden minder goed gehoord (telefoon en deurb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eilijkheid gesprek te volgen bij veel mens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esbyacusis vaak in combinatie van Tinnitus (oorsuiz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Calibri"/>
            </a:endParaRPr>
          </a:p>
        </p:txBody>
      </p:sp>
      <p:pic>
        <p:nvPicPr>
          <p:cNvPr id="68" name="Picture 2" descr=""/>
          <p:cNvPicPr/>
          <p:nvPr/>
        </p:nvPicPr>
        <p:blipFill>
          <a:blip r:embed="rId1"/>
          <a:stretch/>
        </p:blipFill>
        <p:spPr>
          <a:xfrm>
            <a:off x="3524400" y="2751120"/>
            <a:ext cx="2095200" cy="2224080"/>
          </a:xfrm>
          <a:prstGeom prst="rect">
            <a:avLst/>
          </a:prstGeom>
          <a:ln w="0">
            <a:noFill/>
          </a:ln>
        </p:spPr>
      </p:pic>
      <p:pic>
        <p:nvPicPr>
          <p:cNvPr id="69" name="Afbeelding 4" descr=""/>
          <p:cNvPicPr/>
          <p:nvPr/>
        </p:nvPicPr>
        <p:blipFill>
          <a:blip r:embed="rId2"/>
          <a:stretch/>
        </p:blipFill>
        <p:spPr>
          <a:xfrm>
            <a:off x="250920" y="366840"/>
            <a:ext cx="8454960" cy="563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2147760" y="193680"/>
            <a:ext cx="4992840" cy="666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6:16:25Z</dcterms:created>
  <dc:creator>3512</dc:creator>
  <dc:description/>
  <dc:language>en-US</dc:language>
  <cp:lastModifiedBy>Uw naam</cp:lastModifiedBy>
  <dcterms:modified xsi:type="dcterms:W3CDTF">2018-01-02T12:55:59Z</dcterms:modified>
  <cp:revision>144</cp:revision>
  <dc:subject/>
  <dc:title>Gehoorstelsel</dc:title>
</cp:coreProperties>
</file>