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E709-E2BE-4BEC-B691-38E2167BAE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620B-0A96-47F0-BF74-558E4C4B0D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730E4-AAD2-4A61-A245-ADBC12560D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D228-48A6-4C9A-B093-E93935C4E9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34758-559E-4131-B0B5-0C37BE539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3C2BD-FE09-4A23-A6A2-061BC2477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D0F5D-BEAB-4A76-AEAE-547FB384D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D59E2-6155-4A6E-8285-6B681386E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96552-9532-43DA-9C29-5660278AE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50BBA-20B7-4639-ABDC-471A9DACF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EB170-EAD7-442B-ABA6-40D2271E5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A2D3A-10BE-40F6-9A4C-E30C35D39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9978A-4E1E-499F-99BC-10CF7272C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867EC-B277-467D-8DE3-E6C155738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CDA8F-7112-41D0-898B-2778426AE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A5043-E436-40D6-BF7C-2F9C50099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0744-EE42-42A2-9E60-8737F0D25901}"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6854-8342-4BF7-A70C-25B4AC0A0C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raai)duizeligheid</a:t>
            </a:r>
            <a:endParaRPr b="0" lang="en-US" sz="4400" spc="-1" strike="noStrike">
              <a:solidFill>
                <a:srgbClr val="000000"/>
              </a:solidFill>
              <a:latin typeface="Calibri"/>
            </a:endParaRPr>
          </a:p>
        </p:txBody>
      </p:sp>
      <p:pic>
        <p:nvPicPr>
          <p:cNvPr id="49" name="Tijdelijke aanduiding voor inhoud 1" descr=""/>
          <p:cNvPicPr/>
          <p:nvPr/>
        </p:nvPicPr>
        <p:blipFill>
          <a:blip r:embed="rId1"/>
          <a:stretch/>
        </p:blipFill>
        <p:spPr>
          <a:xfrm>
            <a:off x="3859200" y="1844640"/>
            <a:ext cx="4321080" cy="4024440"/>
          </a:xfrm>
          <a:prstGeom prst="rect">
            <a:avLst/>
          </a:prstGeom>
          <a:ln w="0">
            <a:noFill/>
          </a:ln>
        </p:spPr>
      </p:pic>
      <p:sp>
        <p:nvSpPr>
          <p:cNvPr id="50"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pic>
        <p:nvPicPr>
          <p:cNvPr id="51" name="Picture 3" descr=""/>
          <p:cNvPicPr/>
          <p:nvPr/>
        </p:nvPicPr>
        <p:blipFill>
          <a:blip r:embed="rId2"/>
          <a:stretch/>
        </p:blipFill>
        <p:spPr>
          <a:xfrm>
            <a:off x="1403280" y="1512720"/>
            <a:ext cx="2911680" cy="469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Benigne Paroxymale positieduizeligheid (BPPD</a:t>
            </a:r>
            <a:r>
              <a:rPr b="0" lang="nl-NL" sz="3200" spc="-1" strike="noStrike">
                <a:solidFill>
                  <a:srgbClr val="000000"/>
                </a:solidFill>
                <a:latin typeface="Calibri"/>
              </a:rPr>
              <a:t>)</a:t>
            </a:r>
            <a:endParaRPr b="0" lang="en-US" sz="32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Omschrijving ziektebeel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ij benigne paroxismale positieduizeligheid krijgt u aanvallen van draaiduizeligheid als uw hoofd beweegt, bijvoorbeeld omdat u gaat liggen of overeind kom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Oorzaak</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PPD wordt waarschijnlijk veroorzaakt door een 'verstopping' van de buisjes in het evenwichtsorgaan.</a:t>
            </a:r>
            <a:endParaRPr b="0" lang="en-US" sz="2400" spc="-1" strike="noStrike">
              <a:solidFill>
                <a:srgbClr val="000000"/>
              </a:solidFill>
              <a:latin typeface="Calibri"/>
            </a:endParaRPr>
          </a:p>
        </p:txBody>
      </p:sp>
      <p:sp>
        <p:nvSpPr>
          <p:cNvPr id="78"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Benigne Paroxymale positieduizeligheid (BPPD)</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aanvallen van draaiduizeligheid komen wanneer u uw hoofd beweegt, bijvoorbeeld bij voorover buigen, omdraaien in bed of omhoog kijken. Een aanval duurt hooguit enkele minuten</a:t>
            </a:r>
            <a:endParaRPr b="0" lang="en-US" sz="3200" spc="-1" strike="noStrike">
              <a:solidFill>
                <a:srgbClr val="000000"/>
              </a:solidFill>
              <a:latin typeface="Calibri"/>
            </a:endParaRPr>
          </a:p>
        </p:txBody>
      </p:sp>
      <p:sp>
        <p:nvSpPr>
          <p:cNvPr id="81"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Benigne Paroxymale positieduizeligheid (BPPD</a:t>
            </a:r>
            <a:r>
              <a:rPr b="1" lang="nl-NL" sz="4400" spc="-1" strike="noStrike">
                <a:solidFill>
                  <a:srgbClr val="000000"/>
                </a:solidFill>
                <a:latin typeface="Calibri"/>
              </a:rPr>
              <a:t>)</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Advies: probeer gewoon door te gaan met wat u do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ij BPPD  kunt u oefeningen doen waardoor de duizeligheid sneller lijkt te verdwijn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a met gesloten ogen midden op de rand van uw bed zitt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a dan op uw zij ligg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om overeind als de duizeligheid voorbij is en ga dan op uw andere zij ligg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Herhaal dit totdat de duizeligheid verdwijn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oe deze oefening 5 keer per da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pic>
        <p:nvPicPr>
          <p:cNvPr id="85" name="Picture 2" descr=""/>
          <p:cNvPicPr/>
          <p:nvPr/>
        </p:nvPicPr>
        <p:blipFill>
          <a:blip r:embed="rId1"/>
          <a:stretch/>
        </p:blipFill>
        <p:spPr>
          <a:xfrm>
            <a:off x="5651640" y="4067280"/>
            <a:ext cx="3146400" cy="236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Ziekte van Ménièr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 de ziekte van Ménière is er een probleem met het evenwichtsorga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lachten zijn aanvallen van draaiduizelingen, slechthorendheid en oorsuiz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t verschilt per persoon hoe vaak de aanvallen komen (van wekelijks tot zeld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r is geen medicijn dat de ziekte van Ménière genees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Ziekte van Ménière</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 de ziekte van Ménière is er een probleem met het evenwichtsorga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lachten zijn aanvallen van draaiduizelingen, slechthorendheid en oorsuiz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t verschilt per persoon hoe vaak de aanvallen komen (van wekelijks tot zeld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Ziekte van Ménière</a:t>
            </a:r>
            <a:endParaRPr b="0" lang="en-US" sz="4400" spc="-1" strike="noStrike">
              <a:solidFill>
                <a:srgbClr val="000000"/>
              </a:solidFill>
              <a:latin typeface="Calibri"/>
            </a:endParaRPr>
          </a:p>
        </p:txBody>
      </p:sp>
      <p:sp>
        <p:nvSpPr>
          <p:cNvPr id="93" name=""/>
          <p:cNvSpPr txBox="1"/>
          <p:nvPr/>
        </p:nvSpPr>
        <p:spPr>
          <a:xfrm>
            <a:off x="457200" y="1395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ziekte van Ménière is een combinatie van drie klachten: </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anvallen van draaiduizelingen,</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lechthorendheid </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orsuiz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Oorzak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gelijk teveel</a:t>
            </a:r>
            <a:r>
              <a:rPr b="1" lang="nl-NL" sz="3200" spc="-1" strike="noStrike">
                <a:solidFill>
                  <a:srgbClr val="000000"/>
                </a:solidFill>
                <a:latin typeface="Calibri"/>
              </a:rPr>
              <a:t> </a:t>
            </a:r>
            <a:r>
              <a:rPr b="0" lang="nl-NL" sz="3200" spc="-1" strike="noStrike">
                <a:solidFill>
                  <a:srgbClr val="000000"/>
                </a:solidFill>
                <a:latin typeface="Calibri"/>
              </a:rPr>
              <a:t>veel vloeistof in de buisjes van het evenwichtsorgaa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Ziekte van Ménière</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anvallen van vaak heftige, zeer hinderlijke draaiduizeligheid. Daarbij kunt u minder horen en last hebben van oorsuizen of een vol gevoel in de oren. U kunt ook misselijk worden en overgeven. Na een of twee uur is de aanval op zijn hoogtepunt. De aanval duurt enkele uren. Daarna kunt u nog enkele dagen wat lichtere klachten houden. </a:t>
            </a:r>
            <a:endParaRPr b="0" lang="en-US" sz="3200" spc="-1" strike="noStrike">
              <a:solidFill>
                <a:srgbClr val="000000"/>
              </a:solidFill>
              <a:latin typeface="Calibri"/>
            </a:endParaRPr>
          </a:p>
        </p:txBody>
      </p:sp>
      <p:sp>
        <p:nvSpPr>
          <p:cNvPr id="97"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Ziekte van Ménièr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loop</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oe vaak iemand een aanval krijgt, verschilt. De een heeft zelden een aanval, de ander wekelijks. Na jaren komen de aanvallen steeds minder vaak terug. Gehoor vermindering en oorsuizen gaan soms niet meer over.</a:t>
            </a:r>
            <a:endParaRPr b="0" lang="en-US" sz="3200" spc="-1" strike="noStrike">
              <a:solidFill>
                <a:srgbClr val="000000"/>
              </a:solidFill>
              <a:latin typeface="Calibri"/>
            </a:endParaRPr>
          </a:p>
        </p:txBody>
      </p:sp>
      <p:sp>
        <p:nvSpPr>
          <p:cNvPr id="100"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uizeligheid bij bejaarden</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ntstaan: sluipend en duurt la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Oorzak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neesmiddel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rtherosclerose (minder zuurstof hersenen)</a:t>
            </a:r>
            <a:endParaRPr b="0" lang="en-US" sz="32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neesmiddelen kunnen ook orthostatische hypotensie geven (</a:t>
            </a:r>
            <a:r>
              <a:rPr b="0" lang="nl-NL" sz="1600" spc="-1" strike="noStrike">
                <a:solidFill>
                  <a:srgbClr val="000000"/>
                </a:solidFill>
                <a:latin typeface="Calibri"/>
              </a:rPr>
              <a:t>plotselinge bloeddruk daling, binnen 3 minuten na opstaan)</a:t>
            </a:r>
            <a:endParaRPr b="0" lang="en-US" sz="1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raaiduizeligheid door andere aandoeningen</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TIA of CVA (plotselinge spraakstoornis of verlamming of dubbelzi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rnstige hartafwijkingen; drukkend gevoel op of beklemmende pijn op de bor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yperventilat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jdelijke aanduiding voor voettekst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pic>
        <p:nvPicPr>
          <p:cNvPr id="53" name="Afbeelding 2" descr=""/>
          <p:cNvPicPr/>
          <p:nvPr/>
        </p:nvPicPr>
        <p:blipFill>
          <a:blip r:embed="rId1"/>
          <a:stretch/>
        </p:blipFill>
        <p:spPr>
          <a:xfrm>
            <a:off x="1008000" y="246240"/>
            <a:ext cx="7128000" cy="636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uizeligheid zonder draaigevoel</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nzeker gevoel het hoofd en ontstaat geleidelijk.</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Oorzaken: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ngst, spanning en paniek, ochtendduizeligheid let dan op overmatig alcohol gebruik.</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1" name="Tijdelijke aanduiding voor inhoud 4" descr=""/>
          <p:cNvPicPr/>
          <p:nvPr/>
        </p:nvPicPr>
        <p:blipFill>
          <a:blip r:embed="rId1"/>
          <a:stretch/>
        </p:blipFill>
        <p:spPr>
          <a:xfrm>
            <a:off x="1258920" y="1278000"/>
            <a:ext cx="6842160" cy="5013360"/>
          </a:xfrm>
          <a:prstGeom prst="rect">
            <a:avLst/>
          </a:prstGeom>
          <a:ln w="0">
            <a:noFill/>
          </a:ln>
        </p:spPr>
      </p:pic>
      <p:sp>
        <p:nvSpPr>
          <p:cNvPr id="11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Acute duizeligheid</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uizeligheid is het gevoel dat je uit je evenwicht b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voel van evenwicht wordt bepaald door evenwichtsorgaan en hersen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uizeligheid met draaigevoel wordt “draaiduizeligheid “ of  “vertigo”</a:t>
            </a:r>
            <a:endParaRPr b="0" lang="en-US" sz="3200" spc="-1" strike="noStrike">
              <a:solidFill>
                <a:srgbClr val="000000"/>
              </a:solidFill>
              <a:latin typeface="Calibri"/>
            </a:endParaRPr>
          </a:p>
        </p:txBody>
      </p:sp>
      <p:sp>
        <p:nvSpPr>
          <p:cNvPr id="56"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raaiduizeligheid</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raaiduizeligheid komt door een verstoring van het evenwichtsorga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Oorzak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venwichtsorgaan ontstoken i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buisjes van het evenwichtsorgaan verstopt teveel vloeistof in de buisjes zi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bloedtoevoer naar het evenwichtsorgaan verstoord i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raaiduizeligheid</a:t>
            </a:r>
            <a:br>
              <a:rPr sz="4400"/>
            </a:b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komt voor bij: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BPPD (benigne paroxismale positieduizeligheid), </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neuritis vestibularis </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ziekte van Ménière.</a:t>
            </a:r>
            <a:endParaRPr b="0" lang="en-US" sz="4000" spc="-1" strike="noStrike">
              <a:solidFill>
                <a:srgbClr val="000000"/>
              </a:solidFill>
              <a:latin typeface="Calibri"/>
            </a:endParaRPr>
          </a:p>
        </p:txBody>
      </p:sp>
      <p:sp>
        <p:nvSpPr>
          <p:cNvPr id="6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Neuritis vestibulari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ij neuritis vestibularis valt een van de evenwichtsorganen ui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Daardoor ontstaan heftige draaiduizeling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Tijdens een aanval kunt u niet anders dan bedrust houd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Probeer wel zo snel mogelijk weer te gaan beweg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Neuritis vestibularis is meestal binnen een week ove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pic>
        <p:nvPicPr>
          <p:cNvPr id="66" name="Picture 2" descr=""/>
          <p:cNvPicPr/>
          <p:nvPr/>
        </p:nvPicPr>
        <p:blipFill>
          <a:blip r:embed="rId1"/>
          <a:stretch/>
        </p:blipFill>
        <p:spPr>
          <a:xfrm>
            <a:off x="6489720" y="4797360"/>
            <a:ext cx="1866960" cy="165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Neuritis vestibulari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Oorzake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koudheid / kruisinfect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omt vaak voor bij patiënten met diabetes en hypertensi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Verschijnsel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 deze ziekte bent u een paar dagen heftig draaiduizelig, met bleekheid, misselijkheid en overgeven</a:t>
            </a:r>
            <a:endParaRPr b="0" lang="en-US" sz="3200" spc="-1" strike="noStrike">
              <a:solidFill>
                <a:srgbClr val="000000"/>
              </a:solidFill>
              <a:latin typeface="Calibri"/>
            </a:endParaRPr>
          </a:p>
        </p:txBody>
      </p:sp>
      <p:sp>
        <p:nvSpPr>
          <p:cNvPr id="69"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Neuritis vestibulari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Advies:</a:t>
            </a:r>
            <a:r>
              <a:rPr b="0" lang="nl-NL" sz="2400" spc="-1" strike="noStrike">
                <a:solidFill>
                  <a:srgbClr val="000000"/>
                </a:solidFill>
                <a:latin typeface="Calibri"/>
              </a:rPr>
              <a:t> bedrus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Behandeling:</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oms schrijven artsen medicijnen voor bij draaiduizeligheid, zoals cinnarizine, piracetam en flunarizine. Of deze middelen echt helpen is niet bewezen. Het kan zijn dat de klachten hierdoor langer dure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ij misselijkheid en braken helpen middelen als metocloperamide en domperidon. Deze middelen zijn er ook als zetpillen</a:t>
            </a: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Benigne Paroxymale positieduizeligheid (BPPD</a:t>
            </a:r>
            <a:r>
              <a:rPr b="1" lang="nl-NL" sz="4400" spc="-1" strike="noStrike">
                <a:solidFill>
                  <a:srgbClr val="000000"/>
                </a:solidFill>
                <a:latin typeface="Calibri"/>
              </a:rPr>
              <a:t>)</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Synonieme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nigne Paroxismale Positie Duizeligheid, Acute draaiduizeligheid</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Beschrijving ziektebeeld</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PPD zijn aanvallen van draaiduizeligheid.</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e aanvallen ontstaan als u uw hoofd beweegt (bijvoorbeeld als u gaat liggen of overeind komt).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e ziekte heeft te maken met een probleem in het evenwichtsorgaan.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Probeer tijdens een aanval gewoon te blijven doen wat u al deed.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e aanvallen gaan meestal binnen vier weken over</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6T16:16:25Z</dcterms:created>
  <dc:creator>3512</dc:creator>
  <dc:description/>
  <dc:language>en-US</dc:language>
  <cp:lastModifiedBy>Uw naam</cp:lastModifiedBy>
  <dcterms:modified xsi:type="dcterms:W3CDTF">2018-01-03T15:22:17Z</dcterms:modified>
  <cp:revision>141</cp:revision>
  <dc:subject/>
  <dc:title>Gehoorstelsel</dc:title>
</cp:coreProperties>
</file>