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u="sng">
              <a:solidFill>
                <a:srgbClr val="000000"/>
              </a:solidFill>
              <a:uFillTx/>
              <a:latin typeface="Verdana"/>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36113-2482-4CEB-A19D-022373017DD5}" type="slidenum">
              <a:rPr b="0" lang="nl-NL"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D145C-B6AE-433B-A93D-070DD2B3B453}"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6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A380C-5235-41BA-908D-39918BC57560}"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6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65B6B-B309-4B8C-8DDE-DFB74E761CA4}"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namn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veel wratten en op welke plaats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lang de wratten al aanwezig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ke hinder de wrat veroorzaakt; pijn, en ongemak, of cosmetische kla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mmuunstoornis gebruik immunosuppress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heeft de patiënt gegaan met welk resul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f de patiënt de wrat wil laten behan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39D62-4429-4852-966C-14E5B7BB269E}"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6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745A6-7A5D-434F-A3DF-E9114F672E6C}"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6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0C61B-082C-4343-8F6E-A96527257BE2}"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6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03F84-9F71-449A-B212-F04DB2F5E028}"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6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BAD2A-7F7C-4834-8F29-08E482D363D6}"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6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05DED-30B1-46B3-8C84-9C0824E8F678}"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BE5969-A54B-4847-8A8A-C1F98F8B9D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2E45A-0E1D-4217-938E-453F2046B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4503D1F-7682-4135-BDBE-F64FF47DFE0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EB94AEF-6327-4A51-9CAA-6D092981DF0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46D565D4-491B-4F49-9157-2B18449CA74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A15AD6E-8456-4F31-9C56-A4811F63222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489113D-4B8C-405F-8CEE-FFA01FD00F7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E444FD5-4917-4403-8A3E-4A040727051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C8EAB98A-2D31-4416-A454-0420256ADAF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365F1CCC-FBF6-47F4-B606-8D4C9AAB8A53}"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3675EB40-5405-47DF-9C19-8749E3E5C17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7EC031D3-D94E-42C9-9B33-9318F392F16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95A423-B6BF-4AE6-9696-99127B5BC8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5AFE8B7-F922-4CA7-8183-C14C9905868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00907182-7000-4BD0-B4AE-A3EC3FC1032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2FE3302-0713-46F5-A8EC-AAF1A48F0F4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0EE6C5FF-C8E7-4307-B9FE-8304EDAC84C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39298EB8-063B-4C4D-8C2B-84AC979A52F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92301CF-E9E9-4B40-8D52-457EFAB833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6FC0CB0-7966-48A2-A3BC-E1761A9724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2FE2ADA-D136-4D6A-A285-8885AEEBA4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CEE64004-399D-4476-8836-7C3985C163C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A4203724-5DBE-49F0-9C63-6E58ACE7DD9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A3ECF3-D177-471D-96B9-AA68319DF5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057A806A-F3F6-4E1E-98A8-07241CA66C0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7C81B80-CE4C-4964-B0AE-16CE5F82A91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0F7B364-5EB3-4B29-8A23-13D641F13B0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1358FB0-1DBE-422B-88DF-02C2FC27384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2333644-C14B-406D-9194-02852AC6AF5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DBD37CA-48AF-40B6-A877-FC6E2BFEA9A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F2A6BCB-C3AF-4FDD-BBDD-8FAA67FF8CC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19BE43D-EF83-4096-BF38-59D55E8289F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C658FF9-A4A5-45E9-90A2-D4DC3B87132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4B17FDF-884B-480D-A040-74D08C2EC55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8DCB0E-0AD0-48AE-823D-B6651CB485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FF29804-A584-4A22-88A2-0B2F1946F1E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7F2C648-44B7-47DF-8904-20DB7F52B50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08AB8DB-6598-4CF4-A9EA-FD102807474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67DEB4F0-79F7-4742-8C78-846CA015AC7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8F4E314-69EF-4BD5-ACEF-6066BD0B4A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8A31249-23B6-48A8-A9CD-B9DC8FA5544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42895AEE-5039-4DA8-AC85-6BF642FB0F9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9F5B6B47-174C-4826-AEE1-2CF1BE4E005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46358A13-48C6-4C9E-9169-FB5781988F6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0D1957B-0E0A-4775-95BB-65E6F9CDD2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3F3F01-5225-4A1E-AA53-73652005CF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F92233E-6E26-4370-B427-A1ECE2025F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E9F3B44-7A23-4655-A55C-23326478B0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2BB98EBE-B904-4A59-B06D-D8D6821E5A4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587F5CB1-59A2-4CC7-8D75-F1B2FB1AFD5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59776F2B-AE73-4CA2-BA67-91849D4186A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C35A1E-1A68-4D53-88B4-E2E1F24FF2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80B382-B0F8-4E05-A33B-2B0C5DC4E0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A3BD47-1E02-4930-8233-7ECA47EE10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8C3EF4-D98C-430B-96CD-4ED2919A86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6543CE-62A2-4DB1-9B3F-0D138C6B86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0B918-8DCB-4BCF-BAB9-D915F4A99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DD77A0-FF1F-4C34-816E-8F8263DACC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501F4-A966-4933-AD5F-0F4D496564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297F91-74E4-493B-B1DB-80924AE818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DD008A-D7BB-4EAD-92DB-415E3ADEFF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541D99-0401-4518-8FD4-DCF3FE1A97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6EC2F5-0B37-4079-9D68-8174284804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83EB41-CAC1-4FE2-B202-9FB0147B0C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D25B3E-F790-4737-92DA-E0CADF9C79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A15706-A1B9-4D7F-B8C8-C15D2FBF72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CA9641-E228-4111-A651-78DD68E252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50214-8507-4140-B398-EBB4B7446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814375-7EE7-46B4-9668-08D53C8A01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D6FCA1-50FD-447A-A180-847E010402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18BE14-DA84-4E0E-9B1A-9863ACF9FD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3AEDF8-96AE-4B47-9179-1E58C7D6D2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1087DF-1643-4983-916C-831544E111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AD2204-90A2-4F48-8E1B-32F954CAEF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50B280-DC5D-4015-A8CF-B577399E52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4CB8CDF8-C532-495D-A48A-E69A4D64DEC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0892148A-601C-4084-BEC3-CD3475E4FB8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EC8B7527-7809-4F00-A881-F05C3871D0B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FC68D-A7B7-488C-93F5-BB646D8A4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BBC236A-37E7-4F22-8567-BF29DD10066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F60CFEC5-54C7-4AAE-8725-91D3BF7B879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4D464266-D403-49CF-9DC9-FB648F1C27F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5B0E074-CFF4-4D64-B784-331CB3332BA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656509C-5F83-4847-9A44-F66FE9558D6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D2E2C4A-8776-4049-8118-66BAE655280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C3767956-09E3-495E-94CD-00A79D785AA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B300C9C4-A214-4040-A6D2-BE78CC828E1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CB21C6D1-85CA-4192-8C62-B2CD25A3DAFD}"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EEFBF5C-291D-4EDF-8E53-CE387F56EE3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AF7CF-2B0A-4A3F-9A7F-E5053C05F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6D914F-78AF-40E5-A206-DECA2BEEC5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35E892-F422-486E-8B2F-F7084E1028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DEA7D0-2F8D-49FA-8DF5-181B4DFF02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B7942A-910A-4CEC-9989-A6E0B9BE86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73FF76-DB30-4285-9486-DEF0A792DF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CFEE2B-2FCC-487B-AA38-BED04A1A2F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7519E5-081B-47A5-B48C-B17B6F08BC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C3C5B7-9EEC-45CD-9DB2-13AB544C91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92C98F-8503-427B-A71D-6E037FEC04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BCE2E5E-D99E-4FA6-8D3F-8112EB5D91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05ED2-E4F4-42C9-8789-9D67EBFF3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3C01B1A-15D6-4DB0-90AD-2650F61F19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BB669E8-E19E-4818-8DB6-DD493385A0B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7566E0-86A7-40F2-ADD3-B9B1B36381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74CA4D-4D9E-487E-82DD-86A6205D02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46A40F-CA60-4AE3-90A9-D3F2FE6803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6F2625-7191-4F4A-9DE7-A492D909E1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40F06F-32E1-4E4D-A333-5AA191915D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B382C7-C97E-47E4-B910-CB656142F7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0B790F-A1AB-4E4A-9C18-927CD2AF3B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C7230E-12AC-464F-8933-60BF8AD47A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52277-F300-4E16-A59D-D5A9404F2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003079-D2EE-40F5-AF62-28224C7052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CCB4ACA-BD9F-4C46-AD91-35B0790CD2A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8A57A0-B48E-41E0-9A92-42BE0245E31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DED9CE5-118D-43D3-BB1A-157E6B3EEDE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EA77E6-DA4F-48F2-A535-1FB378550D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8658B5-7E48-41DF-BC9A-B1AB30D6AE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E3771F-75BE-4598-9BB4-63B17C518B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E5E3D0-AB99-417F-BAB5-F3D2D44F78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440EE4-6820-4996-9094-427916AF90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A02858-818F-4D96-B36F-00DF10D8AF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C45CC-0B1A-4808-9799-6CF266FB9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249A05-4E73-4AB8-BACA-98E39C257C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637E5B-2374-49EA-B10A-9FE466D6AA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7C4EAE-7528-407F-A28D-49656A8FEF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368A89A-6135-48AE-94AE-8B9B6567A0E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0168DA7-CF4F-4BD4-A719-99244262E75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754100B-8342-4FBA-9F17-474468C3CD8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6E64EA-AB56-4CD9-B51A-572DFE34E4E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855F0F-3536-4625-AF03-C51BD84254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F118CB-B56E-404A-AD10-A0FBC01926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6D456C-9672-4936-B65D-9A276B216D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184AA-E642-4DE9-8848-BE3C1825E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43E20A-9356-4290-8CAF-AF3E6D9053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7592A7-EC3B-4B00-84E9-A5BEE402DF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FBFD00-B07E-4E94-8996-BCB606FD11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7CDF53-390F-4FD4-B1EC-5DAACA7ABD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4CE51C-25B5-4849-8F6A-D93A22944A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7529977-7E64-4CB8-8FE2-96F8928C45B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D3263F0-1D54-480C-A814-92FBB001932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C8183F9F-4C7A-4B9D-AFD2-546F09D22FCA}"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94680878-72C2-4CA7-B072-5A4BEDA6E08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646C291E-7794-4628-A860-F56E2DA522DA}"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hthoe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 name="Rechthoe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 name="Rechthoe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 name="Rechthoe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 name="Rechthoe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7" name="Rechthoe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8" name="Rechte verbindingslijn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9" name="Ova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 name="Ova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FD2FB-1082-4686-BFF1-C1D2440D4763}"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Rechte verbindingslijn 15"/>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455" name="Rechthoek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56" name="Rechthoek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57" name="Rechthoek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58" name="Rechthoek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59" name="Rechthoek 20"/>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60" name="Rechthoek 23"/>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61" name="Rechthoek 2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62" name="Ovaal 25"/>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63" name="Ovaal 26"/>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64" name="Rechthoek 27"/>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4C1A0-6A43-4C55-A934-107642AAD6F3}"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hthoe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07" name="Rechthoe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08" name="Rechthoe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09" name="Rechthoe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10" name="Rechthoe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11" name="Rechthoe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12" name="Rechte verbindingslijn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513" name="Ova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14" name="Ova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0CF11-01E8-445C-93F4-6FA7A637A51B}"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hthoek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57" name="Rechthoek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58" name="Rechthoek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59" name="Rechthoek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60" name="Rechthoek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61" name="Rechthoek 20"/>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62" name="Rechte verbindingslijn 23"/>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563" name="Ovaal 24"/>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64" name="Ovaal 25"/>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6AF3E-92B3-4F11-AC59-F58D4E3F9F21}"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hthoek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1" name="Rechthoek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2" name="Rechthoek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3" name="Rechthoek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4" name="Rechthoek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5" name="Rechte verbindingslijn 20"/>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56" name="Rechthoek 2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7" name="Ovaal 24"/>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8" name="Ovaal 25"/>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60A68-FE19-49B3-8000-008C063F57A2}"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hthoe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1" name="Rechthoe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2" name="Rechthoe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3" name="Rechthoe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4" name="Rechthoe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5" name="Rechthoe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6" name="Rechte verbindingslijn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107" name="Ova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8" name="Ova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2C8A0-6161-4C97-AE8B-71708E4FE117}"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hthoek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51" name="Rechthoek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52" name="Rechthoek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53" name="Rechthoek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54" name="Rechthoek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55" name="Rechthoek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56" name="Rechthoek 23"/>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57" name="Rechthoek 24"/>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58" name="Rechte verbindingslijn 25"/>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159" name="Ovaal 26"/>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60" name="Ovaal 27"/>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29203-5671-4611-B71A-910EF0483693}"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hthoe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03" name="Rechthoe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04" name="Rechthoe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05" name="Rechthoe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06" name="Rechthoe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07" name="Rechthoe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08" name="Rechte verbindingslijn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209" name="Ova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10" name="Ova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11" name="Rechte verbindingslijn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3B6FD-B32A-4777-9150-36D21EA27F59}"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Rechte verbindingslijn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254" name="Rechthoek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55" name="Rechthoek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56" name="Rechthoek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57" name="Rechthoek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58" name="Rechthoek 2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59" name="Rechthoek 23"/>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60" name="Rechte verbindingslijn 24"/>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261" name="Rechthoek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62" name="Ovaal 26"/>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63" name="Ovaal 27"/>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02770-6E33-4FF2-A2F7-59EECDF45BE8}"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hthoe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06" name="Rechthoe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07" name="Rechthoe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08" name="Rechthoe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09" name="Rechthoe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10" name="Rechthoe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11" name="Rechte verbindingslijn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312" name="Ova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13" name="Ova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D7B85-BCC8-4EE6-8589-3C8002154355}"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hthoek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56" name="Rechthoek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57" name="Rechthoek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58" name="Rechthoek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59" name="Rechthoek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60" name="Rechthoek 20"/>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94826-5CD2-441B-9204-71D38364D563}" type="slidenum">
              <a:rPr b="0" lang="nl-NL"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hthoek 15"/>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03" name="Rechthoek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04" name="Rechthoek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05" name="Rechthoek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06" name="Rechthoek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07" name="Rechthoek 20"/>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08" name="Rechthoek 2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09" name="Rechte verbindingslijn 24"/>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410" name="Ovaal 25"/>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11" name="Ovaal 26"/>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12" name="Rechthoek 27"/>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8E096-6848-4B6D-9FC4-629AD9DB783A}"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ubTitle"/>
          </p:nvPr>
        </p:nvSpPr>
        <p:spPr>
          <a:xfrm>
            <a:off x="1371600" y="2819520"/>
            <a:ext cx="6400800" cy="175248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1600" spc="-1" strike="noStrike">
              <a:solidFill>
                <a:srgbClr val="646b86"/>
              </a:solidFill>
              <a:latin typeface="Georgia"/>
            </a:endParaRPr>
          </a:p>
        </p:txBody>
      </p:sp>
      <p:sp>
        <p:nvSpPr>
          <p:cNvPr id="614"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d16349"/>
                </a:solidFill>
                <a:latin typeface="Georgia"/>
              </a:rPr>
              <a:t>Wratten (verrucae)</a:t>
            </a:r>
            <a:br>
              <a:rPr sz="4200"/>
            </a:br>
            <a:br>
              <a:rPr sz="4200"/>
            </a:br>
            <a:r>
              <a:rPr b="0" lang="nl-NL" sz="1100" spc="-1" strike="noStrike">
                <a:solidFill>
                  <a:srgbClr val="d16349"/>
                </a:solidFill>
                <a:latin typeface="Georgia"/>
              </a:rPr>
              <a:t>(bijgesteld :29-11-2017 Bouke Cuperus)</a:t>
            </a:r>
            <a:endParaRPr b="0" lang="en-US" sz="1100" spc="-1" strike="noStrike">
              <a:solidFill>
                <a:srgbClr val="7b9899"/>
              </a:solidFill>
              <a:latin typeface="Georgia"/>
            </a:endParaRPr>
          </a:p>
        </p:txBody>
      </p:sp>
      <p:pic>
        <p:nvPicPr>
          <p:cNvPr id="615" name="Picture 5" descr=""/>
          <p:cNvPicPr/>
          <p:nvPr/>
        </p:nvPicPr>
        <p:blipFill>
          <a:blip r:embed="rId1"/>
          <a:stretch/>
        </p:blipFill>
        <p:spPr>
          <a:xfrm>
            <a:off x="5408640" y="2836800"/>
            <a:ext cx="2511360" cy="1638360"/>
          </a:xfrm>
          <a:prstGeom prst="rect">
            <a:avLst/>
          </a:prstGeom>
          <a:ln w="0">
            <a:noFill/>
          </a:ln>
        </p:spPr>
      </p:pic>
      <p:pic>
        <p:nvPicPr>
          <p:cNvPr id="616" name="Picture 6" descr=""/>
          <p:cNvPicPr/>
          <p:nvPr/>
        </p:nvPicPr>
        <p:blipFill>
          <a:blip r:embed="rId2"/>
          <a:stretch/>
        </p:blipFill>
        <p:spPr>
          <a:xfrm>
            <a:off x="5435640" y="4475160"/>
            <a:ext cx="2521080" cy="1165320"/>
          </a:xfrm>
          <a:prstGeom prst="rect">
            <a:avLst/>
          </a:prstGeom>
          <a:ln w="0">
            <a:noFill/>
          </a:ln>
        </p:spPr>
      </p:pic>
      <p:pic>
        <p:nvPicPr>
          <p:cNvPr id="617" name="Picture 8" descr=""/>
          <p:cNvPicPr/>
          <p:nvPr/>
        </p:nvPicPr>
        <p:blipFill>
          <a:blip r:embed="rId3"/>
          <a:stretch/>
        </p:blipFill>
        <p:spPr>
          <a:xfrm>
            <a:off x="1041480" y="2803680"/>
            <a:ext cx="4292640" cy="2827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7b9899"/>
                </a:solidFill>
                <a:latin typeface="Verdana"/>
              </a:rPr>
              <a:t>Ouderdomswrat (Verrucae Seborrhoica / sensilis)</a:t>
            </a:r>
            <a:endParaRPr b="0" lang="en-US" sz="2400" spc="-1" strike="noStrike">
              <a:solidFill>
                <a:srgbClr val="7b9899"/>
              </a:solidFill>
              <a:latin typeface="Georgia"/>
            </a:endParaRPr>
          </a:p>
        </p:txBody>
      </p:sp>
      <p:sp>
        <p:nvSpPr>
          <p:cNvPr id="642" name=""/>
          <p:cNvSpPr txBox="1"/>
          <p:nvPr/>
        </p:nvSpPr>
        <p:spPr>
          <a:xfrm>
            <a:off x="301680" y="1371600"/>
            <a:ext cx="4038480" cy="4681440"/>
          </a:xfrm>
          <a:prstGeom prst="rect">
            <a:avLst/>
          </a:prstGeom>
          <a:noFill/>
          <a:ln w="0">
            <a:noFill/>
          </a:ln>
        </p:spPr>
        <p:txBody>
          <a:bodyPr anchor="t">
            <a:norm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Ouderdomswrat </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Niet besmettelijk</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Goedaardig</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onker bruin</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Ruwe structuur</a:t>
            </a:r>
            <a:endParaRPr b="0" lang="en-US" sz="2000" spc="-1" strike="noStrike">
              <a:solidFill>
                <a:srgbClr val="000000"/>
              </a:solidFill>
              <a:latin typeface="Georgia"/>
            </a:endParaRPr>
          </a:p>
        </p:txBody>
      </p:sp>
      <p:pic>
        <p:nvPicPr>
          <p:cNvPr id="643" name="Picture 6" descr=""/>
          <p:cNvPicPr/>
          <p:nvPr/>
        </p:nvPicPr>
        <p:blipFill>
          <a:blip r:embed="rId1"/>
          <a:stretch/>
        </p:blipFill>
        <p:spPr>
          <a:xfrm>
            <a:off x="4903920" y="1773360"/>
            <a:ext cx="3628800" cy="2803320"/>
          </a:xfrm>
          <a:prstGeom prst="rect">
            <a:avLst/>
          </a:prstGeom>
          <a:ln w="0">
            <a:noFill/>
          </a:ln>
        </p:spPr>
      </p:pic>
      <p:sp>
        <p:nvSpPr>
          <p:cNvPr id="644" name=""/>
          <p:cNvSpPr txBox="1"/>
          <p:nvPr/>
        </p:nvSpPr>
        <p:spPr>
          <a:xfrm>
            <a:off x="480060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7b9899"/>
                </a:solidFill>
                <a:latin typeface="Verdana"/>
              </a:rPr>
              <a:t>Genitale wratten (condyloma acuminatum)</a:t>
            </a:r>
            <a:endParaRPr b="0" lang="en-US" sz="2800" spc="-1" strike="noStrike">
              <a:solidFill>
                <a:srgbClr val="7b9899"/>
              </a:solidFill>
              <a:latin typeface="Georgia"/>
            </a:endParaRPr>
          </a:p>
        </p:txBody>
      </p:sp>
      <p:sp>
        <p:nvSpPr>
          <p:cNvPr id="646"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Zeer besmettelijk&gt;SOA </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Bepaald type van Humaan Papilloma virus</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Bloemkoolachtig gesteeld vormsel</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Nestelt zich op de slijmvliezen</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Locatie: anus en/of geslachtsorganen man/vrouw</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In- of uitwendig</a:t>
            </a: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pic>
        <p:nvPicPr>
          <p:cNvPr id="647" name="Picture 5" descr=""/>
          <p:cNvPicPr/>
          <p:nvPr/>
        </p:nvPicPr>
        <p:blipFill>
          <a:blip r:embed="rId1"/>
          <a:stretch/>
        </p:blipFill>
        <p:spPr>
          <a:xfrm>
            <a:off x="6440400" y="4508640"/>
            <a:ext cx="2238480" cy="1671480"/>
          </a:xfrm>
          <a:prstGeom prst="rect">
            <a:avLst/>
          </a:prstGeom>
          <a:ln w="0">
            <a:noFill/>
          </a:ln>
        </p:spPr>
      </p:pic>
      <p:pic>
        <p:nvPicPr>
          <p:cNvPr id="648" name="Picture 6" descr=""/>
          <p:cNvPicPr/>
          <p:nvPr/>
        </p:nvPicPr>
        <p:blipFill>
          <a:blip r:embed="rId2"/>
          <a:stretch/>
        </p:blipFill>
        <p:spPr>
          <a:xfrm>
            <a:off x="6230880" y="1773360"/>
            <a:ext cx="2467080" cy="1584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300" spc="-1" strike="noStrike">
                <a:solidFill>
                  <a:srgbClr val="7b9899"/>
                </a:solidFill>
                <a:latin typeface="Georgia"/>
              </a:rPr>
              <a:t>Water wratjes (mollusca contagiosa)</a:t>
            </a:r>
            <a:endParaRPr b="0" lang="en-US" sz="3300" spc="-1" strike="noStrike">
              <a:solidFill>
                <a:srgbClr val="7b9899"/>
              </a:solidFill>
              <a:latin typeface="Georgia"/>
            </a:endParaRPr>
          </a:p>
        </p:txBody>
      </p:sp>
      <p:sp>
        <p:nvSpPr>
          <p:cNvPr id="650" name=""/>
          <p:cNvSpPr txBox="1"/>
          <p:nvPr/>
        </p:nvSpPr>
        <p:spPr>
          <a:xfrm>
            <a:off x="301320" y="1527120"/>
            <a:ext cx="8504280" cy="4572000"/>
          </a:xfrm>
          <a:prstGeom prst="rect">
            <a:avLst/>
          </a:prstGeom>
          <a:noFill/>
          <a:ln w="0">
            <a:noFill/>
          </a:ln>
        </p:spPr>
        <p:txBody>
          <a:bodyPr anchor="t">
            <a:normAutofit/>
          </a:bodyPr>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Oorzaak: Pokvirus</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Zeer besmettelijk door intensief huidcontact  (zwembad,gymzaal</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Vooral bij kinderen</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Doorschijnend of wit, bol, vast bultje met in het   midden vaak een inzinking</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Gevuld met substantie</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pic>
        <p:nvPicPr>
          <p:cNvPr id="651" name="Picture 2" descr=""/>
          <p:cNvPicPr/>
          <p:nvPr/>
        </p:nvPicPr>
        <p:blipFill>
          <a:blip r:embed="rId1"/>
          <a:stretch/>
        </p:blipFill>
        <p:spPr>
          <a:xfrm>
            <a:off x="4211640" y="3357720"/>
            <a:ext cx="2530440" cy="24746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7b9899"/>
                </a:solidFill>
                <a:latin typeface="Verdana"/>
              </a:rPr>
              <a:t>Diagnose: Wratten</a:t>
            </a:r>
            <a:endParaRPr b="0" lang="en-US" sz="2800" spc="-1" strike="noStrike">
              <a:solidFill>
                <a:srgbClr val="7b9899"/>
              </a:solidFill>
              <a:latin typeface="Georgia"/>
            </a:endParaRPr>
          </a:p>
        </p:txBody>
      </p:sp>
      <p:sp>
        <p:nvSpPr>
          <p:cNvPr id="653"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oe wordt diagnose gesteld?</a:t>
            </a: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oor de huisarts (anamnese)</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Kenmerkend, geen nader onderzoek nodig</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Soms biopt afnemen,voor aanvullend onderzoek</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Eerste behandeling</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Verdere behandeling evt delegeren naar assistente a.d.h.v. protocol (afhankelijk van aard, locatie, behandeling)</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Eventueel verwijzing dermatologie</a:t>
            </a: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300" spc="-1" strike="noStrike">
                <a:solidFill>
                  <a:srgbClr val="7b9899"/>
                </a:solidFill>
                <a:latin typeface="Georgia"/>
              </a:rPr>
              <a:t>Behandelingsmogelijkheden</a:t>
            </a:r>
            <a:endParaRPr b="0" lang="en-US" sz="3300" spc="-1" strike="noStrike">
              <a:solidFill>
                <a:srgbClr val="7b9899"/>
              </a:solidFill>
              <a:latin typeface="Georgia"/>
            </a:endParaRPr>
          </a:p>
        </p:txBody>
      </p:sp>
      <p:sp>
        <p:nvSpPr>
          <p:cNvPr id="655" name=""/>
          <p:cNvSpPr txBox="1"/>
          <p:nvPr/>
        </p:nvSpPr>
        <p:spPr>
          <a:xfrm>
            <a:off x="301320" y="1527120"/>
            <a:ext cx="8504280" cy="4572000"/>
          </a:xfrm>
          <a:prstGeom prst="rect">
            <a:avLst/>
          </a:prstGeom>
          <a:noFill/>
          <a:ln w="0">
            <a:noFill/>
          </a:ln>
        </p:spPr>
        <p:txBody>
          <a:bodyPr anchor="t">
            <a:normAutofit fontScale="97000"/>
          </a:bodyPr>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1. Afwachten (expectatief beleid)</a:t>
            </a:r>
            <a:endParaRPr b="0" lang="en-US" sz="2000" spc="-1" strike="noStrike">
              <a:solidFill>
                <a:srgbClr val="000000"/>
              </a:solidFill>
              <a:latin typeface="Georg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2. Aanstippen; patiënt kan zelf aanstipvloeistof bij de apotheek kopen</a:t>
            </a:r>
            <a:endParaRPr b="0" lang="en-US" sz="2000" spc="-1" strike="noStrike">
              <a:solidFill>
                <a:srgbClr val="000000"/>
              </a:solidFill>
              <a:latin typeface="Georg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3. Cryotherapie (bevriezing) , aanstippen met vloeibare stikstok  wrattenspreekuur.</a:t>
            </a:r>
            <a:endParaRPr b="0" lang="en-US" sz="2000" spc="-1" strike="noStrike">
              <a:solidFill>
                <a:srgbClr val="000000"/>
              </a:solidFill>
              <a:latin typeface="Georgia"/>
            </a:endParaRPr>
          </a:p>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 </a:t>
            </a:r>
            <a:r>
              <a:rPr b="0" lang="nl-NL" sz="2000" spc="-1" strike="noStrike">
                <a:solidFill>
                  <a:srgbClr val="000000"/>
                </a:solidFill>
                <a:latin typeface="Georgia"/>
              </a:rPr>
              <a:t>4. Uitlepelen </a:t>
            </a:r>
            <a:endParaRPr b="0" lang="en-US" sz="2000" spc="-1" strike="noStrike">
              <a:solidFill>
                <a:srgbClr val="000000"/>
              </a:solidFill>
              <a:latin typeface="Georgia"/>
            </a:endParaRPr>
          </a:p>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5. Wegsnijden</a:t>
            </a:r>
            <a:endParaRPr b="0" lang="en-US" sz="2000" spc="-1" strike="noStrike">
              <a:solidFill>
                <a:srgbClr val="000000"/>
              </a:solidFill>
              <a:latin typeface="Georgia"/>
            </a:endParaRPr>
          </a:p>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6.Wegbranden (coagulatie)….is pijnlijk daardoor  weinig toegepast</a:t>
            </a:r>
            <a:endParaRPr b="0" lang="en-US" sz="2000" spc="-1" strike="noStrike">
              <a:solidFill>
                <a:srgbClr val="000000"/>
              </a:solidFill>
              <a:latin typeface="Georgi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7b9899"/>
                </a:solidFill>
                <a:latin typeface="Verdana"/>
              </a:rPr>
              <a:t>Huidbiopsie</a:t>
            </a:r>
            <a:endParaRPr b="0" lang="en-US" sz="2400" spc="-1" strike="noStrike">
              <a:solidFill>
                <a:srgbClr val="7b9899"/>
              </a:solidFill>
              <a:latin typeface="Georgia"/>
            </a:endParaRPr>
          </a:p>
        </p:txBody>
      </p:sp>
      <p:sp>
        <p:nvSpPr>
          <p:cNvPr id="657"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et weghalen van een stukje huid onder lokale verdoving</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Indicatie:</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Zekerheid over “klinische diagnose” te krijgen.</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7b9899"/>
                </a:solidFill>
                <a:latin typeface="Verdana"/>
              </a:rPr>
              <a:t>Huidbiopsie</a:t>
            </a:r>
            <a:endParaRPr b="0" lang="en-US" sz="2400" spc="-1" strike="noStrike">
              <a:solidFill>
                <a:srgbClr val="7b9899"/>
              </a:solidFill>
              <a:latin typeface="Georgia"/>
            </a:endParaRPr>
          </a:p>
        </p:txBody>
      </p:sp>
      <p:sp>
        <p:nvSpPr>
          <p:cNvPr id="65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et ovaaltje:</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rmatoloog</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Bij verdenking melanoom</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Steriel onder verdoving</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Ovaalvormig gebied rondom huidafwijking uitgesneden</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echting na 7-14 dagen verwijderen bij huisarts</a:t>
            </a:r>
            <a:endParaRPr b="0" lang="en-US" sz="2000" spc="-1" strike="noStrike">
              <a:solidFill>
                <a:srgbClr val="000000"/>
              </a:solidFill>
              <a:latin typeface="Georgia"/>
            </a:endParaRPr>
          </a:p>
        </p:txBody>
      </p:sp>
      <p:pic>
        <p:nvPicPr>
          <p:cNvPr id="660" name="Picture 5" descr="melanoma_malign"/>
          <p:cNvPicPr/>
          <p:nvPr/>
        </p:nvPicPr>
        <p:blipFill>
          <a:blip r:embed="rId1"/>
          <a:stretch/>
        </p:blipFill>
        <p:spPr>
          <a:xfrm>
            <a:off x="5003640" y="2421000"/>
            <a:ext cx="1905120" cy="12762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300" spc="-1" strike="noStrike">
                <a:solidFill>
                  <a:srgbClr val="7b9899"/>
                </a:solidFill>
                <a:latin typeface="Georgia"/>
              </a:rPr>
              <a:t>Tip: Geen lesstof</a:t>
            </a:r>
            <a:endParaRPr b="0" lang="en-US" sz="3300" spc="-1" strike="noStrike">
              <a:solidFill>
                <a:srgbClr val="7b9899"/>
              </a:solidFill>
              <a:latin typeface="Georgia"/>
            </a:endParaRPr>
          </a:p>
        </p:txBody>
      </p:sp>
      <p:sp>
        <p:nvSpPr>
          <p:cNvPr id="66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Goede informatie over wratten spreekuur is te vinden in het boek</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Eigen spreekuur en chronische ziekten</a:t>
            </a:r>
            <a:endParaRPr b="0" lang="en-US" sz="2700" spc="-1" strike="noStrike">
              <a:solidFill>
                <a:srgbClr val="000000"/>
              </a:solidFill>
              <a:latin typeface="Georgi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7b9899"/>
                </a:solidFill>
                <a:latin typeface="Verdana"/>
              </a:rPr>
              <a:t>        </a:t>
            </a:r>
            <a:r>
              <a:rPr b="0" lang="nl-NL" sz="2800" spc="-1" strike="noStrike">
                <a:solidFill>
                  <a:srgbClr val="7b9899"/>
                </a:solidFill>
                <a:latin typeface="Verdana"/>
              </a:rPr>
              <a:t>Leerdoelen:</a:t>
            </a:r>
            <a:endParaRPr b="0" lang="en-US" sz="2800" spc="-1" strike="noStrike">
              <a:solidFill>
                <a:srgbClr val="7b9899"/>
              </a:solidFill>
              <a:latin typeface="Georgia"/>
            </a:endParaRPr>
          </a:p>
        </p:txBody>
      </p:sp>
      <p:sp>
        <p:nvSpPr>
          <p:cNvPr id="619"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Na afloop van deze  powerpoint kan je: </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verschillende soorten wratten benoemen</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enkele behandelmethoden beschrijven</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300" spc="-1" strike="noStrike">
                <a:solidFill>
                  <a:srgbClr val="7b9899"/>
                </a:solidFill>
                <a:latin typeface="Georgia"/>
              </a:rPr>
              <a:t>Wat zijn wratten?</a:t>
            </a:r>
            <a:endParaRPr b="0" lang="en-US" sz="3300" spc="-1" strike="noStrike">
              <a:solidFill>
                <a:srgbClr val="7b9899"/>
              </a:solidFill>
              <a:latin typeface="Georgia"/>
            </a:endParaRPr>
          </a:p>
        </p:txBody>
      </p:sp>
      <p:sp>
        <p:nvSpPr>
          <p:cNvPr id="621" name=""/>
          <p:cNvSpPr txBox="1"/>
          <p:nvPr/>
        </p:nvSpPr>
        <p:spPr>
          <a:xfrm>
            <a:off x="301320" y="1527120"/>
            <a:ext cx="8504280" cy="457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Georgia"/>
              </a:rPr>
              <a:t>Wratten zijn knobbeltjes die ruw en hard aanvoelen. Soms zien ze er een beetje bloemkoolachtig uit. Ze komen vooral voor op de handen en voeten, maar ze kunnen ook op andere plaatsen zitten. Door lopen worden voetwratten in het eelt van de voetzool gedrukt. Voetwratten doen soms pijn bij staan of lopen.</a:t>
            </a:r>
            <a:endParaRPr b="0" lang="en-US" sz="2400" spc="-1" strike="noStrike">
              <a:solidFill>
                <a:srgbClr val="000000"/>
              </a:solidFill>
              <a:latin typeface="Georgi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7b9899"/>
                </a:solidFill>
                <a:latin typeface="Verdana"/>
              </a:rPr>
              <a:t>Wratten (Verrucae)</a:t>
            </a:r>
            <a:endParaRPr b="0" lang="en-US" sz="2800" spc="-1" strike="noStrike">
              <a:solidFill>
                <a:srgbClr val="7b9899"/>
              </a:solidFill>
              <a:latin typeface="Georgia"/>
            </a:endParaRPr>
          </a:p>
        </p:txBody>
      </p:sp>
      <p:sp>
        <p:nvSpPr>
          <p:cNvPr id="623" name=""/>
          <p:cNvSpPr txBox="1"/>
          <p:nvPr/>
        </p:nvSpPr>
        <p:spPr>
          <a:xfrm>
            <a:off x="301320" y="1527120"/>
            <a:ext cx="8504280" cy="4572000"/>
          </a:xfrm>
          <a:prstGeom prst="rect">
            <a:avLst/>
          </a:prstGeom>
          <a:noFill/>
          <a:ln w="0">
            <a:noFill/>
          </a:ln>
        </p:spPr>
        <p:txBody>
          <a:bodyPr anchor="t">
            <a:normAutofit/>
          </a:bodyPr>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 </a:t>
            </a:r>
            <a:r>
              <a:rPr b="0" lang="nl-NL" sz="2000" spc="-1" strike="noStrike">
                <a:solidFill>
                  <a:srgbClr val="000000"/>
                </a:solidFill>
                <a:latin typeface="Verdana"/>
              </a:rPr>
              <a:t>Hoe ontstaan wratten?</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Oorzaak: Humane Papillomavirus (HPV-virus) van de huid</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Zijn besmettelijk</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Incubatietijd: 3-6 maanden of langer</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Na 1 jaar zijn de wratten bij ongeveer de helft van de mensen spontaan verdwenen.</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0000"/>
                </a:solidFill>
                <a:latin typeface="Verdana"/>
              </a:rPr>
              <a:t>Het is niet aangetoond dat u wratten krijgt van zwembaden, openbare douches, of van sporten op blote voeten. </a:t>
            </a:r>
            <a:endParaRPr b="0" lang="en-US" sz="2000" spc="-1" strike="noStrike">
              <a:solidFill>
                <a:srgbClr val="000000"/>
              </a:solidFill>
              <a:latin typeface="Georgi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300" spc="-1" strike="noStrike">
                <a:solidFill>
                  <a:srgbClr val="7b9899"/>
                </a:solidFill>
                <a:latin typeface="Georgia"/>
              </a:rPr>
              <a:t>Verschillende soorten wratten</a:t>
            </a:r>
            <a:endParaRPr b="0" lang="en-US" sz="3300" spc="-1" strike="noStrike">
              <a:solidFill>
                <a:srgbClr val="7b9899"/>
              </a:solidFill>
              <a:latin typeface="Georgia"/>
            </a:endParaRPr>
          </a:p>
        </p:txBody>
      </p:sp>
      <p:sp>
        <p:nvSpPr>
          <p:cNvPr id="62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gewone wrat (handen /vingers  (</a:t>
            </a:r>
            <a:r>
              <a:rPr b="0" i="1" lang="nl-NL" sz="2700" spc="-1" strike="noStrike">
                <a:solidFill>
                  <a:srgbClr val="000000"/>
                </a:solidFill>
                <a:latin typeface="Georgia"/>
              </a:rPr>
              <a:t>verrucae vulgaris</a:t>
            </a:r>
            <a:r>
              <a:rPr b="0" lang="nl-NL"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voetwratten   (</a:t>
            </a:r>
            <a:r>
              <a:rPr b="0" i="1" lang="nl-NL" sz="2700" spc="-1" strike="noStrike">
                <a:solidFill>
                  <a:srgbClr val="000000"/>
                </a:solidFill>
                <a:latin typeface="Georgia"/>
              </a:rPr>
              <a:t>verrucae plantaris</a:t>
            </a:r>
            <a:r>
              <a:rPr b="0" lang="nl-NL"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venerische wratten (</a:t>
            </a:r>
            <a:r>
              <a:rPr b="0" i="1" lang="nl-NL" sz="2700" spc="-1" strike="noStrike">
                <a:solidFill>
                  <a:srgbClr val="000000"/>
                </a:solidFill>
                <a:latin typeface="Georgia"/>
              </a:rPr>
              <a:t>condylomata acuminata </a:t>
            </a:r>
            <a:r>
              <a:rPr b="0" lang="nl-NL"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ouderdomswrat (</a:t>
            </a:r>
            <a:r>
              <a:rPr b="0" i="1" lang="nl-NL" sz="2700" spc="-1" strike="noStrike">
                <a:solidFill>
                  <a:srgbClr val="000000"/>
                </a:solidFill>
                <a:latin typeface="Georgia"/>
              </a:rPr>
              <a:t>verrrucae senilis</a:t>
            </a:r>
            <a:r>
              <a:rPr b="0" lang="nl-NL"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waterwratjes: (</a:t>
            </a:r>
            <a:r>
              <a:rPr b="0" i="1" lang="nl-NL" sz="2700" spc="-1" strike="noStrike">
                <a:solidFill>
                  <a:srgbClr val="000000"/>
                </a:solidFill>
                <a:latin typeface="Georgia"/>
              </a:rPr>
              <a:t>mollusca contagiosa</a:t>
            </a:r>
            <a:r>
              <a:rPr b="0" lang="nl-NL"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300" spc="-1" strike="noStrike">
                <a:solidFill>
                  <a:srgbClr val="7b9899"/>
                </a:solidFill>
                <a:latin typeface="Georgia"/>
              </a:rPr>
              <a:t>Verruca vulgaris (‘gewone wrat’)</a:t>
            </a:r>
            <a:endParaRPr b="0" lang="en-US" sz="3300" spc="-1" strike="noStrike">
              <a:solidFill>
                <a:srgbClr val="7b9899"/>
              </a:solidFill>
              <a:latin typeface="Georgia"/>
            </a:endParaRPr>
          </a:p>
        </p:txBody>
      </p:sp>
      <p:sp>
        <p:nvSpPr>
          <p:cNvPr id="627" name=""/>
          <p:cNvSpPr txBox="1"/>
          <p:nvPr/>
        </p:nvSpPr>
        <p:spPr>
          <a:xfrm>
            <a:off x="301320" y="1527120"/>
            <a:ext cx="8504280" cy="4572000"/>
          </a:xfrm>
          <a:prstGeom prst="rect">
            <a:avLst/>
          </a:prstGeom>
          <a:noFill/>
          <a:ln w="0">
            <a:noFill/>
          </a:ln>
        </p:spPr>
        <p:txBody>
          <a:bodyPr anchor="t">
            <a:norm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Rond, bloemkoolachtig</a:t>
            </a:r>
            <a:endParaRPr b="0" lang="en-US" sz="2700" spc="-1" strike="noStrike">
              <a:solidFill>
                <a:srgbClr val="000000"/>
              </a:solidFill>
              <a:latin typeface="Georgia"/>
            </a:endParaRPr>
          </a:p>
          <a:p>
            <a:pP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Scherp begrensd</a:t>
            </a:r>
            <a:endParaRPr b="0" lang="en-US" sz="2700" spc="-1" strike="noStrike">
              <a:solidFill>
                <a:srgbClr val="000000"/>
              </a:solidFill>
              <a:latin typeface="Georgia"/>
            </a:endParaRPr>
          </a:p>
          <a:p>
            <a:pP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Sterke verhoorning</a:t>
            </a:r>
            <a:endParaRPr b="0" lang="en-US" sz="2700" spc="-1" strike="noStrike">
              <a:solidFill>
                <a:srgbClr val="000000"/>
              </a:solidFill>
              <a:latin typeface="Georgia"/>
            </a:endParaRPr>
          </a:p>
          <a:p>
            <a:pP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Meestal meerdere</a:t>
            </a:r>
            <a:endParaRPr b="0" lang="en-US" sz="2700" spc="-1" strike="noStrike">
              <a:solidFill>
                <a:srgbClr val="000000"/>
              </a:solidFill>
              <a:latin typeface="Georgia"/>
            </a:endParaRPr>
          </a:p>
          <a:p>
            <a:pP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Locatie: handen, knieën,</a:t>
            </a:r>
            <a:endParaRPr b="0" lang="en-US" sz="2700" spc="-1" strike="noStrike">
              <a:solidFill>
                <a:srgbClr val="000000"/>
              </a:solidFill>
              <a:latin typeface="Georgia"/>
            </a:endParaRPr>
          </a:p>
          <a:p>
            <a:pP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ellebogen, gelaat</a:t>
            </a:r>
            <a:endParaRPr b="0" lang="en-US" sz="2700" spc="-1" strike="noStrike">
              <a:solidFill>
                <a:srgbClr val="000000"/>
              </a:solidFill>
              <a:latin typeface="Georgia"/>
            </a:endParaRPr>
          </a:p>
          <a:p>
            <a:pP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28" name="Picture 3" descr=""/>
          <p:cNvPicPr/>
          <p:nvPr/>
        </p:nvPicPr>
        <p:blipFill>
          <a:blip r:embed="rId1"/>
          <a:stretch/>
        </p:blipFill>
        <p:spPr>
          <a:xfrm>
            <a:off x="4932360" y="2205000"/>
            <a:ext cx="3511440" cy="1530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7b9899"/>
                </a:solidFill>
                <a:latin typeface="Verdana"/>
              </a:rPr>
              <a:t>Voetwrat (verruca plantaris)</a:t>
            </a:r>
            <a:endParaRPr b="0" lang="en-US" sz="2800" spc="-1" strike="noStrike">
              <a:solidFill>
                <a:srgbClr val="7b9899"/>
              </a:solidFill>
              <a:latin typeface="Georgia"/>
            </a:endParaRPr>
          </a:p>
        </p:txBody>
      </p:sp>
      <p:sp>
        <p:nvSpPr>
          <p:cNvPr id="630"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Verruca plantaris:  ligt verzonken in het eelt van de voetzoel</a:t>
            </a:r>
            <a:endParaRPr b="0" lang="en-US" sz="2000" spc="-1" strike="noStrike">
              <a:solidFill>
                <a:srgbClr val="000000"/>
              </a:solidFill>
              <a:latin typeface="Georg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  </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Mozaïekwrat: breidt zich oppervlakkig uit.</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   </a:t>
            </a:r>
            <a:r>
              <a:rPr b="0" lang="nl-NL" sz="1000" spc="-1" strike="noStrike">
                <a:solidFill>
                  <a:srgbClr val="000000"/>
                </a:solidFill>
                <a:latin typeface="Verdana"/>
              </a:rPr>
              <a:t>Bron:htt</a:t>
            </a:r>
            <a:r>
              <a:rPr b="0" lang="nl-NL" sz="1100" spc="-1" strike="noStrike">
                <a:solidFill>
                  <a:srgbClr val="000000"/>
                </a:solidFill>
                <a:latin typeface="Verdana"/>
              </a:rPr>
              <a:t>p://www.huidziekten.nl/zakboek/dermatosen/vtxt/VerrucaVulgaris.htm</a:t>
            </a:r>
            <a:endParaRPr b="0" lang="en-US" sz="11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601"/>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100000"/>
              </a:lnSpc>
              <a:spcBef>
                <a:spcPts val="601"/>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631" name="Picture 4" descr=""/>
          <p:cNvPicPr/>
          <p:nvPr/>
        </p:nvPicPr>
        <p:blipFill>
          <a:blip r:embed="rId1"/>
          <a:stretch/>
        </p:blipFill>
        <p:spPr>
          <a:xfrm>
            <a:off x="6372360" y="4292640"/>
            <a:ext cx="2303280" cy="1538280"/>
          </a:xfrm>
          <a:prstGeom prst="rect">
            <a:avLst/>
          </a:prstGeom>
          <a:ln w="0">
            <a:noFill/>
          </a:ln>
        </p:spPr>
      </p:pic>
      <p:pic>
        <p:nvPicPr>
          <p:cNvPr id="632" name="Picture 5" descr=""/>
          <p:cNvPicPr/>
          <p:nvPr/>
        </p:nvPicPr>
        <p:blipFill>
          <a:blip r:embed="rId2"/>
          <a:stretch/>
        </p:blipFill>
        <p:spPr>
          <a:xfrm>
            <a:off x="6364440" y="2060640"/>
            <a:ext cx="2208240" cy="1655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300" spc="-1" strike="noStrike">
                <a:solidFill>
                  <a:srgbClr val="7b9899"/>
                </a:solidFill>
                <a:latin typeface="Georgia"/>
              </a:rPr>
              <a:t>Verruca plana</a:t>
            </a:r>
            <a:endParaRPr b="0" lang="en-US" sz="3300" spc="-1" strike="noStrike">
              <a:solidFill>
                <a:srgbClr val="7b9899"/>
              </a:solidFill>
              <a:latin typeface="Georgia"/>
            </a:endParaRPr>
          </a:p>
        </p:txBody>
      </p:sp>
      <p:sp>
        <p:nvSpPr>
          <p:cNvPr id="63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Vlakke wr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Enkele millimeters groo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Huidkleurig of lichtbruin bobbeltj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Grote getale aanwezig</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Locatie: gelaat, armen en bene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35" name="Picture 2" descr=""/>
          <p:cNvPicPr/>
          <p:nvPr/>
        </p:nvPicPr>
        <p:blipFill>
          <a:blip r:embed="rId1"/>
          <a:stretch/>
        </p:blipFill>
        <p:spPr>
          <a:xfrm>
            <a:off x="6084720" y="1628640"/>
            <a:ext cx="2616480" cy="26496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300" spc="-1" strike="noStrike">
                <a:solidFill>
                  <a:srgbClr val="7b9899"/>
                </a:solidFill>
                <a:latin typeface="Georgia"/>
              </a:rPr>
              <a:t>Steelwrat (verruca filiformis)</a:t>
            </a:r>
            <a:endParaRPr b="0" lang="en-US" sz="3300" spc="-1" strike="noStrike">
              <a:solidFill>
                <a:srgbClr val="7b9899"/>
              </a:solidFill>
              <a:latin typeface="Georgia"/>
            </a:endParaRPr>
          </a:p>
        </p:txBody>
      </p:sp>
      <p:sp>
        <p:nvSpPr>
          <p:cNvPr id="637" name=""/>
          <p:cNvSpPr txBox="1"/>
          <p:nvPr/>
        </p:nvSpPr>
        <p:spPr>
          <a:xfrm>
            <a:off x="247320" y="145908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Locati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oksel,lippen, ooglede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38" name="Picture 4" descr=""/>
          <p:cNvPicPr/>
          <p:nvPr/>
        </p:nvPicPr>
        <p:blipFill>
          <a:blip r:embed="rId1"/>
          <a:stretch/>
        </p:blipFill>
        <p:spPr>
          <a:xfrm>
            <a:off x="4500720" y="1700280"/>
            <a:ext cx="3517920" cy="2314440"/>
          </a:xfrm>
          <a:prstGeom prst="rect">
            <a:avLst/>
          </a:prstGeom>
          <a:ln w="0">
            <a:noFill/>
          </a:ln>
        </p:spPr>
      </p:pic>
      <p:pic>
        <p:nvPicPr>
          <p:cNvPr id="639" name="Picture 5" descr=""/>
          <p:cNvPicPr/>
          <p:nvPr/>
        </p:nvPicPr>
        <p:blipFill>
          <a:blip r:embed="rId2"/>
          <a:stretch/>
        </p:blipFill>
        <p:spPr>
          <a:xfrm>
            <a:off x="826920" y="3833640"/>
            <a:ext cx="2903760" cy="2165400"/>
          </a:xfrm>
          <a:prstGeom prst="rect">
            <a:avLst/>
          </a:prstGeom>
          <a:ln w="0">
            <a:noFill/>
          </a:ln>
        </p:spPr>
      </p:pic>
      <p:pic>
        <p:nvPicPr>
          <p:cNvPr id="640" name="Picture 6" descr=""/>
          <p:cNvPicPr/>
          <p:nvPr/>
        </p:nvPicPr>
        <p:blipFill>
          <a:blip r:embed="rId3"/>
          <a:stretch/>
        </p:blipFill>
        <p:spPr>
          <a:xfrm>
            <a:off x="4500720" y="4403880"/>
            <a:ext cx="3517920" cy="1595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6T17:58:39Z</dcterms:created>
  <dc:creator>Gebruiker</dc:creator>
  <dc:description/>
  <dc:language>en-US</dc:language>
  <cp:lastModifiedBy>Annelies de Groot</cp:lastModifiedBy>
  <dcterms:modified xsi:type="dcterms:W3CDTF">2018-01-14T17:48:09Z</dcterms:modified>
  <cp:revision>24</cp:revision>
  <dc:subject/>
  <dc:title>Dermatologie</dc:title>
</cp:coreProperties>
</file>