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B797-A86E-4966-BDFA-2E8A0FB83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https://pento.nl/gehoor/gehoorproblemen/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is er in twee vormen: geleidingsverlies en 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Geleidings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stopping van de gehoorgang door een prop oorsme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ocht achter het trommelv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kalking van de gehoorbeentj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door perceptieverlies kan verschillende oorzaken hebben, zoal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rode hond tijdens de zwangerschap of zwangerschapsvergiftig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zuurstofgebrek of complicaties tijdens de geboort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hersenvlies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nstige 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tumo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gebruik van bepaalde medicijn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ongelu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lawaaitraum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felijke aandoening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uderdo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B2D5-0670-40BF-A79B-E6351F774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E7DD-8314-4D6C-8F48-071356039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12481-BFA8-4A36-8236-390549CA7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B1BC8-A613-472F-9818-342455153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4BB9-40BA-404F-A828-4BC9375E6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B25FE-0931-4D42-96D0-014671DC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B1B69-2C34-4C4A-A6DB-BB692FAB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FA2F-054D-4DC4-B0B1-88274949E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30AB-3285-4E21-A8C7-1E4A28A2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6974-521B-477C-9951-32E0C692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1A0D-A334-4634-B425-F8AE0D9D7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BF8D-B046-46A1-B6F0-AA6967EB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9308-B8D1-4FB7-BAFB-8A7D3534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AC69-5D94-46C3-9C7A-5EFB3A3F7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1BCF-6653-4429-917C-E2FA6580B07A}" type="datetime">
              <a:rPr b="0" lang="nl-NL"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AF36-49FF-4820-8D76-9F2DAB4C2A67}"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eluiden: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Zachter, vaak vervormd of dof.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Harde geluiden ervaren ze meestal als onpret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Bepalen waar een geluid vandaan komt is las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emand verstaan in rumoerige omgeving, lukt vaak niet </a:t>
            </a:r>
            <a:endParaRPr b="0" lang="en-US" sz="3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http://www.hoorzaken.nl/gehoorproblemen/slechthorendheid/</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1"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2"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3"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a:t>
            </a:r>
            <a:r>
              <a:rPr b="0" lang="nl-NL" sz="2000" spc="-1" strike="noStrike">
                <a:solidFill>
                  <a:srgbClr val="000000"/>
                </a:solidFill>
                <a:latin typeface="Calibri"/>
              </a:rPr>
              <a:t>(doofheid)</a:t>
            </a:r>
            <a:endParaRPr b="0" lang="en-US" sz="2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Conductiefverlies (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 (zintuig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552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conductiefverlies </a:t>
            </a:r>
            <a:r>
              <a:rPr b="0" lang="nl-NL" sz="2400" spc="-1" strike="noStrike">
                <a:solidFill>
                  <a:srgbClr val="000000"/>
                </a:solidFill>
                <a:latin typeface="Calibri"/>
              </a:rPr>
              <a:t>(Geleidingsdoofheid)</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2400" spc="-1" strike="noStrike">
                <a:solidFill>
                  <a:srgbClr val="000000"/>
                </a:solidFill>
                <a:latin typeface="Calibri"/>
              </a:rPr>
              <a:t>(zintuigverlies)</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Lawaaidoofheid</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Oorzake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stopping oorsmeer (gehoorappara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ntsteking uitwendige gehoorga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oudheid (verstopte buis van Eustachius ) Regelmatige blootstelling aan extreem lawaai (popconcert, discotheek). Hierdoor kan lawaaidoofheid ontstaa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rfelijkhei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uderd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7" name="Picture 2" descr=""/>
          <p:cNvPicPr/>
          <p:nvPr/>
        </p:nvPicPr>
        <p:blipFill>
          <a:blip r:embed="rId1"/>
          <a:stretch/>
        </p:blipFill>
        <p:spPr>
          <a:xfrm>
            <a:off x="3524400" y="2751120"/>
            <a:ext cx="2095200" cy="2224080"/>
          </a:xfrm>
          <a:prstGeom prst="rect">
            <a:avLst/>
          </a:prstGeom>
          <a:ln w="0">
            <a:noFill/>
          </a:ln>
        </p:spPr>
      </p:pic>
      <p:pic>
        <p:nvPicPr>
          <p:cNvPr id="68"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7T16:49:01Z</dcterms:modified>
  <cp:revision>150</cp:revision>
  <dc:subject/>
  <dc:title>Gehoorstelsel</dc:title>
</cp:coreProperties>
</file>