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21D-9606-4547-84E0-403CB490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79-B45F-4732-BACC-D1B04584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79F-0980-42FB-88D8-6FEA140B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BA8-1415-45C0-95FF-CD8D61C3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6474-0FC8-4628-8FB9-C6FF440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981E-950B-4B03-8D20-0F986273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3C4E-75C5-43F4-B144-21C73CB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1C54-905F-450F-890C-06B7BF4F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0930-E1CE-4C33-B2AF-61D57E3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797-B531-4F2B-8C29-2124474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93D-4094-4D1B-8BB3-3E23C5F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C86-9348-42A4-8E55-4C99C30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698-80D9-4B01-AB12-B7FD7B3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8FE0-ADC1-4444-A770-CE5FCC4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5550-273E-47EE-A455-B50B0A4B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FA8-BF31-4966-93D7-FA5253FA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6816-B736-4742-9E9A-D61064C2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539-5C21-461A-85B2-06195915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B2D-2E11-450A-8496-A10A6FBA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064-CD64-4115-84E3-ED1D5C63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97D-C45C-4BFD-BD37-CA9A859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C4A-F614-4DA2-BF10-6E66D79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2ED-21BF-4397-A47B-A3E8ABC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72E-6D2F-421D-AB90-C9048481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C3F-4348-443D-A146-18A413CA86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1578-E654-4550-BC12-32E73D725611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Annelies de Groot</cp:lastModifiedBy>
  <dcterms:modified xsi:type="dcterms:W3CDTF">2018-01-14T17:50:20Z</dcterms:modified>
  <cp:revision>3</cp:revision>
  <dc:subject/>
  <dc:title>Hondenbeet en Tetanus</dc:title>
</cp:coreProperties>
</file>