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u="sng">
              <a:solidFill>
                <a:srgbClr val="000000"/>
              </a:solidFill>
              <a:uFillTx/>
              <a:latin typeface="Verdana"/>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7E5A1-9662-4E3C-80FD-964AE64928DA}" type="slidenum">
              <a:rPr b="0" lang="nl-NL"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7DCFC-A0F5-4317-9B03-0DC85D593282}"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04FA1-8073-4117-A6A4-B21745CCB9A0}"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F85CF-9C00-4FA0-89A2-1C25FD70488B}"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namn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veel wratten en op welke plaats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 de wratten al aanwezig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e hinder de wrat veroorzaakt; pijn, en ongemak, of cosmetische kl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mmuunstoornis gebruik immunosuppress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heeft de patiënt gegaan met welk resul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de patiënt de wrat wil laten behan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AE631-44FC-4CF9-9A28-62C09F5EB3D1}"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0C083-E40B-406E-8AE2-AABED7DCEEF5}"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CEFBA-54FC-4A22-BE4C-5E06AD5432A8}"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4A053-292B-4F5C-B642-6D3E1AF12F19}"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D1DBC-9C05-4BCB-80D5-87D625A6253A}"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953D8-8807-4F1C-A2DF-FCD713495A20}"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F1354-EB03-431D-80B3-B0D161457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DE27F-977E-4840-9896-A72344012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B4AF029-E898-43BF-A322-B6EEAB0DAE1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FFDC423-B4FE-486B-AF3E-243565521F8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825440C-8084-4295-AAFA-C26E9790269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BC8C6FA-11CD-4AB5-A19A-4773FFE1F28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D9D537D-54A8-49A1-B975-8633EB47D3C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421FE31-79AA-46F9-901C-E6170365A9C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35C79AB-AAC1-411F-AF54-10E9134C1E2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9C629A4A-DA31-47E1-804D-7E0343D7DF4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E543BCEA-2F1E-4656-A5C1-9DC0B18CBE3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741F9CEA-FB84-4FDD-A955-A99BA862A67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5E048-C8F9-4D86-B024-CB0E632D8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39151B1-E753-49D6-BC42-9DB1772490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AC05AA0-F9E1-4F2B-8EDD-0B0E83D75F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4F14351-64E8-4E90-96C9-FA51C2B83A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963AEE2-FD68-4885-8C09-622011ECDE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0517679-A2F8-43EA-B1B2-DBB6726043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F1155D7-0FE6-4F9A-A0A5-A42F8F494C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22854D4-8397-4A96-ADF1-D64F0BDCA9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FF44258-B0A3-4BF5-848B-988E840B40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CACF377-28DF-4EBE-8BC7-BC46B5CE43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DACF3E0-4872-48A1-8BAE-DF2FFBFBE4C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B178C-73A3-48E0-A7ED-0CCC08052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5788EB3A-723F-47E7-AC25-8ACC725F6F8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32448D7-8DB6-4326-A44A-A3B73CDC1EF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CD991F5-8BDB-4E1C-80D6-E7B4D3408A6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5C3FAD-6640-4FC4-8415-223A8FD89B2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1C5F0CF-03DD-4711-B1F8-2E7C57763A4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CCB669-0044-4012-BA54-08D2A889C0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A09E4E-E8D4-4232-8B91-3026C810DAA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485519-4376-4242-BD85-F5D0ABD3DE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990B8E-87CA-4A56-9D14-D842EECF03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E5BD5F-06B1-4B6C-9DA7-121FA473EC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9EEC98-2A54-4256-AE6E-220655C48F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CD445F-EBB4-4352-B35B-54042BCBB1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7FC34C2-6F68-4413-AE67-EDFC7BA7176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0AC5D92-FCFE-46B2-9894-DB7C3E603AD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25B8BB47-CD9B-468A-821F-508D22BCF71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FA2838D-1395-4660-A020-81459844BB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ECB9BFD-469B-4F97-824F-60DF83AB48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34DA2E1-C5EE-4906-BFF9-98E2EAB29F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3234B91-98DA-49D3-9475-B1650BE863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771503E-5642-4C33-967D-E2E5E5C1B1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F38557F-F512-499D-AB3E-3C91D1117B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3735E-BBD2-4834-AACA-B817A6ED9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05C3EE1-05CC-4DBA-9AE1-A0ED52C05B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7FB7082-6536-46DE-B72E-7C7D98DB64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205D6CA-771D-4826-95C4-D3BB5AB8C8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3F0DC04D-2C6A-4F4C-8400-1509721A2A1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718E79B3-F3CE-4474-8AB8-33008D893BF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4396C-B0A6-4103-92D9-0A2A37579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B99C7-D36A-4A7C-AC1D-FEC9D7919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8C1C0-B023-4C98-9C8F-CE18F742C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607C1-7704-49FD-B78D-7ACD02872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3BB5A-EF47-4FE4-A3DE-CFDCB1406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A8606-D7EB-439B-8129-B9D036C09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DB83C-38BA-4880-A538-BFCA02F5F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6C1D1-FC7D-4980-955A-D2E600E82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B89FE-320E-4DB6-97A0-513114B6F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4D1A71-C450-459D-A1F3-9149753CE8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527747-F38F-46AE-A367-569181D412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B4D1ED-9978-4134-B2EF-83AD256993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E2083A-8107-4BE4-8A17-48BA26F4FF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B6237E-3FD0-4132-A170-E8474FA08F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C345CF-C35F-4F0D-9319-565690DEC1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43FFFB-6BD2-400D-9CB2-B64F8CB357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B08C9-AD0E-4998-B47B-48C3EB471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E819FB-AAD5-49EB-87B0-7F092C1FB8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F10143-8C70-44E0-9A14-4D7492D38E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7459A0-1995-49A0-A273-A758696DCA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CCE67C-2D7B-44D0-917B-2FD68AFBDF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A74D4E-D8DB-4350-B2DC-3B91E65914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BF62E6-6F95-4C47-9F5F-5346437D07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4F6DAC-4AA0-4C21-8CE1-94C8A99DAB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7FB6951-FF70-4DB8-8EE6-295EF4EA207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D8FC72D-E9A3-47F4-AF25-34DC25FF5DA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60441DD-E105-4844-A4A4-77A75278C3E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D16DD-EAD4-4EDF-8531-601A3CF99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62BC59E-2DDF-4C0E-AEF8-D3E2A6D40BF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E53C12A-5619-4B4F-BBE6-5021B82A7EB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C4EDD85-610F-46D0-89F0-68560D7B665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0C829A6-292B-4691-9643-DE26278B8BF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0772E11-0ABF-42BA-A642-E7A1102BA57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DDAEA8B-7AFC-4062-A754-E8BA6F6347C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ECD4CC4-8091-4FEA-8E1F-88A55614F71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F4179BF-6268-4CD0-8E51-C4863E79A27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2B847378-6949-4E4C-8ABE-C670648EDAD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DB3DD3-4D44-4BA4-8239-F893A948B1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38EA1-09BF-4F19-84A8-ACC5AEA55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3C526E-C348-4568-9864-A8D724EE33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102781-BA1A-4A15-BD28-B35F0C8C37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11A64A-7058-493E-BB1D-76B0E6708F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E51584-F671-4A38-A809-F588D169DE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59A210-8C54-4029-A8C6-8080D59589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3B1F06-1A80-4916-A8DA-4C1C3486D2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AF6231-B3D7-4552-9A47-2FFA276F03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182595-9CE8-4BF0-8F14-95C695CFC1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04EDCB-4A5E-4550-8F64-2528D2736F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EE9D73-8F33-4A6C-A981-A514ED2E22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B91B5-28A8-4959-B4A8-ED658486F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6A7618-BC11-4A43-B02E-9A8E3FA375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61ACD9-3564-40A8-AE1D-5ACA8D99B4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8A0A42-362D-4C48-8A66-E5D90B2C05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7F9683-79F8-41EF-82B4-703C549A73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EF3CBB-3063-4175-B706-E099CA0960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6535F5-DB85-4CFF-BD69-F09BD2F3C3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6AA9CF-5DEE-4CBE-98E0-974060F0FA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5459DE-9BDC-42FD-8E48-7B857DBD25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6C9B6F-EFCD-4243-802A-6597808097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B17CFC-7F0D-41A3-927C-94FD66C74E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A9A56-4E52-4B35-8015-5A6CB2C06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659627-2663-4D0C-92CD-3F0A4B007A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990BE6-2394-41D9-9B52-6BF1C2BA68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565E4A-2A64-4C33-9C97-2BACA03C68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DDE763-45EC-49E9-90C1-2BE2E2E63D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2D9BF0-4EE9-46EC-ACCD-10136D2231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486F41-C6F9-4C78-AB97-72282A9DD4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42821F-B8DF-422F-AE00-03E1BE5167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F34BE3-4F85-4EC9-B550-111F4A1990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D55844-A3D0-4A71-B8E1-6D40A1DD4F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34524E-C50D-409A-BD23-7D6F70693A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F2005-0F4B-4289-8313-FA8E71BE0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155B04-1B46-4893-B511-9E543552EF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51305F-EC4A-49BF-B2B3-D15D170C8A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E71D87-A69E-436E-9FB8-77077C229F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C842CA-5CE9-46B0-ACF3-B4F459635B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157A70-A3C2-468F-9685-152E569D73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D2132F-BA86-42C8-83CF-AF5B1C8C05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8E6CA2-F089-4BDD-90A6-73FEE3EF22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7BD9EE-414D-4E66-998B-BBBAF65013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E09AFE-96D8-4C5E-BD3E-CD23E0814F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A376AD-9790-4F66-90C0-0247E156C0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6EAB5-DAEC-4255-80A0-40E85BD65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03BBF7-341A-41EF-B801-4DF8DF0578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875D09-301C-4BE8-B121-283F655361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721C22-F587-472E-893E-4ADA284B2D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0C7509-8851-4D22-9081-652A589C4F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E07C5B-63FE-4830-8888-2AA48BE4DF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5A0E2E-5193-40AC-97E2-348E83A2E6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4A1E30-839F-4391-B3AE-68B73C7CF6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3B74D00-399B-4689-A8ED-0A9D37F5D3D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4D8A741-BEC9-4A82-B240-E6E256AF167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4C097F9-9E52-4579-9577-540F411C5037}"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7"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8"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9"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1A07B-AFEF-4999-A105-93BEE4A50766}"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Rechte verbindingslijn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455" name="Rechthoe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56" name="Rechthoe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57" name="Rechthoek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58" name="Rechthoek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59" name="Rechthoek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0" name="Rechthoek 23"/>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1" name="Rechthoek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2" name="Ovaal 25"/>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3" name="Ovaal 26"/>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4" name="Rechthoek 27"/>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F6C0D-E74F-4306-8EBA-558F9AD03377}"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07"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08"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09"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0"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1"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2"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513"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4"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A480E-D1FC-49C7-8EBC-A59FE572A87A}"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hthoe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57" name="Rechthoek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58" name="Rechthoek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59" name="Rechthoe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0" name="Rechthoek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1" name="Rechthoek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2" name="Rechte verbindingslijn 23"/>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563" name="Ovaal 24"/>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4" name="Ovaal 25"/>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F5518-E5D0-44F9-BBCA-75EE1813A2EC}"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hthoe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 name="Rechthoek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2" name="Rechthoek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3" name="Rechthoek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4" name="Rechthoek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5" name="Rechte verbindingslijn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56" name="Rechthoek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7" name="Ovaal 24"/>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8" name="Ovaal 25"/>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91133-294B-4FBB-A388-7F9C85F77277}"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1"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2"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3"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4"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5"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6"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107"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8"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B4633-D195-4A83-BB34-FE0DB50650E2}"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hthoek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1" name="Rechthoe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2" name="Rechthoek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3" name="Rechthoek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4" name="Rechthoek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5" name="Rechthoek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6" name="Rechthoek 23"/>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7" name="Rechthoek 24"/>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8" name="Rechte verbindingslijn 25"/>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159" name="Ovaal 26"/>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60" name="Ovaal 27"/>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F275F-DBBD-41BA-B557-CB5F11931327}"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3"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4"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5"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6"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7"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8"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209"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10"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11" name="Rechte verbindingslijn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7CE3A-E2AD-4204-8A9A-93D1967063D0}"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Rechte verbindingslijn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254" name="Rechthoek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5" name="Rechthoek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6" name="Rechthoe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7" name="Rechthoek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8" name="Rechthoek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9" name="Rechthoek 23"/>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0" name="Rechte verbindingslijn 24"/>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261" name="Rechthoek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2" name="Ovaal 26"/>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3" name="Ovaal 27"/>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31425-4FB8-4FFD-BC60-2FDF714C8A32}"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06"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07"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08"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09"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0"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1"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312"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3"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0D3E-B4A1-4411-9E5B-643B87CBA83E}"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hthoe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56" name="Rechthoek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57" name="Rechthoe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58" name="Rechthoe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59" name="Rechthoek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60" name="Rechthoek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97AA0-F223-4A92-B671-CCF1BC2D52B9}" type="slidenum">
              <a:rPr b="0" lang="nl-NL"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hthoek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3" name="Rechthoe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4" name="Rechthoe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5" name="Rechthoek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6" name="Rechthoek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7" name="Rechthoek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8" name="Rechthoek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9" name="Rechte verbindingslijn 24"/>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410" name="Ovaal 25"/>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11" name="Ovaal 26"/>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12" name="Rechthoek 27"/>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A3943-CFAA-486A-B920-52069D0317B9}"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1600" spc="-1" strike="noStrike">
              <a:solidFill>
                <a:srgbClr val="646b86"/>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d16349"/>
                </a:solidFill>
                <a:latin typeface="Georgia"/>
              </a:rPr>
              <a:t>Wratten (verrucae)</a:t>
            </a:r>
            <a:br>
              <a:rPr sz="4200"/>
            </a:br>
            <a:br>
              <a:rPr sz="4200"/>
            </a:br>
            <a:r>
              <a:rPr b="0" lang="nl-NL" sz="1100" spc="-1" strike="noStrike">
                <a:solidFill>
                  <a:srgbClr val="d16349"/>
                </a:solidFill>
                <a:latin typeface="Georgia"/>
              </a:rPr>
              <a:t>(bijgesteld :29-11-2017 Bouke Cuperus)</a:t>
            </a:r>
            <a:endParaRPr b="0" lang="en-US" sz="1100" spc="-1" strike="noStrike">
              <a:solidFill>
                <a:srgbClr val="7b9899"/>
              </a:solidFill>
              <a:latin typeface="Georgia"/>
            </a:endParaRPr>
          </a:p>
        </p:txBody>
      </p:sp>
      <p:pic>
        <p:nvPicPr>
          <p:cNvPr id="615" name="Picture 5" descr=""/>
          <p:cNvPicPr/>
          <p:nvPr/>
        </p:nvPicPr>
        <p:blipFill>
          <a:blip r:embed="rId1"/>
          <a:stretch/>
        </p:blipFill>
        <p:spPr>
          <a:xfrm>
            <a:off x="5408640" y="2836800"/>
            <a:ext cx="2511360" cy="1638360"/>
          </a:xfrm>
          <a:prstGeom prst="rect">
            <a:avLst/>
          </a:prstGeom>
          <a:ln w="0">
            <a:noFill/>
          </a:ln>
        </p:spPr>
      </p:pic>
      <p:pic>
        <p:nvPicPr>
          <p:cNvPr id="616" name="Picture 6" descr=""/>
          <p:cNvPicPr/>
          <p:nvPr/>
        </p:nvPicPr>
        <p:blipFill>
          <a:blip r:embed="rId2"/>
          <a:stretch/>
        </p:blipFill>
        <p:spPr>
          <a:xfrm>
            <a:off x="5435640" y="4475160"/>
            <a:ext cx="2521080" cy="1165320"/>
          </a:xfrm>
          <a:prstGeom prst="rect">
            <a:avLst/>
          </a:prstGeom>
          <a:ln w="0">
            <a:noFill/>
          </a:ln>
        </p:spPr>
      </p:pic>
      <p:pic>
        <p:nvPicPr>
          <p:cNvPr id="617" name="Picture 8" descr=""/>
          <p:cNvPicPr/>
          <p:nvPr/>
        </p:nvPicPr>
        <p:blipFill>
          <a:blip r:embed="rId3"/>
          <a:stretch/>
        </p:blipFill>
        <p:spPr>
          <a:xfrm>
            <a:off x="1041480" y="2803680"/>
            <a:ext cx="4292640" cy="2827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b9899"/>
                </a:solidFill>
                <a:latin typeface="Verdana"/>
              </a:rPr>
              <a:t>Ouderdomswrat (Verrucae Seborrhoica / sensilis)</a:t>
            </a:r>
            <a:endParaRPr b="0" lang="en-US" sz="2400" spc="-1" strike="noStrike">
              <a:solidFill>
                <a:srgbClr val="7b9899"/>
              </a:solidFill>
              <a:latin typeface="Georgia"/>
            </a:endParaRPr>
          </a:p>
        </p:txBody>
      </p:sp>
      <p:sp>
        <p:nvSpPr>
          <p:cNvPr id="642" name=""/>
          <p:cNvSpPr txBox="1"/>
          <p:nvPr/>
        </p:nvSpPr>
        <p:spPr>
          <a:xfrm>
            <a:off x="301680" y="1371600"/>
            <a:ext cx="4038480" cy="468144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Ouderdomswrat </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iet besmettelijk</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Goedaardig</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onker bruin</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Ruwe structuur</a:t>
            </a:r>
            <a:endParaRPr b="0" lang="en-US" sz="2000" spc="-1" strike="noStrike">
              <a:solidFill>
                <a:srgbClr val="000000"/>
              </a:solidFill>
              <a:latin typeface="Georgia"/>
            </a:endParaRPr>
          </a:p>
        </p:txBody>
      </p:sp>
      <p:pic>
        <p:nvPicPr>
          <p:cNvPr id="643" name="Picture 6" descr=""/>
          <p:cNvPicPr/>
          <p:nvPr/>
        </p:nvPicPr>
        <p:blipFill>
          <a:blip r:embed="rId1"/>
          <a:stretch/>
        </p:blipFill>
        <p:spPr>
          <a:xfrm>
            <a:off x="4903920" y="1773360"/>
            <a:ext cx="3628800" cy="2803320"/>
          </a:xfrm>
          <a:prstGeom prst="rect">
            <a:avLst/>
          </a:prstGeom>
          <a:ln w="0">
            <a:noFill/>
          </a:ln>
        </p:spPr>
      </p:pic>
      <p:sp>
        <p:nvSpPr>
          <p:cNvPr id="644"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b9899"/>
                </a:solidFill>
                <a:latin typeface="Verdana"/>
              </a:rPr>
              <a:t>Genitale wratten (condyloma acuminatum)</a:t>
            </a:r>
            <a:endParaRPr b="0" lang="en-US" sz="2800" spc="-1" strike="noStrike">
              <a:solidFill>
                <a:srgbClr val="7b9899"/>
              </a:solidFill>
              <a:latin typeface="Georgia"/>
            </a:endParaRPr>
          </a:p>
        </p:txBody>
      </p:sp>
      <p:sp>
        <p:nvSpPr>
          <p:cNvPr id="646"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Zeer besmettelijk&gt;SOA </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epaald type van Humaan Papilloma virus</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loemkoolachtig gesteeld vormsel</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estelt zich op de slijmvliezen</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Locatie: anus en/of geslachtsorganen man/vrouw</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 of uitwendig</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647" name="Picture 5" descr=""/>
          <p:cNvPicPr/>
          <p:nvPr/>
        </p:nvPicPr>
        <p:blipFill>
          <a:blip r:embed="rId1"/>
          <a:stretch/>
        </p:blipFill>
        <p:spPr>
          <a:xfrm>
            <a:off x="6440400" y="4508640"/>
            <a:ext cx="2238480" cy="1671480"/>
          </a:xfrm>
          <a:prstGeom prst="rect">
            <a:avLst/>
          </a:prstGeom>
          <a:ln w="0">
            <a:noFill/>
          </a:ln>
        </p:spPr>
      </p:pic>
      <p:pic>
        <p:nvPicPr>
          <p:cNvPr id="648" name="Picture 6" descr=""/>
          <p:cNvPicPr/>
          <p:nvPr/>
        </p:nvPicPr>
        <p:blipFill>
          <a:blip r:embed="rId2"/>
          <a:stretch/>
        </p:blipFill>
        <p:spPr>
          <a:xfrm>
            <a:off x="6230880" y="1773360"/>
            <a:ext cx="2467080" cy="1584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Water wratjes (mollusca contagiosa)</a:t>
            </a:r>
            <a:endParaRPr b="0" lang="en-US" sz="3300" spc="-1" strike="noStrike">
              <a:solidFill>
                <a:srgbClr val="7b9899"/>
              </a:solidFill>
              <a:latin typeface="Georgia"/>
            </a:endParaRPr>
          </a:p>
        </p:txBody>
      </p:sp>
      <p:sp>
        <p:nvSpPr>
          <p:cNvPr id="650" name=""/>
          <p:cNvSpPr txBox="1"/>
          <p:nvPr/>
        </p:nvSpPr>
        <p:spPr>
          <a:xfrm>
            <a:off x="301320" y="1527120"/>
            <a:ext cx="8504280" cy="4572000"/>
          </a:xfrm>
          <a:prstGeom prst="rect">
            <a:avLst/>
          </a:prstGeom>
          <a:noFill/>
          <a:ln w="0">
            <a:noFill/>
          </a:ln>
        </p:spPr>
        <p:txBody>
          <a:bodyPr anchor="t">
            <a:normAutofit/>
          </a:bodyPr>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Oorzaak: Pokvirus</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Zeer besmettelijk door intensief huidcontact  (zwembad,gymzaal</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Vooral bij kinderen</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Doorschijnend of wit, bol, vast bultje met in het   midden vaak een inzinking</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Gevuld met substantie</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651" name="Picture 2" descr=""/>
          <p:cNvPicPr/>
          <p:nvPr/>
        </p:nvPicPr>
        <p:blipFill>
          <a:blip r:embed="rId1"/>
          <a:stretch/>
        </p:blipFill>
        <p:spPr>
          <a:xfrm>
            <a:off x="4211640" y="3357720"/>
            <a:ext cx="2530440" cy="2474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b9899"/>
                </a:solidFill>
                <a:latin typeface="Verdana"/>
              </a:rPr>
              <a:t>Diagnose: Wratten</a:t>
            </a:r>
            <a:endParaRPr b="0" lang="en-US" sz="2800" spc="-1" strike="noStrike">
              <a:solidFill>
                <a:srgbClr val="7b9899"/>
              </a:solidFill>
              <a:latin typeface="Georgia"/>
            </a:endParaRPr>
          </a:p>
        </p:txBody>
      </p:sp>
      <p:sp>
        <p:nvSpPr>
          <p:cNvPr id="653"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oe wordt diagnose gesteld?</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oor de huisarts (anamnese)</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Kenmerkend, geen nader onderzoek nodig</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oms biopt afnemen,voor aanvullend onderzoek</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erste behandeling</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Verdere behandeling evt delegeren naar assistente a.d.h.v. protocol (afhankelijk van aard, locatie, behandeling)</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ventueel verwijzing dermatologie</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Behandelingsmogelijkheden</a:t>
            </a:r>
            <a:endParaRPr b="0" lang="en-US" sz="3300" spc="-1" strike="noStrike">
              <a:solidFill>
                <a:srgbClr val="7b9899"/>
              </a:solidFill>
              <a:latin typeface="Georgia"/>
            </a:endParaRPr>
          </a:p>
        </p:txBody>
      </p:sp>
      <p:sp>
        <p:nvSpPr>
          <p:cNvPr id="655" name=""/>
          <p:cNvSpPr txBox="1"/>
          <p:nvPr/>
        </p:nvSpPr>
        <p:spPr>
          <a:xfrm>
            <a:off x="301320" y="1527120"/>
            <a:ext cx="8504280" cy="4572000"/>
          </a:xfrm>
          <a:prstGeom prst="rect">
            <a:avLst/>
          </a:prstGeom>
          <a:noFill/>
          <a:ln w="0">
            <a:noFill/>
          </a:ln>
        </p:spPr>
        <p:txBody>
          <a:bodyPr anchor="t">
            <a:normAutofit fontScale="97000"/>
          </a:bodyPr>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1. Afwachten (expectatief beleid)</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2. Aanstippen; patiënt kan zelf aanstipvloeistof bij de apotheek kopen</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3. Cryotherapie (bevriezing) , aanstippen met vloeibare stikstok  wrattenspreekuur.</a:t>
            </a: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 </a:t>
            </a:r>
            <a:r>
              <a:rPr b="0" lang="nl-NL" sz="2000" spc="-1" strike="noStrike">
                <a:solidFill>
                  <a:srgbClr val="000000"/>
                </a:solidFill>
                <a:latin typeface="Georgia"/>
              </a:rPr>
              <a:t>4. Uitlepelen </a:t>
            </a: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5. Wegsnijden</a:t>
            </a: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6.Wegbranden (coagulatie)….is pijnlijk daardoor  weinig toegepast</a:t>
            </a:r>
            <a:endParaRPr b="0" lang="en-US" sz="2000" spc="-1" strike="noStrike">
              <a:solidFill>
                <a:srgbClr val="000000"/>
              </a:solidFill>
              <a:latin typeface="Georg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b9899"/>
                </a:solidFill>
                <a:latin typeface="Verdana"/>
              </a:rPr>
              <a:t>Huidbiopsie</a:t>
            </a:r>
            <a:endParaRPr b="0" lang="en-US" sz="2400" spc="-1" strike="noStrike">
              <a:solidFill>
                <a:srgbClr val="7b9899"/>
              </a:solidFill>
              <a:latin typeface="Georgia"/>
            </a:endParaRPr>
          </a:p>
        </p:txBody>
      </p:sp>
      <p:sp>
        <p:nvSpPr>
          <p:cNvPr id="657"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weghalen van een stukje huid onder lokale verdoving</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dicatie:</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Zekerheid over “klinische diagnose” te krijgen.</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b9899"/>
                </a:solidFill>
                <a:latin typeface="Verdana"/>
              </a:rPr>
              <a:t>Huidbiopsie</a:t>
            </a:r>
            <a:endParaRPr b="0" lang="en-US" sz="2400" spc="-1" strike="noStrike">
              <a:solidFill>
                <a:srgbClr val="7b9899"/>
              </a:solidFill>
              <a:latin typeface="Georgia"/>
            </a:endParaRPr>
          </a:p>
        </p:txBody>
      </p:sp>
      <p:sp>
        <p:nvSpPr>
          <p:cNvPr id="65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ovaaltje:</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rmatoloog</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ij verdenking melanoom</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teriel onder verdoving</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Ovaalvormig gebied rondom huidafwijking uitgesneden</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chting na 7-14 dagen verwijderen bij huisarts</a:t>
            </a:r>
            <a:endParaRPr b="0" lang="en-US" sz="2000" spc="-1" strike="noStrike">
              <a:solidFill>
                <a:srgbClr val="000000"/>
              </a:solidFill>
              <a:latin typeface="Georgia"/>
            </a:endParaRPr>
          </a:p>
        </p:txBody>
      </p:sp>
      <p:pic>
        <p:nvPicPr>
          <p:cNvPr id="660" name="Picture 5" descr="melanoma_malign"/>
          <p:cNvPicPr/>
          <p:nvPr/>
        </p:nvPicPr>
        <p:blipFill>
          <a:blip r:embed="rId1"/>
          <a:stretch/>
        </p:blipFill>
        <p:spPr>
          <a:xfrm>
            <a:off x="5003640" y="2421000"/>
            <a:ext cx="1905120" cy="1276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Tip: Geen lesstof</a:t>
            </a:r>
            <a:endParaRPr b="0" lang="en-US" sz="3300" spc="-1" strike="noStrike">
              <a:solidFill>
                <a:srgbClr val="7b9899"/>
              </a:solidFill>
              <a:latin typeface="Georgia"/>
            </a:endParaRPr>
          </a:p>
        </p:txBody>
      </p:sp>
      <p:sp>
        <p:nvSpPr>
          <p:cNvPr id="66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Goede informatie over wratten spreekuur is te vinden in het boek</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Eigen spreekuur en chronische ziekten</a:t>
            </a:r>
            <a:endParaRPr b="0" lang="en-US" sz="2700" spc="-1" strike="noStrike">
              <a:solidFill>
                <a:srgbClr val="000000"/>
              </a:solidFill>
              <a:latin typeface="Georg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7b9899"/>
                </a:solidFill>
                <a:latin typeface="Verdana"/>
              </a:rPr>
              <a:t>        </a:t>
            </a:r>
            <a:r>
              <a:rPr b="0" lang="nl-NL" sz="2800" spc="-1" strike="noStrike">
                <a:solidFill>
                  <a:srgbClr val="7b9899"/>
                </a:solidFill>
                <a:latin typeface="Verdana"/>
              </a:rPr>
              <a:t>Leerdoelen:</a:t>
            </a:r>
            <a:endParaRPr b="0" lang="en-US" sz="2800" spc="-1" strike="noStrike">
              <a:solidFill>
                <a:srgbClr val="7b9899"/>
              </a:solidFill>
              <a:latin typeface="Georgia"/>
            </a:endParaRPr>
          </a:p>
        </p:txBody>
      </p:sp>
      <p:sp>
        <p:nvSpPr>
          <p:cNvPr id="619"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a afloop van deze  powerpoint kan je: </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verschillende soorten wratten benoemen</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nkele behandelmethoden beschrijven</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Wat zijn wratten?</a:t>
            </a:r>
            <a:endParaRPr b="0" lang="en-US" sz="3300" spc="-1" strike="noStrike">
              <a:solidFill>
                <a:srgbClr val="7b9899"/>
              </a:solidFill>
              <a:latin typeface="Georgia"/>
            </a:endParaRPr>
          </a:p>
        </p:txBody>
      </p:sp>
      <p:sp>
        <p:nvSpPr>
          <p:cNvPr id="621" name=""/>
          <p:cNvSpPr txBox="1"/>
          <p:nvPr/>
        </p:nvSpPr>
        <p:spPr>
          <a:xfrm>
            <a:off x="301320" y="1527120"/>
            <a:ext cx="8504280" cy="457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Georgia"/>
              </a:rPr>
              <a:t>Wratten zijn knobbeltjes die ruw en hard aanvoelen. Soms zien ze er een beetje bloemkoolachtig uit. Ze komen vooral voor op de handen en voeten, maar ze kunnen ook op andere plaatsen zitten. Door lopen worden voetwratten in het eelt van de voetzool gedrukt. Voetwratten doen soms pijn bij staan of lopen.</a:t>
            </a:r>
            <a:endParaRPr b="0" lang="en-US" sz="2400" spc="-1" strike="noStrike">
              <a:solidFill>
                <a:srgbClr val="000000"/>
              </a:solidFill>
              <a:latin typeface="Georg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b9899"/>
                </a:solidFill>
                <a:latin typeface="Verdana"/>
              </a:rPr>
              <a:t>Wratten (Verrucae)</a:t>
            </a:r>
            <a:endParaRPr b="0" lang="en-US" sz="2800" spc="-1" strike="noStrike">
              <a:solidFill>
                <a:srgbClr val="7b9899"/>
              </a:solidFill>
              <a:latin typeface="Georgia"/>
            </a:endParaRPr>
          </a:p>
        </p:txBody>
      </p:sp>
      <p:sp>
        <p:nvSpPr>
          <p:cNvPr id="623" name=""/>
          <p:cNvSpPr txBox="1"/>
          <p:nvPr/>
        </p:nvSpPr>
        <p:spPr>
          <a:xfrm>
            <a:off x="301320" y="1527120"/>
            <a:ext cx="8504280" cy="4572000"/>
          </a:xfrm>
          <a:prstGeom prst="rect">
            <a:avLst/>
          </a:prstGeom>
          <a:noFill/>
          <a:ln w="0">
            <a:noFill/>
          </a:ln>
        </p:spPr>
        <p:txBody>
          <a:bodyPr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 </a:t>
            </a:r>
            <a:r>
              <a:rPr b="0" lang="nl-NL" sz="2000" spc="-1" strike="noStrike">
                <a:solidFill>
                  <a:srgbClr val="000000"/>
                </a:solidFill>
                <a:latin typeface="Verdana"/>
              </a:rPr>
              <a:t>Hoe ontstaan wratten?</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Oorzaak: Humane Papillomavirus (HPV-virus) van de huid</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Zijn besmettelijk</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cubatietijd: 3-6 maanden of langer</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a 1 jaar zijn de wratten bij ongeveer de helft van de mensen spontaan verdwenen.</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Verdana"/>
              </a:rPr>
              <a:t>Het is niet aangetoond dat u wratten krijgt van zwembaden, openbare douches, of van sporten op blote voeten. </a:t>
            </a:r>
            <a:endParaRPr b="0" lang="en-US" sz="2000" spc="-1" strike="noStrike">
              <a:solidFill>
                <a:srgbClr val="000000"/>
              </a:solidFill>
              <a:latin typeface="Georg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Verschillende soorten wratten</a:t>
            </a:r>
            <a:endParaRPr b="0" lang="en-US" sz="3300" spc="-1" strike="noStrike">
              <a:solidFill>
                <a:srgbClr val="7b9899"/>
              </a:solidFill>
              <a:latin typeface="Georgia"/>
            </a:endParaRPr>
          </a:p>
        </p:txBody>
      </p:sp>
      <p:sp>
        <p:nvSpPr>
          <p:cNvPr id="62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gewone wrat (handen /vingers  (</a:t>
            </a:r>
            <a:r>
              <a:rPr b="0" i="1" lang="nl-NL" sz="2700" spc="-1" strike="noStrike">
                <a:solidFill>
                  <a:srgbClr val="000000"/>
                </a:solidFill>
                <a:latin typeface="Georgia"/>
              </a:rPr>
              <a:t>verrucae vulgaris</a:t>
            </a:r>
            <a:r>
              <a:rPr b="0" lang="nl-NL"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voetwratten   (</a:t>
            </a:r>
            <a:r>
              <a:rPr b="0" i="1" lang="nl-NL" sz="2700" spc="-1" strike="noStrike">
                <a:solidFill>
                  <a:srgbClr val="000000"/>
                </a:solidFill>
                <a:latin typeface="Georgia"/>
              </a:rPr>
              <a:t>verrucae plantaris</a:t>
            </a:r>
            <a:r>
              <a:rPr b="0" lang="nl-NL"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venerische wratten (</a:t>
            </a:r>
            <a:r>
              <a:rPr b="0" i="1" lang="nl-NL" sz="2700" spc="-1" strike="noStrike">
                <a:solidFill>
                  <a:srgbClr val="000000"/>
                </a:solidFill>
                <a:latin typeface="Georgia"/>
              </a:rPr>
              <a:t>condylomata acuminata </a:t>
            </a:r>
            <a:r>
              <a:rPr b="0" lang="nl-NL"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ouderdomswrat (</a:t>
            </a:r>
            <a:r>
              <a:rPr b="0" i="1" lang="nl-NL" sz="2700" spc="-1" strike="noStrike">
                <a:solidFill>
                  <a:srgbClr val="000000"/>
                </a:solidFill>
                <a:latin typeface="Georgia"/>
              </a:rPr>
              <a:t>verrrucae senilis</a:t>
            </a:r>
            <a:r>
              <a:rPr b="0" lang="nl-NL"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waterwratjes: (</a:t>
            </a:r>
            <a:r>
              <a:rPr b="0" i="1" lang="nl-NL" sz="2700" spc="-1" strike="noStrike">
                <a:solidFill>
                  <a:srgbClr val="000000"/>
                </a:solidFill>
                <a:latin typeface="Georgia"/>
              </a:rPr>
              <a:t>mollusca contagiosa</a:t>
            </a:r>
            <a:r>
              <a:rPr b="0" lang="nl-NL"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Verruca vulgaris (‘gewone wrat’)</a:t>
            </a:r>
            <a:endParaRPr b="0" lang="en-US" sz="3300" spc="-1" strike="noStrike">
              <a:solidFill>
                <a:srgbClr val="7b9899"/>
              </a:solidFill>
              <a:latin typeface="Georgia"/>
            </a:endParaRPr>
          </a:p>
        </p:txBody>
      </p:sp>
      <p:sp>
        <p:nvSpPr>
          <p:cNvPr id="627" name=""/>
          <p:cNvSpPr txBox="1"/>
          <p:nvPr/>
        </p:nvSpPr>
        <p:spPr>
          <a:xfrm>
            <a:off x="301320" y="1527120"/>
            <a:ext cx="8504280" cy="457200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Rond, bloemkoolachtig</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Scherp begrensd</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Sterke verhoorning</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Meestal meerdere</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Locatie: handen, knieën,</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ellebogen, gelaat</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28" name="Picture 3" descr=""/>
          <p:cNvPicPr/>
          <p:nvPr/>
        </p:nvPicPr>
        <p:blipFill>
          <a:blip r:embed="rId1"/>
          <a:stretch/>
        </p:blipFill>
        <p:spPr>
          <a:xfrm>
            <a:off x="4932360" y="2205000"/>
            <a:ext cx="3511440" cy="1530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b9899"/>
                </a:solidFill>
                <a:latin typeface="Verdana"/>
              </a:rPr>
              <a:t>Voetwrat (verruca plantaris)</a:t>
            </a:r>
            <a:endParaRPr b="0" lang="en-US" sz="2800" spc="-1" strike="noStrike">
              <a:solidFill>
                <a:srgbClr val="7b9899"/>
              </a:solidFill>
              <a:latin typeface="Georgia"/>
            </a:endParaRPr>
          </a:p>
        </p:txBody>
      </p:sp>
      <p:sp>
        <p:nvSpPr>
          <p:cNvPr id="630"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Verruca plantaris:  ligt verzonken in het eelt van de voetzoel</a:t>
            </a:r>
            <a:endParaRPr b="0" lang="en-US" sz="20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  </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Mozaïekwrat: breidt zich oppervlakkig uit.</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   </a:t>
            </a:r>
            <a:r>
              <a:rPr b="0" lang="nl-NL" sz="1000" spc="-1" strike="noStrike">
                <a:solidFill>
                  <a:srgbClr val="000000"/>
                </a:solidFill>
                <a:latin typeface="Verdana"/>
              </a:rPr>
              <a:t>Bron:htt</a:t>
            </a:r>
            <a:r>
              <a:rPr b="0" lang="nl-NL" sz="1100" spc="-1" strike="noStrike">
                <a:solidFill>
                  <a:srgbClr val="000000"/>
                </a:solidFill>
                <a:latin typeface="Verdana"/>
              </a:rPr>
              <a:t>p://www.huidziekten.nl/zakboek/dermatosen/vtxt/VerrucaVulgaris.htm</a:t>
            </a:r>
            <a:endParaRPr b="0" lang="en-US" sz="11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601"/>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631" name="Picture 4" descr=""/>
          <p:cNvPicPr/>
          <p:nvPr/>
        </p:nvPicPr>
        <p:blipFill>
          <a:blip r:embed="rId1"/>
          <a:stretch/>
        </p:blipFill>
        <p:spPr>
          <a:xfrm>
            <a:off x="6372360" y="4292640"/>
            <a:ext cx="2303280" cy="1538280"/>
          </a:xfrm>
          <a:prstGeom prst="rect">
            <a:avLst/>
          </a:prstGeom>
          <a:ln w="0">
            <a:noFill/>
          </a:ln>
        </p:spPr>
      </p:pic>
      <p:pic>
        <p:nvPicPr>
          <p:cNvPr id="632" name="Picture 5" descr=""/>
          <p:cNvPicPr/>
          <p:nvPr/>
        </p:nvPicPr>
        <p:blipFill>
          <a:blip r:embed="rId2"/>
          <a:stretch/>
        </p:blipFill>
        <p:spPr>
          <a:xfrm>
            <a:off x="6364440" y="2060640"/>
            <a:ext cx="2208240" cy="1655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Verruca plana</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Vlakke wr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Enkele millimeters groo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Huidkleurig of lichtbruin bobbeltj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Grote getale aanwezi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Locatie: gelaat, armen en bene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5" name="Picture 2" descr=""/>
          <p:cNvPicPr/>
          <p:nvPr/>
        </p:nvPicPr>
        <p:blipFill>
          <a:blip r:embed="rId1"/>
          <a:stretch/>
        </p:blipFill>
        <p:spPr>
          <a:xfrm>
            <a:off x="6084720" y="1628640"/>
            <a:ext cx="2616480" cy="2649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Steelwrat (verruca filiformis)</a:t>
            </a:r>
            <a:endParaRPr b="0" lang="en-US" sz="3300" spc="-1" strike="noStrike">
              <a:solidFill>
                <a:srgbClr val="7b9899"/>
              </a:solidFill>
              <a:latin typeface="Georgia"/>
            </a:endParaRPr>
          </a:p>
        </p:txBody>
      </p:sp>
      <p:sp>
        <p:nvSpPr>
          <p:cNvPr id="637" name=""/>
          <p:cNvSpPr txBox="1"/>
          <p:nvPr/>
        </p:nvSpPr>
        <p:spPr>
          <a:xfrm>
            <a:off x="247320" y="145908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Locati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oksel,lippen, ooglede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8" name="Picture 4" descr=""/>
          <p:cNvPicPr/>
          <p:nvPr/>
        </p:nvPicPr>
        <p:blipFill>
          <a:blip r:embed="rId1"/>
          <a:stretch/>
        </p:blipFill>
        <p:spPr>
          <a:xfrm>
            <a:off x="4500720" y="1700280"/>
            <a:ext cx="3517920" cy="2314440"/>
          </a:xfrm>
          <a:prstGeom prst="rect">
            <a:avLst/>
          </a:prstGeom>
          <a:ln w="0">
            <a:noFill/>
          </a:ln>
        </p:spPr>
      </p:pic>
      <p:pic>
        <p:nvPicPr>
          <p:cNvPr id="639" name="Picture 5" descr=""/>
          <p:cNvPicPr/>
          <p:nvPr/>
        </p:nvPicPr>
        <p:blipFill>
          <a:blip r:embed="rId2"/>
          <a:stretch/>
        </p:blipFill>
        <p:spPr>
          <a:xfrm>
            <a:off x="826920" y="3833640"/>
            <a:ext cx="2903760" cy="2165400"/>
          </a:xfrm>
          <a:prstGeom prst="rect">
            <a:avLst/>
          </a:prstGeom>
          <a:ln w="0">
            <a:noFill/>
          </a:ln>
        </p:spPr>
      </p:pic>
      <p:pic>
        <p:nvPicPr>
          <p:cNvPr id="640" name="Picture 6" descr=""/>
          <p:cNvPicPr/>
          <p:nvPr/>
        </p:nvPicPr>
        <p:blipFill>
          <a:blip r:embed="rId3"/>
          <a:stretch/>
        </p:blipFill>
        <p:spPr>
          <a:xfrm>
            <a:off x="4500720" y="4403880"/>
            <a:ext cx="3517920" cy="1595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17:58:39Z</dcterms:created>
  <dc:creator>Gebruiker</dc:creator>
  <dc:description/>
  <dc:language>en-US</dc:language>
  <cp:lastModifiedBy>Annelies de Groot</cp:lastModifiedBy>
  <dcterms:modified xsi:type="dcterms:W3CDTF">2018-01-14T17:48:09Z</dcterms:modified>
  <cp:revision>24</cp:revision>
  <dc:subject/>
  <dc:title>Dermatologie</dc:title>
</cp:coreProperties>
</file>