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9869-A1FC-4F44-BB8F-4A764FBC3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https://pento.nl/gehoor/gehoorproblemen/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is er in twee vormen: geleidingsverlies en 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leidings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stopping van de gehoorgang door een prop oorsmee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ocht achter het trommelv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kalking van de gehoorbeentj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door perceptieverlies kan verschillende oorzaken hebben, zo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rode hond tijdens de zwangerschap of zwangerschapsvergiftig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zuurstofgebrek of complicaties tijdens de geboor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hersenvlies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nstige 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tumo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gebruik van bepaalde medicijn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ongeluk;</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lawaaitraum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felijke aandoening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uderdo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7767-7E6A-42B5-A841-CF1468BE4E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39377-C0F4-41BE-9B04-41A8395F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54AB9-FFD7-4C62-B438-BCF60FC2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B737E-5566-44DF-B898-6F5837D04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8E9F7-31C8-438E-85FC-1CF678253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7C3F-5EE3-4F15-8681-4BA5F1C8C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B866-A526-4D0F-B6EC-CD271065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78FAA-A833-43E1-AB27-257F6CB7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DB5C-54B7-49CD-B484-9429B66A7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98A65-0680-46EC-9E07-08CC2C0B8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C54F-8A10-402B-9314-65A752C47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B87E-A808-44A2-AA88-1D171642D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AD23-ECAF-41EB-9E22-CCEE99CC0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F1C5-2BEE-4E3F-A478-C24BFFCF2B7E}" type="datetime">
              <a:rPr b="0" lang="nl-NL"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7693-FD9F-4617-95F9-830659EA315A}"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luid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achter, vaak vervormd of dof.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rde geluiden ervaren ze meestal als onpret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palen waar een geluid vandaan komt is las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mand verstaan in rumoerige omgeving, lukt vaak ni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2"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3"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4"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1" name="Picture 3" descr=""/>
          <p:cNvPicPr/>
          <p:nvPr/>
        </p:nvPicPr>
        <p:blipFill>
          <a:blip r:embed="rId1"/>
          <a:stretch/>
        </p:blipFill>
        <p:spPr>
          <a:xfrm>
            <a:off x="3432240" y="3249720"/>
            <a:ext cx="2279520" cy="1226880"/>
          </a:xfrm>
          <a:prstGeom prst="rect">
            <a:avLst/>
          </a:prstGeom>
          <a:ln w="0">
            <a:noFill/>
          </a:ln>
        </p:spPr>
      </p:pic>
      <p:sp>
        <p:nvSpPr>
          <p:cNvPr id="52" name="Rechthoek 4"/>
          <p:cNvSpPr/>
          <p:nvPr/>
        </p:nvSpPr>
        <p:spPr>
          <a:xfrm>
            <a:off x="960480" y="2565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www.hoorzaken.nl/gehoorproblemen/slechthorendheid/perceptief-gehoorverlies/</a:t>
            </a:r>
            <a:endParaRPr b="0" lang="en-US" sz="1800" spc="-1" strike="noStrike">
              <a:solidFill>
                <a:srgbClr val="000000"/>
              </a:solidFill>
              <a:latin typeface="Arial"/>
            </a:endParaRPr>
          </a:p>
        </p:txBody>
      </p:sp>
      <p:pic>
        <p:nvPicPr>
          <p:cNvPr id="53" name="Picture 4" descr=""/>
          <p:cNvPicPr/>
          <p:nvPr/>
        </p:nvPicPr>
        <p:blipFill>
          <a:blip r:embed="rId2"/>
          <a:stretch/>
        </p:blipFill>
        <p:spPr>
          <a:xfrm>
            <a:off x="2735280" y="32115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doofheid)</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Geleidingsdoofhei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4400" spc="-1" strike="noStrike">
                <a:solidFill>
                  <a:srgbClr val="000000"/>
                </a:solidFill>
                <a:latin typeface="Calibri"/>
              </a:rPr>
              <a:t>(zintuigverli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8" name="Picture 2" descr=""/>
          <p:cNvPicPr/>
          <p:nvPr/>
        </p:nvPicPr>
        <p:blipFill>
          <a:blip r:embed="rId1"/>
          <a:stretch/>
        </p:blipFill>
        <p:spPr>
          <a:xfrm>
            <a:off x="3524400" y="2751120"/>
            <a:ext cx="2095200" cy="2224080"/>
          </a:xfrm>
          <a:prstGeom prst="rect">
            <a:avLst/>
          </a:prstGeom>
          <a:ln w="0">
            <a:noFill/>
          </a:ln>
        </p:spPr>
      </p:pic>
      <p:pic>
        <p:nvPicPr>
          <p:cNvPr id="69"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2T12:55:59Z</dcterms:modified>
  <cp:revision>144</cp:revision>
  <dc:subject/>
  <dc:title>Gehoorstelsel</dc:title>
</cp:coreProperties>
</file>