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3FE-A058-4073-96F0-4B4AC47F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B01-C659-422C-A947-AB36A8A4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009-E797-4FA4-983B-2B624150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857-4736-4BD9-AC0E-BAE36D25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840-A936-4583-9B93-25383355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330-0CD1-49FE-BAE2-91A07F55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ACF-84FF-497A-9101-C2B5A02C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879-5DD7-4643-A6D9-7D11530D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2EB-22CB-490B-BAD2-ECA8CCE2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CD9-FB3D-42B5-92A4-D2CDBB1C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74C-D1B5-4606-AC68-90DC3976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806-CFD7-42AE-98C6-90E89BF8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EBF1-95E8-4314-8922-70C71D8C54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dC7E1U-6THc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neesmiddelen en P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com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bi van paracetamol met codeïne (opiaat) of coffeï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deïne versterkt niet-opioï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ffeïne: niet bewe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Arial"/>
              </a:rPr>
              <a:t>Opioïd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 pijnst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bel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k alleen geschikt voor hevige acute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werkinge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bstip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f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sdepress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WE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L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Arial"/>
              </a:rPr>
              <a:t>Anesthet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atselijke verd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pervlakteanesthesie (op weef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iltratieanesthesie (in weef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ingsanesthesie (via zenu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docaï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jnstillers bij reuma / j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hoofdstuk 3 G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gnaalfunctie: er is iets m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ute en chronische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gnaalfunctie gaat verloren, het wordt een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cuut: oorzaak (vaak) duid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ijnstillers 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: bestaat langer, oorzaak onduid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h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stillers, acupunctuur, chirurgisch ingrijpen, zenuwblokkade, hypnose, gedragstherapie, kalmeringsmiddelen, antidepres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ijnbestrij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halen signaal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-opioïden=gewone pijnsti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ioïden=sterke pijnstillers (opiumw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Arial"/>
              </a:rPr>
              <a:t>Niet-opioïd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f die bij weefselbeschadiging vrijkomt, ka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enuwprikkel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bij lichte tot matige p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cl. middelen met koortsdempende of ontstekingsremmende we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ceta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SAID’s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oid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ti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flammatory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aracetam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jnstilling + koortsde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intera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uwelijks contra-indic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eel: zeer giftig bij chronisch gebruik of overdosering (onherstelbare leverbeschadig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il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prostagland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NSAID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jnbest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ekingsremming en/of koortsde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lichte/matige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ontstekingen van gewrichten en spieren/p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w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gklachten (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staglandinebescher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gevoeligheid (eens en nooit we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 gebruik: nie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Vervolg NS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5520" y="11430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a ind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gzw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t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a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tistolling (wordt versterkt)- trombosedienst laten we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spillen (werking neemt a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etylsalicylzuur / carbasalaatcalcium / diclofenac / ibuprufen / naprox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4:34:56Z</dcterms:created>
  <dc:creator>-</dc:creator>
  <dc:description/>
  <dc:language>en-US</dc:language>
  <cp:lastModifiedBy>erik zoer</cp:lastModifiedBy>
  <dcterms:modified xsi:type="dcterms:W3CDTF">2016-12-01T15:18:15Z</dcterms:modified>
  <cp:revision>17</cp:revision>
  <dc:subject/>
  <dc:title>Geneesmiddelen en PIJN</dc:title>
</cp:coreProperties>
</file>