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6E0A-69BA-4A4D-A5C5-0B75CFEB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5C4C-F1A6-4A4F-8667-C90D45FB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94B5-DA47-42FD-BD7D-1F2A3541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9CF-4E9F-47E1-853A-A96BC6D4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7625-3769-4902-A29B-C14A0252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B0D-DCD6-4797-BD95-668216A1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7D3-07C5-4401-A617-379A72F5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C40-05CB-4120-8133-60841E60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6BB-B88B-43BC-BBF8-15BE0341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DB3-CE86-4C2E-BB2F-FA4F2C65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8DFE-22BA-4DF5-B9FD-D7DAA287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D97-6B81-492E-B03D-6D42CBEC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B5C1-38B1-4902-9F58-C7E00D61CB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dC7E1U-6THc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neesmiddelen en P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com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bi van paracetamol met codeïne (opiaat) of coffeï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deïne versterkt niet-opioï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ffeïne: niet bewe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000000"/>
                </a:solidFill>
                <a:latin typeface="Arial"/>
              </a:rPr>
              <a:t>Opioïd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e pijnst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 bel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ak alleen geschikt voor hevige acute p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werkinge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bstip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f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sdepress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WE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L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000000"/>
                </a:solidFill>
                <a:latin typeface="Arial"/>
              </a:rPr>
              <a:t>Anesthet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atselijke verd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pervlakteanesthesie (op weefs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filtratieanesthesie (in weefs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idingsanesthesie (via zenu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docaï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ijnstillers bij reuma / j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hoofdstuk 3 G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gnaalfunctie: er is iets m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ute en chronische p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gnaalfunctie gaat verloren, het wordt een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cuut: oorzaak (vaak) duid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ijnstillers 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ronisch: bestaat langer, oorzaak onduid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h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nstillers, acupunctuur, chirurgisch ingrijpen, zenuwblokkade, hypnose, gedragstherapie, kalmeringsmiddelen, antidepres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ijnbestrij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halen signaal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-opioïden=gewone pijnstil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ioïden=sterke pijnstillers (opiumw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000000"/>
                </a:solidFill>
                <a:latin typeface="Arial"/>
              </a:rPr>
              <a:t>Niet-opioïd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of die bij weefselbeschadiging vrijkomt, ka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enuwprikkel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bij lichte tot matige p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cl. middelen met koortsdempende of ontstekingsremmende we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aceta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SAID’s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roid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ti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flammatory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aracetam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jnstilling + koortsde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interac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uwelijks contra-indic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deel: zeer giftig bij chronisch gebruik of overdosering (onherstelbare leverbeschadig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il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prostagland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NSAID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jnbestrij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tekingsremming en/of koortsde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lichte/matige p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ontstekingen van gewrichten en spieren/p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w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gklachten (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staglandinebescher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gevoeligheid (eens en nooit we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ronisch gebruik: nie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3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Vervolg NSA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5520" y="11430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a ind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gzw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t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a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tistolling (wordt versterkt)- trombosedienst laten we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spillen (werking neemt a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etylsalicylzuur / carbasalaatcalcium / diclofenac / ibuprufen / naprox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4:34:56Z</dcterms:created>
  <dc:creator>-</dc:creator>
  <dc:description/>
  <dc:language>en-US</dc:language>
  <cp:lastModifiedBy>erik zoer</cp:lastModifiedBy>
  <dcterms:modified xsi:type="dcterms:W3CDTF">2016-12-01T15:18:15Z</dcterms:modified>
  <cp:revision>17</cp:revision>
  <dc:subject/>
  <dc:title>Geneesmiddelen en PIJN</dc:title>
</cp:coreProperties>
</file>