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xml" ContentType="application/vnd.openxmlformats-officedocument.presentationml.notesSlide+xml"/>
  <Override PartName="/ppt/notesSlides/_rels/notesSlide21.xml.rels" ContentType="application/vnd.openxmlformats-package.relationships+xml"/>
  <Override PartName="/ppt/notesSlides/_rels/notesSlide17.xml.rels" ContentType="application/vnd.openxmlformats-package.relationships+xml"/>
  <Override PartName="/ppt/notesSlides/_rels/notesSlide5.xml.rels" ContentType="application/vnd.openxmlformats-package.relationships+xml"/>
  <Override PartName="/ppt/notesSlides/notesSlide17.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05ECEC-EBC9-4121-B425-0C9C4DED04A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E5E166-C7AE-4B6A-96BB-5BCED2EA17C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63FB5C-FCC3-48AD-890D-DCEF1931F5E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5EF1D4-E80A-4B4C-8C09-B190B252F0A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09EADD-5E08-4CDB-A7BB-3C58526EB8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3A0B86-3505-4B43-919C-5371010951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0F1E90-EE34-4504-B4BA-BE0D020553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3F9315-6D8F-4BB5-A71A-75EFEB5AE1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2E13C9-AEDC-4143-B529-42888CF33B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681B93-69B9-4932-B68A-F37EA21CB8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E611B6-8A11-4651-8447-271770AB98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9935D4-24D6-4850-9B9E-52758862AD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A145CD-E753-4FD3-B7A9-0B13CE9E5F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48D448-FBC2-406A-AC25-0EF5A10DF1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FE214C-18BD-483F-92FD-3698F626FD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3941CE-2FD2-4C94-A510-19B4B725795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FB8AD2-52BB-4F46-825D-BF84C7511F77}" type="datetime">
              <a:rPr b="0" lang="nl-NL" sz="1200" spc="-1" strike="noStrike">
                <a:solidFill>
                  <a:srgbClr val="898989"/>
                </a:solidFill>
                <a:latin typeface="Calibri"/>
              </a:rPr>
              <a:t>30-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898989"/>
                </a:solidFill>
                <a:latin typeface="Calibri"/>
              </a:rPr>
              <a:t>Medische kennis Bouke Cuperus</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ED6C1B-BAE4-4EFF-98D0-87FF7A5E908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Calibri"/>
              </a:rPr>
              <a:t>(draai)duizeligheid</a:t>
            </a:r>
            <a:endParaRPr b="0" lang="en-US" sz="4400" spc="-1" strike="noStrike">
              <a:solidFill>
                <a:srgbClr val="000000"/>
              </a:solidFill>
              <a:latin typeface="Calibri"/>
            </a:endParaRPr>
          </a:p>
        </p:txBody>
      </p:sp>
      <p:pic>
        <p:nvPicPr>
          <p:cNvPr id="49" name="Tijdelijke aanduiding voor inhoud 1" descr=""/>
          <p:cNvPicPr/>
          <p:nvPr/>
        </p:nvPicPr>
        <p:blipFill>
          <a:blip r:embed="rId1"/>
          <a:stretch/>
        </p:blipFill>
        <p:spPr>
          <a:xfrm>
            <a:off x="3859200" y="1844640"/>
            <a:ext cx="4321080" cy="4024440"/>
          </a:xfrm>
          <a:prstGeom prst="rect">
            <a:avLst/>
          </a:prstGeom>
          <a:ln w="0">
            <a:noFill/>
          </a:ln>
        </p:spPr>
      </p:pic>
      <p:sp>
        <p:nvSpPr>
          <p:cNvPr id="50" name="Tijdelijke aanduiding voor voettekst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898989"/>
                </a:solidFill>
                <a:latin typeface="Calibri"/>
              </a:rPr>
              <a:t>Medische kennis Bouke Cuperus</a:t>
            </a:r>
            <a:endParaRPr b="0" lang="en-US" sz="1200" spc="-1" strike="noStrike">
              <a:solidFill>
                <a:srgbClr val="000000"/>
              </a:solidFill>
              <a:latin typeface="Arial"/>
            </a:endParaRPr>
          </a:p>
        </p:txBody>
      </p:sp>
      <p:pic>
        <p:nvPicPr>
          <p:cNvPr id="51" name="Picture 3" descr=""/>
          <p:cNvPicPr/>
          <p:nvPr/>
        </p:nvPicPr>
        <p:blipFill>
          <a:blip r:embed="rId2"/>
          <a:stretch/>
        </p:blipFill>
        <p:spPr>
          <a:xfrm>
            <a:off x="1403280" y="1512720"/>
            <a:ext cx="2911680" cy="46990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000000"/>
                </a:solidFill>
                <a:latin typeface="Calibri"/>
              </a:rPr>
              <a:t>Benigne Paroxymale positieduizeligheid (BPPD</a:t>
            </a:r>
            <a:r>
              <a:rPr b="0" lang="nl-NL" sz="3200" spc="-1" strike="noStrike">
                <a:solidFill>
                  <a:srgbClr val="000000"/>
                </a:solidFill>
                <a:latin typeface="Calibri"/>
              </a:rPr>
              <a:t>)</a:t>
            </a:r>
            <a:endParaRPr b="0" lang="en-US" sz="3200" spc="-1" strike="noStrike">
              <a:solidFill>
                <a:srgbClr val="000000"/>
              </a:solidFill>
              <a:latin typeface="Calibri"/>
            </a:endParaRPr>
          </a:p>
        </p:txBody>
      </p:sp>
      <p:sp>
        <p:nvSpPr>
          <p:cNvPr id="77" name=""/>
          <p:cNvSpPr txBox="1"/>
          <p:nvPr/>
        </p:nvSpPr>
        <p:spPr>
          <a:xfrm>
            <a:off x="457200" y="1600200"/>
            <a:ext cx="8229600" cy="4525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Calibri"/>
              </a:rPr>
              <a:t>Omschrijving ziektebeeld</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libri"/>
              </a:rPr>
              <a:t>Bij benigne paroxismale positieduizeligheid krijgt u aanvallen van draaiduizeligheid als uw hoofd beweegt, bijvoorbeeld omdat u gaat liggen of overeind komt. </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Calibri"/>
              </a:rPr>
              <a:t>Oorzaak</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libri"/>
              </a:rPr>
              <a:t>BPPD wordt waarschijnlijk veroorzaakt door een 'verstopping' van de buisjes in het evenwichtsorgaan.</a:t>
            </a:r>
            <a:endParaRPr b="0" lang="en-US" sz="2400" spc="-1" strike="noStrike">
              <a:solidFill>
                <a:srgbClr val="000000"/>
              </a:solidFill>
              <a:latin typeface="Calibri"/>
            </a:endParaRPr>
          </a:p>
        </p:txBody>
      </p:sp>
      <p:sp>
        <p:nvSpPr>
          <p:cNvPr id="78" name="Tijdelijke aanduiding voor voettekst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898989"/>
                </a:solidFill>
                <a:latin typeface="Calibri"/>
              </a:rPr>
              <a:t>Medische kennis Bouke Cuperu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000000"/>
                </a:solidFill>
                <a:latin typeface="Calibri"/>
              </a:rPr>
              <a:t>Benigne Paroxymale positieduizeligheid (BPPD)</a:t>
            </a:r>
            <a:endParaRPr b="0" lang="en-US" sz="32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De aanvallen van draaiduizeligheid komen wanneer u uw hoofd beweegt, bijvoorbeeld bij voorover buigen, omdraaien in bed of omhoog kijken. Een aanval duurt hooguit enkele minuten</a:t>
            </a:r>
            <a:endParaRPr b="0" lang="en-US" sz="3200" spc="-1" strike="noStrike">
              <a:solidFill>
                <a:srgbClr val="000000"/>
              </a:solidFill>
              <a:latin typeface="Calibri"/>
            </a:endParaRPr>
          </a:p>
        </p:txBody>
      </p:sp>
      <p:sp>
        <p:nvSpPr>
          <p:cNvPr id="81" name="Tijdelijke aanduiding voor voettekst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898989"/>
                </a:solidFill>
                <a:latin typeface="Calibri"/>
              </a:rPr>
              <a:t>Medische kennis Bouke Cuperu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000000"/>
                </a:solidFill>
                <a:latin typeface="Calibri"/>
              </a:rPr>
              <a:t>Benigne Paroxymale positieduizeligheid (BPPD</a:t>
            </a:r>
            <a:r>
              <a:rPr b="1" lang="nl-NL" sz="4400" spc="-1" strike="noStrike">
                <a:solidFill>
                  <a:srgbClr val="000000"/>
                </a:solidFill>
                <a:latin typeface="Calibri"/>
              </a:rPr>
              <a:t>)</a:t>
            </a:r>
            <a:endParaRPr b="0" lang="en-US" sz="4400" spc="-1" strike="noStrike">
              <a:solidFill>
                <a:srgbClr val="000000"/>
              </a:solidFill>
              <a:latin typeface="Calibri"/>
            </a:endParaRPr>
          </a:p>
        </p:txBody>
      </p:sp>
      <p:sp>
        <p:nvSpPr>
          <p:cNvPr id="83"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alibri"/>
              </a:rPr>
              <a:t>Advies: probeer gewoon door te gaan met wat u doet.</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alibri"/>
              </a:rPr>
              <a:t>Bij BPPD  kunt u oefeningen doen waardoor de duizeligheid sneller lijkt te verdwijnen:</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alibri"/>
              </a:rPr>
              <a:t>Ga met gesloten ogen midden op de rand van uw bed zitten.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alibri"/>
              </a:rPr>
              <a:t>Ga dan op uw zij liggen.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alibri"/>
              </a:rPr>
              <a:t>Kom overeind als de duizeligheid voorbij is en ga dan op uw andere zij liggen.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alibri"/>
              </a:rPr>
              <a:t>Herhaal dit totdat de duizeligheid verdwijnt.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alibri"/>
              </a:rPr>
              <a:t>Doe deze oefening 5 keer per dag.</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84" name="Tijdelijke aanduiding voor voettekst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898989"/>
                </a:solidFill>
                <a:latin typeface="Calibri"/>
              </a:rPr>
              <a:t>Medische kennis Bouke Cuperus</a:t>
            </a:r>
            <a:endParaRPr b="0" lang="en-US" sz="1200" spc="-1" strike="noStrike">
              <a:solidFill>
                <a:srgbClr val="000000"/>
              </a:solidFill>
              <a:latin typeface="Arial"/>
            </a:endParaRPr>
          </a:p>
        </p:txBody>
      </p:sp>
      <p:pic>
        <p:nvPicPr>
          <p:cNvPr id="85" name="Picture 2" descr=""/>
          <p:cNvPicPr/>
          <p:nvPr/>
        </p:nvPicPr>
        <p:blipFill>
          <a:blip r:embed="rId1"/>
          <a:stretch/>
        </p:blipFill>
        <p:spPr>
          <a:xfrm>
            <a:off x="5651640" y="4067280"/>
            <a:ext cx="3146400" cy="23652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Calibri"/>
              </a:rPr>
              <a:t>Ziekte van Ménière</a:t>
            </a:r>
            <a:endParaRPr b="0" lang="en-US" sz="4400" spc="-1" strike="noStrike">
              <a:solidFill>
                <a:srgbClr val="000000"/>
              </a:solidFill>
              <a:latin typeface="Calibri"/>
            </a:endParaRPr>
          </a:p>
        </p:txBody>
      </p:sp>
      <p:sp>
        <p:nvSpPr>
          <p:cNvPr id="8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Bij de ziekte van Ménière is er een probleem met het evenwichtsorgaan.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Klachten zijn aanvallen van draaiduizelingen, slechthorendheid en oorsuizen.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Het verschilt per persoon hoe vaak de aanvallen komen (van wekelijks tot zelde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Er is geen medicijn dat de ziekte van Ménière genees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 name="Tijdelijke aanduiding voor voettekst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898989"/>
                </a:solidFill>
                <a:latin typeface="Calibri"/>
              </a:rPr>
              <a:t>Medische kennis Bouke Cuperu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Calibri"/>
              </a:rPr>
              <a:t>Ziekte van Ménière</a:t>
            </a:r>
            <a:endParaRPr b="0" lang="en-US" sz="4400" spc="-1" strike="noStrike">
              <a:solidFill>
                <a:srgbClr val="000000"/>
              </a:solidFill>
              <a:latin typeface="Calibri"/>
            </a:endParaRPr>
          </a:p>
        </p:txBody>
      </p:sp>
      <p:sp>
        <p:nvSpPr>
          <p:cNvPr id="9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Bij de ziekte van Ménière is er een probleem met het evenwichtsorgaan.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Klachten zijn aanvallen van draaiduizelingen, slechthorendheid en oorsuizen.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Het verschilt per persoon hoe vaak de aanvallen komen (van wekelijks tot zelde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Tijdelijke aanduiding voor voettekst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898989"/>
                </a:solidFill>
                <a:latin typeface="Calibri"/>
              </a:rPr>
              <a:t>Medische kennis Bouke Cuperu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Calibri"/>
              </a:rPr>
              <a:t>Ziekte van Ménière</a:t>
            </a:r>
            <a:endParaRPr b="0" lang="en-US" sz="4400" spc="-1" strike="noStrike">
              <a:solidFill>
                <a:srgbClr val="000000"/>
              </a:solidFill>
              <a:latin typeface="Calibri"/>
            </a:endParaRPr>
          </a:p>
        </p:txBody>
      </p:sp>
      <p:sp>
        <p:nvSpPr>
          <p:cNvPr id="93" name=""/>
          <p:cNvSpPr txBox="1"/>
          <p:nvPr/>
        </p:nvSpPr>
        <p:spPr>
          <a:xfrm>
            <a:off x="457200" y="139536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De ziekte van Ménière is een combinatie van drie klachten: </a:t>
            </a:r>
            <a:endParaRPr b="0" lang="en-US" sz="3200" spc="-1" strike="noStrike">
              <a:solidFill>
                <a:srgbClr val="000000"/>
              </a:solidFill>
              <a:latin typeface="Calibri"/>
            </a:endParaRPr>
          </a:p>
          <a:p>
            <a:pPr>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aanvallen van draaiduizelingen,</a:t>
            </a:r>
            <a:endParaRPr b="0" lang="en-US" sz="3200" spc="-1" strike="noStrike">
              <a:solidFill>
                <a:srgbClr val="000000"/>
              </a:solidFill>
              <a:latin typeface="Calibri"/>
            </a:endParaRPr>
          </a:p>
          <a:p>
            <a:pPr>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slechthorendheid </a:t>
            </a:r>
            <a:endParaRPr b="0" lang="en-US" sz="3200" spc="-1" strike="noStrike">
              <a:solidFill>
                <a:srgbClr val="000000"/>
              </a:solidFill>
              <a:latin typeface="Calibri"/>
            </a:endParaRPr>
          </a:p>
          <a:p>
            <a:pPr>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oorsuizen</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000000"/>
                </a:solidFill>
                <a:latin typeface="Calibri"/>
              </a:rPr>
              <a:t>Oorzaken</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Mogelijk teveel</a:t>
            </a:r>
            <a:r>
              <a:rPr b="1" lang="nl-NL" sz="3200" spc="-1" strike="noStrike">
                <a:solidFill>
                  <a:srgbClr val="000000"/>
                </a:solidFill>
                <a:latin typeface="Calibri"/>
              </a:rPr>
              <a:t> </a:t>
            </a:r>
            <a:r>
              <a:rPr b="0" lang="nl-NL" sz="3200" spc="-1" strike="noStrike">
                <a:solidFill>
                  <a:srgbClr val="000000"/>
                </a:solidFill>
                <a:latin typeface="Calibri"/>
              </a:rPr>
              <a:t>veel vloeistof in de buisjes van het evenwichtsorgaan.</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Tijdelijke aanduiding voor voettekst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898989"/>
                </a:solidFill>
                <a:latin typeface="Calibri"/>
              </a:rPr>
              <a:t>Medische kennis Bouke Cuperu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Calibri"/>
              </a:rPr>
              <a:t>Ziekte van Ménière</a:t>
            </a:r>
            <a:endParaRPr b="0" lang="en-US" sz="4400" spc="-1" strike="noStrike">
              <a:solidFill>
                <a:srgbClr val="000000"/>
              </a:solidFill>
              <a:latin typeface="Calibri"/>
            </a:endParaRPr>
          </a:p>
        </p:txBody>
      </p:sp>
      <p:sp>
        <p:nvSpPr>
          <p:cNvPr id="96"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aanvallen van vaak heftige, zeer hinderlijke draaiduizeligheid. Daarbij kunt u minder horen en last hebben van oorsuizen of een vol gevoel in de oren. U kunt ook misselijk worden en overgeven. Na een of twee uur is de aanval op zijn hoogtepunt. De aanval duurt enkele uren. Daarna kunt u nog enkele dagen wat lichtere klachten houden. </a:t>
            </a:r>
            <a:endParaRPr b="0" lang="en-US" sz="3200" spc="-1" strike="noStrike">
              <a:solidFill>
                <a:srgbClr val="000000"/>
              </a:solidFill>
              <a:latin typeface="Calibri"/>
            </a:endParaRPr>
          </a:p>
        </p:txBody>
      </p:sp>
      <p:sp>
        <p:nvSpPr>
          <p:cNvPr id="97" name="Tijdelijke aanduiding voor voettekst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898989"/>
                </a:solidFill>
                <a:latin typeface="Calibri"/>
              </a:rPr>
              <a:t>Medische kennis Bouke Cuperu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Calibri"/>
              </a:rPr>
              <a:t>Ziekte van Ménière</a:t>
            </a:r>
            <a:endParaRPr b="0" lang="en-US" sz="4400" spc="-1" strike="noStrike">
              <a:solidFill>
                <a:srgbClr val="000000"/>
              </a:solidFill>
              <a:latin typeface="Calibri"/>
            </a:endParaRPr>
          </a:p>
        </p:txBody>
      </p:sp>
      <p:sp>
        <p:nvSpPr>
          <p:cNvPr id="99"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Verloop</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Hoe vaak iemand een aanval krijgt, verschilt. De een heeft zelden een aanval, de ander wekelijks. Na jaren komen de aanvallen steeds minder vaak terug. Gehoor vermindering en oorsuizen gaan soms niet meer over.</a:t>
            </a:r>
            <a:endParaRPr b="0" lang="en-US" sz="3200" spc="-1" strike="noStrike">
              <a:solidFill>
                <a:srgbClr val="000000"/>
              </a:solidFill>
              <a:latin typeface="Calibri"/>
            </a:endParaRPr>
          </a:p>
        </p:txBody>
      </p:sp>
      <p:sp>
        <p:nvSpPr>
          <p:cNvPr id="100" name="Tijdelijke aanduiding voor voettekst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898989"/>
                </a:solidFill>
                <a:latin typeface="Calibri"/>
              </a:rPr>
              <a:t>Medische kennis Bouke Cuperu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Calibri"/>
              </a:rPr>
              <a:t>Duizeligheid bij bejaarden</a:t>
            </a:r>
            <a:endParaRPr b="0" lang="en-US" sz="4400" spc="-1" strike="noStrike">
              <a:solidFill>
                <a:srgbClr val="000000"/>
              </a:solidFill>
              <a:latin typeface="Calibri"/>
            </a:endParaRPr>
          </a:p>
        </p:txBody>
      </p:sp>
      <p:sp>
        <p:nvSpPr>
          <p:cNvPr id="102"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Ontstaan: sluipend en duurt lang</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000000"/>
                </a:solidFill>
                <a:latin typeface="Calibri"/>
              </a:rPr>
              <a:t>Oorzaken:</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Geneesmiddelen</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Artherosclerose (minder zuurstof hersenen)</a:t>
            </a:r>
            <a:endParaRPr b="0" lang="en-US" sz="3200" spc="-1" strike="noStrike">
              <a:solidFill>
                <a:srgbClr val="000000"/>
              </a:solidFill>
              <a:latin typeface="Calibri"/>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Geneesmiddelen kunnen ook orthostatische hypotensie geven (</a:t>
            </a:r>
            <a:r>
              <a:rPr b="0" lang="nl-NL" sz="1600" spc="-1" strike="noStrike">
                <a:solidFill>
                  <a:srgbClr val="000000"/>
                </a:solidFill>
                <a:latin typeface="Calibri"/>
              </a:rPr>
              <a:t>plotselinge bloeddruk daling, binnen 3 minuten na opstaan)</a:t>
            </a:r>
            <a:endParaRPr b="0" lang="en-US" sz="16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Tijdelijke aanduiding voor voettekst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898989"/>
                </a:solidFill>
                <a:latin typeface="Calibri"/>
              </a:rPr>
              <a:t>Medische kennis Bouke Cuperu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Calibri"/>
              </a:rPr>
              <a:t>Draaiduizeligheid door andere aandoeningen</a:t>
            </a:r>
            <a:endParaRPr b="0" lang="en-US" sz="44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TIA of CVA (plotselinge spraakstoornis of verlamming of dubbelzie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Ernstige hartafwijkingen; drukkend gevoel op of beklemmende pijn op de bors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Hyperventilati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voettekst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898989"/>
                </a:solidFill>
                <a:latin typeface="Calibri"/>
              </a:rPr>
              <a:t>Medische kennis Bouke Cuperu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Tijdelijke aanduiding voor voettekst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898989"/>
                </a:solidFill>
                <a:latin typeface="Calibri"/>
              </a:rPr>
              <a:t>Medische kennis Bouke Cuperus</a:t>
            </a:r>
            <a:endParaRPr b="0" lang="en-US" sz="1200" spc="-1" strike="noStrike">
              <a:solidFill>
                <a:srgbClr val="000000"/>
              </a:solidFill>
              <a:latin typeface="Arial"/>
            </a:endParaRPr>
          </a:p>
        </p:txBody>
      </p:sp>
      <p:pic>
        <p:nvPicPr>
          <p:cNvPr id="53" name="Afbeelding 2" descr=""/>
          <p:cNvPicPr/>
          <p:nvPr/>
        </p:nvPicPr>
        <p:blipFill>
          <a:blip r:embed="rId1"/>
          <a:stretch/>
        </p:blipFill>
        <p:spPr>
          <a:xfrm>
            <a:off x="1008000" y="246240"/>
            <a:ext cx="7128000" cy="63655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Calibri"/>
              </a:rPr>
              <a:t>Duizeligheid zonder draaigevoel</a:t>
            </a:r>
            <a:endParaRPr b="0" lang="en-US" sz="4400" spc="-1" strike="noStrike">
              <a:solidFill>
                <a:srgbClr val="000000"/>
              </a:solidFill>
              <a:latin typeface="Calibri"/>
            </a:endParaRPr>
          </a:p>
        </p:txBody>
      </p:sp>
      <p:sp>
        <p:nvSpPr>
          <p:cNvPr id="108"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Onzeker gevoel het hoofd en ontstaat geleidelijk.</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000000"/>
                </a:solidFill>
                <a:latin typeface="Calibri"/>
              </a:rPr>
              <a:t>Oorzaken: </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angst, spanning en paniek, ochtendduizeligheid let dan op overmatig alcohol gebruik.</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Tijdelijke aanduiding voor voettekst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898989"/>
                </a:solidFill>
                <a:latin typeface="Calibri"/>
              </a:rPr>
              <a:t>Medische kennis Bouke Cuperu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111" name="Tijdelijke aanduiding voor inhoud 4" descr=""/>
          <p:cNvPicPr/>
          <p:nvPr/>
        </p:nvPicPr>
        <p:blipFill>
          <a:blip r:embed="rId1"/>
          <a:stretch/>
        </p:blipFill>
        <p:spPr>
          <a:xfrm>
            <a:off x="1258920" y="1278000"/>
            <a:ext cx="6842160" cy="5013360"/>
          </a:xfrm>
          <a:prstGeom prst="rect">
            <a:avLst/>
          </a:prstGeom>
          <a:ln w="0">
            <a:noFill/>
          </a:ln>
        </p:spPr>
      </p:pic>
      <p:sp>
        <p:nvSpPr>
          <p:cNvPr id="112" name="Tijdelijke aanduiding voor voettekst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898989"/>
                </a:solidFill>
                <a:latin typeface="Calibri"/>
              </a:rPr>
              <a:t>Medische kennis Bouke Cuperu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Calibri"/>
              </a:rPr>
              <a:t>Acute duizeligheid</a:t>
            </a:r>
            <a:endParaRPr b="0" lang="en-US" sz="4400" spc="-1" strike="noStrike">
              <a:solidFill>
                <a:srgbClr val="000000"/>
              </a:solidFill>
              <a:latin typeface="Calibri"/>
            </a:endParaRPr>
          </a:p>
        </p:txBody>
      </p:sp>
      <p:sp>
        <p:nvSpPr>
          <p:cNvPr id="5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Duizeligheid is het gevoel dat je uit je evenwicht ben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Gevoel van evenwicht wordt bepaald door evenwichtsorgaan en hersene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Duizeligheid met draaigevoel wordt “draaiduizeligheid “ of  “vertigo”</a:t>
            </a:r>
            <a:endParaRPr b="0" lang="en-US" sz="3200" spc="-1" strike="noStrike">
              <a:solidFill>
                <a:srgbClr val="000000"/>
              </a:solidFill>
              <a:latin typeface="Calibri"/>
            </a:endParaRPr>
          </a:p>
        </p:txBody>
      </p:sp>
      <p:sp>
        <p:nvSpPr>
          <p:cNvPr id="56" name="Tijdelijke aanduiding voor voettekst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898989"/>
                </a:solidFill>
                <a:latin typeface="Calibri"/>
              </a:rPr>
              <a:t>Medische kennis Bouke Cuperu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Calibri"/>
              </a:rPr>
              <a:t>Draaiduizeligheid</a:t>
            </a:r>
            <a:endParaRPr b="0" lang="en-US" sz="4400" spc="-1" strike="noStrike">
              <a:solidFill>
                <a:srgbClr val="000000"/>
              </a:solidFill>
              <a:latin typeface="Calibri"/>
            </a:endParaRPr>
          </a:p>
        </p:txBody>
      </p:sp>
      <p:sp>
        <p:nvSpPr>
          <p:cNvPr id="58"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Draaiduizeligheid komt door een verstoring van het evenwichtsorgaan</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000000"/>
                </a:solidFill>
                <a:latin typeface="Calibri"/>
              </a:rPr>
              <a:t>Oorzaken:</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evenwichtsorgaan ontstoken is;</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de buisjes van het evenwichtsorgaan verstopt teveel vloeistof in de buisjes zit;</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de bloedtoevoer naar het evenwichtsorgaan verstoord is. </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Tijdelijke aanduiding voor voettekst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898989"/>
                </a:solidFill>
                <a:latin typeface="Calibri"/>
              </a:rPr>
              <a:t>Medische kennis Bouke Cuperu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Calibri"/>
              </a:rPr>
              <a:t>Draaiduizeligheid</a:t>
            </a:r>
            <a:br>
              <a:rPr sz="4400"/>
            </a:br>
            <a:endParaRPr b="0" lang="en-US" sz="4400" spc="-1" strike="noStrike">
              <a:solidFill>
                <a:srgbClr val="000000"/>
              </a:solidFill>
              <a:latin typeface="Calibri"/>
            </a:endParaRPr>
          </a:p>
        </p:txBody>
      </p:sp>
      <p:sp>
        <p:nvSpPr>
          <p:cNvPr id="61" name=""/>
          <p:cNvSpPr txBox="1"/>
          <p:nvPr/>
        </p:nvSpPr>
        <p:spPr>
          <a:xfrm>
            <a:off x="457200" y="1600200"/>
            <a:ext cx="8229600" cy="4525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000000"/>
                </a:solidFill>
                <a:latin typeface="Calibri"/>
              </a:rPr>
              <a:t>komt voor bij: </a:t>
            </a:r>
            <a:endParaRPr b="0" lang="en-US" sz="4000" spc="-1" strike="noStrike">
              <a:solidFill>
                <a:srgbClr val="000000"/>
              </a:solidFill>
              <a:latin typeface="Calibri"/>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Calibri"/>
              </a:rPr>
              <a:t>BPPD (benigne paroxismale positieduizeligheid), </a:t>
            </a:r>
            <a:endParaRPr b="0" lang="en-US" sz="4000" spc="-1" strike="noStrike">
              <a:solidFill>
                <a:srgbClr val="000000"/>
              </a:solidFill>
              <a:latin typeface="Calibri"/>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Calibri"/>
              </a:rPr>
              <a:t>neuritis vestibularis </a:t>
            </a:r>
            <a:endParaRPr b="0" lang="en-US" sz="4000" spc="-1" strike="noStrike">
              <a:solidFill>
                <a:srgbClr val="000000"/>
              </a:solidFill>
              <a:latin typeface="Calibri"/>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Calibri"/>
              </a:rPr>
              <a:t>ziekte van Ménière.</a:t>
            </a:r>
            <a:endParaRPr b="0" lang="en-US" sz="4000" spc="-1" strike="noStrike">
              <a:solidFill>
                <a:srgbClr val="000000"/>
              </a:solidFill>
              <a:latin typeface="Calibri"/>
            </a:endParaRPr>
          </a:p>
        </p:txBody>
      </p:sp>
      <p:sp>
        <p:nvSpPr>
          <p:cNvPr id="62" name="Tijdelijke aanduiding voor voettekst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898989"/>
                </a:solidFill>
                <a:latin typeface="Calibri"/>
              </a:rPr>
              <a:t>Medische kennis Bouke Cuperu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Calibri"/>
              </a:rPr>
              <a:t>Neuritis vestibularis</a:t>
            </a:r>
            <a:endParaRPr b="0" lang="en-US" sz="4400" spc="-1" strike="noStrike">
              <a:solidFill>
                <a:srgbClr val="000000"/>
              </a:solidFill>
              <a:latin typeface="Calibri"/>
            </a:endParaRPr>
          </a:p>
        </p:txBody>
      </p:sp>
      <p:sp>
        <p:nvSpPr>
          <p:cNvPr id="64"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libri"/>
              </a:rPr>
              <a:t>Bij neuritis vestibularis valt een van de evenwichtsorganen uit.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libri"/>
              </a:rPr>
              <a:t>Daardoor ontstaan heftige draaiduizelingen.</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libri"/>
              </a:rPr>
              <a:t>Tijdens een aanval kunt u niet anders dan bedrust houden.</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libri"/>
              </a:rPr>
              <a:t>Probeer wel zo snel mogelijk weer te gaan bewegen.</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libri"/>
              </a:rPr>
              <a:t>Neuritis vestibularis is meestal binnen een week over.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5" name="Tijdelijke aanduiding voor voettekst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898989"/>
                </a:solidFill>
                <a:latin typeface="Calibri"/>
              </a:rPr>
              <a:t>Medische kennis Bouke Cuperus</a:t>
            </a:r>
            <a:endParaRPr b="0" lang="en-US" sz="1200" spc="-1" strike="noStrike">
              <a:solidFill>
                <a:srgbClr val="000000"/>
              </a:solidFill>
              <a:latin typeface="Arial"/>
            </a:endParaRPr>
          </a:p>
        </p:txBody>
      </p:sp>
      <p:pic>
        <p:nvPicPr>
          <p:cNvPr id="66" name="Picture 2" descr=""/>
          <p:cNvPicPr/>
          <p:nvPr/>
        </p:nvPicPr>
        <p:blipFill>
          <a:blip r:embed="rId1"/>
          <a:stretch/>
        </p:blipFill>
        <p:spPr>
          <a:xfrm>
            <a:off x="6489720" y="4797360"/>
            <a:ext cx="1866960" cy="1656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Calibri"/>
              </a:rPr>
              <a:t>Neuritis vestibularis</a:t>
            </a:r>
            <a:endParaRPr b="0" lang="en-US" sz="4400" spc="-1" strike="noStrike">
              <a:solidFill>
                <a:srgbClr val="000000"/>
              </a:solidFill>
              <a:latin typeface="Calibri"/>
            </a:endParaRPr>
          </a:p>
        </p:txBody>
      </p:sp>
      <p:sp>
        <p:nvSpPr>
          <p:cNvPr id="68"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000000"/>
                </a:solidFill>
                <a:latin typeface="Calibri"/>
              </a:rPr>
              <a:t>Oorzaken: </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verkoudheid / kruisinfecties?</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Komt vaak voor bij patiënten met diabetes en hypertensie</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000000"/>
                </a:solidFill>
                <a:latin typeface="Calibri"/>
              </a:rPr>
              <a:t>Verschijnselen</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Bij deze ziekte bent u een paar dagen heftig draaiduizelig, met bleekheid, misselijkheid en overgeven</a:t>
            </a:r>
            <a:endParaRPr b="0" lang="en-US" sz="3200" spc="-1" strike="noStrike">
              <a:solidFill>
                <a:srgbClr val="000000"/>
              </a:solidFill>
              <a:latin typeface="Calibri"/>
            </a:endParaRPr>
          </a:p>
        </p:txBody>
      </p:sp>
      <p:sp>
        <p:nvSpPr>
          <p:cNvPr id="69" name="Tijdelijke aanduiding voor voettekst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898989"/>
                </a:solidFill>
                <a:latin typeface="Calibri"/>
              </a:rPr>
              <a:t>Medische kennis Bouke Cuperu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Calibri"/>
              </a:rPr>
              <a:t>Neuritis vestibularis</a:t>
            </a:r>
            <a:endParaRPr b="0" lang="en-US" sz="4400" spc="-1" strike="noStrike">
              <a:solidFill>
                <a:srgbClr val="000000"/>
              </a:solidFill>
              <a:latin typeface="Calibri"/>
            </a:endParaRPr>
          </a:p>
        </p:txBody>
      </p:sp>
      <p:sp>
        <p:nvSpPr>
          <p:cNvPr id="71" name=""/>
          <p:cNvSpPr txBox="1"/>
          <p:nvPr/>
        </p:nvSpPr>
        <p:spPr>
          <a:xfrm>
            <a:off x="457200" y="1600200"/>
            <a:ext cx="8229600" cy="4525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Calibri"/>
              </a:rPr>
              <a:t>Advies:</a:t>
            </a:r>
            <a:r>
              <a:rPr b="0" lang="nl-NL" sz="2400" spc="-1" strike="noStrike">
                <a:solidFill>
                  <a:srgbClr val="000000"/>
                </a:solidFill>
                <a:latin typeface="Calibri"/>
              </a:rPr>
              <a:t> bedrust</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Calibri"/>
              </a:rPr>
              <a:t>Behandeling:</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libri"/>
              </a:rPr>
              <a:t>Soms schrijven artsen medicijnen voor bij draaiduizeligheid, zoals cinnarizine, piracetam en flunarizine. Of deze middelen echt helpen is niet bewezen. Het kan zijn dat de klachten hierdoor langer duren.</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libri"/>
              </a:rPr>
              <a:t>Bij misselijkheid en braken helpen middelen als metocloperamide en domperidon. Deze middelen zijn er ook als zetpillen</a:t>
            </a:r>
            <a:endParaRPr b="0" lang="en-US" sz="24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Tijdelijke aanduiding voor voettekst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898989"/>
                </a:solidFill>
                <a:latin typeface="Calibri"/>
              </a:rPr>
              <a:t>Medische kennis Bouke Cuperu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000000"/>
                </a:solidFill>
                <a:latin typeface="Calibri"/>
              </a:rPr>
              <a:t>Benigne Paroxymale positieduizeligheid (BPPD</a:t>
            </a:r>
            <a:r>
              <a:rPr b="1" lang="nl-NL" sz="4400" spc="-1" strike="noStrike">
                <a:solidFill>
                  <a:srgbClr val="000000"/>
                </a:solidFill>
                <a:latin typeface="Calibri"/>
              </a:rPr>
              <a:t>)</a:t>
            </a:r>
            <a:endParaRPr b="0" lang="en-US" sz="4400" spc="-1" strike="noStrike">
              <a:solidFill>
                <a:srgbClr val="000000"/>
              </a:solidFill>
              <a:latin typeface="Calibri"/>
            </a:endParaRPr>
          </a:p>
        </p:txBody>
      </p:sp>
      <p:sp>
        <p:nvSpPr>
          <p:cNvPr id="74" name=""/>
          <p:cNvSpPr txBox="1"/>
          <p:nvPr/>
        </p:nvSpPr>
        <p:spPr>
          <a:xfrm>
            <a:off x="457200" y="1600200"/>
            <a:ext cx="82296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Calibri"/>
              </a:rPr>
              <a:t>Synoniemen</a:t>
            </a: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alibri"/>
              </a:rPr>
              <a:t>Benigne Paroxismale Positie Duizeligheid, Acute draaiduizeligheid</a:t>
            </a:r>
            <a:endParaRPr b="0" lang="en-US" sz="20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Calibri"/>
              </a:rPr>
              <a:t>Beschrijving ziektebeeld</a:t>
            </a: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alibri"/>
              </a:rPr>
              <a:t>BPPD zijn aanvallen van draaiduizeligheid.</a:t>
            </a: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alibri"/>
              </a:rPr>
              <a:t>De aanvallen ontstaan als u uw hoofd beweegt (bijvoorbeeld als u gaat liggen of overeind komt). </a:t>
            </a: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alibri"/>
              </a:rPr>
              <a:t>De ziekte heeft te maken met een probleem in het evenwichtsorgaan. </a:t>
            </a: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alibri"/>
              </a:rPr>
              <a:t>Probeer tijdens een aanval gewoon te blijven doen wat u al deed. </a:t>
            </a: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alibri"/>
              </a:rPr>
              <a:t>De aanvallen gaan meestal binnen vier weken over</a:t>
            </a:r>
            <a:endParaRPr b="0" lang="en-US" sz="20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Tijdelijke aanduiding voor voettekst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898989"/>
                </a:solidFill>
                <a:latin typeface="Calibri"/>
              </a:rPr>
              <a:t>Medische kennis Bouke Cuperu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2-16T16:16:25Z</dcterms:created>
  <dc:creator>3512</dc:creator>
  <dc:description/>
  <dc:language>en-US</dc:language>
  <cp:lastModifiedBy>Uw naam</cp:lastModifiedBy>
  <dcterms:modified xsi:type="dcterms:W3CDTF">2018-01-03T15:22:17Z</dcterms:modified>
  <cp:revision>141</cp:revision>
  <dc:subject/>
  <dc:title>Gehoorstelsel</dc:title>
</cp:coreProperties>
</file>