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A76-703C-4F22-89CE-CE4673ED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920-E62A-4766-AFBE-F97A8516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21B82-A698-4347-BE15-06EBE86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FCF37-92CF-43CC-8048-2354A98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3C5D7-5A05-4C3A-B752-B2B37B62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0C578-2C47-47DA-BE16-390287A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A1383-4E93-4C6E-89CB-FF7A9227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E6B8D-0BEC-4DF7-9776-EC1561C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DE345-E63D-4DFC-BA35-802005D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A5817-4F02-4D25-8494-7A81A4F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89A62-F2BA-4A6A-B30B-6AF82BD8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82DE4-DE0E-4993-A469-3FE857C8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637-E935-434C-A1F0-CBC68388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23FDF-AE2D-4C43-A297-AAA1406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A299A-A9F0-4612-9F69-3C6FE986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81DDE-6058-4C72-ADE1-C8FBDFF8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68FDC-43C8-42C6-9075-78D439D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B88FF-52EF-40C5-AC47-C7409EC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71D93-79F4-4747-8559-6DFCFB3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FD2EF-4A19-4948-A889-0DD79FD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9E18F-196B-46DD-B95B-591428D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CCD3C-0568-49DE-AF8A-9ED2D34D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E6D64-FFD8-4092-B232-165B8EEC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070-EFBE-4B8D-A702-EE9749B5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01772-CF7D-42BE-A277-B63237DB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731B7-9F19-4E4A-AD95-4186A77A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4249-17EE-4C03-B100-F9D9B2EF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71572-E1FA-4008-A697-2C3F98F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3AF41-5CAB-4D65-A1CE-1337FE22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ECFDD-A0C8-48A9-AB73-7E7F89C3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6F358-722B-42C7-9762-F539E497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ACEE0-9DB5-433E-AAF7-F0C1CBB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0AFDA-4A63-4F43-A38F-5EE0667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B688C-143A-45CF-887C-430C173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7D1-AD2B-467B-A9DE-F6586465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72ACE-2730-4E7C-9540-B2954E8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299A5-834F-4816-86CC-937CB369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85BF3-F2F9-455C-AAC5-C067FBC9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7AEF7-1D4E-4167-B0B5-F60D7C83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314E9-20C7-47F0-AAA3-F4EF3D7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0EB44-9E11-449A-9FF9-58C76573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93286-5A57-46E4-9248-E3EE24D6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6A97F-2E83-4F89-84BA-ABE1BB2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C0280-4BEB-487A-8541-49F15869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DEFA5-D84E-4D07-8DDB-AF76D5D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16D2-E4A4-41F8-9E1D-D48795A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32D99-FAD6-4A77-BCE0-DCE3263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A9898-4D3C-4B36-96B3-09AEC26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45B75-0D28-4D1A-938A-20E5DCAD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7354E-485E-4BEF-811B-5364B440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F7EBF-4F99-4F1C-A916-6B42DA10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AF3B-8271-40FF-8CD7-ABD7DF9A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0EEE-2337-4D68-ABA9-5F5DBC0C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7733-78DA-4DAD-B814-31FBF865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20FB-7B59-4283-B246-5E12F03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8F85-4FC8-49DB-B1C0-8CBBDEF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D95-0796-4BF1-927B-3C93B516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5A22-5574-46DD-ACEC-61D48AE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AA48-ED53-403E-946B-A4C81E9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94D-9E5D-4C98-ADBF-7AF590F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1AA0-A8C4-4ED7-AA5D-C066E1AB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6082-1D23-4714-9A6A-957D1EAC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CCA5-D2EE-4B96-83A9-8093B71F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148A-410B-4578-A03F-A1E95E7A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148C-263A-4094-BD9B-D970208A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8463-A6C2-4993-9EEB-5FC1CFE5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0F6F-0244-422C-8995-AF62B73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DAD-9032-4D22-A28E-E07F9B7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B3FF-0E85-4AA3-B123-8CDA292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43F4-7840-4436-A18F-48E02CB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562E-37CC-484B-91D2-49EEF66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57DD-5BCC-439E-9263-F8554AD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3242-7988-4646-843F-9B04C0F1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7C42-7B6D-4BA4-8A69-988B4AAB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5B70-A293-4F6B-B29E-8BE7758B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A9E0-E1F8-49F0-AC7B-AEE32FB8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956B-1604-4E51-A00C-3EC3596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6F6C-F718-4B85-B0C1-9D55359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B9A-63D0-4859-B25B-571CB72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1429-96EB-430F-A7D5-48FC0FA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D929B-21F0-4001-9BEF-EFE382E7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2844-BED5-491E-ACA3-C0593C75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3B36-7D37-482D-8515-2BA0242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4B53-4018-4050-8899-5101018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C070-84F7-4EBE-83F1-43468B2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B249-2800-4FD5-A8D4-72FCC178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F1A7A-7432-4E26-A95C-FA1AC4A0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6D118-99FC-4C9F-9FA1-385A7A71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F493-ABCB-433C-9BA6-78D86DE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906-184C-430C-8DD1-0461AA4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BBAA8-04DC-444B-9BDB-61B286FF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FE00-725E-464B-AF4E-B9912F3B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237B-2400-4AC1-933C-195F93EC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CCB6-EE20-4C43-A59B-8EE9F4B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20F9-AC7D-4A9A-8609-66490D5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5813-F068-45F1-9562-77B983B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14BF9-B3FD-4FF8-948F-8A3C453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290E-1070-4B17-9A9B-7541B77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3310-C314-4D8B-899C-D835641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5423-54BE-4582-A555-DC7990F5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2A6-BEDA-4048-ACFA-1C56CED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935F-B4A1-49B7-B0C6-BF6A8686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22D8E-E404-43B0-A157-162E028E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21D4-7538-4E11-AA1A-C4E36557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1E309-FD48-4864-B769-7DDBCE4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6AA9B-7A8D-4452-9848-6F37DE81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4DCCA-CE98-4581-B011-DEA791B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9FE0A-2C74-4A94-8AFA-0606327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7219A-A3AE-42E5-BCAD-0A77F22B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39F6-84FF-4D2D-AC39-9986028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9F71-8891-47D9-B699-BAC6D8F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040-68C9-478F-BEDF-3C92B72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DADE-85EC-4996-A371-28A7DA3E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3131-14CA-4565-ABEE-09036706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3541-4400-487A-B975-11832067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14A2-AED3-418B-8B12-8379DF4A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E573-369A-4902-926E-37D841B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1C7C-A2B5-4A95-BEB0-E18E580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18F90-860E-4894-8805-E1E51800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7E980-E417-4326-9975-98C94D4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1909-9107-48C1-B75E-B6E398FF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68B2C-DE0C-4392-88D2-52286A9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D7A-BA92-44EA-9905-6782E3E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A5F17-03ED-489C-8CC1-9FDF996E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188A-760C-42CE-950E-499D4A7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3A3DA-6069-4270-9C18-212904EB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A7638-B173-49C4-8496-D78BAAB4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C3361-EA3E-4DD8-A3B2-A17CC3A0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09EB-898E-4AA4-830E-56A1238A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D5D2-38DD-4E46-A275-1AA97E5D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28FA6-306F-4E3B-8837-107E2D3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A20C7-0CD8-415A-8B9F-E49E6BAB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4A7DA-D49C-4F95-BEB1-24BCEF33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423-2168-4549-83BE-2DD6118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9337D-57C6-4DB1-ADA8-B18E956D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8770C-E43C-48FD-9C6A-5ABD28C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78A1-E54F-44D2-A76B-B672128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98CBA-4BDB-454F-B2ED-3D7FF15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6F1DE-2745-49DB-B4A7-5499FCF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C30D7-21DC-43FE-91F8-0DB73A40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ABC41-4404-4DFE-9CD4-9C8C1AB3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51BA8-0C73-41FB-92C8-452FDF12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B81CD-3655-472E-82C4-B217F9F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203F1-CA1A-46C2-B44F-190BECB4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1A9A-F35C-404F-963C-5F4DBC77D56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6F3E-A096-4F0A-930F-DAF86C6CD98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45F-5639-466D-8B25-4273ADC0870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29DB-49DA-4FB5-A972-27DF875CAE3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714B-63E6-42EE-81E7-942FFBDEBC7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20E-F2B9-4299-A271-C594C625EE0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C83-9EE9-4932-B50E-1D7CC8F246D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35BD-F509-43B1-A02D-6CEC9B9193C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15A-9C1B-4549-BA1C-BDF5DC286D8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0E0F-C862-467F-83A4-E9623A5FA4F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B394-BC42-4A5B-BE50-CA8DB97BDE39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6515-8367-450B-B540-B79C85C64C2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NLEI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BIJGESTELD 5-10-201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Infectieziekt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en medicijnen (causaa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=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timycotica b.v. miconazol, ketoconaz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ystatine: alleen werkzaam bij inf. slijm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liezen bv : vaginaal en luieruitsla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andida – vaginitis/spruw, zwemmerseczeem, sommige huideczemen, ro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Protozoa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der microscoop herkenbaar aan zweepdraadj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cell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inig voorkomend als ziekteverwek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ra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trichomonas vaginalis,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giardia lamblia (diarre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atie (Flagy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Filmp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Rechthoek 2"/>
          <p:cNvSpPr/>
          <p:nvPr/>
        </p:nvSpPr>
        <p:spPr>
          <a:xfrm>
            <a:off x="2286000" y="3105000"/>
            <a:ext cx="55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Hs7qyfmtEW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uperinfectie: herbesmetting/over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Wat kun je er aan doen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46b86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dodend= bactericid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Bacteriegroei remmend= bacteriostatisch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ystitis (blaasontsteking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yelonefritis (nierbekkenontste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neumonie (longontstekin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urunkel (steenpuis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ysipelas (wondroo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etanus/bacterie=dr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7b9899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el lymfo’s = lymfocyt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Uw naam</cp:lastModifiedBy>
  <dcterms:modified xsi:type="dcterms:W3CDTF">2017-10-05T07:22:12Z</dcterms:modified>
  <cp:revision>41</cp:revision>
  <dc:subject/>
  <dc:title>infectieziekten</dc:title>
</cp:coreProperties>
</file>