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43D-9BD0-4089-9B58-DA43C6EE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CC9-ED0B-4E64-8133-899032A8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6F425-6832-40ED-A6FF-31F75140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41C8B-0E48-4C7D-B2B8-EDB748FF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6BFC3-84A8-4D53-A3CE-178EB701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E8505-1A71-4198-901F-44BF7330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F7549-788A-4079-8B1E-A3E0643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508E8-37AC-4FD6-B3D4-9086A009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7E071-5E19-4643-80DE-54131905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78BA8-0343-4BE5-98BD-E476E21E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ABA70-DF2C-4210-B6BD-1A92181B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186E9-97FB-4402-BC08-90514BEB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DFB-155F-4B00-8404-B049A9F7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052CC-5381-4438-8580-71C17863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E509B-1063-4D48-9951-2EBAEB48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86538-5560-49B8-8802-BB7B3346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7BC3E-9400-4F31-9C5B-B765AAC5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F392B-3D97-459C-97DA-A2AE8689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15F94E-0963-454D-889C-0B676EF4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06C58-D10F-4BD5-9E76-F8673C48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FDA67-5D46-4B0E-BDC4-61313CE4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D2BD9-161F-4644-80E6-3078326C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955A6-ACD8-4093-8F86-637E172E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72C-DD6B-4A15-BAD4-F8F6F358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5FE20-EA18-478E-9ACD-D47D99CA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FEBBF-1FC6-4282-9A8B-BF677F84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EFA6F-B4F6-48DA-8279-4E7AB72D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7432F-7AF0-4278-BAFE-2801F537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53D79-BC03-494F-A13C-45D3F4B2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F7BC0-B8EF-4830-B3D9-5F14DC4F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714DA-FAF3-4796-AA79-40099E95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D98ED-582F-4112-A37E-B95FC2DE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04227-BFD6-4237-BEFC-36B03F8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6142D-F7B5-41C7-807A-F5F90CF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11B8-BE1F-453F-9531-6B1AFA3E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32D8D-5E7C-4DDE-BB6A-78B2EF0B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65309-07AB-421C-B180-DF0EFAA6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C7E06-77FA-4B5A-A255-13150108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F2F9F-A18D-4D17-92C7-9F699219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BD2FA-6179-418F-83B4-2ABACD35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2FA1C-7C6A-4101-9AD7-1DAA9936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B9BB2-E715-4729-9035-F591BA60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E006F-8FA5-41C1-BC8E-C67950AA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BA805-15E3-47F5-93E6-C18AA9C0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374A9-FB20-464E-917B-EB347631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2FA7-7C1D-423F-9C59-DCAC6848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84FC3-60B1-4F53-8B93-E6679F70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EA317-7222-4973-A3A1-8AFDC9EA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BD087-058F-44E2-B6B4-389305EB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B28AE-7CEC-4522-8461-3125B190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F8EEF-D67E-4BDA-AD3F-14ED63A9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AAB1-6914-4A07-ADC1-706EB526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98E1-EF7C-46B2-8514-749E27B6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071F-F052-4003-90A6-7E5ED847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A979-FF3B-43F0-B537-6989BE5E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8B02-1479-4420-A5AC-B52CC841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D9B-EEF8-43C8-8629-5476B448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D25B-BD19-474E-914B-C040C906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39EF-DF40-48B9-A732-C5DBBC9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EF95-421B-479D-A4AF-C1B8C34B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FC33-7DC5-4027-9C43-8A59ECB3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ADBB-1567-4DC3-B11F-E99931DC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7408-E85A-4951-9BAB-45D2F423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0FEE-FC26-4FA7-9B15-F0F3F2FC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0C66-F475-4338-8430-5BC4196B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873A-15BC-417D-ADE2-B4308A60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EF68-D077-4B2A-AF17-A72A8FC8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04A-C3A8-4087-945F-CE772583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8632-0568-48DB-A7D2-9CC2CF23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3A75-3BAC-416A-AAD5-9B7E87B4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087E-8DFC-420A-B9F0-F7C47FED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725D0-F068-40A2-8494-0BA8BF2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8A5E-E948-4D04-B461-158EC1BE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40F34-C132-4E93-ACB9-34203E97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0C339-B146-4EA7-B475-2C237C75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E14DC-5F77-4C14-B54C-75CB0D12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4D0F5-7F6D-4B4A-9A81-65C06CF5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0DADC-B3FF-424E-8566-1C16197E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D58-9A75-45C9-AA0E-148E9E09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327D8-5788-4673-BB91-4D6B2275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707D-2742-44B9-BB2D-3D4D4CD8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69386-6C7D-44F7-BB57-B448317B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DDD34-CB9D-48E9-B7DD-BC54A9FE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FB50-8158-4371-8CA1-056BAA7D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185E7-5A5B-4CAC-82F0-D77A2AE5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7A020-1E57-4736-BCCD-1444E538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6B46-557F-4203-B721-9279D6C4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175C9-3374-4223-A6DE-E2065700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E0852-81F4-4797-9339-9B0D6D2F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603-46C4-43E0-9197-78405E1E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6E7C2-DCA8-4276-9FE5-90600507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5FD50-8AF6-4121-84B5-C5EFDD07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7AE90-8734-4FA8-8869-7869A7F1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5F21D-F33D-47A4-8422-E49CE764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A58AD-92DB-434E-8A56-315B484B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67682-CC3C-4CFA-BA9F-6E977461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6BD11-27CD-4BBF-AA82-FEA7E611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9C5DA-0E23-41D7-B298-970D9B78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E55C6-54E9-476B-A0C1-43272E08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813A5-3587-4020-A3CF-C7B1DAC3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924-F9DE-41A1-9470-7E4AEFD8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3A5B6-0E6D-4704-9A98-ABF2DD90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20ADB-F589-493A-9F29-C2008B4D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EDBDC-6F52-45AE-9714-44CB84C6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973C5-53B7-495B-AA7D-443213D6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FE88C-9AD9-42CA-933E-831B841E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5793-17D1-4B05-8BD0-7C1BFBA0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5F70-8000-4F0E-80E9-D9839ADC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873F7-10ED-43FD-A480-1A8730D7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A7DC0-C76F-485E-8DA0-59643032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49393-16AB-484C-9C5F-A67A6FD9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AFB-754E-4206-8905-83827DDA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4F534-7EEF-4995-885A-7E42EC39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DFD2B-B70D-4BFD-9104-2B2E570A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7A94A-C6DF-48D7-B54E-2FE901B4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0E5E7-6F48-445D-B8CF-1BAEBAF5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E0AD6-928F-47F4-B142-43005A36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01665-4A89-48D3-A4C8-7180AA7B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489F9-F584-406C-A0F8-BA1CD6FF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C9990-A49E-4602-9A74-128CB6FA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8E655-4C0B-42BF-A714-5993EF1D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89178-9DED-4426-85B0-07151FE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B70-CC04-487A-BD33-8434CF50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F561E-28EA-4C8D-9E05-BA29C7DA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85820-0C76-416D-B61A-8A85E641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1E2CF-C18B-4C94-8E83-2550F6FE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22016-5A57-4A19-BA24-37266678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7C44A-B63A-4A2F-B2E4-4BD137DA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C0606-2609-439E-92B0-DC3DC9E5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C5A9F-3595-457C-A765-781139B2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52120-EBEA-4E96-83D4-BF2A4A9D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AFC12-6692-4DA0-B42E-3311BCB3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BDDBB-19F1-495F-AEF3-98EE47FD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5F9-2359-4B7E-A80A-318D32C0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A4255-CA66-469A-A435-A795EB7E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0B611-BD2E-4F16-B163-94B58C8D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8061D-4A7B-42EF-B2D6-E47A46FB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BFE53-9715-4C92-9989-CBB570CE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67C56-88CD-4378-BE13-E87B46BD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C1003-8EEE-4993-B40C-9B8E6809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EEFBE-D8B7-4070-825D-41F5AA5B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01D42-108C-4953-A13F-268EBF3D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D2D14-9DC2-4EEC-B59C-807B0862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A3758-CC6D-4F13-89DE-99ABACA1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98E5-AC3B-47DB-A57A-9BF1148786E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7526-C501-4A0E-8B74-BEA6139BC0A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6D60-CB04-4400-8C40-1ACF556BBBF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BB9E-94AC-4B0C-99EB-FBCAF78901B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18AA-B60F-4195-AAF6-A5ABBD34231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CB88-B6D1-4AA5-807B-477AC1E0DA5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5682-A016-4452-9226-3E4F9A60E4CA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7FA8-60C6-46F2-997B-A8E48D5842C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EF02-FB8C-4CB9-85A8-24C28A5A31BA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1E5C-10A1-4991-9FFC-A087832D250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4546-5F30-4EF2-A681-554C86D5B0F9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D4BA-BC3F-4042-8914-151D5C8592D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INLEID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BIJGESTELD 5-10-2017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Infectieziekte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7b9899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en medicijnen (causaa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=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ntimycotica b.v. miconazol, ketoconaz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ystatine: alleen werkzaam bij inf. slijm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liezen bv : vaginaal en luieruitsla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candida – vaginitis/spruw, zwemmerseczeem, sommige huideczemen, ro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Protozoa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der microscoop herkenbaar aan zweepdraadj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celli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inig voorkomend als ziekteverwekk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O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ra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trichomonas vaginalis,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giardia lamblia (diarre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atie (Flagy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Filmpj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Rechthoek 2"/>
          <p:cNvSpPr/>
          <p:nvPr/>
        </p:nvSpPr>
        <p:spPr>
          <a:xfrm>
            <a:off x="2286000" y="3105000"/>
            <a:ext cx="55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Hs7qyfmtEW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uperinfectie: herbesmetting/over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Wat kun je er aan doen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Bacteriedodend= bactericide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Bacteriegroei remmend= bacteriostatisch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ystitis (blaasontsteking)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yelonefritis (nierbekkenontsteking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neumonie (longontsteking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urunkel (steenpuis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rysipelas (wondroo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etanus/bacterie=drag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el lymfo’s = lymfocyt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Uw naam</cp:lastModifiedBy>
  <dcterms:modified xsi:type="dcterms:W3CDTF">2017-10-05T07:22:12Z</dcterms:modified>
  <cp:revision>41</cp:revision>
  <dc:subject/>
  <dc:title>infectieziekten</dc:title>
</cp:coreProperties>
</file>