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B39-F78E-4B88-83BC-B79C84BA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A54-BBA2-45D0-8A17-EC72CE21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023C8-708C-46EA-A76E-FD77FA82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DE3D8-DC43-4C64-BE89-12B7285D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778B6-3FA8-471A-97D3-79222A87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79E8A-A8BF-48A5-8596-447F51BB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C5E51-FC39-4706-8DDF-1E71D441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88232-686B-4E67-8B77-40B5EBA3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A9AF9-4579-4074-9F68-CC22A054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84083-1D27-445E-8609-783B360B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5EAF8-96AF-4C84-B193-67C16DC8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DA02C-9BED-41BC-B774-6B270DC4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572-D5FA-44E3-9404-22ED3466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3E6EA-648A-4BD3-AC17-E8ED62F4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D8C41-2B2A-435E-A1F1-6FDF318F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8B1A9-F6C2-450D-BB7F-77000001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853D2-2471-41B5-825D-F85E3913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70703-5B48-467A-9855-CEF4B4BB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FBD6F-A316-488F-95A4-0A250E4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0ED95-E681-42F6-A539-CFF21035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BBCC5-E697-47FE-9241-A1803519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503F7-2BF7-4BAB-A202-C5F22477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6A383-7079-4651-A7FC-E0E9E2C4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479-D933-418E-95C6-1C3DD8EE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6205B-9866-4672-83B1-19CC84E7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9119A-9421-44C2-A2AC-1430058D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9DD63-ACC9-471C-A106-5BD97C5B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B088C-DBF3-4D24-BF90-4D713732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9053B-F555-48C3-BEA5-0D68F8B4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7DD48-E3DA-4DE7-B46D-B141C878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5A389-F623-4597-A871-FA51EAD5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940C6-5D86-4EB7-8E46-64CCB550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F76A3-E574-4D95-AB52-789471DF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F3717-3E83-4D93-BA89-1F4982A0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819D-D898-479B-952B-A35E0FE6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A3A3E-DB79-478F-9DBC-6C8FA926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D9889-486B-4DFF-B8BB-B9D80005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A8D78-D13E-4A91-A199-4DB3A76A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840E0-88E4-4FFD-96FB-36E06704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5D230-F854-4AB7-BB58-A9A598B7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0671E-FA9F-4A73-A082-0605AB8A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33010-B1E6-4BF1-A956-560C1252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DF630-DECA-40EE-A6E1-EA87E488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E776F-8D05-4B34-A91D-0FE0E5A7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F9403-54D4-46A8-A614-95B087D3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7A49-6043-4C10-8D7F-44DF443C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ADCD6-26F9-46F6-BAFE-0E44FD0A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47223-ABF5-4864-9DBD-DCC0E417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AF038-CB88-4F5A-87CC-5B9B9347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EEA65-840F-4C82-8568-CD72127E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0F162-20D9-4539-9E4E-09AA7084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538AD-AB78-499D-AEF2-1DEC455D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71829-C78E-4F64-B7D1-27CB2ACE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21053-B50E-489D-B17B-85CDA84F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8ABE9-68B3-47C3-BA3C-B24D9C59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10F04-7EFD-467D-BEBF-F9D8791D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14DE-0421-4E15-ACAB-0F85E6F2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719FF-10CD-4CF0-82AA-273BB0E6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7804D-1548-4220-ADEA-2A543B27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343BD-BBA4-4FE8-A3A4-7AC5C092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CC4E5-DAE9-44FD-B5B3-82D51A47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8B4F6-BA34-4403-A539-48B31E0B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BDD43-9924-4011-BEAB-B819B918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03EF4-3686-4E7E-8C8F-F1815422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830B-4DF4-4746-9640-949A343E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CD2F-3E09-4123-A755-DC4DDC2B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64D5-1FE1-4141-93A2-8D2B0E8E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84F2-8B77-4DC7-88A5-A112D9BE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B68-EC0D-490B-B49A-42931DA7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ED94-66DA-47BA-8DE1-5D6EE3F7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07C6-A421-4B53-92CA-05EED1DA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0DF5-40B6-4440-A7F5-B81FFF06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2590-9FF6-4534-876F-D9BDC74D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76C8-8944-483B-899C-982A19A7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17D3-D8C8-4F02-B8DD-98908B4D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9196-6134-47DE-9929-8A1E5857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78A43-D8BF-430D-9383-2925E165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21C4-F6B2-4416-B07D-AB79AC25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BB67-9A95-42EE-82C0-BA96FE82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3FD-D1CD-4C43-9EE6-989827AF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3EE10-17E0-43D6-AD76-359E021D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AC52-2FAC-43BD-94CA-4694D12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4568-5198-4A8B-84F3-C5F9950D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18573-136B-4B31-BD4A-8774A020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132C-CBAB-4B99-83E0-E49746FC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146F6-4562-4A2C-834B-3915DF3C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F3AD-C4EF-4733-A452-7CC70EA8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8CD96-51AF-4308-BF1A-0D6054DF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7D1F-6882-4BCC-AF00-7C2B8C31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F8474-3CF3-40B5-B086-4DC862D3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C35-10A0-4CB4-B28D-23CE7DEA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B86ED-2D19-47E8-9F65-6993AD68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9193C-401E-4483-9A05-B93C5C6F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385C0-1ACB-4284-9A51-DBE57CDD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6033-9A42-4D45-B6A6-8DA52336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7600-A77B-4686-997F-F2B43DE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D21C-4C94-422D-AC60-BC76C670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8628-BDB8-4C79-A5F4-8A40ACDC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F12D-E3E5-46DC-9123-99451B0A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3A6DE-1C8B-447E-9A56-B7F07AB6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43C2B-BC15-4064-A79C-EBB19F40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BB1-CAF7-4C0F-B8AB-432BD4DB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0BBFC-FCAC-4144-B51A-9D4C1A3B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F0E07-C039-499E-9F89-E337EA55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1AC6E-8E3F-4FA9-846A-A6316593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BAD0D-F2E1-4A9E-97FC-7A13E9B6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C09E0-4303-4BAE-9336-1B4F9263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EBA15-BFFA-46CB-9A7F-BC58AA59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AB8A8-D7D2-451C-BAB4-4BAC33EC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C9A40-B210-4844-9BBE-DEB245E8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EF693-F91D-4F50-9569-EA6DBEC4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41968-CA57-445D-8B84-248DC5A5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48F-791B-4A35-B3A3-D5FCF170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1E87F-AD1B-49C9-8987-C2B36FCE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3BBFA-0519-4B2B-8002-EC181769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B2A73-9FAC-426A-9B07-ACC1AF5D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A52B5-ACF8-4324-B355-C124370E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01421-B81D-497D-9F3A-506F7722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6076B-8C7E-4E6F-BA94-4B2DDDC9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43E0-C5FC-40C4-93E0-53BDF345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AA752-2017-46A5-8999-F703154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C4398-D250-4D15-A8EB-4F29F8C0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C2D0B-A668-4C5F-BC4C-3463F119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170-341B-4C6D-B6A5-3EC8E57F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8C11F-0F68-4443-8D54-B85F7929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B2D74-321E-4298-B0E1-4725B947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AEA6D-9259-42B1-9A30-43595C08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9F57C-0576-4F86-B0CF-926ADBBD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67AEF-9280-4162-8AF0-9B67D346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6BD28-9C21-436C-8E49-69984CAA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BA813-19DB-416F-AAE6-514AB01E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CAA12-5872-40D1-8E89-3F07D1C3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B6015-3BEC-4650-9FDB-D0E6CFFE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3C7EF-143E-4F91-AD18-4A23398B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CE6-A8E3-40B3-8521-D7242C1C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D0E69-2515-49B0-8A31-1BE142EA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7A845-A3A7-409E-8C2F-A2615541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C3600-6707-4617-BF53-2AEF98BF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6CA77-D583-4648-B4E8-C090162F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F33AB-01C1-4FC4-A28A-88CE1A9E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EA05A-ABFE-4D1D-B9F2-A7E42F96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AE4A7-0763-495C-88A4-A126C294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CC127-A4F9-4572-BF42-9752A5BD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B049C-B24A-4A92-BBAB-239AC706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A058C-5F98-4D5B-ABEF-92D95138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4DF-0DEC-480E-92D7-70A702AF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2A816-5D50-4507-949A-249876B5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4E520-8D86-4749-ABDC-F43EA038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BD918-A39D-4C34-BB4A-FC6B1128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ADC73-8CE5-44AA-A4A7-B89924FC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57FCD-7FEB-4757-9266-FC560A09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FB61A-A303-42EC-869F-C1098E55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8476C-96E8-43C1-948F-D5ADE9DB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B4612-A6FD-40D4-BCD0-89AF71F1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6E6F5-9BC2-4AD5-AC6E-4A12CD9F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D9E08-360C-473F-82E2-98F54EB3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FCF2-FC6F-47B3-B337-5D20E882FE38}" type="slidenum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EA34-A061-4B69-A0FC-59505B82038D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3D4B-A9AD-4448-9D0A-38DDADBE5575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E1C0-B6C1-4C7B-B8B6-3784ECEA61A4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F061-4FD5-4E16-8D24-C1ADAE6DDD5D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BD29-7D1E-433F-BF39-21D64E9E2F85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1D0B-D8B9-406A-87BF-00087F42219B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7DEA-554F-4BCC-80A1-B03593A33CA3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5C34-6FF2-46D2-A3BD-4740231E5751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FC09-A6C9-40CB-93AC-A2A713707F87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A034-1CBC-406E-8F3B-6CBF6DEB582A}" type="datetime"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EFAD-BB48-44FF-83AF-42BF16EE61F7}" type="slidenum"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7084-A250-4C67-A54F-5DD2FFF23941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E93C-21E5-438C-A3CC-4B2399972344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176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>
              <a:off x="655560" y="0"/>
              <a:ext cx="123516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A4C4-E64C-4A59-9424-D4E77E2E710E}" type="datetime"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537D-4E15-415C-B673-8BBA16151809}" type="slidenum"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4830-7361-4766-91F0-B609D65D0622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A71A-A9F0-43BD-9D72-6F3CDEB1EDB6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9818-584B-4046-B33F-6D9BC4A6F6BC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7B24-E413-4990-87B1-265740720E2F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CAC3-6407-40C7-A418-62F2B73D2A05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2FCD-B47F-440D-B11F-0284B866F6F0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C243-EEB6-44EB-9AC3-8BC91BBFFDA2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2B0F-D71C-46D8-A555-628837EFB5A8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otheek.nl/" TargetMode="External"/><Relationship Id="rId2" Type="http://schemas.openxmlformats.org/officeDocument/2006/relationships/hyperlink" Target="http://www.fk.cvz.nl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76360" y="1122120"/>
            <a:ext cx="652464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5400" spc="-1" strike="noStrike">
                <a:solidFill>
                  <a:srgbClr val="2a1a00"/>
                </a:solidFill>
                <a:latin typeface="Impact"/>
              </a:rPr>
              <a:t>INTRO GEZONDHEID </a:t>
            </a:r>
            <a:r>
              <a:rPr b="0" lang="nl-NL" sz="5400" spc="-1" strike="noStrike">
                <a:solidFill>
                  <a:srgbClr val="2a1a00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2176560" y="3716280"/>
            <a:ext cx="47908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500" spc="-1" strike="noStrike">
                <a:solidFill>
                  <a:srgbClr val="2a1a00"/>
                </a:solidFill>
                <a:latin typeface="Verdana"/>
                <a:ea typeface="Verdana"/>
              </a:rPr>
              <a:t>LEERFASE 1 PERIODE 1  BOL</a:t>
            </a: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DOCENT 1 BOUKE CUPERUS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LES 1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73" name="Tijdelijke aanduiding voor voettekst 4"/>
          <p:cNvSpPr/>
          <p:nvPr/>
        </p:nvSpPr>
        <p:spPr>
          <a:xfrm>
            <a:off x="1143000" y="4869000"/>
            <a:ext cx="694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Noorderpoort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lang="nl-NL" sz="1200" spc="-1" strike="noStrike">
                <a:solidFill>
                  <a:srgbClr val="ff0000"/>
                </a:solidFill>
                <a:latin typeface="Verdana"/>
                <a:ea typeface="Verdana"/>
              </a:rPr>
              <a:t>Medische Kenni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ijdelijke aanduiding voor dianummer 5"/>
          <p:cNvSpPr/>
          <p:nvPr/>
        </p:nvSpPr>
        <p:spPr>
          <a:xfrm>
            <a:off x="680076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F080B2E-2309-4171-9023-D906D8E5549B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395280" y="40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Objectief / subject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e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aseerd op f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iker in de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roken vingerkoo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ie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et gebaseerd op feiten maar op gevo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Objectief en subject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mand die in de put z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ef gezond, subjectief z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mand die astma heeft  ‘ík ben gezon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ef ziek, maar subjectief gez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468360" y="404640"/>
            <a:ext cx="822960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leinste onderdeel van een organisme bevat alle genetische informat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efs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samenhangende cellen met dezelfde vorm en functie (dekweefsel, steunweef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samenwerkende weefsels (b.v. har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anstels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organen die samen 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Afbeelding 1" descr=""/>
          <p:cNvPicPr/>
          <p:nvPr/>
        </p:nvPicPr>
        <p:blipFill>
          <a:blip r:embed="rId1"/>
          <a:stretch/>
        </p:blipFill>
        <p:spPr>
          <a:xfrm>
            <a:off x="3935520" y="1484280"/>
            <a:ext cx="2166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Afbeelding 1" descr=""/>
          <p:cNvPicPr/>
          <p:nvPr/>
        </p:nvPicPr>
        <p:blipFill>
          <a:blip r:embed="rId1"/>
          <a:stretch/>
        </p:blipFill>
        <p:spPr>
          <a:xfrm>
            <a:off x="700200" y="907920"/>
            <a:ext cx="774360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Afbeelding 1" descr=""/>
          <p:cNvPicPr/>
          <p:nvPr/>
        </p:nvPicPr>
        <p:blipFill>
          <a:blip r:embed="rId1"/>
          <a:stretch/>
        </p:blipFill>
        <p:spPr>
          <a:xfrm>
            <a:off x="826920" y="541440"/>
            <a:ext cx="769968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oktersassisten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oktersassistent mo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mpetent zijn op het gebied va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eve vaardigh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disch-technische vaardigh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nnis hebben van en inzicht hebben in acute en chronische aandoeningen inclusief kennis van de bijbehorende medicij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Geneesmiddelenkennis voor doktersassistent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est gebruikte geneesmidd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tijd vanuit het beroep van 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1"/>
              </a:rPr>
              <a:t>www.apotheek.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ruik Farmacotherapeutisch Kom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ruik FK op internet: </a:t>
            </a:r>
            <a:r>
              <a:rPr b="0" lang="nl-NL" sz="24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2"/>
              </a:rPr>
              <a:t>www.fk.cvz.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468360" y="404640"/>
            <a:ext cx="822960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E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ief: welke klachten heeft de pati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ief: wat is er bij onderzoek gevo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ie: klacht- / ziektediagnose/ en I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: Wat gaat er gebeuren; advies, th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IC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De International Classification of Primary Care (ICPC) is in Nederland geaccepteerd als standaard voor coderen en classificeren van klachten, symptomen en aandoeningen in de huisartspraktijk. In Nederland gebruiken huisartsen de ICPC-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https://www.nhg.org/themas/artikelen/icpc-on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65200" y="365040"/>
            <a:ext cx="7950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Leerdoele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Rechthoek 4"/>
          <p:cNvSpPr/>
          <p:nvPr/>
        </p:nvSpPr>
        <p:spPr>
          <a:xfrm>
            <a:off x="565200" y="2133720"/>
            <a:ext cx="857880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 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 je uitleggen dat gezondheid ook je eigen verantwoordelijkhei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et je dat de sociale media jouw kijk op gezondheid en ziekte kan beïnvlo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je voorbeelden van objectieve en subjectieve beleving van gezondheid benoe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et je dat gedrag en leefstijl invloed kan hebben op 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je de begrippen cellen, weefsels en organen beschrij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4500" spc="-1" strike="noStrike">
                <a:solidFill>
                  <a:srgbClr val="000000"/>
                </a:solidFill>
                <a:latin typeface="Arial"/>
                <a:ea typeface="Arial"/>
              </a:rPr>
              <a:t>Gezondheid &amp; </a:t>
            </a:r>
            <a:br>
              <a:rPr sz="4500"/>
            </a:br>
            <a:r>
              <a:rPr b="1" lang="nl-NL" sz="4500" spc="-1" strike="noStrike">
                <a:solidFill>
                  <a:srgbClr val="000000"/>
                </a:solidFill>
                <a:latin typeface="Arial"/>
                <a:ea typeface="Arial"/>
              </a:rPr>
              <a:t>gezond gedrag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331640" y="3860280"/>
            <a:ext cx="71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Wat is dat eigenlijk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chrijf eens een definitie op van </a:t>
            </a:r>
            <a:r>
              <a:rPr b="0" i="1" lang="nl-NL" sz="2200" spc="-1" strike="noStrike">
                <a:solidFill>
                  <a:srgbClr val="954f72"/>
                </a:solidFill>
                <a:latin typeface="Calibri"/>
              </a:rPr>
              <a:t>gezondhei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n je zelf ook verantwoordelijk voor je eigen gezondheid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Gezondheid &amp; ziekt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0" name="Onlinemedia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611280" y="981000"/>
            <a:ext cx="799308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O: (World Health Organis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zondheid is niet alleen de afwezigheid van ziek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ar een toestand van volkomen lichamelijk, geesteli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 maatschappelijk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ullie mening over deze definit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4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608040" y="817560"/>
            <a:ext cx="799308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de Defenitie voldoet niet me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idige Definitie van Gezond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zondheid is dynamisch: stelt veerkracht en zelfregie centr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4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324000" y="158760"/>
            <a:ext cx="8362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  <a:ea typeface="Arial"/>
              </a:rPr>
              <a:t>Gezondheid: ingewikkeld beg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zondheid(sbeleving)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ur (afrika, Islam /  Wat is normaal? Kaalheid, homoseksualiteit, zwangere vrouwen van middelbare leef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voeding (waarden en nor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d waarin je leeft (opa en 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onlijk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t heb je ervoor over (hoe gezond wil je lev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Ziekte is niet objectief te beantwoor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57200" y="1600200"/>
            <a:ext cx="8507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Gezondheidsbevorderende facto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voedingstoe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bereikbaarheid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wikkeling wetenschap / verbreiding ke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>
            <a:off x="395280" y="404640"/>
            <a:ext cx="8748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563c1"/>
                </a:solidFill>
                <a:latin typeface="Arial"/>
                <a:ea typeface="Arial"/>
              </a:rPr>
              <a:t>Gezondheids bedreigende fact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keerde voedingsgewoo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ei industrie – milieuvervu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rn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rek aan lichaams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veilige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3:52:14Z</dcterms:created>
  <dc:creator>vredelust</dc:creator>
  <dc:description/>
  <dc:language>en-US</dc:language>
  <cp:lastModifiedBy>Bouke Cuperus</cp:lastModifiedBy>
  <dcterms:modified xsi:type="dcterms:W3CDTF">2020-09-04T13:28:46Z</dcterms:modified>
  <cp:revision>54</cp:revision>
  <dc:subject/>
  <dc:title>Gezondheid en gezond gedrag</dc:title>
</cp:coreProperties>
</file>