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8F42-DCB4-4C85-A0AA-80DFF3E79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4CB1-6960-47F4-A795-2CC22E7C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36C4A4-9D54-4917-8C63-28143C44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1C6315-A92D-4BA3-A8D2-838D46FC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F59B26-3396-4FF7-9B4E-13FB09AE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D14A85-18DF-4E3B-832D-E8CE6934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D3E1BD-7FED-4E22-BD9F-4DB094CF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08F1C4-FDEA-4A6C-9090-9A2E318D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9D2F25-F406-4CBC-8029-1B6DA34B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EF7E56-B4F0-4932-BA79-FA3E0A768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5B7C67-9A16-4636-AB5C-C60BD9974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2401B7-1892-432E-B2BD-312A3E16A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82F9-C1D1-4810-B8E8-8605CFC27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610B35-677E-412C-9E5A-82FA4DC1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7815BC-1713-48B2-BC89-F86AF8C2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A6B1D0-37B5-40C4-BDFD-D4C69393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73BA1B-1120-40AE-8DAB-327BF612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08D80B-A9C7-42B4-AC5C-C83BD117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7722E9-2DBC-4D1E-AE6E-58490C9F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74E92F-3F44-4702-98C1-FD903D35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EFD0C8-0396-4B5D-878D-E9B62B14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DD1756-EDBE-4DA2-B625-F289FE08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A1F9E3-49AB-435C-8899-A1795F5EA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AE03-B73C-4498-960A-729CC9B14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507866-15F7-4DFB-9170-6DD6DB29E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9229F6-93EB-47BA-86F4-4BF2C413B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1B0122-1934-43CC-9324-75131EF0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8063E2-ACA9-442C-8CF8-987C9FCD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0EAD5C-6A87-4AB2-B6F6-36219FF4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954DD4-F04D-47F8-B880-C3B56BB2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D4785D-0E35-4962-91DF-8E30DB46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3B0E6B-EC0F-4DF9-9EA4-CCFE34C2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53EE6C-2BF4-4098-B8BF-90E283C3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056C48-981C-4DA8-BBBD-37E97972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7785-EB0E-45C5-9426-60559F39C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B7E1A-9CB3-4D14-B844-AAAB2230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0D25A-4D74-4D0D-8ADE-5E3B8ABF3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E258E-7032-4CB6-8E7C-E33C7C140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49B14F-133A-4652-A14A-8BB042AB5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28AF9F-0DED-496A-A3D4-61BCF20A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975756-11D3-489A-875D-4BBBF063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F895D4-CBAB-43EC-ADC9-43963F37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6450F9-BE10-4BC7-9591-D21DD15B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765C27-DA69-4D9F-AF7E-A2F43175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D4C489-4323-4E5C-862E-3F210729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4929-4995-4318-99AD-0A3D2E93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24063D-BC34-469F-A0DC-F494515B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FD6651-EAE3-49E3-B447-F213E593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CC8F89-362F-4EFE-B473-5FA2ADFD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4E0DB5-A31E-4CBB-A745-8EBA93FAD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A849BF-9FC9-4BFD-B8B6-B7B6C349E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4EFC-67F7-4F1F-B4EE-9F5CC767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444E-ED9F-4563-9FA4-FDBBD6A0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1874F-697B-45E7-89DD-8D5EC8CD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A2C7-D34C-4738-9A49-E8672D52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8E97-8D30-47E6-A4DC-8F9A9EB6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8EE7-51D9-4F8F-86EF-A2997E75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5C0A-9E9C-4233-8C36-D14E9988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0DE69-CAFC-4D13-974F-8CB9D419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42B6-994B-4C30-9339-B54C51CD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049E6-1B9D-4ED4-848A-D85F0866D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7B57-F59B-41A8-BEB3-329BD4B26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AF376-B02D-48E9-924A-975117522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C2F7C-2E4B-4AD7-9BFF-DD5493F5E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F723F-553C-42DD-9DC8-4F80129C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91673-44FC-4C7E-AD7F-1CC0F5D5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40C54-A965-4D54-8F45-7406D175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333B-ADEC-494D-A5A9-F6522F87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86C91-02FB-4A6F-8BAE-49F8662D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C3422-DCCC-4675-A0BA-CC2B31B9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86CD6-5AE8-4669-B698-2B875C94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0A50B-65F3-46FD-A3CC-907D9745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FC953-5F04-4C5B-8623-9E5D3B0B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9860F-28CB-4568-AD24-EED3D6192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91FD6-83B2-40E3-BD7A-691F5AC4E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B82B4-1D3E-4D80-B1CE-278260319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45552-61EF-4FFB-9408-2E04ABD6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9F3F9-C6E2-4C31-9595-DE479B18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0EFA-5DFD-410E-8166-C3F61C29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76A88-E2DC-47A1-A3E8-E743EE5F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99ABE-D5B1-4E81-A68E-E21970D9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10718-882A-48CA-9E6B-C1B7328D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67D95-E3B3-4672-A91A-1C40A721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BA8C4-69CF-40A9-9179-A92AB788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05BEF-D4E1-4BC5-82C9-08B8E3A7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3B259-411C-4CCB-B52A-64FC2914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20525-3C41-4809-A41D-B85FACD2B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31AAD-8C7B-4E8C-8B1A-11B22112F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C6838-5D79-4B64-A90C-C4A35F987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8A11-7A7B-4CFA-8C08-C2880617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67FDF-7E13-4D48-8301-34D121A0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7571D-BB64-41D5-A8BF-F85E3383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DBC44-7C58-4118-81D2-1C7D197E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CD5FD-9898-4D12-BE8A-673F4C11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EF8E1-C064-4E84-A29D-6FDE6C2A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7A2E0-4336-4316-80CA-3948A4D6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44110-08A6-4951-9DF2-1C4BEFA0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86F9F-6D38-422A-A536-0D735275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33696-9C01-4C34-BE7F-BA6C77F6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3925C-6F32-44D8-B3B1-D299D2B78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8FCE-78F4-4502-B6F7-4CC0326B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52988-19F0-4DF6-BF63-3121F6899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625E6-7769-4B01-8D45-A349A37AF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4328F-DC6B-431A-9DD0-2B2E2C67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75DA0-212A-4445-BE18-D3846D83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B8B24-A13C-4A9E-9005-E331FB6C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28B64-7753-47B9-9C06-F81129FB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3837E-C36C-4173-8BC2-FA649B75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F4F5C-C4D3-468E-89CD-3D0A8EB9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5DA87-62A7-43E2-B9A8-72C65230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096B7-4A03-4066-9F75-39E5362C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D2DF-0379-4807-842E-310F1B36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CC97F-7345-4BA7-A60D-CA2FCD8B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EA458-0300-4CDB-BDEE-EDF3DBA53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87869-66D9-4B74-B4A5-3CE94B2B7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D7595-A0EA-4754-A1B5-603F05033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08B44-256D-425D-BF7B-B9893932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9B7B1-E172-448A-9CE1-3C2DD134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22EA6-74C2-41F0-AABD-D700C18D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86451-EFD4-4F65-9CDB-24985708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CF241-7176-4318-8DE5-63B7F24B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C5484-26E7-4AD9-ADEB-A8A2A85C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8A4E-5B17-4D07-AB0D-56E47168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6DE7D-31BE-440F-A2E9-D2435784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E257C-B913-49A1-921D-CA72D7D9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8E07B-CAB4-4787-8D23-96A21ACD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E7F5D-806A-4670-9F20-15E50D92E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27704-4808-481D-B057-FD71AC2EF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E26B4-F0F1-4EB7-A271-A2BF24AA3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80E44-B22B-483F-BB78-20452207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0BF96-9396-4E47-8354-EA345190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CC42E-68C3-4F1F-8291-720F9006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7D6C2-4B94-406B-BB7A-87B24980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A818-6214-4728-9FF2-850A5E85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45CF0-5577-4A28-AE98-5475A085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862BB-2A1F-4DCC-833C-3744460B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FDA25-C14A-4D53-9837-02EFE17C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A70B3-8A93-41C8-A9DC-973C03BB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9B219-73D1-4676-AC71-4FA7D8ED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9C6E3-DB41-464D-BAAC-DBE4A1A7E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D5B63-B3A8-47FA-8116-F3AE95755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5E32F7-B6BB-4EA2-9A42-5BB891B4C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445F92-F3BE-4A27-9C82-E49FB02C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3F8799-17E5-417C-8C7A-A9669059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398D-7676-4EB9-A64D-17DF040CE0EA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hte verbindingslijn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hthoek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hthoe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hthoek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hthoek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hthoek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hthoek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76C5-9419-4EB6-92C5-82363C8690FB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9707-33AE-488F-BD8C-601C9CFC48DF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hthoek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hthoek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hthoek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hthoek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hte verbindingslijn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D604-EB89-42D5-95D9-3834D6C4DC1C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hthoek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hthoe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hthoek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e verbindingslijn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hthoek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D6DE-7A11-4095-82EA-CD14C1216371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809E-7569-47A4-94B0-FC7E2C89AF7A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hthoek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hthoek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hthoek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hthoek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hthoek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hthoek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hte verbindingslijn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BEF0-5094-4C7B-9050-5BF4DB2620C9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hte verbindingslijn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3E9A-0351-40D9-B73A-87561C1EB581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hte verbindingslijn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hthoek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hthoek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hthoek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hthoek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hthoek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hte verbindingslijn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hthoek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6EBE-7136-469F-8E02-D72DC898EDB1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8D04-7B13-4EB6-AC73-B025EA7DDE2B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hthoek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hthoek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hthoek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0370-6283-472D-810A-AA573A5D057C}" type="slidenum"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hthoek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hthoek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hthoe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hthoek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hthoek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hte verbindingslijn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hthoek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C0CA-C835-428B-8271-985B0DE15276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646b86"/>
                </a:solidFill>
                <a:latin typeface="Georgia"/>
              </a:rPr>
              <a:t>INLEIDING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646b86"/>
                </a:solidFill>
                <a:latin typeface="Georgia"/>
              </a:rPr>
              <a:t>BIJGESTELD 5-10-2017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d16349"/>
                </a:solidFill>
                <a:latin typeface="Georgia"/>
              </a:rPr>
              <a:t>Infectieziekten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7b9899"/>
                </a:solidFill>
                <a:latin typeface="Georgia"/>
              </a:rPr>
              <a:t>Wat kun je er aan doen?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68360" y="2276280"/>
            <a:ext cx="80517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ichaam zelf: aanmaak antistoffen (immuu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ru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geen medicijnen (causaal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ymptomatische behandel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Voorbeelden virussen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erkoudheid, griep (influenza), acute darminfectie, waterpokken, gordelroos, koortslip, Pfeiffer, AIDS, meningiti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7b9899"/>
                </a:solidFill>
                <a:uFillTx/>
                <a:latin typeface="Georgia"/>
              </a:rPr>
              <a:t>Schimmels en giste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24000" y="1484280"/>
            <a:ext cx="8503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ichtbaar onder microscoop als drad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lop aanwezig op lichaa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uttige schimmels = commensale schimmels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n plaats van ziekte te veroorzaken, beschermt de commensale flora het lichaam tegen ziekteverwekkende organismen. Indien de commensale flora wordt verstoord, herstelt deze zich weer snel.   Spruw - bab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venwicht raakt verstoord door allerlei oorzak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athogene (een ziekteverwekker van biologische oorsprong) schimmel, bijv. voetschimm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fhankelijk van plaats, last, jeuk, week, n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Wat kun je eraan doe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fhankelijk van schimmel: medicatie=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ntimycotica b.v. miconazol, ketoconazol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ystatine: alleen werkzaam bij inf. slijm-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liezen bv : vaginaal en luieruitslag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voorbeelden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candida – vaginitis/spruw, zwemmerseczeem, sommige huideczemen, roo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7b9899"/>
                </a:solidFill>
                <a:uFillTx/>
                <a:latin typeface="Georgia"/>
              </a:rPr>
              <a:t>Worme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ichtbaar met blote oo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Aarsmade (enterobius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Spoelwor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Lintwor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ia vingers en mon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os in omgev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Rauw varkensvlees/ rundvle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gewassen groent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inderen in de zandba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Wat kun je eraan doe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orkomen van zelfbesmet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Hygiën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Medicijnen: mebendazol = Vermox, madicur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onder recept verkrijgbaa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7b9899"/>
                </a:solidFill>
                <a:uFillTx/>
                <a:latin typeface="Georgia"/>
              </a:rPr>
              <a:t>Protozoa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der microscoop herkenbaar aan zweepdraadj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encelli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weinig voorkomend als ziekteverwekk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O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raa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voorbeelden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trichomonas vaginalis,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giardia lamblia (diarree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Wat kun je eraan doe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Medicatie (Flagyl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Ontsteking / infect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ontsteking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: is een (plaatselijke) reactie van het lichaam op een willekeurige schadelijke prikk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infectie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:  na infectie handhaven en vermenigvuldigen van een ziekteverwekker = bacterie, virus, schimmel of gist, worm of protoz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Filmpj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4" name="Rechthoek 2"/>
          <p:cNvSpPr/>
          <p:nvPr/>
        </p:nvSpPr>
        <p:spPr>
          <a:xfrm>
            <a:off x="2286000" y="3105000"/>
            <a:ext cx="552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ttps://www.youtube.com/watch?v=Hs7qyfmtEW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7b9899"/>
                </a:solidFill>
                <a:uFillTx/>
                <a:latin typeface="Georgia"/>
              </a:rPr>
              <a:t>Bacterië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ééncellig, onder gewone microscoop te zi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angwerpig (staaf) of rond (kok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uttige bacteriën = commensal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chadelijke bacteriën = pathoge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athogenen in het lichaam = besmet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826920" y="1557360"/>
            <a:ext cx="76932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esmet maar je merkt nog niks: incubatietij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tstekingsreactie (infecti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pijn, zwelling, roodheid, warmte, gestoorde functi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eukocyten als afwe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eel leuko’s = leukocytos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eel leuko’s + bacteriën = infiltraa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usvorming (dode leuko’s + bact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in holte = abc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langs gangetje = fistel (geneest niet goed zelf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684000" y="549000"/>
            <a:ext cx="79088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ij afsterven leuko’s + bacteriën komen stoffen vrij die onze lich.temp doen stijgen = koor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oorts = lichaamstemperatuur van 38°Cof hoger 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(rectaal gemeten) oor en oraal kan is niet zo preci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acteriën in bloedbaan = sepsis = zeer hoge koorts + levensgevaar / bloedvergiftig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uperinfectie: herbesmetting/overbesmet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476280"/>
            <a:ext cx="85345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r>
              <a:rPr b="0" lang="nl-NL" sz="3000" spc="-1" strike="noStrike">
                <a:solidFill>
                  <a:srgbClr val="7b9899"/>
                </a:solidFill>
                <a:latin typeface="Georgia"/>
              </a:rPr>
              <a:t>Wat kun je er aan doen?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47560" indent="-27288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646b86"/>
                </a:solidFill>
                <a:latin typeface="Georgia"/>
              </a:rPr>
              <a:t>lichaam zelf, aanmaak antistoffen (immuun)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646b86"/>
                </a:solidFill>
                <a:latin typeface="Georgia"/>
              </a:rPr>
              <a:t>rust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646b86"/>
                </a:solidFill>
                <a:latin typeface="Georgia"/>
              </a:rPr>
              <a:t>Antibiotica: 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60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646b86"/>
                </a:solidFill>
                <a:latin typeface="Georgia"/>
              </a:rPr>
              <a:t>Bacteriedodend= bactericide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60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646b86"/>
                </a:solidFill>
                <a:latin typeface="Georgia"/>
              </a:rPr>
              <a:t>Bacteriegroei remmend= bacteriostatisch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60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646b86"/>
                </a:solidFill>
                <a:latin typeface="Georgia"/>
              </a:rPr>
              <a:t>Resistentie / overgevoeligheid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-360"/>
            <a:ext cx="85345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nl-NL" sz="3000" spc="-1" strike="noStrike">
                <a:solidFill>
                  <a:srgbClr val="7b9899"/>
                </a:solidFill>
                <a:latin typeface="Georgia"/>
              </a:rPr>
              <a:t>Voorbeelden bacterieel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cystitis (blaasontsteking)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yelonefritis (nierbekkenontsteking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neumonie (longontsteking)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furunkel (steenpuist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inkhoest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rysipelas (wondroos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tbc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yme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meningitis (nekkramp)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tetanus/bacterie=drag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7b9899"/>
                </a:solidFill>
                <a:uFillTx/>
                <a:latin typeface="Georgia"/>
              </a:rPr>
              <a:t>Virusse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iwit, alleen te zien onder sterke electronenmicroscoop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menigvuldigt zich ten koste van lichaamcel, cel breekt af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rijgekomen virus gaat naar volgende cellen, etc. = besmet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esmet maar je merkt nog niks: incubatietij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tstekingsreactie (infecti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opgezette lymfeklieren, soms koorts, verder afhankelijk van plek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ymfocyten als afweer 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(worden gemaakt in lymfeklieren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el lymfo’s = lymfocytos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09:00:12Z</dcterms:created>
  <dc:creator>vredelust</dc:creator>
  <dc:description/>
  <dc:language>en-US</dc:language>
  <cp:lastModifiedBy>Uw naam</cp:lastModifiedBy>
  <dcterms:modified xsi:type="dcterms:W3CDTF">2017-10-05T07:22:12Z</dcterms:modified>
  <cp:revision>41</cp:revision>
  <dc:subject/>
  <dc:title>infectieziekten</dc:title>
</cp:coreProperties>
</file>