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109-57E9-4C20-98B3-2009AA34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AB64-FA5C-44F4-9052-C42A200A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DB0EB-57E3-4558-AA66-52C713A5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7911B-B1D9-461C-840B-BF00B021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0836B-28E4-43E7-9B08-01E8C34D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D169E-4610-4C17-986C-9415A7C2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A5AE3-BFBB-4D37-A55B-4D7C11ED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EEA92-8FE2-4C42-B397-75CF1737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E31FA-EFCC-4815-A4CD-27FB99D8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062CB-F40F-47C4-9239-165792CE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48803-D017-422D-B3A7-9DAEEFEF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A0B6F-5017-4DED-A6E7-0298C0B9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8D6-DADB-4F4B-B9FB-0124E6B3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D573E-E64F-408E-A1B9-66491F19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81625-E20B-4FAE-9354-6F46CB6E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B8CAA-4A8A-4FB5-B3FC-B8601814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B547D-07C3-4DFA-AA35-BE50671A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D37D1-4F12-4420-9AD6-2DA8C521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0EF60-1BAC-42A7-AB0B-CFA7A57B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42488-0531-41B5-91A6-B34E350A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24195-9498-4EB6-A2C7-73AD24D5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7370F-9FC8-4EB5-93D0-868B2D95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E99F3-4388-44E8-9EE7-D7E2BEE0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3D3-BAB0-4009-8C0F-7695678D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1E270-F087-4095-80B2-46BE9518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6155A-2F46-44DA-BC0F-43680C88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0BCD0-4E9D-4D40-9AD9-4A173606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63CF9-C0F3-4F75-8D54-AD4B3D71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F09D9-A5AD-49D0-B9E2-A689AAD3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808F1-37F0-483A-869A-E3B2436E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3E0FE-2FED-46BE-B046-E2F49EFA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FFA5B-A59D-47EF-B0CF-DC4C245E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AC1BE-D648-4660-981C-891AD20D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D7AFE-E2D7-4A0B-B61D-D8254877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464B-87F7-49B4-B9B5-FA8DDD38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FBEFB-787C-473D-BAEE-09C1E0DB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7BADF-6E9D-4909-8985-E3721B3F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68732-DCF4-4004-8185-91824016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0F12F-6FEF-47A2-A60B-B5D70D2E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F8489-8BDB-4589-A60C-62CC077A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64878-000D-45F0-843F-0230FE16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00275-30A0-4C35-B148-F59BB60E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36391-31F5-4937-B729-13911CAF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9BBFE-8B51-47F5-A342-63E63C79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0A9DA-12D8-4953-AB5A-06B5C192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1E60-723E-497B-B0F3-F432C5B9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930A0-01F7-4DE7-B7D9-378E7B5E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EC4D6-E022-40E8-B93D-C6F4004F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BAE68-2B13-412D-88D5-72A463D6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BA8D1-2A33-4294-BE50-2496A0F6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EC23C-06A7-49C4-9A57-2A467BD3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9860B4-CC8E-4030-B91D-D633417E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EC7DDB-8808-48BA-8CCA-C824F85C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25255C-CAB4-41AE-B12C-FE05D392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68081B-DEF0-4417-BFF4-F4B6544A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4D4FA-BCE4-4D2F-89B0-D463DFF4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A4E2-921F-412B-8C48-5A837401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3A3D44-20FC-4132-8B44-11263D25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A56C8-B55F-439C-A08B-243230BA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7C610-AD70-44B7-AFB8-3F1454EB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00BFC8-0AC7-47D5-9166-2414DB59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B1662-C16F-4189-A2CD-A7E5AA3D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FE69E-12B6-48EF-AA19-F3F088B0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E0934-7DF1-46DF-9848-367D3C1A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E24C-367B-4FCF-92F2-E516360E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8932-47ED-4053-828A-538C1403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7A15-6BC5-4950-8CFE-0897875C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6E61-4F21-42D8-927E-213A7A93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C87-65C7-478B-BB6C-6BF134F4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1C42-6A91-40B6-B879-95769619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29D1-83BA-4CAE-9F10-A24284FA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CF15-D31D-4258-8CD2-2272DA7A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DCB8-396F-4ACF-87FD-5B199D92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B65F-8F65-4387-88A9-3AEA9666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2584E-FA8E-4702-B5D5-AE9027CF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E5E55-351F-4502-91BC-08478F68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31CE3-8627-4A55-A321-E7DA8935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40CCA-3F30-43B8-8D38-921AF6AD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26C89-6DA1-4B30-A93C-D0B6B0F7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B1A-AC03-43DD-A88B-2EA50D99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D199C-599F-4647-8113-A2036B39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C826D-900D-438A-BDF6-98ACC301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AAA75-EDCF-4DCE-B3FF-4BA2FAE3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8128E-EA98-4F8C-8C78-D4E06487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D0AC9-B0FF-40B0-BCD6-7B07BB1D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260E0-D3E2-4B7E-914D-16F600EE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9C706-9A1A-4F97-8946-BE358F7A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16A7B-632D-4FCB-897A-04C25850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C95D0-7F4E-40CB-976C-6620B70E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C2644-EF5E-4D42-8418-90C2E76A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0C7-5F2B-4589-BC05-A082F17B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B1694-A70F-4542-B781-2271AB87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697C7-2551-476B-BEA4-7F59B5F8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54558-A628-471A-BAE9-FEC67DC3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64B24-F107-49A5-8B77-ED86DB02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D219C-AE11-49CC-95B4-C1F52795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FEF16-5996-40F1-AEDF-C899B90C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CB43A-0920-4A03-93D8-496C44D8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777F8-19ED-40A5-9304-8467D1ED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EF055-0436-434C-BA21-6C46E92F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C8FDB-62F1-472B-8893-02F62C90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FE0A-8116-4BF5-B0B4-C105792E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099CD-22D3-4936-9042-FD31DC8F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757AD-8D12-4E8F-AA4B-A963E0D5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47BF5-E50E-4620-A840-A51747C1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01D3A-EFFA-4C0D-BC8E-8E956B9C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1237E-CFF5-4219-99BF-E49BD7EC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6FF2D-1950-4B26-80B4-7C9DF993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5AC79-380A-4CCD-A742-3665F380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41D47-DFD3-4071-A246-D830BBAC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4FE90-1018-4715-8F38-9499623E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6F090-4D61-4A0A-9ED8-3DECC15A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A88-CEFE-49B0-8BE6-69DD3494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D1929-3B82-4578-B58A-5E369742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62D94-7E9E-49ED-B02C-A7383CCE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22E80-B335-451B-95EB-D31E661E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66562-27F0-48AB-8CE7-60144532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DC1E2-52F5-4565-8BB2-150A23E3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79127-0756-4869-A37E-52A76729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82178-B373-4704-B694-54311689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3C0D3-48AF-49BF-9A9D-3CD54555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AB181-382A-42E6-9E04-2AD22161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39DAD-7786-41E1-BA7A-170775D7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A70-80FF-4D0D-BCB9-DDA43EBF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6D573-9B8A-4604-BC20-E99BCEBA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B4F95-A240-493C-8D30-D8DFADE1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0F170-CCCE-4728-A47C-348BF2A8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DB304-F7D7-4F62-BFB9-89745A3C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7825A-0F75-4551-A185-8B8307FF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F21BB-F609-4779-968A-DC807DAF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FA2CA-72F5-4896-83DE-18FE8EAA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A1316-9DDA-435F-A9E9-C2D08B94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C7650-865A-44A8-9FF5-40246769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278C2-0007-490F-8ACF-F0B15918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D13-5DA1-4240-AC31-E7F3B175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79307-4D56-4FD5-92A0-798D805E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AC55A-26A5-4F9E-9A0C-127B4328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97170-55EA-44A6-9A52-2F58EF3E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9DEAB-6D3A-4E1C-9CB2-987BD0B1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45EF9-C544-4ACD-A354-F488F89F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BB4CF-184C-46D5-A609-D51D83FA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717CD-DD01-40EE-9101-FA854339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D6CE5-2E45-4F84-8F50-0A7902A1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10D7D-EABF-4E26-A152-9F938E6E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46EB2-9A76-4092-B964-AD975B34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0CCF-11CE-4945-B1C7-4C3DF336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79569-7446-428E-8F79-D34D1855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0A787-6284-4528-AEF4-DE72EFDC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C45C6-495E-4161-A1C8-08AA0A98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04359-64EA-4A82-94DF-3ADCF4F9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415DD-092A-42D3-8366-1A5423B5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85191-C6A6-4985-85FE-EA060D86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53682-8053-4A33-BE16-648B9B15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EEDCD-6886-4ED3-AE05-4A2E9928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E1B89-D226-4EE5-BBC4-3310224A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807A8-7FC0-425F-803B-09B3BFCC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43CD-6D92-4C85-A801-EE4EE2901D08}" type="slidenum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7431-AA05-49CC-AD3B-F925B796E589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BA12-7C1C-4408-8AFA-E37E77623848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79D6-79B0-4A8A-8D6E-138467CF13CC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22B3-5BFA-45D9-9988-64286526C5BE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0021-C939-46F8-9C97-8A6BB3150D32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DF70-D1B3-4879-BA12-BB76A95DC6AE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973E-4112-4847-80C9-0389B74E174A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2B1F-1413-4745-A6CA-9339FF458A0E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F746-55C7-45F5-8630-382122B7E53B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4161-7465-4B5D-BFB1-2C62D49FF20D}" type="datetime">
              <a:rPr b="0" lang="nl-NL" sz="1000" spc="-1" strike="noStrike">
                <a:solidFill>
                  <a:srgbClr val="895e04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95e04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C29F-BD74-4607-8D84-0239BF6B2265}" type="slidenum">
              <a:rPr b="0" lang="nl-NL" sz="1000" spc="-1" strike="noStrike">
                <a:solidFill>
                  <a:srgbClr val="895e0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1038-798C-4E7F-84BF-99773E59E544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3C54-8EDA-47F8-9131-9DFED27044EC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176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"/>
            <p:cNvSpPr/>
            <p:nvPr/>
          </p:nvSpPr>
          <p:spPr>
            <a:xfrm>
              <a:off x="655560" y="0"/>
              <a:ext cx="123516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B9DF-A1F6-4452-922A-19C9265A7AF7}" type="datetime">
              <a:rPr b="0" lang="nl-NL" sz="1000" spc="-1" strike="noStrike">
                <a:solidFill>
                  <a:srgbClr val="f3f3f2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3f3f2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31E6-5E5C-4998-A47F-173ADF78D9F6}" type="slidenum">
              <a:rPr b="0" lang="nl-NL" sz="1000" spc="-1" strike="noStrike">
                <a:solidFill>
                  <a:srgbClr val="f3f3f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787F-0DDE-4EF1-8574-75955DED3C44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60BE-0485-4DAE-B05E-37CEBF9D92BD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CB66-C711-47DC-A845-26300D4A7871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EE17-57AE-4097-A128-6EF1E98A2775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7D0A-49F6-4D56-8F35-29876B5822CE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2397-5601-4B36-8EC9-1174CBB8DD07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CBA6-6341-4D6C-8D0B-D24648F6ADA0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6B70-D9F1-4F9D-BC3D-D162A5FE269D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otheek.nl/" TargetMode="External"/><Relationship Id="rId2" Type="http://schemas.openxmlformats.org/officeDocument/2006/relationships/hyperlink" Target="http://www.fk.cvz.nl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76360" y="1122120"/>
            <a:ext cx="652464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5400" spc="-1" strike="noStrike">
                <a:solidFill>
                  <a:srgbClr val="2a1a00"/>
                </a:solidFill>
                <a:latin typeface="Impact"/>
              </a:rPr>
              <a:t>INTRO GEZONDHEID </a:t>
            </a:r>
            <a:r>
              <a:rPr b="0" lang="nl-NL" sz="5400" spc="-1" strike="noStrike">
                <a:solidFill>
                  <a:srgbClr val="2a1a00"/>
                </a:solidFill>
                <a:latin typeface="Impact"/>
              </a:rPr>
              <a:t> 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2176560" y="3716280"/>
            <a:ext cx="47908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1500" spc="-1" strike="noStrike">
                <a:solidFill>
                  <a:srgbClr val="2a1a00"/>
                </a:solidFill>
                <a:latin typeface="Verdana"/>
                <a:ea typeface="Verdana"/>
              </a:rPr>
              <a:t>LEERFASE 1 PERIODE 1  BOL</a:t>
            </a:r>
            <a:endParaRPr b="0" lang="en-US" sz="1500" spc="-1" strike="noStrike">
              <a:solidFill>
                <a:srgbClr val="595959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Verdana"/>
              </a:rPr>
              <a:t>DOCENT 1 BOUKE CUPERUS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Verdana"/>
              </a:rPr>
              <a:t>LES 1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73" name="Tijdelijke aanduiding voor voettekst 4"/>
          <p:cNvSpPr/>
          <p:nvPr/>
        </p:nvSpPr>
        <p:spPr>
          <a:xfrm>
            <a:off x="1143000" y="4869000"/>
            <a:ext cx="6946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  <a:ea typeface="Verdana"/>
              </a:rPr>
              <a:t>Noorderpoort</a:t>
            </a:r>
            <a:r>
              <a:rPr b="1" lang="nl-NL" sz="12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1" lang="nl-NL" sz="1200" spc="-1" strike="noStrike">
                <a:solidFill>
                  <a:srgbClr val="ff0000"/>
                </a:solidFill>
                <a:latin typeface="Verdana"/>
                <a:ea typeface="Verdana"/>
              </a:rPr>
              <a:t>Medische Kenni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ijdelijke aanduiding voor dianummer 5"/>
          <p:cNvSpPr/>
          <p:nvPr/>
        </p:nvSpPr>
        <p:spPr>
          <a:xfrm>
            <a:off x="680076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1368F52-BBFE-4303-96F7-9D82D60869E2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4"/>
          <p:cNvSpPr/>
          <p:nvPr/>
        </p:nvSpPr>
        <p:spPr>
          <a:xfrm>
            <a:off x="395280" y="40464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Objectief / subjecti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468360" y="191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jectie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baseerd op f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iker in de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broken vingerkoo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ie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et gebaseerd op feiten maar op gevo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4"/>
          <p:cNvSpPr/>
          <p:nvPr/>
        </p:nvSpPr>
        <p:spPr>
          <a:xfrm>
            <a:off x="395280" y="40464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Objectief en subjecti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468360" y="191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emand die in de put z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ief gezond, subjectief z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emand die astma heeft  ‘ík ben gezond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ief ziek, maar subjectief gez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4"/>
          <p:cNvSpPr/>
          <p:nvPr/>
        </p:nvSpPr>
        <p:spPr>
          <a:xfrm>
            <a:off x="395280" y="40464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468360" y="404640"/>
            <a:ext cx="8229600" cy="60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leinste onderdeel van een organisme bevat alle genetische informat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efs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oep samenhangende cellen met dezelfde vorm en functie (dekweefsel, steunweefs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oep samenwerkende weefsels (b.v. har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anstels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oep organen die samen 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Afbeelding 1" descr=""/>
          <p:cNvPicPr/>
          <p:nvPr/>
        </p:nvPicPr>
        <p:blipFill>
          <a:blip r:embed="rId1"/>
          <a:stretch/>
        </p:blipFill>
        <p:spPr>
          <a:xfrm>
            <a:off x="3935520" y="1484280"/>
            <a:ext cx="21668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8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Afbeelding 1" descr=""/>
          <p:cNvPicPr/>
          <p:nvPr/>
        </p:nvPicPr>
        <p:blipFill>
          <a:blip r:embed="rId1"/>
          <a:stretch/>
        </p:blipFill>
        <p:spPr>
          <a:xfrm>
            <a:off x="700200" y="907920"/>
            <a:ext cx="774360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Afbeelding 1" descr=""/>
          <p:cNvPicPr/>
          <p:nvPr/>
        </p:nvPicPr>
        <p:blipFill>
          <a:blip r:embed="rId1"/>
          <a:stretch/>
        </p:blipFill>
        <p:spPr>
          <a:xfrm>
            <a:off x="826920" y="541440"/>
            <a:ext cx="769968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oktersassisten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doktersassistent mo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mpetent zijn op het gebied va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ieve vaardigh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disch-technische vaardigh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nnis hebben van en inzicht hebben in acute en chronische aandoeningen inclusief kennis van de bijbehorende medicij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Geneesmiddelenkennis voor doktersassistente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est gebruikte geneesmidde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tijd vanuit het beroep van 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 u="sng">
                <a:solidFill>
                  <a:srgbClr val="0563c1"/>
                </a:solidFill>
                <a:uFillTx/>
                <a:latin typeface="Arial"/>
                <a:ea typeface="Arial"/>
                <a:hlinkClick r:id="rId1"/>
              </a:rPr>
              <a:t>www.apotheek.n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bruik Farmacotherapeutisch Kom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bruik FK op internet: </a:t>
            </a:r>
            <a:r>
              <a:rPr b="0" lang="nl-NL" sz="2400" spc="-1" strike="noStrike" u="sng">
                <a:solidFill>
                  <a:srgbClr val="0563c1"/>
                </a:solidFill>
                <a:uFillTx/>
                <a:latin typeface="Arial"/>
                <a:ea typeface="Arial"/>
                <a:hlinkClick r:id="rId2"/>
              </a:rPr>
              <a:t>www.fk.cvz.n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4"/>
          <p:cNvSpPr/>
          <p:nvPr/>
        </p:nvSpPr>
        <p:spPr>
          <a:xfrm>
            <a:off x="395280" y="40464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468360" y="404640"/>
            <a:ext cx="8229600" cy="60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E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jectief: welke klachten heeft de pati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ief: wat is er bij onderzoek gevo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ie: klacht- / ziektediagnose/ en IC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: Wat gaat er gebeuren; advies, th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"/>
              </a:rPr>
              <a:t>ICP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"/>
              </a:rPr>
              <a:t>De International Classification of Primary Care (ICPC) is in Nederland geaccepteerd als standaard voor coderen en classificeren van klachten, symptomen en aandoeningen in de huisartspraktijk. In Nederland gebruiken huisartsen de ICPC-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"/>
              </a:rPr>
              <a:t>https://www.nhg.org/themas/artikelen/icpc-onl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65200" y="365040"/>
            <a:ext cx="7950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Leerdoele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Rechthoek 4"/>
          <p:cNvSpPr/>
          <p:nvPr/>
        </p:nvSpPr>
        <p:spPr>
          <a:xfrm>
            <a:off x="565200" y="2133720"/>
            <a:ext cx="8578800" cy="29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an het eind van de 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n  je uitleggen dat gezondheid ook je eigen verantwoordelijkheid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et je dat de sociale media jouw kijk op gezondheid en ziekte kan beïnvlo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n je voorbeelden van objectieve en subjectieve beleving van gezondheid benoe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et je dat gedrag en leefstijl invloed kan hebben op Gezon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n je de begrippen cellen, weefsels en organen beschrij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4500" spc="-1" strike="noStrike">
                <a:solidFill>
                  <a:srgbClr val="000000"/>
                </a:solidFill>
                <a:latin typeface="Arial"/>
                <a:ea typeface="Arial"/>
              </a:rPr>
              <a:t>Gezondheid &amp; </a:t>
            </a:r>
            <a:br>
              <a:rPr sz="4500"/>
            </a:br>
            <a:r>
              <a:rPr b="1" lang="nl-NL" sz="4500" spc="-1" strike="noStrike">
                <a:solidFill>
                  <a:srgbClr val="000000"/>
                </a:solidFill>
                <a:latin typeface="Arial"/>
                <a:ea typeface="Arial"/>
              </a:rPr>
              <a:t>gezond gedrag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1331640" y="3860280"/>
            <a:ext cx="7127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Wat is dat eigenlijk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chrijf eens een definitie op van </a:t>
            </a:r>
            <a:r>
              <a:rPr b="0" i="1" lang="nl-NL" sz="2200" spc="-1" strike="noStrike">
                <a:solidFill>
                  <a:srgbClr val="954f72"/>
                </a:solidFill>
                <a:latin typeface="Calibri"/>
              </a:rPr>
              <a:t>gezondhei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n je zelf ook verantwoordelijk voor je eigen gezondheid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Gezondheid &amp; ziekt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0" name="Onlinemedia 3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4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611280" y="981000"/>
            <a:ext cx="799308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O: (World Health Organis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zondheid is niet alleen de afwezigheid van ziek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ar een toestand van volkomen lichamelijk, geestelij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 maatschappelijk 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Wat is jullie mening over deze definit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4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4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608040" y="817560"/>
            <a:ext cx="7993080" cy="51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de Defenitie voldoet niet me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idige Definitie van Gezond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zondheid is dynamisch: stelt veerkracht en zelfregie centr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4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4"/>
          <p:cNvSpPr/>
          <p:nvPr/>
        </p:nvSpPr>
        <p:spPr>
          <a:xfrm>
            <a:off x="324000" y="158760"/>
            <a:ext cx="8362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  <a:ea typeface="Arial"/>
              </a:rPr>
              <a:t>Gezondheid: ingewikkeld beg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457200" y="1600200"/>
            <a:ext cx="82296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zondheid(sbeleving) is afhankelijk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ltuur (afrika, Islam /  Wat is normaal? Kaalheid, homoseksualiteit, zwangere vrouwen van middelbare leefti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voeding (waarden en nor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jd waarin je leeft (opa en o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onlijke erva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t heb je ervoor over (hoe gezond wil je leve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Ziekte is niet objectief te beantwoor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457200" y="1600200"/>
            <a:ext cx="8507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Gezondheidsbevorderende facto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ere 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ere voedingstoe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ere bereikbaarheid voorzie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twikkeling wetenschap / verbreiding ke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4"/>
          <p:cNvSpPr/>
          <p:nvPr/>
        </p:nvSpPr>
        <p:spPr>
          <a:xfrm>
            <a:off x="395280" y="404640"/>
            <a:ext cx="8748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563c1"/>
                </a:solidFill>
                <a:latin typeface="Arial"/>
                <a:ea typeface="Arial"/>
              </a:rPr>
              <a:t>Gezondheids bedreigende fact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468360" y="191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keerde voedingsgewoo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oei industrie – milieuvervu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rn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brek aan lichaams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veilige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3:52:14Z</dcterms:created>
  <dc:creator>vredelust</dc:creator>
  <dc:description/>
  <dc:language>en-US</dc:language>
  <cp:lastModifiedBy>Bouke Cuperus</cp:lastModifiedBy>
  <dcterms:modified xsi:type="dcterms:W3CDTF">2020-09-04T13:28:46Z</dcterms:modified>
  <cp:revision>54</cp:revision>
  <dc:subject/>
  <dc:title>Gezondheid en gezond gedrag</dc:title>
</cp:coreProperties>
</file>