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31E-1681-40BA-B6DD-5D91B38F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B08-07D2-42D7-8517-2ED1C123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CB36C-DB1F-4070-BB2C-3466A2DF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8D45E-20D9-426F-9803-89D48123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24D81-E5F8-4424-9118-2F96D425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56471-0992-4D36-A153-E9621FC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F7687-E1DD-4507-B2DA-AADAEE5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2C3A4-F846-4EF9-A33B-F38B78A1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58114-4125-4C4C-9942-1042AC81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9B9E3-AC52-4646-8232-9601FF1B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57C48-529D-4A47-82B8-140086C8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97EED-A358-4561-AC94-8F9A5A8E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4C3-C671-43E1-BB7A-50E0B6C1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2AC38-DDD2-4C33-9BE9-EF0A506F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44464-63BE-409A-9D0D-44944D12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CEEA2-536A-47A5-9CA3-B78EC26C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E14F6-341A-40FD-9EE6-578299CA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C5CF9-214B-4D73-ACA2-B1D074AC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27EB0-2E8A-4071-8B42-8EA3B93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895AD-B9EE-45A2-9A29-B2194EA9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9AFB2-BB32-4C1D-A0C1-5B4C19F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FCE20-A90C-42E2-BFE3-D5430A96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84784-7A9E-4478-86AE-460B050F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1E2-4BCF-4107-A4DB-6C0CE001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4DE92-B2C3-4836-A452-E676A11E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A4FF0-4833-49D0-B383-5E71EDDF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83F29-D291-4402-AD8C-7B06FD69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0B7D7-EE51-4F36-A2B0-7DB2F932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FC328-D5E8-46E2-B721-699ADCA3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CC540-3938-4CE0-9910-F535DAEA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D734D-E22E-456A-91CA-95D67531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08D82-7B16-4F09-A2CB-7ACE8E58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396B9-6D21-4952-A7BB-E7A13DE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5D8B0-4FD0-4F9E-8AD3-10C27535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8076-27DC-4BE9-85CE-F0DC8FAE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D0B40-BF98-46DF-8413-D3336750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DECEC-0D01-4601-B79B-4F449D41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37845-1E1C-483C-8920-4041F9FF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8A7BD-43FF-480E-8A15-8718F6E8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DE8F6-F71F-475E-B43C-BA8E6AAA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89B1E-B71A-4EC9-8FBF-0E284C6F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39C9A-F398-45BE-B11F-0498CF90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1166B-A6A1-4088-97B5-D948531B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B7FC7-5CD2-43D4-82C0-1254D433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F9228-320B-47CB-9D8B-53D140F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0667-8D23-42AD-9DF1-D9C8EABA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27264-3342-448D-B08E-80226B18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C0E4F-B63A-4D72-B08C-E57F7252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5C9DE-BDE4-48A6-B610-9C4E06C3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B7788-1DF0-4877-9FF1-6F6B2015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EB499-96B8-42DA-9287-E48A699F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C62F-17C6-4294-B20B-5418E817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4579-89A6-4138-941F-68A74805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8946-2263-4B7B-8E15-F9CDF66E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B5EC-4BB2-4805-BB69-62BF3BB6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8C15-9E16-4EC7-B7DB-2945CCDD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475-DE27-4432-9716-49902540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C073-2C29-4728-B194-77E04844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229-85E7-44E4-977E-E45C117E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E311-B727-4257-B0AB-5784112D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980D-27E6-4F67-A5BC-E8AE3033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02E6-F196-4BE5-955B-0FABB4BC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132B-E037-4FB7-9432-C70B3329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FA66-D6DB-4C4C-823F-27AC908A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00016-C3B9-466A-B822-ADC7449D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0540-B492-460A-AE49-C6E0594B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BF30-6ECC-46EE-B351-1E947AF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D69-EFE2-4FBD-AF6A-2AAC3CDF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A159-155D-4824-86B0-BD2A6D2B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1C53-F80A-4450-9BBF-139CB66A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E1035-E153-45E9-9191-E474C7B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D4AA-35C3-43F6-8BA4-E22B760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E80E-32EA-4A19-98A0-EFD60FFE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0661-A6DD-47B5-8892-E1C0B515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9CC8-1557-4935-99E9-8B42FD6A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69CF-1FA0-4FBA-A763-4F8C9086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B21A-E694-4769-9C8C-F6C6791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6480-BBA5-40A5-8B4E-76994E9A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563-31D6-4811-9EF1-71845C0E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21D4-8F4F-41C1-84E9-69DA62B2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CE81-27F4-4FAC-8B5F-4EB3CA38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5BDB-4260-45C1-B61C-FAFA804E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6629-B1CD-4DE4-8A52-1C315E11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2F7E-8014-495A-9A83-94A4958D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96C0-6476-4416-A3FF-5BF81DD8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664D-E304-4082-8D51-F9EFF8D8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A849-3AA6-4923-9F2D-36D84A56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3A8B9-FC6B-49FE-834C-4BEF4861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3962-5980-4B8D-B83D-0AD68F79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902-E192-4DDB-AE48-CC6F1010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5B7B7-F5AD-4F61-8FBF-0828270D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FEADD-12BB-4977-8E82-76B5F056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5B86-C3E6-4DCD-AED1-E24C6A37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A11F-66A6-409D-9011-06C7503A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89E82-C9D6-4B49-944D-47E8E538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0F8E-2332-49BD-A940-F56F6A5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9DD5-008E-4DF9-91D5-425E072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5A20-2A17-44FE-A028-B3312E53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60382-10E8-4738-A37B-033C7958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B1699-52E6-4204-9D1F-076073A0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7FE-26AD-4032-ACEB-74DA2F54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2C52-01D7-4EBC-BA44-69747094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199E-BB43-450B-9822-D4A68624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57F79-B307-4C6F-B06E-BF6E7D31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6AEA8-6EAE-4D53-8CD5-37FC1F97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DF511-31F2-4AD7-B90D-07633257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56477-2046-4038-9A1B-6084B1A2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62232-C8C2-4434-A557-441C0D15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82EA7-6DC3-4267-948F-B88E110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61A1A-92CC-4801-B2CE-ACD77746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FFA0E-02DF-40AE-89A8-5DA65C3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532-D622-4912-B0F3-F4AC418E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3145D-FED7-478B-AE06-38F58D5D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E0D6F-6977-42DD-8677-53458D9F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14C2-B3EF-4CF1-9457-4A87158E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4267-30A1-4B00-BBF6-9BA9DD1D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1449C-73A5-486C-B01F-DEC1DB8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9ACCD-B2C9-46B6-A7A9-7F62621E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E252-F9CD-4FE7-8A37-057E1C80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ABB71-4B34-4639-B04C-F90BE0A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3EC4-BF2A-4EE2-84E0-BA02EDB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9D371-A458-4F68-8F5B-DDF6D250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611-2F55-42EA-969C-CCFFA4E6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D43CC-EB1D-422A-90B4-AA2082C5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D82E-68BD-43DE-862B-F3826B2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F6A42-FB14-49CA-BAD5-A3032F6F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AD2D4-5925-4114-85FD-1B58200E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ADC22-D73E-482B-8E6D-DFE03778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26E8A-CFC7-419B-9F94-BB21EEDD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16791-9089-4DCE-8131-4716E60D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FBDB4-7995-4D22-8DB7-8F5FE1E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D4EB1-F941-4524-A747-3EE4F80A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51106-1102-4F9C-A714-65530C16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A9D-9745-4250-90CA-541B192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B74F4-874B-4D71-8D90-4B9892DD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CC9F4-C640-4203-9130-1E8D018F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9A171-A96A-4984-8CA8-3758971F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75972-CA6F-4BBD-AECE-0ADAE30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8CCEE-2625-4D2E-9614-EF4218E5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4D2F0-3E6C-4F1E-80E6-91363E06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C1CEF-C55D-4A49-9EA9-9644D201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30E3E2-6576-45AA-9F6D-08A5D0A7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2CF30-EB55-4402-8828-25DA1747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5F1E0-0832-4EFA-9FA4-82903ECC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8D20-4038-4CEF-B426-5ADD8BD33A0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E11D-0A03-43AB-958E-6B0A6262491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3416-9F70-438A-9056-963C80AF030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3C2-3C73-420F-9B78-8BA6EAFB146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D714-EDA8-4DDB-84E5-C940E68E79F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B8E9-7DBB-42CF-BEA8-109365A76E2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3AEB-AF69-49BF-B261-4624E4A6DB1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B972-ACF0-49B0-92D7-CDA6D95D045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AF94-7D48-4970-991E-C870E02BC09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9E27-234A-43C2-B0B2-565E5A2FBE0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775C-ED1C-4915-9BFC-7661FC0649E1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CC7C-54A0-47D9-9D46-8688FF01805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NLEID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BIJGESTELD 5-10-2017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Infectieziekt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en medicijnen (causaa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=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timycotica b.v. miconazol, ketoconaz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ystatine: alleen werkzaam bij inf. slijm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liezen bv : vaginaal en luieruitsla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andida – vaginitis/spruw, zwemmerseczeem, sommige huideczemen, ro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Protozoa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 microscoop herkenbaar aan zweepdraadj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cell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inig voorkomend als ziekteverwek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ra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trichomonas vaginalis,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giardia lamblia (diarre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atie (Flagy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Filmpj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Rechthoek 2"/>
          <p:cNvSpPr/>
          <p:nvPr/>
        </p:nvSpPr>
        <p:spPr>
          <a:xfrm>
            <a:off x="2286000" y="3105000"/>
            <a:ext cx="55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Hs7qyfmtEW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uperinfectie: herbesmetting/over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dodend= bactericid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groei remmend= bacteriostatisch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ystitis (blaasontsteking)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yelonefritis (nierbekkenontstekin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neumonie (longontstekin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urunkel (steenpuis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ysipelas (wondroo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etanus/bacterie=drag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el lymfo’s = lymfocyt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Uw naam</cp:lastModifiedBy>
  <dcterms:modified xsi:type="dcterms:W3CDTF">2017-10-05T07:22:12Z</dcterms:modified>
  <cp:revision>41</cp:revision>
  <dc:subject/>
  <dc:title>infectieziekten</dc:title>
</cp:coreProperties>
</file>