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32D-4E14-4D93-9055-9455A14E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214-4E8E-42E0-9379-FB249AA4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B6DD4-6CB7-4B29-A3D4-2BEE26FB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26BB9-C929-4BA9-9F67-E1544FC2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6E34F-DA88-4C81-B86F-2F715547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3D45C-9601-4C5B-ACB9-1B9C73E0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DCC01-03AD-493D-AC11-EEACA82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E269E-286A-44B8-A041-99D151F9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9EB44-5287-41ED-80CB-75A7FF04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B15D9-8FA9-4924-96F0-E8612C2F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44E9B-CB6F-48ED-ADB9-1518C0FD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5D685-CB1A-4554-A0D3-F924BDFD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6C3-F987-4CD1-9963-9005F60F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5A5D1-25E3-4860-ACBC-05234409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DC0A7-73DD-4EE4-B3A9-947178FA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7CC0F-2833-49A4-9ABA-B72D348B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5F7E4-FC33-4494-8F11-D13CC504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B6C1A-A752-4B94-8F42-0FAE3D5D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72E6F-D021-42C2-AAA8-29D237EE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4A3A0-20D0-418E-BFFF-D26BF59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74869-B05F-481F-A6B1-3F172CE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BEC48-B930-4464-BA5D-D00FE727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9C5A0-29D8-4AF4-8CFB-F3B45BD9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69B-FC41-4D73-8B05-704090CD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C4CAB-8AEE-4F7E-BBE7-D7770F5A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3C120-F6B8-4880-ACA8-080A22EE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E6DB3-48C2-47DD-BEE4-47997D47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F896F-EF0A-42E0-B283-16E78FE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A5A16-4574-43AA-9383-DF7580A8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2AAD2-0646-4189-8AAF-7E228D36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CF3A1-E2B9-43DB-9BF1-88CDF28E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90206-BE57-4717-88E2-FF068F16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46191-08AE-42D6-A718-3A8AA778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97FEA-33E4-4518-9D4D-64652B4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F997-3C40-4CA9-B5DF-453B22F5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0551F-1B8B-4BA3-83F5-D8959D53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4AD30-37DE-4976-88E1-59E650DB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37D33-D7A4-47E5-92B9-CFEB6101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39144-01BE-4E9A-93FC-1F6360E9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DEC1C-434A-48DC-8C40-6C90A395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09092-5FAC-4222-A794-D3A4283B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88760-CCDE-4376-97B0-DA1806BE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64B33-A227-4E28-9737-742859F3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922DC-83B3-402F-807F-0054054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421BD-2B97-42E7-9E12-ED5A8214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FB47-510A-4295-AC03-6DF58D26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5D941-6763-4FAE-BAD1-ECEB437D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0A00D-E7FB-4781-9181-06740C06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67F45-000B-4DB0-8DAE-577AD8E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88FBE-602C-4E95-A62E-DB24F5CC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93F2E-E986-4B14-A178-C8E65364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4B16D-BF14-404D-A57F-9522087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23A74-8400-4668-BA9B-F3900C7E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1D0D0-2E1F-420D-BE46-2CE8226E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D2E9B-9069-4382-ACC0-F0118F84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D8E6F-064A-418B-8391-936B3ECA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E07F-187E-4B83-A649-78B7B598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ADFAF-1D88-4879-9E8E-9BF777E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113A3-34C4-43B8-8EBA-B0A8889D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E0C74-26CA-483F-82F7-AB991F0D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0F32D-8EC8-409C-B190-77020C5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92230-C03D-41E8-900B-1A4D3EDC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A6B03-9933-4B0D-BCA6-7C9F781A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5DDA9-731B-4755-8BA3-516FC149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D12A-855C-4F78-B17C-50685B49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9966-D2B1-4C7A-B439-733657F8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11E6-59DF-4ED1-AC98-F68958B8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D440-A9F8-4C61-B529-0B95CFB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107-892D-464B-8135-90CC6753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497B-CC08-45C5-936B-7DE079E2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873B-0662-4A71-B200-4385BF5E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F0E7-D65D-46AB-8477-EBF907C4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3988-DBE3-4CD5-9014-71D85FF3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53F8-F506-4111-B03E-755FDC4D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E6DD-B960-4330-A6AA-AD3A5912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38B5-110C-43AF-906A-3899652E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A7F2-BCE9-45BB-8755-4AD48EA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18C9-16B0-4D02-B1CD-4D93E073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C716-EA4E-4561-BADD-55A06DCD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674-CF67-4739-A30F-3CF1DA5A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1637-4BBD-4A9F-B069-4DEA73C4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4042-4262-418F-BA51-11F1EED6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8BAB-657E-462B-BF25-519E521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A931-3B5A-4040-8569-D5AD555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6AFF-1FE1-4504-A3DC-E81DB54C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D722-90B1-4554-855E-02830388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B6FD3-B2EB-4F9A-9C78-9E7D2D18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2B7D-64F2-474C-84FF-DCB99030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B3CF7-DAE6-43A5-B696-A9DE8095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EBC3D-F068-4958-A652-29A1C534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FF4-2E11-42A5-B145-EF50AFE4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C3AF-6406-4CD7-ADA9-6D07E1BF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D07C-86DF-4F00-8D53-48126D13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E71D-971B-46B6-9E47-EDBCAA3F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0EDB8-7F3A-4585-9B1C-BDE1543D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5F12-B8C1-4F0A-80A3-7C3B07F4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3B39-053F-4AFF-B82F-91557E28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E2EB-9CBD-43B7-AC49-3B5CDF24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2A6D-D87D-44E1-9465-049407E8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421A-A8DA-4C74-BFCC-E9D887C9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964C-F2C3-4940-849A-1410921B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C0D-25D8-497E-B6EA-B92E8E49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A0E3-52B9-4B79-8A23-9E626843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5C271-15C1-4C17-9BD8-FAB2FE6E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3C4B4-C398-4938-8C0B-8E63AFD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58337-19EE-466A-9FE0-BC8E9847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2559-BF4D-4BC2-8304-640DA75E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BE5E-5FCC-4472-B15E-F472DEB9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2628D-8DB4-4B7A-BF17-A846AF4E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937A-8511-4F43-9F9A-233BFFF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A522-3FF4-4DE8-B39D-BC48933D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BD331-0B8A-4BA5-9051-BD1C4952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09B-76B9-4CF3-9431-9F9EE3AB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03AC7-A6AE-43ED-90C6-4F63A140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A4C0-B9B2-4EFF-91E5-DC523D15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3C639-0D98-4D10-966E-90277952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F2B84-9304-46BF-A962-368E1FFB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DA4C9-EDA2-4AB2-9244-2A087EE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349F4-3E72-4131-BF29-6A62A0D5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D4394-6B9A-4394-A5C3-ECCBD40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8DEEE-76F2-4040-A709-4E15E53D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4531D-27EA-409F-B93E-017C788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2B39B-2C68-4CF4-9D96-4A9F9A7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2A7-733B-4009-918B-D884297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A3AC7-74C0-4B78-AB85-4BC5285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B3E1-5FDD-43FB-95AE-FCC93F54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76A06-C24B-4292-BC89-F53F68E8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74637-F17E-46A8-855B-60FE6971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45A4-D17C-450A-B464-36C91285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64977-0F01-4017-A055-2FA28520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C9E2C-4980-4642-A79D-453297B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3AB3A-6BE6-4649-A8CF-4F60C285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96691-6008-4C2E-9DCA-BF60CA72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9BCB3-9BDD-4D5D-B4DB-EF8F5BD2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D61-84C2-4804-B512-EB9F8DA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36BF-DB29-4FA4-839B-8EB8ABF9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AB63E-88EC-4FE8-BC88-E85E4C0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AD355-0D6B-4A2D-A26B-4424A523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DEA24-6965-44F4-926E-BEF02E93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D13BA-A7C0-4CE1-9C85-D3028217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A94D2-A76D-49CC-8A5B-ABBC2B65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B8201-8838-4666-AACA-CA82BF03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C2276-B8A9-478A-BCEB-97377CBF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8341A-FB88-4C1D-9AE4-2EBA3FF8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FB68D-136E-4972-93E2-DBAF7DB2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833-63CA-48F6-B4D6-0111E964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3E998-ABE4-40DF-8091-A4429D7F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5E27E-06EE-43B9-ACD8-9717AB2B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11EB3-0A17-4F1D-B33C-D414D2E4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DCF4-78F4-4FBA-9A92-4F95FA55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7FE10-6DF1-4F28-9FDE-8AE8188C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54E2D-56AF-4005-BC2B-0A1030A9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D051C-1E6E-4DB1-B0A7-DCD28857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9E53D-9D12-46C8-AA01-E9B9317A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D5475-8230-46A5-BE19-4B8FF8B6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0A81E-E764-4B03-ACA2-444A2391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967C-2D7A-472C-B60F-8DD1A77A9C75}" type="slidenum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0F4E-1B52-47ED-80A4-91D24134F5B0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3BA6-DF6B-420C-891A-6A4989403E8A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29F7-9BBE-4ED3-97C8-60E987C7355A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4D71-BF5B-494E-B0AF-5AE4E3D98794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DFAA-6B11-490E-A94C-0BD2514265AD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2DBD-7033-4630-9001-EED0851FC2C5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0EC5-5F60-48E9-97FE-3FA749783970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6310-B2FE-44CC-8A36-3077B196AC8A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3291-3C50-4487-A3DD-001894F43FF2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4A0-7C0F-4D17-B24F-681E01E4AFCE}" type="datetime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EFFB-D9F3-4B5C-9831-0E3AD6BE45BA}" type="slidenum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CE67-A48A-4293-9DA1-8FA0BAEBE20E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E3BA-90E3-45A5-8B39-3276F34F388A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176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FD6-DDD6-4A27-AAB1-CD3CB3A87551}" type="datetime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6659-2AF5-4527-8326-A4C45F7E8748}" type="slidenum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3431-873C-40D8-995B-86204790E37A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C7D-A216-40BF-8046-B4302A213FBF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E42-900B-4A31-9985-FCD90B3FBC15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248B-5EB0-48C0-8087-2F93CAEFC0B5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249E-9FD4-45BB-A4C4-CFADDFD9C19E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7CAC-38FE-42EA-9F19-270C3C23793A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2412-FCAC-4AE9-8E38-5715FB1B4FCF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A307-E282-4C2D-A79A-B53A4B5F9E2E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otheek.nl/" TargetMode="External"/><Relationship Id="rId2" Type="http://schemas.openxmlformats.org/officeDocument/2006/relationships/hyperlink" Target="http://www.fk.cvz.nl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360" y="1122120"/>
            <a:ext cx="652464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5400" spc="-1" strike="noStrike">
                <a:solidFill>
                  <a:srgbClr val="2a1a00"/>
                </a:solidFill>
                <a:latin typeface="Impact"/>
              </a:rPr>
              <a:t>INTRO GEZONDHEID </a:t>
            </a:r>
            <a:r>
              <a:rPr b="0" lang="nl-NL" sz="5400" spc="-1" strike="noStrike">
                <a:solidFill>
                  <a:srgbClr val="2a1a00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2176560" y="3716280"/>
            <a:ext cx="47908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500" spc="-1" strike="noStrike">
                <a:solidFill>
                  <a:srgbClr val="2a1a00"/>
                </a:solidFill>
                <a:latin typeface="Verdana"/>
                <a:ea typeface="Verdana"/>
              </a:rPr>
              <a:t>LEERFASE 1 PERIODE 1  BOL</a:t>
            </a: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DOCENT 1 BOUKE CUPERUS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LES 1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73" name="Tijdelijke aanduiding voor voettekst 4"/>
          <p:cNvSpPr/>
          <p:nvPr/>
        </p:nvSpPr>
        <p:spPr>
          <a:xfrm>
            <a:off x="1143000" y="4869000"/>
            <a:ext cx="694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Noorderpoort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lang="nl-NL" sz="1200" spc="-1" strike="noStrike">
                <a:solidFill>
                  <a:srgbClr val="ff0000"/>
                </a:solidFill>
                <a:latin typeface="Verdana"/>
                <a:ea typeface="Verdana"/>
              </a:rPr>
              <a:t>Medische Kenni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ijdelijke aanduiding voor dianummer 5"/>
          <p:cNvSpPr/>
          <p:nvPr/>
        </p:nvSpPr>
        <p:spPr>
          <a:xfrm>
            <a:off x="680076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5FD1D2F-5DFF-4C8F-B915-0BD3D98F84CA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39528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/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aseerd op f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iker in de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oken vingerkoo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et gebaseerd op feiten maar op gevo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en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in de put z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gezond, subjectief z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astma heeft  ‘ík ben gezon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ziek, maar subjectief gez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leinste onderdeel van een organisme bevat alle genetische informat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ef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hangende cellen met dezelfde vorm en functie (dekweefsel, steunweef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werkende weefsels (b.v. ha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stel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organen die samen 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Afbeelding 1" descr=""/>
          <p:cNvPicPr/>
          <p:nvPr/>
        </p:nvPicPr>
        <p:blipFill>
          <a:blip r:embed="rId1"/>
          <a:stretch/>
        </p:blipFill>
        <p:spPr>
          <a:xfrm>
            <a:off x="3935520" y="1484280"/>
            <a:ext cx="2166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Afbeelding 1" descr=""/>
          <p:cNvPicPr/>
          <p:nvPr/>
        </p:nvPicPr>
        <p:blipFill>
          <a:blip r:embed="rId1"/>
          <a:stretch/>
        </p:blipFill>
        <p:spPr>
          <a:xfrm>
            <a:off x="700200" y="907920"/>
            <a:ext cx="77436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Afbeelding 1" descr=""/>
          <p:cNvPicPr/>
          <p:nvPr/>
        </p:nvPicPr>
        <p:blipFill>
          <a:blip r:embed="rId1"/>
          <a:stretch/>
        </p:blipFill>
        <p:spPr>
          <a:xfrm>
            <a:off x="826920" y="541440"/>
            <a:ext cx="769968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oktersassisten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oktersassistent mo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t zijn op het gebied v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ev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disch-technisch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 hebben van en inzicht hebben in acute en chronische aandoeningen inclusief kennis van de bijbehorende medicij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neesmiddelenkennis voor doktersassistent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st gebruikte genees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tijd vanuit het beroep van 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www.apotheek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armacotherapeutisch Kom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K op internet: </a:t>
            </a: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2"/>
              </a:rPr>
              <a:t>www.fk.cvz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E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ief: welke klachten heeft de pati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ief: wat is er bij onderzoek gevo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ie: klacht- / ziektediagnose/ en I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: Wat gaat er gebeuren; advies, th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IC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De International Classification of Primary Care (ICPC) is in Nederland geaccepteerd als standaard voor coderen en classificeren van klachten, symptomen en aandoeningen in de huisartspraktijk. In Nederland gebruiken huisartsen de ICPC-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https://www.nhg.org/themas/artikelen/icpc-on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65200" y="365040"/>
            <a:ext cx="7950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Leerdoele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Rechthoek 4"/>
          <p:cNvSpPr/>
          <p:nvPr/>
        </p:nvSpPr>
        <p:spPr>
          <a:xfrm>
            <a:off x="565200" y="2133720"/>
            <a:ext cx="857880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 je uitleggen dat gezondheid ook je eigen verantwoordelijkhei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de sociale media jouw kijk op gezondheid en ziekte kan beïnvlo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voorbeelden van objectieve en subjectieve beleving van gezondheid benoe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gedrag en leefstijl invloed kan hebben op 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de begrippen cellen, weefsels en organen beschrij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</a:t>
            </a:r>
            <a:br>
              <a:rPr sz="4500"/>
            </a:b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 gedrag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331640" y="3860280"/>
            <a:ext cx="71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Wat is dat eigenlijk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chrijf eens een definitie op van </a:t>
            </a:r>
            <a:r>
              <a:rPr b="0" i="1" lang="nl-NL" sz="2200" spc="-1" strike="noStrike">
                <a:solidFill>
                  <a:srgbClr val="954f72"/>
                </a:solidFill>
                <a:latin typeface="Calibri"/>
              </a:rPr>
              <a:t>gezondhei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n je zelf ook verantwoordelijk voor je eigen gezondheid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ziek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0" name="Onlinemedia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611280" y="981000"/>
            <a:ext cx="799308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: (World Health Organi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 is niet alleen de afwezigheid van ziek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ar een toestand van volkomen lichamelijk, geesteli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 maatschappelijk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ullie mening over deze defini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608040" y="817560"/>
            <a:ext cx="799308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de Defenitie voldoet niet me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idige Definitie van Gezond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zondheid is dynamisch: stelt veerkracht en zelfregie centr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324000" y="158760"/>
            <a:ext cx="8362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  <a:ea typeface="Arial"/>
              </a:rPr>
              <a:t>Gezondheid: ingewikkeld beg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(sbeleving)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ur (afrika, Islam /  Wat is normaal? Kaalheid, homoseksualiteit, zwangere vrouwen van middelbare 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voeding (waarden en nor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d waarin je leeft (opa en 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onlijk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 heb je ervoor over (hoe gezond wil je lev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iekte is niet objectief te beantwoor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57200" y="1600200"/>
            <a:ext cx="8507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Gezondheidsbevorderende facto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voedingstoe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bereikbaarheid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wikkeling wetenschap / verbreiding k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395280" y="404640"/>
            <a:ext cx="8748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563c1"/>
                </a:solidFill>
                <a:latin typeface="Arial"/>
                <a:ea typeface="Arial"/>
              </a:rPr>
              <a:t>Gezondheids bedreigende 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keerde voedingsgewoo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ei industrie – milieuverv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rn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ek aan lichaams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veilige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3:52:14Z</dcterms:created>
  <dc:creator>vredelust</dc:creator>
  <dc:description/>
  <dc:language>en-US</dc:language>
  <cp:lastModifiedBy>Bouke Cuperus</cp:lastModifiedBy>
  <dcterms:modified xsi:type="dcterms:W3CDTF">2020-09-04T13:28:46Z</dcterms:modified>
  <cp:revision>54</cp:revision>
  <dc:subject/>
  <dc:title>Gezondheid en gezond gedrag</dc:title>
</cp:coreProperties>
</file>