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5FA-14FA-4257-BFEB-3875E93B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59B7-9447-43A5-8EEA-55F535D3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C1594-A42C-40FF-AE75-3F9B8D6A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D1A1C-73EF-48B9-B223-8DB06F96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F33AB9-95BA-4D0D-A59E-DC37D789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0F79C-B476-4143-8207-013B5A75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98C90-6BEB-4D64-88E0-8530F07F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68BF2-A62F-4156-9562-CE389D78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BE532F-6815-43B9-B99F-E5626F85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84859-C382-42B6-A3D9-520E8B75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FF5EB-059B-4091-8BEF-9C6A8734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4092F0-C6C4-4068-80E5-139EAC91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3141-6876-4ACE-A52E-4FD90554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31B0BB-8CB3-436B-B617-E78E5462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C6B72-1CFB-4FA9-B509-F1294157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D6EA9-8EBF-4C52-B25A-2A96B5E7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E49AF-62A3-4DFC-B9BE-F8032818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6E1892-E112-40A1-B8DD-4FED19DA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5E8DC-E488-4BA9-80F8-9A8E07DC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86064F-BDF3-48D0-B1AC-BCC953D6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F7D29-A954-49E7-AF05-BEE483FD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E3C47-598A-49B9-99D8-D408ADAD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908871-2C55-4409-BDF2-66811959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36A-5357-476D-BD65-69DCD5C1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00496B-E93B-4913-9E61-F99B1055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AC3C2-3513-4842-80B9-28325446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81A60-4470-4FDE-BE04-7663DC9A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DB361-80C3-45E6-9DB4-23F5A6BA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2C820-8586-496E-AA2D-583B9844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5F5C9-0820-40D2-9B59-25EDE674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5D1CF-45EE-4F33-BCCE-28C5C9BC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0F19A-117E-4D42-8820-801084AC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4ED7F-C90E-4AC0-8B34-F0CACF14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58122-C614-4749-AA5E-46582778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D48E-0DBE-4A70-9D80-F0371FBA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478E2-4898-4969-931A-3B04E76A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B9887-0119-4DAA-BE18-96397589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8F900-AF92-4D10-AF1D-A89E54FB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C8FA13-33D0-48CC-84EF-52E9736D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E902C-3BBA-49CA-8048-3372C044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C2FF33-434F-4D01-93EB-16417E87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152C6D-EF8E-4F9A-961D-47F8DD4D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42CD8E-972F-4ADF-84AA-5FF5B328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FFC8F6-2846-4CD7-B215-F9E1E53A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023A7-2137-474E-9035-CC17BD9D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CBFB-5E0B-4940-8277-59A33395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3CC18-7B2D-48BD-AE29-3A2DACD0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07D97F-0DB5-4782-8FF6-AD19BB41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8ED8F-3FF2-4791-8EF1-7D1EB325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EE758F-EB19-44BB-8B3F-A8EDABBF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684E1F-76D5-4DAC-BCAD-F0B704FD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4E78-1C9D-4C51-838D-57CB8104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8B2B-6A6D-4E2B-815E-1AA58C41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D81D-E3EF-4638-A869-1E173D83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46F3-A57C-4841-BD9D-890915A9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218B-514F-48C3-9D68-B93F851C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D24-D2AD-4CA5-B392-2434A29D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B4ED-9F96-43DB-A5EF-6BEA36A2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4E01-62E8-490D-AA11-542F95C2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6BD8-62D2-485F-A8B7-A19D4C84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C59B-E081-4DAD-A872-888C27E3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E542-F101-461E-97F1-AC9EFF9D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E05C4-9AF4-42BD-98D9-0324E988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CD770-8F35-4009-A544-74B447EA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FEBBA-B845-4D9E-B50F-16492399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B58CE-02FA-4D0C-AE91-EDD9863B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1A145-0BD0-43A4-B3C1-1374EA7C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C4E-3D1E-482F-A078-405C8605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6526A-4919-447A-8BA8-CEE90397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7AEE8-9530-4402-9E2D-AA44413B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EE7E9-7525-46B8-B09D-8085B131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0C5E2-FF6A-4370-9BA3-0BF6BF59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E326C-7C49-448D-8412-2548A845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4AB37-BB38-49E2-9431-01B8960B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E1C5C-5354-4EF5-B1F7-3C62E74E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F31CD-4485-4B34-8F8F-AD9740DF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D7C63-B34F-437F-A545-CAB13649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7051F-9D00-404E-A1C4-2CC4F5B8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A156-69A3-4F70-84C5-4C684745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85773-85E7-453F-8EDB-29014BD6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D1C5E-B3EA-4618-8869-F28A851E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ACD32-0B2C-4DCC-8E83-05960EC7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C7498-C88B-4D22-A91D-C01D16C2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AF1E4-5F6D-4B71-8848-24B09195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A6A5A-6268-486A-A0F1-4F750D3C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AEBED-11A8-43C9-B496-E7F4074E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2589D-36E5-464D-97E6-48E64B81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0F3F9-5EF8-4D85-B42A-2B463B10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37610-0AE0-4EA2-9B26-1A06AE46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A97-131A-4D0C-8EFA-6A83194A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CCFA9-1B5E-4A9C-A94C-FAE1C8E3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F085A-DA1F-437F-BE8F-E07978DA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F2BB5-B580-41C1-B74D-3340279F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8846F-F50B-44D6-88DF-0711AB4D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60277-D901-4B20-B9E9-FD7556C0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9F52F-504E-41AD-801D-F0A62E61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75705-48DA-4911-8FF4-E41F6225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03653-6CFE-4187-8CAB-9D9439A6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DE2C6-5EDD-4C9D-B651-D3673840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8B2DC-A01B-47B0-856F-AB794F32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A47-9102-422B-8B71-A2864F25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DFED9-5442-4547-9C78-3D965890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B0E88-B9AC-44D0-85FD-45EBB0A8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3EE37-9108-4245-95C4-A50B4C41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31B4E-565D-42F0-A036-43BC5D8E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509A3-FD76-4D89-8494-695F9F78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8D2F7-A08B-489D-9EB0-7BDCEA9F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86C9D-C4EE-41C6-B9A1-F23AB0F4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B50C1-B4E3-4A16-9B06-A3DD42CE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D4013-A36B-4D49-8D43-4986F6F3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9D20E-D823-47E9-860A-494490D0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523-7EC2-45C4-92B2-32BF25D3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851CF-F05D-488B-8A53-9E2EF32C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A6F34-649A-4383-ADA3-92CCDA49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5F9FC-A696-4197-B5E5-D91F35C8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12B14-3007-4686-89C4-2D8B28C1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5A222-615D-432F-86A8-47DCEE4B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E321A-FD76-4C39-9F09-AB3DCFC0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ECA67-99A3-41F1-B843-BFBBD4E3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DFC03-5BDB-499B-8177-48568423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EA27C-FD6A-4564-B128-2E9CED69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296BC-2C23-45DF-B53E-C4F49FCA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37C-F096-42C0-863C-6346C2FF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CF9DC-C083-4FF3-8C16-0EE04FCF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4EE87-1DCD-42BE-B409-C3085E7C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47370-41DB-47DE-BBE3-762EC6F5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FF1DA-5B2E-47B7-91D4-93CBB5BA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5704F-007F-4603-8795-037057B7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5C4F3-2BF8-4DFD-ACA4-89597CF0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90721-96E5-4F59-9F7B-D07520F4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D0BDB-7B6B-49D5-AC1A-EC5720C7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883EC-7BEC-4CC5-9252-843D2B08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1D64F-1194-485E-9C22-11D9DC5F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92DD-95B3-40CA-9372-796B2FD9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6CD54-CAEC-4B59-8D76-B87DB4AC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B0C5E-A74A-42B8-BACD-EA6FAF16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7B755-1987-43F8-A9EA-580917AB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18614-2C6C-432B-8F18-26A0C84A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97483-1B5D-47C9-A0C6-71AB3A3D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26D1B-06A9-4BC2-AA57-101B374C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048E2-DC97-434C-9EF7-6F252D10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1820D-C7D8-420A-B513-0DD49295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58343-5D35-445C-950E-9A367322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347F8A-6C8E-4E8C-A58A-5A62C563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9BE0-A765-4576-8D54-FFF0929967C7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3655-19C5-46B1-BE92-E4F2C995D61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6BA2-F588-44B8-B053-28F0B5934F5C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AA86-746B-49E0-A4CA-783E390165C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B3E3-259F-48F3-B255-30FEA751ECA1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A785-9C6E-4794-9177-25B8CE50910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B277-44A0-46CF-9DBE-A4C2B12758FF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C951-9249-4B30-A518-BC0868792DE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5CFC-8E3D-44A5-9DA7-B019FBE84DD0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9606-1931-447F-AFBD-CD89005C296D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0B3B-0665-4B99-BC42-82EA66DE5D0F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B729-AF93-4133-81F1-636A6C8B4736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646b86"/>
                </a:solidFill>
                <a:latin typeface="Georgia"/>
              </a:rPr>
              <a:t>INLEID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646b86"/>
                </a:solidFill>
                <a:latin typeface="Georgia"/>
              </a:rPr>
              <a:t>BIJGESTELD 5-10-2017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Infectieziekte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7b9899"/>
                </a:solidFill>
                <a:latin typeface="Georgia"/>
              </a:rPr>
              <a:t>Wat kun je er aan doen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2276280"/>
            <a:ext cx="80517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ichaam zelf: aanmaak antistoffen (immuu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en medicijnen (causaal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ymptomatische behand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 viruss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rkoudheid, griep (influenza), acute darminfectie, waterpokken, gordelroos, koortslip, Pfeiffer, AIDS, meningit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Schimmels en gist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onder microscoop als dra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op aanwezig op licha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schimmels = commensale schimmel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 plaats van ziekte te veroorzaken, beschermt de commensale flora het lichaam tegen ziekteverwekkende organismen. Indien de commensale flora wordt verstoord, herstelt deze zich weer snel.   Spruw - ba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venwicht raakt verstoord door allerlei oorz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 (een ziekteverwekker van biologische oorsprong) schimmel, bijv. voetschimm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plaats, last, jeuk, week, n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schimmel: medicatie=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ntimycotica b.v. miconazol, ketoconazo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ystatine: alleen werkzaam bij inf. slijm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liezen bv : vaginaal en luieruitsla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candida – vaginitis/spruw, zwemmerseczeem, sommige huideczemen, roo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Worm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met blote oo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Aarsmade (enterobiu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Spoel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ia vingers en mo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s in omgev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uw varkensvlees/ rundvle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gewassen gro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deren in de zand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komen van zelf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ygië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ijnen: mebendazol = Vermox, madic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recept verkrijgba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Protozoa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der microscoop herkenbaar aan zweepdraadj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ncelli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einig voorkomend als ziekteverwekk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O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ra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trichomonas vaginalis,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giardia lamblia (diarree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atie (Flagyl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ntsteking / infec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ontsteking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is een (plaatselijke) reactie van het lichaam op een willekeurige schadelijke prikk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infectie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 na infectie handhaven en vermenigvuldigen van een ziekteverwekker = bacterie, virus, schimmel of gist, worm of protoz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Filmpj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Rechthoek 2"/>
          <p:cNvSpPr/>
          <p:nvPr/>
        </p:nvSpPr>
        <p:spPr>
          <a:xfrm>
            <a:off x="2286000" y="3105000"/>
            <a:ext cx="552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ttps://www.youtube.com/watch?v=Hs7qyfmtEW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Bacterië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ééncellig, onder gewone microscoop te 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werpig (staaf) of rond (kok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bacteriën = commensal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chadelijke bacteriën = pathoge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n in het lichaam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826920" y="1557360"/>
            <a:ext cx="7693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ijn, zwelling, roodheid, warmte, gestoorde functi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ukocyten als afwe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= leukocyt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+ bacteriën = infiltraa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usvorming (dode leuko’s + bac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in holte = ab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angs gangetje = fistel (geneest niet goed zelf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684000" y="549000"/>
            <a:ext cx="7908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afsterven leuko’s + bacteriën komen stoffen vrij die onze lich.temp doen stijgen = koor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orts = lichaamstemperatuur van 38°Cof hog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rectaal gemeten) oor en oraal kan is niet zo prec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acteriën in bloedbaan = sepsis = zeer hoge koorts + levensgevaar / bloedvergiftig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uperinfectie: herbesmetting/over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476280"/>
            <a:ext cx="85345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Wat kun je er aan doen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646b86"/>
                </a:solidFill>
                <a:latin typeface="Georgia"/>
              </a:rPr>
              <a:t>lichaam zelf, aanmaak antistoffen (immuun)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646b86"/>
                </a:solidFill>
                <a:latin typeface="Georgia"/>
              </a:rPr>
              <a:t>rust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646b86"/>
                </a:solidFill>
                <a:latin typeface="Georgia"/>
              </a:rPr>
              <a:t>Antibiotica: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Bacteriedodend= bactericide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Bacteriegroei remmend= bacteriostatisch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Resistentie / overgevoelighei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Voorbeelden bacteriee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ystitis (blaasontsteking)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yelonefritis (nierbekkenontsteking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neumonie (longontsteking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furunkel (steenpuis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rysipelas (wondroo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bc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e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ingitis (nekkramp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etanus/bacterie=drag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Viruss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, alleen te zien onder sterke electronenmicr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enigvuldigt zich ten koste van lichaamcel, cel breekt a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rijgekomen virus gaat naar volgende cellen, etc.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pgezette lymfeklieren, soms koorts, verder afhankelijk van ple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focyten als afwe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worden gemaakt in lymfekliere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el lymfo’s = lymfocyto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9:00:12Z</dcterms:created>
  <dc:creator>vredelust</dc:creator>
  <dc:description/>
  <dc:language>en-US</dc:language>
  <cp:lastModifiedBy>Uw naam</cp:lastModifiedBy>
  <dcterms:modified xsi:type="dcterms:W3CDTF">2017-10-05T07:22:12Z</dcterms:modified>
  <cp:revision>41</cp:revision>
  <dc:subject/>
  <dc:title>infectieziekten</dc:title>
</cp:coreProperties>
</file>