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514E5-5703-4096-861A-06C5ECBB3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9A943-1978-4A89-9C0A-7AB0A0F9F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5A8A4-B173-4DDF-A668-8107F3D4F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B72D5-BB67-4E21-A192-BD72A3CD4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C8BB4-7906-40C4-80B4-9592B3B3C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6C8A-9680-44BC-96DE-3E339CF84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1B503-DE21-4C57-B024-EAD3EC42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1D232-C237-4DE9-BD6D-86C9C71D0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D0067-761B-4E92-B4A0-2DA20BA50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20C7B-4FE7-4784-A181-4316F0D72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3E6C-2844-46F5-A9BF-361F595F1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B60B0-AB4D-4689-9752-EE0623DFF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2549-0647-4814-80EF-489242501FB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q=EHBO+verbanddozen&amp;hl=nl&amp;biw=927&amp;bih=772&amp;tbm=isch&amp;tbnid=ZNQXw2OoPBQtqM:&amp;imgrefurl=http://www.medicaleventsupport.nl/wordpress/wat-is-en-kan-mesh/&amp;docid=fNntGKGrA-wyhM&amp;imgurl=http://www.medicaleventsupport.nl/wordpress/wp-content/uploads/2012/05/ehbo.jpg&amp;w=1032&amp;h=733&amp;ei=jo9AUcDWEPOz0QWwzYHwAw&amp;zoom=1&amp;iact=hc&amp;vpx=347&amp;vpy=233&amp;dur=468&amp;hovh=189&amp;hovw=266&amp;tx=131&amp;ty=113&amp;page=2&amp;tbnh=136&amp;tbnw=191&amp;start=20&amp;ndsp=27&amp;ved=1t:429,r:22,s:0,i:14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nfjLMy-DEU&amp;feature=related" TargetMode="External"/><Relationship Id="rId2" Type="http://schemas.openxmlformats.org/officeDocument/2006/relationships/hyperlink" Target="http://www.youtube.com/watch?v=UnfjLMy-DEU&amp;feature=related" TargetMode="External"/><Relationship Id="rId3" Type="http://schemas.openxmlformats.org/officeDocument/2006/relationships/hyperlink" Target="http://www.youtube.com/watch?v=OJwMtXS4b7A" TargetMode="External"/><Relationship Id="rId4" Type="http://schemas.openxmlformats.org/officeDocument/2006/relationships/hyperlink" Target="http://www.youtube.com/watch?v=OJwMtXS4b7A" TargetMode="External"/><Relationship Id="rId5" Type="http://schemas.openxmlformats.org/officeDocument/2006/relationships/hyperlink" Target="http://www.youtube.com/watch?feature=endscreen&amp;v=Sjz870KiSmY&amp;NR=1" TargetMode="External"/><Relationship Id="rId6" Type="http://schemas.openxmlformats.org/officeDocument/2006/relationships/hyperlink" Target="http://www.google.nl/imgres?q=zwachtels+soorten&amp;hl=nl&amp;biw=927&amp;bih=772&amp;tbm=isch&amp;tbnid=ebZHNWu-X3YLSM:&amp;imgrefurl=http://pijnstiller.hulpforum.nl/forum/viewtopic.php%3Ft%3D25353&amp;docid=34eJ1uKs0VdkqM&amp;imgurl=http://i129.photobucket.com/albums/p211/trudy_2007/fotospijnstiller2/help_01_03_014-300.jpg&amp;w=300&amp;h=227&amp;ei=oZ1AUaOxKeHJ0QX4n4CgBw&amp;zoom=1&amp;iact=hc&amp;vpx=640&amp;vpy=413&amp;dur=4531&amp;hovh=181&amp;hovw=240&amp;tx=98&amp;ty=68&amp;page=4&amp;tbnh=139&amp;tbnw=185&amp;start=79&amp;ndsp=29&amp;ved=1t:429,r:90,s:0,i:352"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google.nl/imgres?q=verbandmiddelen&amp;hl=nl&amp;sa=X&amp;biw=927&amp;bih=772&amp;tbm=isch&amp;tbnid=nfwcw57CA5YdaM:&amp;imgrefurl=http://www.grotescheur.nl/wp6/2011/07/gaasjes/&amp;docid=57nFrvGe9gYkjM&amp;imgurl=http://www.grotescheur.nl/wp6/wp-content/uploads/2011/07/verbandmiddelen-013-gaas.jpg&amp;w=180&amp;h=180&amp;ei=iIZAUb26Lu6r0AXw_oHwBw&amp;zoom=1&amp;iact=hc&amp;vpx=135&amp;vpy=450&amp;dur=5469&amp;hovh=144&amp;hovw=144&amp;tx=89&amp;ty=93&amp;page=3&amp;tbnh=144&amp;tbnw=137&amp;start=44&amp;ndsp=26&amp;ved=1t:429,r:50,s:0,i:236"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bler.nl/Medias/Webshop1/Web/256081_a.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400" spc="-1" strike="noStrike">
                <a:solidFill>
                  <a:srgbClr val="000000"/>
                </a:solidFill>
                <a:latin typeface="Times New Roman"/>
              </a:rPr>
              <a:t>Verbandmiddelen</a:t>
            </a:r>
            <a:br>
              <a:rPr sz="4400"/>
            </a:br>
            <a:r>
              <a:rPr b="0" lang="nl-NL" sz="4400" spc="-1" strike="noStrike">
                <a:solidFill>
                  <a:srgbClr val="000000"/>
                </a:solidFill>
                <a:latin typeface="Times New Roman"/>
              </a:rPr>
              <a:t>en</a:t>
            </a:r>
            <a:br>
              <a:rPr sz="4400"/>
            </a:b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42"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2597040" y="1630440"/>
            <a:ext cx="19004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8763120" y="640080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 name="Rectangle 10"/>
          <p:cNvSpPr/>
          <p:nvPr/>
        </p:nvSpPr>
        <p:spPr>
          <a:xfrm>
            <a:off x="7666200" y="6469200"/>
            <a:ext cx="147780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8" descr="http://t3.gstatic.com/images?q=tbn:ANd9GcTEPc5zopQ-k2fBgM55RekFEA01EXgOOIN8SKr7kUDgnINwrnyNFA">
            <a:hlinkClick r:id="rId1"/>
          </p:cNvPr>
          <p:cNvPicPr/>
          <p:nvPr/>
        </p:nvPicPr>
        <p:blipFill>
          <a:blip r:embed="rId2"/>
          <a:stretch/>
        </p:blipFill>
        <p:spPr>
          <a:xfrm>
            <a:off x="2859120" y="4114800"/>
            <a:ext cx="342432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riekante doek voor o.a. Brede das, Mitella</a:t>
            </a:r>
            <a:br>
              <a:rPr sz="2000"/>
            </a:br>
            <a:r>
              <a:rPr b="0" lang="nl-NL" sz="2000" spc="-1" strike="noStrike" u="sng">
                <a:solidFill>
                  <a:srgbClr val="ccccff"/>
                </a:solidFill>
                <a:uFillTx/>
                <a:latin typeface="Times New Roman"/>
                <a:hlinkClick r:id="rId1"/>
              </a:rPr>
              <a:t>http://</a:t>
            </a:r>
            <a:r>
              <a:rPr b="0" lang="nl-NL" sz="2000" spc="-1" strike="noStrike" u="sng">
                <a:solidFill>
                  <a:srgbClr val="ccccff"/>
                </a:solidFill>
                <a:uFillTx/>
                <a:latin typeface="Times New Roman"/>
                <a:hlinkClick r:id="rId2"/>
              </a:rPr>
              <a:t>www.youtube.com/watch?v=UnfjLMy-DEU&amp;feature=related</a:t>
            </a:r>
            <a:br>
              <a:rPr sz="2000"/>
            </a:br>
            <a:r>
              <a:rPr b="0" lang="nl-NL" sz="2000" spc="-1" strike="noStrike" u="sng">
                <a:solidFill>
                  <a:srgbClr val="ccccff"/>
                </a:solidFill>
                <a:uFillTx/>
                <a:latin typeface="Times New Roman"/>
                <a:hlinkClick r:id="rId3"/>
              </a:rPr>
              <a:t>http://</a:t>
            </a:r>
            <a:r>
              <a:rPr b="0" lang="nl-NL" sz="2000" spc="-1" strike="noStrike" u="sng">
                <a:solidFill>
                  <a:srgbClr val="ccccff"/>
                </a:solidFill>
                <a:uFillTx/>
                <a:latin typeface="Times New Roman"/>
                <a:hlinkClick r:id="rId4"/>
              </a:rPr>
              <a:t>www.youtube.com/watch?v=OJwMtXS4b7A</a:t>
            </a:r>
            <a:r>
              <a:rPr b="0" lang="nl-NL" sz="2000" spc="-1" strike="noStrike">
                <a:solidFill>
                  <a:srgbClr val="000000"/>
                </a:solidFill>
                <a:latin typeface="Times New Roman"/>
              </a:rPr>
              <a:t>  </a:t>
            </a:r>
            <a:br>
              <a:rPr sz="2000"/>
            </a:br>
            <a:r>
              <a:rPr b="0" lang="nl-NL" sz="1800" spc="-1" strike="noStrike" u="sng">
                <a:solidFill>
                  <a:srgbClr val="ccccff"/>
                </a:solidFill>
                <a:uFillTx/>
                <a:latin typeface="Times New Roman"/>
                <a:hlinkClick r:id="rId5"/>
              </a:rPr>
              <a:t>http://www.youtube.com/watch?feature=endscreen&amp;v=Sjz870KiSmY&amp;NR=1</a:t>
            </a:r>
            <a:r>
              <a:rPr b="0" lang="nl-NL" sz="1800" spc="-1" strike="noStrike">
                <a:solidFill>
                  <a:srgbClr val="898989"/>
                </a:solidFill>
                <a:latin typeface="Times New Roman"/>
              </a:rPr>
              <a:t> </a:t>
            </a:r>
            <a:endParaRPr b="0" lang="en-US" sz="1800" spc="-1" strike="noStrike">
              <a:solidFill>
                <a:srgbClr val="000000"/>
              </a:solidFill>
              <a:latin typeface="Times New Roman"/>
            </a:endParaRPr>
          </a:p>
        </p:txBody>
      </p:sp>
      <p:sp>
        <p:nvSpPr>
          <p:cNvPr id="8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689360" y="2836800"/>
            <a:ext cx="17146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46080" y="1773360"/>
            <a:ext cx="908208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6" name="Rectangle 9"/>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http://t3.gstatic.com/images?q=tbn:ANd9GcSbPyEn3KpSgH_eRFXPCSxy04YQraJQlchI4uwkCRyFlcPIFxwn">
            <a:hlinkClick r:id="rId6"/>
          </p:cNvPr>
          <p:cNvPicPr/>
          <p:nvPr/>
        </p:nvPicPr>
        <p:blipFill>
          <a:blip r:embed="rId7"/>
          <a:stretch/>
        </p:blipFill>
        <p:spPr>
          <a:xfrm>
            <a:off x="1762200" y="2736720"/>
            <a:ext cx="4641840" cy="35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 </a:t>
            </a:r>
            <a:endParaRPr b="0" lang="en-US" sz="4400" spc="-1" strike="noStrike">
              <a:solidFill>
                <a:srgbClr val="000000"/>
              </a:solidFill>
              <a:latin typeface="Times New Roman"/>
            </a:endParaRPr>
          </a:p>
        </p:txBody>
      </p:sp>
      <p:pic>
        <p:nvPicPr>
          <p:cNvPr id="90" name="Picture 3" descr="http://www.bhv4all.nl/contents/media/verbandmiddelen_knop.jpg"/>
          <p:cNvPicPr/>
          <p:nvPr/>
        </p:nvPicPr>
        <p:blipFill>
          <a:blip r:embed="rId1"/>
          <a:stretch/>
        </p:blipFill>
        <p:spPr>
          <a:xfrm>
            <a:off x="0" y="0"/>
            <a:ext cx="1771560" cy="1314360"/>
          </a:xfrm>
          <a:prstGeom prst="rect">
            <a:avLst/>
          </a:prstGeom>
          <a:ln w="0">
            <a:noFill/>
          </a:ln>
        </p:spPr>
      </p:pic>
      <p:pic>
        <p:nvPicPr>
          <p:cNvPr id="91" name="Picture 4" descr="http://www.grotescheur.nl/wp6/wp-content/uploads/2011/07/verbandmiddelen-013-verbandschaar.jpg"/>
          <p:cNvPicPr/>
          <p:nvPr/>
        </p:nvPicPr>
        <p:blipFill>
          <a:blip r:embed="rId2"/>
          <a:stretch/>
        </p:blipFill>
        <p:spPr>
          <a:xfrm>
            <a:off x="6705720" y="0"/>
            <a:ext cx="2438280" cy="1819440"/>
          </a:xfrm>
          <a:prstGeom prst="rect">
            <a:avLst/>
          </a:prstGeom>
          <a:ln w="0">
            <a:noFill/>
          </a:ln>
        </p:spPr>
      </p:pic>
      <p:pic>
        <p:nvPicPr>
          <p:cNvPr id="92" name="Picture 5" descr="http://estvo.nl/images/t_160x1Verband hulpmiddelen set.jpg"/>
          <p:cNvPicPr/>
          <p:nvPr/>
        </p:nvPicPr>
        <p:blipFill>
          <a:blip r:embed="rId3"/>
          <a:stretch/>
        </p:blipFill>
        <p:spPr>
          <a:xfrm>
            <a:off x="31680" y="3429000"/>
            <a:ext cx="3657600" cy="3292560"/>
          </a:xfrm>
          <a:prstGeom prst="rect">
            <a:avLst/>
          </a:prstGeom>
          <a:ln w="0">
            <a:noFill/>
          </a:ln>
        </p:spPr>
      </p:pic>
      <p:pic>
        <p:nvPicPr>
          <p:cNvPr id="93" name="Picture 6" descr="http://www.maxprevent-shop.nl/data/upload/Shop/images/nitrilhandschoenen-1.jpg"/>
          <p:cNvPicPr/>
          <p:nvPr/>
        </p:nvPicPr>
        <p:blipFill>
          <a:blip r:embed="rId4"/>
          <a:stretch/>
        </p:blipFill>
        <p:spPr>
          <a:xfrm>
            <a:off x="5829480" y="3905280"/>
            <a:ext cx="3309840" cy="2949480"/>
          </a:xfrm>
          <a:prstGeom prst="rect">
            <a:avLst/>
          </a:prstGeom>
          <a:ln w="0">
            <a:noFill/>
          </a:ln>
        </p:spPr>
      </p:pic>
      <p:pic>
        <p:nvPicPr>
          <p:cNvPr id="94" name="Picture 8" descr="https://encrypted-tbn0.gstatic.com/images?q=tbn:ANd9GcQrJT_scURS8aeCR2JaetjyqbEG1c5vDx5jLMp3rYLqt53jrK8S"/>
          <p:cNvPicPr/>
          <p:nvPr/>
        </p:nvPicPr>
        <p:blipFill>
          <a:blip r:embed="rId5"/>
          <a:stretch/>
        </p:blipFill>
        <p:spPr>
          <a:xfrm>
            <a:off x="3281400" y="1603440"/>
            <a:ext cx="3044880" cy="22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96" name=""/>
          <p:cNvSpPr txBox="1"/>
          <p:nvPr/>
        </p:nvSpPr>
        <p:spPr>
          <a:xfrm>
            <a:off x="684360" y="1052640"/>
            <a:ext cx="7772400" cy="58053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ontsmettingsmiddel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andschaa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iligheidsspeld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enpincet, tekenta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linterpince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renprikke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dpac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kens: wollen -; isolatie -; blu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gwerphandschoe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beademingsmasker, beademingsdoekj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uidontsmettingsmiddelen </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reinigen van wonden volstaat schoon water. De huid rondom wonden mag schoon worden gemaakt met ontsmettingsmiddelen. Is geen water aanwezig dan kan ook de wond met ontsmettingsmiddel worden gereinig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ntsmettingsmiddelen in sprayvorm zijn ook uitstekend geschikt om de handen van de hulpverlener te ontsmett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idontsmettingsmiddele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 zijn veel soorten ontsmettingsmiddelen op basis van chloorhexidine of alcohol. Veel van deze producten zijn eigenlijk niet geschikt voor </a:t>
            </a:r>
            <a:r>
              <a:rPr b="1" lang="nl-NL" sz="3200" spc="-1" strike="noStrike">
                <a:solidFill>
                  <a:srgbClr val="000000"/>
                </a:solidFill>
                <a:latin typeface="Arial"/>
              </a:rPr>
              <a:t>in </a:t>
            </a:r>
            <a:r>
              <a:rPr b="0" lang="nl-NL" sz="3200" spc="-1" strike="noStrike">
                <a:solidFill>
                  <a:srgbClr val="000000"/>
                </a:solidFill>
                <a:latin typeface="Arial"/>
              </a:rPr>
              <a:t>de wond, maar wel voor </a:t>
            </a:r>
            <a:r>
              <a:rPr b="1" lang="nl-NL" sz="3200" spc="-1" strike="noStrike">
                <a:solidFill>
                  <a:srgbClr val="000000"/>
                </a:solidFill>
                <a:latin typeface="Arial"/>
              </a:rPr>
              <a:t>rondom </a:t>
            </a:r>
            <a:r>
              <a:rPr b="0" lang="nl-NL" sz="3200" spc="-1" strike="noStrike">
                <a:solidFill>
                  <a:srgbClr val="000000"/>
                </a:solidFill>
                <a:latin typeface="Arial"/>
              </a:rPr>
              <a:t>de wond. De middelen kunnen pijnlijk zijn en mogelijk cellen beschadi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odium(tinctuur), dat bij gebruik in de wond pijnlijk is geeft wel kans op een allergische reactie</a:t>
            </a:r>
            <a:r>
              <a:rPr b="0" lang="nl-NL" sz="4400" spc="-1" strike="noStrike">
                <a:solidFill>
                  <a:srgbClr val="000000"/>
                </a:solidFill>
                <a:latin typeface="Arial"/>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ovidonjodium (Betadine: http://betadine.nl/) heeft deze negatieve effecten niet. Over allergische reacties bij povidonjodium bestaat een misverstand. Een allergie of huidirritatie komt zelden voor en dat geldt ondanks de naam povidonjodium ook bij mensen die overgevoelig zijn voor jod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www.pcsvleiderdorp.nl/kastanjelaan/uimages/verbandtrommel.jpg"/>
          <p:cNvPicPr/>
          <p:nvPr/>
        </p:nvPicPr>
        <p:blipFill>
          <a:blip r:embed="rId1"/>
          <a:stretch/>
        </p:blipFill>
        <p:spPr>
          <a:xfrm>
            <a:off x="3048120" y="1523880"/>
            <a:ext cx="4481280" cy="4878360"/>
          </a:xfrm>
          <a:prstGeom prst="rect">
            <a:avLst/>
          </a:prstGeom>
          <a:ln w="0">
            <a:noFill/>
          </a:ln>
        </p:spPr>
      </p:pic>
      <p:grpSp>
        <p:nvGrpSpPr>
          <p:cNvPr id="104" name="Group 12"/>
          <p:cNvGrpSpPr/>
          <p:nvPr/>
        </p:nvGrpSpPr>
        <p:grpSpPr>
          <a:xfrm>
            <a:off x="457200" y="0"/>
            <a:ext cx="3048120" cy="5519160"/>
            <a:chOff x="457200" y="0"/>
            <a:chExt cx="3048120" cy="5519160"/>
          </a:xfrm>
        </p:grpSpPr>
        <p:sp>
          <p:nvSpPr>
            <p:cNvPr id="105" name="Rectangle 11"/>
            <p:cNvSpPr/>
            <p:nvPr/>
          </p:nvSpPr>
          <p:spPr>
            <a:xfrm>
              <a:off x="457200" y="0"/>
              <a:ext cx="304812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457200" y="0"/>
              <a:ext cx="3048120" cy="5519160"/>
              <a:chOff x="457200" y="0"/>
              <a:chExt cx="3048120" cy="5519160"/>
            </a:xfrm>
          </p:grpSpPr>
          <p:sp>
            <p:nvSpPr>
              <p:cNvPr id="107" name="Rectangle 3"/>
              <p:cNvSpPr/>
              <p:nvPr/>
            </p:nvSpPr>
            <p:spPr>
              <a:xfrm>
                <a:off x="457200" y="0"/>
                <a:ext cx="30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9"/>
              <p:cNvGrpSpPr/>
              <p:nvPr/>
            </p:nvGrpSpPr>
            <p:grpSpPr>
              <a:xfrm>
                <a:off x="457200" y="0"/>
                <a:ext cx="2514240" cy="5519160"/>
                <a:chOff x="457200" y="0"/>
                <a:chExt cx="2514240" cy="5519160"/>
              </a:xfrm>
            </p:grpSpPr>
            <p:sp>
              <p:nvSpPr>
                <p:cNvPr id="109" name="Rectangle 8"/>
                <p:cNvSpPr/>
                <p:nvPr/>
              </p:nvSpPr>
              <p:spPr>
                <a:xfrm>
                  <a:off x="457200" y="0"/>
                  <a:ext cx="251424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7"/>
                <p:cNvGrpSpPr/>
                <p:nvPr/>
              </p:nvGrpSpPr>
              <p:grpSpPr>
                <a:xfrm>
                  <a:off x="457200" y="0"/>
                  <a:ext cx="2513160" cy="5519160"/>
                  <a:chOff x="457200" y="0"/>
                  <a:chExt cx="2513160" cy="5519160"/>
                </a:xfrm>
              </p:grpSpPr>
              <p:sp>
                <p:nvSpPr>
                  <p:cNvPr id="111" name="Rectangle 4"/>
                  <p:cNvSpPr/>
                  <p:nvPr/>
                </p:nvSpPr>
                <p:spPr>
                  <a:xfrm>
                    <a:off x="457200" y="0"/>
                    <a:ext cx="2234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457200" y="0"/>
                    <a:ext cx="2513160" cy="55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1e3c"/>
                        </a:solidFill>
                        <a:latin typeface="Arial"/>
                        <a:ea typeface="Arial"/>
                      </a:rPr>
                      <a:t>-wondsnelverband   </a:t>
                    </a:r>
                    <a:r>
                      <a:rPr b="0" lang="nl-NL" sz="22100" spc="-1" strike="noStrike">
                        <a:solidFill>
                          <a:srgbClr val="001e3c"/>
                        </a:solidFill>
                        <a:latin typeface="Arial"/>
                        <a:ea typeface="Arial"/>
                      </a:rPr>
                      <a:t> </a:t>
                    </a:r>
                    <a:r>
                      <a:rPr b="0" lang="nl-NL" sz="900" spc="-1" strike="noStrike">
                        <a:solidFill>
                          <a:srgbClr val="001e3c"/>
                        </a:solidFill>
                        <a:latin typeface="Arial"/>
                        <a:ea typeface="Arial"/>
                      </a:rPr>
                      <a:t>                                                                                                    </a:t>
                    </a:r>
                    <a:br>
                      <a:rPr sz="900"/>
                    </a:br>
                    <a:r>
                      <a:rPr b="0" lang="nl-NL" sz="900" spc="-1" strike="noStrike">
                        <a:solidFill>
                          <a:srgbClr val="001e3c"/>
                        </a:solidFill>
                        <a:latin typeface="Arial"/>
                        <a:ea typeface="Arial"/>
                      </a:rPr>
                      <a:t>-verbandschaar</a:t>
                    </a:r>
                    <a:br>
                      <a:rPr sz="900"/>
                    </a:br>
                    <a:r>
                      <a:rPr b="0" lang="nl-NL" sz="900" spc="-1" strike="noStrike">
                        <a:solidFill>
                          <a:srgbClr val="001e3c"/>
                        </a:solidFill>
                        <a:latin typeface="Arial"/>
                        <a:ea typeface="Arial"/>
                      </a:rPr>
                      <a:t>-veiligheidsspeld</a:t>
                    </a:r>
                    <a:br>
                      <a:rPr sz="900"/>
                    </a:br>
                    <a:r>
                      <a:rPr b="0" lang="nl-NL" sz="900" spc="-1" strike="noStrike">
                        <a:solidFill>
                          <a:srgbClr val="001e3c"/>
                        </a:solidFill>
                        <a:latin typeface="Arial"/>
                        <a:ea typeface="Arial"/>
                      </a:rPr>
                      <a:t>-watten</a:t>
                    </a:r>
                    <a:br>
                      <a:rPr sz="900"/>
                    </a:br>
                    <a:r>
                      <a:rPr b="0" lang="nl-NL" sz="900" spc="-1" strike="noStrike">
                        <a:solidFill>
                          <a:srgbClr val="001e3c"/>
                        </a:solidFill>
                        <a:latin typeface="Arial"/>
                        <a:ea typeface="Arial"/>
                      </a:rPr>
                      <a:t>-driekante doek</a:t>
                    </a:r>
                    <a:br>
                      <a:rPr sz="900"/>
                    </a:br>
                    <a:r>
                      <a:rPr b="0" lang="nl-NL" sz="900" spc="-1" strike="noStrike">
                        <a:solidFill>
                          <a:srgbClr val="001e3c"/>
                        </a:solidFill>
                        <a:latin typeface="Arial"/>
                        <a:ea typeface="Arial"/>
                      </a:rPr>
                      <a:t>-zwachtel</a:t>
                    </a:r>
                    <a:br>
                      <a:rPr sz="900"/>
                    </a:br>
                    <a:r>
                      <a:rPr b="0" lang="nl-NL" sz="900" spc="-1" strike="noStrike">
                        <a:solidFill>
                          <a:srgbClr val="001e3c"/>
                        </a:solidFill>
                        <a:latin typeface="Arial"/>
                        <a:ea typeface="Arial"/>
                      </a:rPr>
                      <a:t>-steriel gaas</a:t>
                    </a:r>
                    <a:br>
                      <a:rPr sz="900"/>
                    </a:br>
                    <a:r>
                      <a:rPr b="0" lang="nl-NL" sz="900" spc="-1" strike="noStrike">
                        <a:solidFill>
                          <a:srgbClr val="001e3c"/>
                        </a:solidFill>
                        <a:latin typeface="Arial"/>
                        <a:ea typeface="Arial"/>
                      </a:rPr>
                      <a:t>-pincet</a:t>
                    </a:r>
                    <a:br>
                      <a:rPr sz="900"/>
                    </a:br>
                    <a:r>
                      <a:rPr b="0" lang="nl-NL" sz="900" spc="-1" strike="noStrike">
                        <a:solidFill>
                          <a:srgbClr val="001e3c"/>
                        </a:solidFill>
                        <a:latin typeface="Arial"/>
                        <a:ea typeface="Arial"/>
                      </a:rPr>
                      <a:t>-snelverband</a:t>
                    </a:r>
                    <a:br>
                      <a:rPr sz="900"/>
                    </a:br>
                    <a:r>
                      <a:rPr b="0" lang="nl-NL" sz="900" spc="-1" strike="noStrike">
                        <a:solidFill>
                          <a:srgbClr val="001e3c"/>
                        </a:solidFill>
                        <a:latin typeface="Arial"/>
                        <a:ea typeface="Arial"/>
                      </a:rPr>
                      <a:t>-metallineverband</a:t>
                    </a:r>
                    <a:br>
                      <a:rPr sz="900"/>
                    </a:br>
                    <a:r>
                      <a:rPr b="0" lang="nl-NL" sz="900" spc="-1" strike="noStrike">
                        <a:solidFill>
                          <a:srgbClr val="001e3c"/>
                        </a:solidFill>
                        <a:latin typeface="Arial"/>
                        <a:ea typeface="Arial"/>
                      </a:rPr>
                      <a:t>-wondpleister</a:t>
                    </a:r>
                    <a:br>
                      <a:rPr sz="900"/>
                    </a:br>
                    <a:r>
                      <a:rPr b="0" lang="nl-NL" sz="900" spc="-1" strike="noStrike">
                        <a:solidFill>
                          <a:srgbClr val="001e3c"/>
                        </a:solidFill>
                        <a:latin typeface="Arial"/>
                        <a:ea typeface="Arial"/>
                      </a:rPr>
                      <a:t>-kleefpleister</a:t>
                    </a:r>
                    <a:br>
                      <a:rPr sz="900"/>
                    </a:br>
                    <a:r>
                      <a:rPr b="0" lang="nl-NL" sz="900" spc="-1" strike="noStrike">
                        <a:solidFill>
                          <a:srgbClr val="001e3c"/>
                        </a:solidFill>
                        <a:latin typeface="Arial"/>
                        <a:ea typeface="Arial"/>
                      </a:rPr>
                      <a:t>-huidontsmettingsmiddel</a:t>
                    </a:r>
                    <a:br>
                      <a:rPr sz="900"/>
                    </a:br>
                    <a:endParaRPr b="0" lang="en-US" sz="9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 van verband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dekken van won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perken van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ven van rust en ste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leggen verbanden</a:t>
            </a:r>
            <a:endParaRPr b="0" lang="en-US" sz="4400" spc="-1" strike="noStrike">
              <a:solidFill>
                <a:srgbClr val="000000"/>
              </a:solidFill>
              <a:latin typeface="Times New Roman"/>
            </a:endParaRPr>
          </a:p>
        </p:txBody>
      </p:sp>
      <p:sp>
        <p:nvSpPr>
          <p:cNvPr id="116" name=""/>
          <p:cNvSpPr txBox="1"/>
          <p:nvPr/>
        </p:nvSpPr>
        <p:spPr>
          <a:xfrm>
            <a:off x="611280" y="1628640"/>
            <a:ext cx="7772400" cy="4896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nelverb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xa04ZF9rS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members.home.nl/jsommeling/snelverband.ht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chd.nl/nl/video/video/video_id,22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lvoorl.nl/content/snelverband-aanleggen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wonddruk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mDLxxBhieC8&amp;feature=relate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nger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KO0wgN0WWc&amp;feature=watch-vrec </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Times New Roman"/>
              </a:rPr>
              <a:t>http://www.youtube.com/watch?feature=player_detailpage&amp;v=-KO0wgN0WW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http://www.herbe.nl/herbe/images/lib/ecommerce/Verbandmiddelen.jpg"/>
          <p:cNvPicPr/>
          <p:nvPr/>
        </p:nvPicPr>
        <p:blipFill>
          <a:blip r:embed="rId1"/>
          <a:stretch/>
        </p:blipFill>
        <p:spPr>
          <a:xfrm>
            <a:off x="4800600" y="4419720"/>
            <a:ext cx="3886200" cy="1923840"/>
          </a:xfrm>
          <a:prstGeom prst="rect">
            <a:avLst/>
          </a:prstGeom>
          <a:ln w="0">
            <a:noFill/>
          </a:ln>
        </p:spPr>
      </p:pic>
      <p:pic>
        <p:nvPicPr>
          <p:cNvPr id="50" name="Picture 4" descr="http://www.dierenstages.nl/images/verbandmiddelen_140.jpg"/>
          <p:cNvPicPr/>
          <p:nvPr/>
        </p:nvPicPr>
        <p:blipFill>
          <a:blip r:embed="rId2"/>
          <a:stretch/>
        </p:blipFill>
        <p:spPr>
          <a:xfrm>
            <a:off x="819000" y="1371600"/>
            <a:ext cx="2305080" cy="2666880"/>
          </a:xfrm>
          <a:prstGeom prst="rect">
            <a:avLst/>
          </a:prstGeom>
          <a:ln w="0">
            <a:noFill/>
          </a:ln>
        </p:spPr>
      </p:pic>
      <p:pic>
        <p:nvPicPr>
          <p:cNvPr id="51" name="Picture 7" descr="Bhv verbandkoffer"/>
          <p:cNvPicPr/>
          <p:nvPr/>
        </p:nvPicPr>
        <p:blipFill>
          <a:blip r:embed="rId3"/>
          <a:stretch/>
        </p:blipFill>
        <p:spPr>
          <a:xfrm>
            <a:off x="4572000" y="990720"/>
            <a:ext cx="21495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orten verbandmaterial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die op de wond komen: het dekverb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een dekverband vastgelegd kan wor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aan het gewonde lichaamsdeel steun gegeven kan word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mige materialen zijn een combinatie van deze soort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lijk is een los niet-verklevend kompres/gaas het enige pure dekverband dat we gebrui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pleist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snelverban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deze materialen gaat het om het afdekken van de wond, maar ze hebben tegelijk de mogelijkheid het wondkussen vast te legg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a:t>
            </a:r>
            <a:endParaRPr b="0" lang="en-US" sz="4400" spc="-1" strike="noStrike">
              <a:solidFill>
                <a:srgbClr val="000000"/>
              </a:solidFill>
              <a:latin typeface="Times New Roman"/>
            </a:endParaRPr>
          </a:p>
        </p:txBody>
      </p:sp>
      <p:pic>
        <p:nvPicPr>
          <p:cNvPr id="57" name="Picture 3" descr="http://www.alberts-onderwijs.nl/content/files/images/ProductImages/medium/45164_3.jpg"/>
          <p:cNvPicPr/>
          <p:nvPr/>
        </p:nvPicPr>
        <p:blipFill>
          <a:blip r:embed="rId1"/>
          <a:stretch/>
        </p:blipFill>
        <p:spPr>
          <a:xfrm>
            <a:off x="304920" y="762120"/>
            <a:ext cx="2666880" cy="2057400"/>
          </a:xfrm>
          <a:prstGeom prst="rect">
            <a:avLst/>
          </a:prstGeom>
          <a:ln w="0">
            <a:noFill/>
          </a:ln>
        </p:spPr>
      </p:pic>
      <p:pic>
        <p:nvPicPr>
          <p:cNvPr id="58" name="Picture 4" descr="http://www.bloeddrukmeters.nu/media/catalog/product/cache/2/small_image/190x190/9df78eab33525d08d6e5fb8d27136e95/s/n/snelverband12x12.jpg"/>
          <p:cNvPicPr/>
          <p:nvPr/>
        </p:nvPicPr>
        <p:blipFill>
          <a:blip r:embed="rId2"/>
          <a:stretch/>
        </p:blipFill>
        <p:spPr>
          <a:xfrm>
            <a:off x="6189840" y="304920"/>
            <a:ext cx="2979720" cy="2979720"/>
          </a:xfrm>
          <a:prstGeom prst="rect">
            <a:avLst/>
          </a:prstGeom>
          <a:ln w="0">
            <a:noFill/>
          </a:ln>
        </p:spPr>
      </p:pic>
      <p:pic>
        <p:nvPicPr>
          <p:cNvPr id="59" name="Picture 5" descr="http://www.beautywaves.nl/20-category/verbandmiddelen.jpg"/>
          <p:cNvPicPr/>
          <p:nvPr/>
        </p:nvPicPr>
        <p:blipFill>
          <a:blip r:embed="rId3"/>
          <a:stretch/>
        </p:blipFill>
        <p:spPr>
          <a:xfrm>
            <a:off x="-1895400" y="4191120"/>
            <a:ext cx="7167600" cy="2333520"/>
          </a:xfrm>
          <a:prstGeom prst="rect">
            <a:avLst/>
          </a:prstGeom>
          <a:ln w="0">
            <a:noFill/>
          </a:ln>
        </p:spPr>
      </p:pic>
      <p:sp>
        <p:nvSpPr>
          <p:cNvPr id="60" name="Rectangle 6"/>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1082520" y="308448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3" name="Rectangle 12"/>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3"/>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10" descr="http://t0.gstatic.com/images?q=tbn:ANd9GcRBWvr3VnVfTy5NKz0Z86HYtSoX932pFLlnF-cCfnigK1eIh3ZW">
            <a:hlinkClick r:id="rId4"/>
          </p:cNvPr>
          <p:cNvPicPr/>
          <p:nvPr/>
        </p:nvPicPr>
        <p:blipFill>
          <a:blip r:embed="rId5"/>
          <a:stretch/>
        </p:blipFill>
        <p:spPr>
          <a:xfrm>
            <a:off x="3549600" y="1676520"/>
            <a:ext cx="2043000" cy="2043000"/>
          </a:xfrm>
          <a:prstGeom prst="rect">
            <a:avLst/>
          </a:prstGeom>
          <a:ln w="0">
            <a:noFill/>
          </a:ln>
        </p:spPr>
      </p:pic>
      <p:pic>
        <p:nvPicPr>
          <p:cNvPr id="66" name="Picture 14" descr="http://www.grotescheur.nl/wp6/wp-content/uploads/2011/08/verbandmiddelen-013-wondsnelverband.jpg"/>
          <p:cNvPicPr/>
          <p:nvPr/>
        </p:nvPicPr>
        <p:blipFill>
          <a:blip r:embed="rId6"/>
          <a:stretch/>
        </p:blipFill>
        <p:spPr>
          <a:xfrm>
            <a:off x="5562720" y="41911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bandgazen </a:t>
            </a:r>
            <a:endParaRPr b="0" lang="en-US" sz="4400" spc="-1" strike="noStrike">
              <a:solidFill>
                <a:srgbClr val="000000"/>
              </a:solidFill>
              <a:latin typeface="Times New Roman"/>
            </a:endParaRPr>
          </a:p>
        </p:txBody>
      </p:sp>
      <p:pic>
        <p:nvPicPr>
          <p:cNvPr id="68" name="Picture 4" descr="gaaskompressen, steriel 1/16">
            <a:hlinkClick r:id="rId2"/>
          </p:cNvPr>
          <p:cNvPicPr/>
          <p:nvPr/>
        </p:nvPicPr>
        <p:blipFill>
          <a:blip r:embed="rId3"/>
          <a:stretch/>
        </p:blipFill>
        <p:spPr>
          <a:xfrm>
            <a:off x="762120" y="1295280"/>
            <a:ext cx="2286000" cy="1635120"/>
          </a:xfrm>
          <a:prstGeom prst="rect">
            <a:avLst/>
          </a:prstGeom>
          <a:ln w="0">
            <a:noFill/>
          </a:ln>
        </p:spPr>
      </p:pic>
      <p:pic>
        <p:nvPicPr>
          <p:cNvPr id="69" name="Picture 5" descr="http://www.maxprevent-shop.nl/data/upload/Shop/images/maxpreventimage00114.jpg"/>
          <p:cNvPicPr/>
          <p:nvPr/>
        </p:nvPicPr>
        <p:blipFill>
          <a:blip r:embed="rId4"/>
          <a:stretch/>
        </p:blipFill>
        <p:spPr>
          <a:xfrm>
            <a:off x="4419720" y="3657600"/>
            <a:ext cx="4376520" cy="2903400"/>
          </a:xfrm>
          <a:prstGeom prst="rect">
            <a:avLst/>
          </a:prstGeom>
          <a:ln w="0">
            <a:noFill/>
          </a:ln>
        </p:spPr>
      </p:pic>
      <p:pic>
        <p:nvPicPr>
          <p:cNvPr id="70" name="Picture 6" descr="http://www.bhvstore.nl/media/catalog/product/cache/1/image/500x500/9df78eab33525d08d6e5fb8d27136e95/o/n/onsteriel-gaaskompres-5-x-5-cm.jpg"/>
          <p:cNvPicPr/>
          <p:nvPr/>
        </p:nvPicPr>
        <p:blipFill>
          <a:blip r:embed="rId5"/>
          <a:stretch/>
        </p:blipFill>
        <p:spPr>
          <a:xfrm>
            <a:off x="152280" y="3809880"/>
            <a:ext cx="2857680" cy="2857680"/>
          </a:xfrm>
          <a:prstGeom prst="rect">
            <a:avLst/>
          </a:prstGeom>
          <a:ln w="0">
            <a:noFill/>
          </a:ln>
        </p:spPr>
      </p:pic>
      <p:pic>
        <p:nvPicPr>
          <p:cNvPr id="71" name="Picture 7" descr="http://www.eerstehulpwiki.nl/wiki/images/thumb/0/0d/Sterielgaas.jpg/200px-Sterielgaas.jpg"/>
          <p:cNvPicPr/>
          <p:nvPr/>
        </p:nvPicPr>
        <p:blipFill>
          <a:blip r:embed="rId6"/>
          <a:stretch/>
        </p:blipFill>
        <p:spPr>
          <a:xfrm>
            <a:off x="5105520" y="121932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ten, witten en synthetische</a:t>
            </a:r>
            <a:endParaRPr b="0" lang="en-US" sz="4400" spc="-1" strike="noStrike">
              <a:solidFill>
                <a:srgbClr val="000000"/>
              </a:solidFill>
              <a:latin typeface="Times New Roman"/>
            </a:endParaRPr>
          </a:p>
        </p:txBody>
      </p:sp>
      <p:pic>
        <p:nvPicPr>
          <p:cNvPr id="73" name="Picture 9" descr="http://www.microwebedu.nl/photos/large/1017.jpg"/>
          <p:cNvPicPr/>
          <p:nvPr/>
        </p:nvPicPr>
        <p:blipFill>
          <a:blip r:embed="rId1"/>
          <a:stretch/>
        </p:blipFill>
        <p:spPr>
          <a:xfrm>
            <a:off x="0" y="1905120"/>
            <a:ext cx="3309840" cy="2481120"/>
          </a:xfrm>
          <a:prstGeom prst="rect">
            <a:avLst/>
          </a:prstGeom>
          <a:ln w="0">
            <a:noFill/>
          </a:ln>
        </p:spPr>
      </p:pic>
      <p:pic>
        <p:nvPicPr>
          <p:cNvPr id="74" name="Picture 11" descr="http://www.grotescheur.nl/wp6/wp-content/uploads/2011/03/ehbo-032-synthetische-watten.jpg"/>
          <p:cNvPicPr/>
          <p:nvPr/>
        </p:nvPicPr>
        <p:blipFill>
          <a:blip r:embed="rId2"/>
          <a:stretch/>
        </p:blipFill>
        <p:spPr>
          <a:xfrm>
            <a:off x="3962520" y="2598840"/>
            <a:ext cx="518148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eefpleister</a:t>
            </a:r>
            <a:endParaRPr b="0" lang="en-US" sz="4400" spc="-1" strike="noStrike">
              <a:solidFill>
                <a:srgbClr val="000000"/>
              </a:solidFill>
              <a:latin typeface="Times New Roman"/>
            </a:endParaRPr>
          </a:p>
        </p:txBody>
      </p:sp>
      <p:pic>
        <p:nvPicPr>
          <p:cNvPr id="76" name="Picture 3" descr="http://www.fisher-group.com/onlinewebshop/media/catalog/product/cache/1/image/9df78eab33525d08d6e5fb8d27136e95/a/f/afbeeldingM-1009__8.jpg"/>
          <p:cNvPicPr/>
          <p:nvPr/>
        </p:nvPicPr>
        <p:blipFill>
          <a:blip r:embed="rId1"/>
          <a:stretch/>
        </p:blipFill>
        <p:spPr>
          <a:xfrm>
            <a:off x="4915080" y="3886200"/>
            <a:ext cx="4228920" cy="2732040"/>
          </a:xfrm>
          <a:prstGeom prst="rect">
            <a:avLst/>
          </a:prstGeom>
          <a:ln w="0">
            <a:noFill/>
          </a:ln>
        </p:spPr>
      </p:pic>
      <p:pic>
        <p:nvPicPr>
          <p:cNvPr id="77" name="Picture 10" descr="http://ehbo-voor-iedereen.jouwweb.nl/upload/1/c/3/ehbo-voor-iedereen/kleefpleister.large.jpg"/>
          <p:cNvPicPr/>
          <p:nvPr/>
        </p:nvPicPr>
        <p:blipFill>
          <a:blip r:embed="rId2"/>
          <a:stretch/>
        </p:blipFill>
        <p:spPr>
          <a:xfrm>
            <a:off x="304920" y="1143000"/>
            <a:ext cx="4451400" cy="29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wachtels, hydrofiele en elastische</a:t>
            </a:r>
            <a:endParaRPr b="0" lang="en-US" sz="4400" spc="-1" strike="noStrike">
              <a:solidFill>
                <a:srgbClr val="000000"/>
              </a:solidFill>
              <a:latin typeface="Times New Roman"/>
            </a:endParaRPr>
          </a:p>
        </p:txBody>
      </p:sp>
      <p:pic>
        <p:nvPicPr>
          <p:cNvPr id="79" name="Picture 3" descr="http://www.zorginbeeld.nl/wp-content/gallery/zorginbeeld/verbandrol%206-1.jpg"/>
          <p:cNvPicPr/>
          <p:nvPr/>
        </p:nvPicPr>
        <p:blipFill>
          <a:blip r:embed="rId1"/>
          <a:stretch/>
        </p:blipFill>
        <p:spPr>
          <a:xfrm>
            <a:off x="228600" y="3068640"/>
            <a:ext cx="3892680" cy="2873520"/>
          </a:xfrm>
          <a:prstGeom prst="rect">
            <a:avLst/>
          </a:prstGeom>
          <a:ln w="0">
            <a:noFill/>
          </a:ln>
        </p:spPr>
      </p:pic>
      <p:pic>
        <p:nvPicPr>
          <p:cNvPr id="80" name="Picture 4" descr="http://seniorennet.nl/Pages/Nuttige_telefoonnummers/images/zwachtel1.jpg"/>
          <p:cNvPicPr/>
          <p:nvPr/>
        </p:nvPicPr>
        <p:blipFill>
          <a:blip r:embed="rId2"/>
          <a:stretch/>
        </p:blipFill>
        <p:spPr>
          <a:xfrm>
            <a:off x="5003640" y="2060640"/>
            <a:ext cx="382140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20:42:49Z</dcterms:created>
  <dc:creator>Agnieta</dc:creator>
  <dc:description/>
  <dc:language>en-US</dc:language>
  <cp:lastModifiedBy>Swaving-Pikstra,A.J.A.</cp:lastModifiedBy>
  <dcterms:modified xsi:type="dcterms:W3CDTF">2016-01-11T11:55:02Z</dcterms:modified>
  <cp:revision>16</cp:revision>
  <dc:subject/>
  <dc:title> Verbandmiddelen en Hulpmiddelen</dc:title>
</cp:coreProperties>
</file>