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EF7-C856-47A3-B7E1-5F1E69137D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01D-7B53-4662-8083-185DEFC318AC}" type="slidenum">
              <a:rPr b="0" lang="nl-NL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preventie en voorlichting algem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370-B21D-4B9F-B866-3E5155C0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320-1D40-4708-815A-8C6C7AA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54B-786F-415A-B9AA-A5252799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BB7-663D-4FC4-99EF-62AFEB60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CC0-3A65-4DBD-B2C7-EE06250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59A-0817-4A68-985A-A913E1E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7D2-21D2-44B7-AF3C-6907E30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996-CF8D-43E7-A29C-5F4E86C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795-3881-4E92-B3ED-BC4247C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D0C-AC3F-4082-B9E3-3ED7003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068-414C-4E22-B3B2-CB78D78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623-94F6-42A7-ACF9-DC5A3776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8EB2-5787-48D2-98C2-49DAEFD37916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lgemen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VENTIE &amp; VOORLIC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HM00180_0000[1]"/>
          <p:cNvPicPr/>
          <p:nvPr/>
        </p:nvPicPr>
        <p:blipFill>
          <a:blip r:embed="rId1"/>
          <a:stretch/>
        </p:blipFill>
        <p:spPr>
          <a:xfrm>
            <a:off x="2124000" y="2421000"/>
            <a:ext cx="4583160" cy="86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 jij als tandartsassist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Folders ivoren kruis…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Opdracht: zie taa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4 B’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angr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een hoofdzak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kbaa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is toepasba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grijpel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en vakjarg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klijve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blijft hangen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ar moet je op lette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oorlichtingsmodel;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staa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egrijp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en (kunnen!!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blijven 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atwerk in gespreksv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unicatiepro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26920" y="37893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A                      boodschap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12000" y="3789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4360" y="551664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A                  boodscha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84720" y="5516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55640" y="44370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932360" y="400536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H="1">
            <a:off x="4788000" y="5734080"/>
            <a:ext cx="122400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2268000" y="5734080"/>
            <a:ext cx="100836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156360" y="4437000"/>
            <a:ext cx="136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s attent o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erbaal / non-verba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S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uisteren (actief)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amenvatten       )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empathi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orvragen       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547640" y="2205000"/>
            <a:ext cx="6264360" cy="2471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folder</a:t>
            </a: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als geheugensteu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f nooit een folder mee zonder uitleg, </a:t>
            </a: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us is een folder rek in de wachtkamer zinvol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etsinstr2"/>
          <p:cNvPicPr/>
          <p:nvPr/>
        </p:nvPicPr>
        <p:blipFill>
          <a:blip r:embed="rId1"/>
          <a:stretch/>
        </p:blipFill>
        <p:spPr>
          <a:xfrm>
            <a:off x="324000" y="2238480"/>
            <a:ext cx="266364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oetsinstr3"/>
          <p:cNvPicPr/>
          <p:nvPr/>
        </p:nvPicPr>
        <p:blipFill>
          <a:blip r:embed="rId2"/>
          <a:stretch/>
        </p:blipFill>
        <p:spPr>
          <a:xfrm>
            <a:off x="3132000" y="2270160"/>
            <a:ext cx="26766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oetsinstr4"/>
          <p:cNvPicPr/>
          <p:nvPr/>
        </p:nvPicPr>
        <p:blipFill>
          <a:blip r:embed="rId3"/>
          <a:stretch/>
        </p:blipFill>
        <p:spPr>
          <a:xfrm>
            <a:off x="6006960" y="2281320"/>
            <a:ext cx="3036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voorkomen van…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treffen van maatregelen 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zodat iets dat je niet wilt,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ok niet gebeu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 e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zond …….. afwijking/ziek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zond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. afwijking/ziekte               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.  verergering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plica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843280" y="2060640"/>
            <a:ext cx="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6804000" y="263700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5003640" y="4581360"/>
            <a:ext cx="0" cy="648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rim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secund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terti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(bijv. cariës en parodontiti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roegtijdig opsporen tijdens afwijkingen (half) jaarlijkse contro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verergeren of complicati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908000" y="1125360"/>
            <a:ext cx="5904000" cy="3530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GEEN PREVENTIE ZONDER GOEDE VOORLICHT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Invloed is gedrag patië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547640" y="2060640"/>
            <a:ext cx="6264360" cy="4173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oede voorlichting stelt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in staat om goede weloverwogen keuzes te maken en die na te leve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erdoor worden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minder afhankelijk van zorgverleners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87280" y="62064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VOORLICHTING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voorlich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tijd gericht 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dragsvera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zond gedrag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ndigheid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apietrouw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gerustheid en angst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kosten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stbus 5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mpenbestrijd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riepvaccinat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rij veili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kiezin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coholpreven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ien en gezien worden in het verke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32720" y="476280"/>
            <a:ext cx="2232000" cy="20372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ezond gedra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ondighei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rapietrou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gerustheid/angs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Koste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Voorbeelden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Opdracht ga 10 min. Door school lopen en wat valt je op aan posters en voorlich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Picture 13" descr="alcoholcampagne"/>
          <p:cNvPicPr/>
          <p:nvPr/>
        </p:nvPicPr>
        <p:blipFill>
          <a:blip r:embed="rId1"/>
          <a:stretch/>
        </p:blipFill>
        <p:spPr>
          <a:xfrm>
            <a:off x="2771640" y="3068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top-smoking"/>
          <p:cNvPicPr/>
          <p:nvPr/>
        </p:nvPicPr>
        <p:blipFill>
          <a:blip r:embed="rId2"/>
          <a:stretch/>
        </p:blipFill>
        <p:spPr>
          <a:xfrm rot="550200">
            <a:off x="6372360" y="404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poster%20licht%20aan_tcm20-159031"/>
          <p:cNvPicPr/>
          <p:nvPr/>
        </p:nvPicPr>
        <p:blipFill>
          <a:blip r:embed="rId3"/>
          <a:stretch/>
        </p:blipFill>
        <p:spPr>
          <a:xfrm rot="20701800">
            <a:off x="971640" y="4005360"/>
            <a:ext cx="15382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31%20mei%2006(1)"/>
          <p:cNvPicPr/>
          <p:nvPr/>
        </p:nvPicPr>
        <p:blipFill>
          <a:blip r:embed="rId4"/>
          <a:stretch/>
        </p:blipFill>
        <p:spPr>
          <a:xfrm>
            <a:off x="5364000" y="306864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5:46:46Z</dcterms:created>
  <dc:creator>Gees Planten</dc:creator>
  <dc:description/>
  <dc:language>en-US</dc:language>
  <cp:lastModifiedBy>Franke-van Kleef,G.</cp:lastModifiedBy>
  <dcterms:modified xsi:type="dcterms:W3CDTF">2013-02-03T10:52:46Z</dcterms:modified>
  <cp:revision>39</cp:revision>
  <dc:subject/>
  <dc:title>PREVENTIE &amp; VOORLICHTING</dc:title>
</cp:coreProperties>
</file>