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8E6A-088C-4F44-A9E8-1FE48C24B6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48A7-A8C5-4722-BBE2-DB0E1FF8F40C}" type="slidenum">
              <a:rPr b="0" lang="nl-NL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preventie en voorlichting algem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005-D1F6-44C1-85A6-02E8689D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FD5-EE98-4B96-922D-9910FB48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733-F69A-4421-A780-FE990B1C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679-DE81-4B23-992A-302B0AF9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0B3-3424-4FE3-A460-5E5DCD2D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CAB-EA8D-4640-833C-4E61B9E8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98B-8E19-4D0E-99E5-C5382A1E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7F8-02F6-45A7-9E5C-2012FC37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651-DA00-45C1-8E26-1AD2961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109-1144-401E-82AB-350B058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65E-C7A1-4677-BE67-928D9AA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B57-C7D6-4D9A-A047-DC03F5E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760-BDFA-4863-910C-576DA1C3B84E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lgemen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EVENTIE &amp; VOORLIC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HM00180_0000[1]"/>
          <p:cNvPicPr/>
          <p:nvPr/>
        </p:nvPicPr>
        <p:blipFill>
          <a:blip r:embed="rId1"/>
          <a:stretch/>
        </p:blipFill>
        <p:spPr>
          <a:xfrm>
            <a:off x="2124000" y="2421000"/>
            <a:ext cx="4583160" cy="86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 jij als tandartsassist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Arial"/>
              </a:rPr>
              <a:t>Folders ivoren kruis…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Arial"/>
              </a:rPr>
              <a:t>Opdracht: zie taa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4 B’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angrij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een hoofdzak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ikbaa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fo is toepasba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grijpelij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en vakjarg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klijve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fo blijft hangen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elinge voorl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ar moet je op lette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oorlichtingsmodel;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staa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egrijp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en (kunnen!!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blijven do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delinge voorlich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atwerk in gespreksv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municatieproc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26920" y="378936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zender A                      boodschap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12000" y="3789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tvanger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4360" y="551664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tvanger A                  boodschap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084720" y="5516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zender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755640" y="44370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g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terpret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waarnem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932360" y="400536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H="1">
            <a:off x="4788000" y="5734080"/>
            <a:ext cx="122400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2268000" y="5734080"/>
            <a:ext cx="100836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156360" y="4437000"/>
            <a:ext cx="136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waarnem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terpret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g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s attent o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i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erbaal / non-verba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S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uisteren (actief)  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amenvatten       )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empathi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orvragen         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547640" y="2205000"/>
            <a:ext cx="6264360" cy="2471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folder</a:t>
            </a: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als geheugensteu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f nooit een folder mee zonder uitleg, </a:t>
            </a: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us is een folder rek in de wachtkamer zinvol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etsinstr2"/>
          <p:cNvPicPr/>
          <p:nvPr/>
        </p:nvPicPr>
        <p:blipFill>
          <a:blip r:embed="rId1"/>
          <a:stretch/>
        </p:blipFill>
        <p:spPr>
          <a:xfrm>
            <a:off x="324000" y="2238480"/>
            <a:ext cx="266364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oetsinstr3"/>
          <p:cNvPicPr/>
          <p:nvPr/>
        </p:nvPicPr>
        <p:blipFill>
          <a:blip r:embed="rId2"/>
          <a:stretch/>
        </p:blipFill>
        <p:spPr>
          <a:xfrm>
            <a:off x="3132000" y="2270160"/>
            <a:ext cx="26766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oetsinstr4"/>
          <p:cNvPicPr/>
          <p:nvPr/>
        </p:nvPicPr>
        <p:blipFill>
          <a:blip r:embed="rId3"/>
          <a:stretch/>
        </p:blipFill>
        <p:spPr>
          <a:xfrm>
            <a:off x="6006960" y="2281320"/>
            <a:ext cx="3036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t voorkomen van…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t treffen van maatregelen 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zodat iets dat je niet wilt,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ok niet gebeur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2 e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zond …….. afwijking/ziek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i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zond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lachten ……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. afwijking/ziekte               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e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lachten ……..  verergering o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plicat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843280" y="2060640"/>
            <a:ext cx="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6804000" y="2637000"/>
            <a:ext cx="0" cy="576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5003640" y="4581360"/>
            <a:ext cx="0" cy="648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rim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secund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terti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oorkomen van (bijv. cariës en parodontiti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roegtijdig opsporen tijdens afwijkingen (half) jaarlijkse contro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oorkomen van verergeren of complicati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908000" y="1125360"/>
            <a:ext cx="5904000" cy="3530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GEEN PREVENTIE ZONDER GOEDE VOORLICHT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Invloed is gedrag patië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547640" y="2060640"/>
            <a:ext cx="6264360" cy="4173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oede voorlichting stelt pati</a:t>
            </a:r>
            <a:r>
              <a:rPr b="0" lang="nl-NL" sz="2800" spc="-1" strike="noStrike">
                <a:solidFill>
                  <a:srgbClr val="003399"/>
                </a:solidFill>
                <a:latin typeface="Arial"/>
              </a:rPr>
              <a:t>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ten in staat om goede weloverwogen keuzes te maken en die na te leve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erdoor worden pati</a:t>
            </a:r>
            <a:r>
              <a:rPr b="0" lang="nl-NL" sz="2800" spc="-1" strike="noStrike">
                <a:solidFill>
                  <a:srgbClr val="003399"/>
                </a:solidFill>
                <a:latin typeface="Arial"/>
              </a:rPr>
              <a:t>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ten minder afhankelijk van zorgverleners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87280" y="62064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VOORLICHTING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voorlich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ltijd gericht 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dragsvera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zond gedrag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ndigheid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apietrouw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gerustheid en angst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kosten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ostbus 5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mpenbestrijd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riepvaccinat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rij veili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kiezin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coholprevent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ien en gezien worden in het verke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732720" y="476280"/>
            <a:ext cx="2232000" cy="20372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ezond gedra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ondighei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rapietrou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gerustheid/angs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Koste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Voorbeelden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Opdracht ga 10 min. Door school lopen en wat valt je op aan posters en voorlich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Picture 13" descr="alcoholcampagne"/>
          <p:cNvPicPr/>
          <p:nvPr/>
        </p:nvPicPr>
        <p:blipFill>
          <a:blip r:embed="rId1"/>
          <a:stretch/>
        </p:blipFill>
        <p:spPr>
          <a:xfrm>
            <a:off x="2771640" y="3068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top-smoking"/>
          <p:cNvPicPr/>
          <p:nvPr/>
        </p:nvPicPr>
        <p:blipFill>
          <a:blip r:embed="rId2"/>
          <a:stretch/>
        </p:blipFill>
        <p:spPr>
          <a:xfrm rot="550200">
            <a:off x="6372360" y="404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poster%20licht%20aan_tcm20-159031"/>
          <p:cNvPicPr/>
          <p:nvPr/>
        </p:nvPicPr>
        <p:blipFill>
          <a:blip r:embed="rId3"/>
          <a:stretch/>
        </p:blipFill>
        <p:spPr>
          <a:xfrm rot="20701800">
            <a:off x="971640" y="4005360"/>
            <a:ext cx="153828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31%20mei%2006(1)"/>
          <p:cNvPicPr/>
          <p:nvPr/>
        </p:nvPicPr>
        <p:blipFill>
          <a:blip r:embed="rId4"/>
          <a:stretch/>
        </p:blipFill>
        <p:spPr>
          <a:xfrm>
            <a:off x="5364000" y="306864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5:46:46Z</dcterms:created>
  <dc:creator>Gees Planten</dc:creator>
  <dc:description/>
  <dc:language>en-US</dc:language>
  <cp:lastModifiedBy>Franke-van Kleef,G.</cp:lastModifiedBy>
  <dcterms:modified xsi:type="dcterms:W3CDTF">2013-02-03T10:52:46Z</dcterms:modified>
  <cp:revision>39</cp:revision>
  <dc:subject/>
  <dc:title>PREVENTIE &amp; VOORLICHTING</dc:title>
</cp:coreProperties>
</file>