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7.png" ContentType="image/png"/>
  <Override PartName="/ppt/media/image53.png" ContentType="image/png"/>
  <Override PartName="/ppt/media/image56.jpeg" ContentType="image/jpeg"/>
  <Override PartName="/ppt/media/image52.png" ContentType="image/png"/>
  <Override PartName="/ppt/media/image51.png" ContentType="image/png"/>
  <Override PartName="/ppt/media/image49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58.png" ContentType="image/png"/>
  <Override PartName="/ppt/media/image55.png" ContentType="image/png"/>
  <Override PartName="/ppt/media/image20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38.png" ContentType="image/png"/>
  <Override PartName="/ppt/media/image59.png" ContentType="image/png"/>
  <Override PartName="/ppt/media/image24.jpeg" ContentType="image/jpeg"/>
  <Override PartName="/ppt/media/image16.jpeg" ContentType="image/jpeg"/>
  <Override PartName="/ppt/media/image60.png" ContentType="image/png"/>
  <Override PartName="/ppt/media/image28.jpeg" ContentType="image/jpeg"/>
  <Override PartName="/ppt/media/image62.png" ContentType="image/png"/>
  <Override PartName="/ppt/media/image73.png" ContentType="image/png"/>
  <Override PartName="/ppt/media/image32.jpeg" ContentType="image/jpeg"/>
  <Override PartName="/ppt/media/image72.png" ContentType="image/png"/>
  <Override PartName="/ppt/media/image23.png" ContentType="image/png"/>
  <Override PartName="/ppt/media/image70.png" ContentType="image/png"/>
  <Override PartName="/ppt/media/image64.jpeg" ContentType="image/jpeg"/>
  <Override PartName="/ppt/media/image6.jpeg" ContentType="image/jpeg"/>
  <Override PartName="/ppt/media/image71.png" ContentType="image/png"/>
  <Override PartName="/ppt/media/image29.png" ContentType="image/png"/>
  <Override PartName="/ppt/media/image2.png" ContentType="image/png"/>
  <Override PartName="/ppt/media/image14.png" ContentType="image/png"/>
  <Override PartName="/ppt/media/image18.png" ContentType="image/png"/>
  <Override PartName="/ppt/media/image42.jpeg" ContentType="image/jpeg"/>
  <Override PartName="/ppt/media/image25.png" ContentType="image/png"/>
  <Override PartName="/ppt/media/image69.png" ContentType="image/png"/>
  <Override PartName="/ppt/media/image67.jpeg" ContentType="image/jpeg"/>
  <Override PartName="/ppt/media/image21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74.png" ContentType="image/png"/>
  <Override PartName="/ppt/media/image61.jpeg" ContentType="image/jpeg"/>
  <Override PartName="/ppt/media/image63.png" ContentType="image/png"/>
  <Override PartName="/ppt/media/image15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6.jpeg" ContentType="image/jpeg"/>
  <Override PartName="/ppt/media/image5.jpeg" ContentType="image/jpeg"/>
  <Override PartName="/ppt/media/image50.png" ContentType="image/png"/>
  <Override PartName="/ppt/media/image8.png" ContentType="image/png"/>
  <Override PartName="/ppt/media/image17.png" ContentType="image/png"/>
  <Override PartName="/ppt/media/image39.jpeg" ContentType="image/jpeg"/>
  <Override PartName="/ppt/media/image1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75.png" ContentType="image/png"/>
  <Override PartName="/ppt/media/image22.jpeg" ContentType="image/jpeg"/>
  <Override PartName="/ppt/media/image9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11.png" ContentType="image/png"/>
  <Override PartName="/ppt/media/image30.jpeg" ContentType="image/jpeg"/>
  <Override PartName="/ppt/media/image35.png" ContentType="image/png"/>
  <Override PartName="/ppt/media/image43.jpeg" ContentType="image/jpeg"/>
  <Override PartName="/ppt/media/image36.png" ContentType="image/png"/>
  <Override PartName="/ppt/media/image37.jpeg" ContentType="image/jpeg"/>
  <Override PartName="/ppt/media/image40.jpeg" ContentType="image/jpeg"/>
  <Override PartName="/ppt/media/image4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074F-7A55-49DD-9F08-805FD2F5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7BE-F514-477A-87AB-2EEE7F3E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60D-4D10-4717-AAC7-E13625AF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1DB4-E524-494E-863E-DF657198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A2FE-2031-4B58-A751-12D090AC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7F8A-2FBC-4CAD-9599-97EB85A0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69C8-3F40-45CC-AD5C-9D98B6A1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B51F-659E-44E8-A7AB-4B61F101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FFBA-1093-438D-BDBB-9F57503B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D4DD-C0DF-4487-9213-7A8B48FB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CC7B-12FA-49D5-8289-6A6F744D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50F-A579-405F-9A8B-8F15688E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276A-8C28-4D66-AEEB-11740A40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BA2E-91CB-4333-9622-3E6C4092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9BA7-CC7F-45D4-8AD0-E2EE8C7B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A97D-87EA-496D-9A4C-07FA20E3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DD4C-0D5C-4C17-B0F2-6C816570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3E1A2-F4AC-43E3-9904-04FDDFE6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8909F-4271-4236-A7FD-B206D4F8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DDC70-0658-46C3-AD53-5F18CED6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13C17-DC04-46F7-985C-AC0C2597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A4E53-A2BB-4951-9D49-FACD02F8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4380-116A-4B30-AF0F-0C441BB7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0A068-5F34-4730-B055-DE43367D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8F133-8E7E-45F2-AE3C-FC7F7CAF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1129C-3A13-4043-A55A-2EC12C6C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7B4FD-6C0F-45EC-B6B5-0BC73546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810A3-0F12-4E84-BD88-45FF9FAA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36126-E318-407C-8526-F4EEF1E7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78E3C-A256-4E72-9E7D-B2028913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41470-DD4B-469B-A605-D93936E8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92FED-9B80-4C4E-8D09-AC5BF9EB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D0E62-3C50-4ABC-8CB9-B84A339B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398E-0324-4A22-9704-3E445BBA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0ECE0-0C26-412E-BB4D-F2083063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05572-293C-4D11-964D-08C3EBF7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AA8B3-24E5-401D-A2A9-B24A02E3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60AFB-0023-4330-A0AC-5B6B2AB4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E6BBF-116D-4DA3-8988-BCA69819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13D19-D131-48C7-9B85-B4206E13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B5D89-D41E-4188-A896-0CEF5C24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981A9-1B96-44FB-9F2F-2DDF22DF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979FD-59C4-4D61-AC51-7DC48768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F62D4-6BEB-44F1-A98D-656DECB6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34E4-40A8-430B-8749-0CE84A80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3AA46-CFCB-434B-B669-EA671C14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BAFA8-81FB-48AC-B9E7-04937FA9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04F7F-FCE8-4727-ACC6-88086CFF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E2DC9-F1C3-4E5A-9A57-8AA6D917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807A7-C3A1-491C-A4ED-5C4453F2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FEDD7-7A78-4E22-B81B-3AD4B918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C1601-DE6F-41AE-8F56-9941906F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5F745-70A9-4B9C-9394-263EBCD9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421BD-D319-4A11-A752-4C6DCD61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E16EB-14AF-4A55-890E-32530577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B667-212F-4E5F-9749-5BD99A52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FEDB6-AC2D-4EA4-9450-24D7DEBF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A3F3A-B231-47B8-B972-A2A4DD99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68A08-E147-4A1B-8096-D436D3A5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DAAE6-E70E-432E-B173-D7DF4505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46ACC-3E51-4C7C-A653-3C6F9B03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FB038-AE81-491D-AF18-25F5A780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67F1C-A060-4B5D-A3A6-CD54047B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DD437-D1DD-427A-99F6-D97660F3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A97B6-93D8-46BC-B62D-90A292CE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B287E-F3A7-4371-9D59-E899068C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66F-67C1-40E3-ABCE-D14EAC0B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4382B-2CD8-4AA8-B447-7F37C783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FCF16-2BDB-4834-BEBB-2247CEF4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9869B-72EF-44E5-A19A-0D9B8D46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2FC39-F21E-49F0-8A72-FA778D92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E9C32-1DF2-40AA-B77F-7E66B22F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D8043-2F9B-470C-8AFE-6F3FC90D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70213-EC03-4CFC-AD36-5ED6BAD7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04FCC-3422-4EB2-842D-6B2AB2FB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B4482-712B-43E7-B559-49C4E76B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B37F9-2B18-4270-A130-0C588E9B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6CD-1B08-49C1-A213-D153259E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4186A-8BB4-43F8-9C85-016C181E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A3F7D-3AD0-4DDB-9827-707DF95B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69ADE-6936-4857-B083-583EB092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BE700-3448-4FF6-9C21-3BD5404E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B2679-F8F7-4067-B0E7-8CA04AA5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D48DD-1942-43E0-8F96-C73BA2FA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56984-3F95-483D-8AD6-62ACEE64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43403-54C9-4186-89F7-5DCCC8FF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B1B19-EE71-43E6-8F6E-39AB9C4F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A5E17-2F82-474F-A617-9D747C3E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DDE9-110F-4784-AA1B-3FBEEBC1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09ECE-E293-46AD-B701-BE5C385B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14D4F-0231-4602-9011-30A1D73A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8D748-41CC-45DD-8BF3-7B59AB7A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4866A-2CEC-4A72-B412-7317640D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93EBF-F60A-4B21-A02B-86DE31A7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20C61-7111-4CAA-8FF9-BF37AA1F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FA91E-61DD-49B6-914C-1AC04056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12FE-2B4C-4B18-9F5C-2CD79195D18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d004e"/>
              </a:gs>
              <a:gs pos="50000">
                <a:srgbClr val="ff4192"/>
              </a:gs>
              <a:gs pos="100000">
                <a:srgbClr val="cd004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f9eb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9D01-2BB5-4569-9846-9BECF42C31B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7362-A00E-470C-A361-5D3443A39A8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235C-3FDE-47F3-B491-EF0315454DB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127B-0C43-4695-948B-47F5756B4B3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626C-D2DB-4F02-B0CE-E2C84BAEC95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24C4-B7B2-4D6A-931F-E1809C6F73F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CB91-CB77-4C19-9E6C-9687F4220A3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755640" y="90792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388c"/>
                </a:solidFill>
                <a:latin typeface="Lucida Sans Unicode"/>
              </a:rPr>
              <a:t>Poetsinstructie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388c"/>
                </a:solidFill>
                <a:latin typeface="Lucida Sans Unicode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388c"/>
                </a:solidFill>
                <a:latin typeface="Lucida Sans Unicode"/>
              </a:rPr>
              <a:t>Interdentale reiniging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Ondertitel 2"/>
          <p:cNvSpPr/>
          <p:nvPr/>
        </p:nvSpPr>
        <p:spPr>
          <a:xfrm>
            <a:off x="901800" y="3827520"/>
            <a:ext cx="777240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666666"/>
                </a:solidFill>
                <a:latin typeface="Lucida Sans Unicode"/>
              </a:rPr>
              <a:t>D.Dogger en M. Wilpst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8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259236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instructie1bovenkaak-binnen"/>
          <p:cNvPicPr/>
          <p:nvPr/>
        </p:nvPicPr>
        <p:blipFill>
          <a:blip r:embed="rId2"/>
          <a:stretch/>
        </p:blipFill>
        <p:spPr>
          <a:xfrm>
            <a:off x="2700360" y="1628640"/>
            <a:ext cx="39862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instrcutie2-bovenkaak-buite"/>
          <p:cNvPicPr/>
          <p:nvPr/>
        </p:nvPicPr>
        <p:blipFill>
          <a:blip r:embed="rId2"/>
          <a:stretch/>
        </p:blipFill>
        <p:spPr>
          <a:xfrm>
            <a:off x="2556000" y="1844640"/>
            <a:ext cx="46083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instrcutie3-bovenkaak-boven"/>
          <p:cNvPicPr/>
          <p:nvPr/>
        </p:nvPicPr>
        <p:blipFill>
          <a:blip r:embed="rId2"/>
          <a:stretch/>
        </p:blipFill>
        <p:spPr>
          <a:xfrm>
            <a:off x="2195640" y="1773360"/>
            <a:ext cx="42480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onderkaak-achter"/>
          <p:cNvPicPr/>
          <p:nvPr/>
        </p:nvPicPr>
        <p:blipFill>
          <a:blip r:embed="rId2"/>
          <a:stretch/>
        </p:blipFill>
        <p:spPr>
          <a:xfrm>
            <a:off x="2411280" y="1844640"/>
            <a:ext cx="47530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bovenkaak-achter"/>
          <p:cNvPicPr/>
          <p:nvPr/>
        </p:nvPicPr>
        <p:blipFill>
          <a:blip r:embed="rId2"/>
          <a:stretch/>
        </p:blipFill>
        <p:spPr>
          <a:xfrm>
            <a:off x="2411280" y="1628640"/>
            <a:ext cx="453708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666666"/>
                </a:solidFill>
                <a:latin typeface="Lucida Sans Unicode"/>
              </a:rPr>
              <a:t>Elektrisch poetsen</a:t>
            </a: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tandenborstel maakt de juiste poetsbeweg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lledige concentratie op plaatsing borstelko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borstelkop is klein en komt daardoor beter bij de moeilijk bereikbare plaats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inder vermoeie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t een elektrische tandenborstel poets je meestal langer, waardoor je gebit vaak ook schoner word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et trillen van de borst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osten aanschaf tandenborstel en vervanging van de borstelkopj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tandenborstel is kwetsbaarder doordat deze een ingewikkeld stukje techniek bev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scillerende-roterende (ronddraaiend heen-en-weergaan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onische (zijwaarts heen-en-weergaan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ccugeladen elektrische tandenborst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lektrische tandenborstel op batterij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imer (2 min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De beste tandenborstel is die borstel die je graag gebruikt!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volg-de-vorm-van-uw-tanden"/>
          <p:cNvPicPr/>
          <p:nvPr/>
        </p:nvPicPr>
        <p:blipFill>
          <a:blip r:embed="rId2"/>
          <a:stretch/>
        </p:blipFill>
        <p:spPr>
          <a:xfrm>
            <a:off x="2411280" y="1773360"/>
            <a:ext cx="4160880" cy="45352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7"/>
          <p:cNvSpPr/>
          <p:nvPr/>
        </p:nvSpPr>
        <p:spPr>
          <a:xfrm>
            <a:off x="5651640" y="5805360"/>
            <a:ext cx="30240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In een hoek van 90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°</a:t>
            </a:r>
            <a:r>
              <a:rPr b="1" lang="nl-NL" sz="3700" spc="-1" strike="noStrike">
                <a:solidFill>
                  <a:srgbClr val="666666"/>
                </a:solidFill>
                <a:latin typeface="Lucida Sans Unicode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"/>
          <p:cNvPicPr/>
          <p:nvPr/>
        </p:nvPicPr>
        <p:blipFill>
          <a:blip r:embed="rId1"/>
          <a:stretch/>
        </p:blipFill>
        <p:spPr>
          <a:xfrm>
            <a:off x="7207200" y="4437000"/>
            <a:ext cx="1182600" cy="2116080"/>
          </a:xfrm>
          <a:prstGeom prst="rect">
            <a:avLst/>
          </a:prstGeom>
          <a:ln w="0">
            <a:noFill/>
          </a:ln>
        </p:spPr>
      </p:pic>
      <p:pic>
        <p:nvPicPr>
          <p:cNvPr id="374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oets twee maal per d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inimaal 2 minuten per ke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ij voorkeur na het ontbijt en voor het slapen ga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t een vaste poetsvolgorde a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ijvoorbeeld: binnenkant, buitenkant, bovenk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hou-een-vast-volgorde-aan"/>
          <p:cNvPicPr/>
          <p:nvPr/>
        </p:nvPicPr>
        <p:blipFill>
          <a:blip r:embed="rId2"/>
          <a:stretch/>
        </p:blipFill>
        <p:spPr>
          <a:xfrm>
            <a:off x="2268360" y="1700280"/>
            <a:ext cx="460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onderkaak-achterkant"/>
          <p:cNvPicPr/>
          <p:nvPr/>
        </p:nvPicPr>
        <p:blipFill>
          <a:blip r:embed="rId2"/>
          <a:stretch/>
        </p:blipFill>
        <p:spPr>
          <a:xfrm>
            <a:off x="2771640" y="1628640"/>
            <a:ext cx="460872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onderkaak-binnenkant"/>
          <p:cNvPicPr/>
          <p:nvPr/>
        </p:nvPicPr>
        <p:blipFill>
          <a:blip r:embed="rId2"/>
          <a:stretch/>
        </p:blipFill>
        <p:spPr>
          <a:xfrm>
            <a:off x="2195640" y="1628640"/>
            <a:ext cx="48243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onderkaak-buitenkant"/>
          <p:cNvPicPr/>
          <p:nvPr/>
        </p:nvPicPr>
        <p:blipFill>
          <a:blip r:embed="rId2"/>
          <a:stretch/>
        </p:blipFill>
        <p:spPr>
          <a:xfrm>
            <a:off x="2627280" y="1268280"/>
            <a:ext cx="5041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onderkaak-bovenop"/>
          <p:cNvPicPr/>
          <p:nvPr/>
        </p:nvPicPr>
        <p:blipFill>
          <a:blip r:embed="rId2"/>
          <a:stretch/>
        </p:blipFill>
        <p:spPr>
          <a:xfrm>
            <a:off x="2195640" y="1413000"/>
            <a:ext cx="48243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bovenkaak-achterkant"/>
          <p:cNvPicPr/>
          <p:nvPr/>
        </p:nvPicPr>
        <p:blipFill>
          <a:blip r:embed="rId2"/>
          <a:stretch/>
        </p:blipFill>
        <p:spPr>
          <a:xfrm>
            <a:off x="2340000" y="1844640"/>
            <a:ext cx="410364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bovenkaak-binnenkant"/>
          <p:cNvPicPr/>
          <p:nvPr/>
        </p:nvPicPr>
        <p:blipFill>
          <a:blip r:embed="rId2"/>
          <a:stretch/>
        </p:blipFill>
        <p:spPr>
          <a:xfrm>
            <a:off x="2987640" y="1916280"/>
            <a:ext cx="468000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bovenkaak-buiten%20elektrisch"/>
          <p:cNvPicPr/>
          <p:nvPr/>
        </p:nvPicPr>
        <p:blipFill>
          <a:blip r:embed="rId2"/>
          <a:stretch/>
        </p:blipFill>
        <p:spPr>
          <a:xfrm>
            <a:off x="2916360" y="1773360"/>
            <a:ext cx="468144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bovenkaak-bovenop"/>
          <p:cNvPicPr/>
          <p:nvPr/>
        </p:nvPicPr>
        <p:blipFill>
          <a:blip r:embed="rId2"/>
          <a:stretch/>
        </p:blipFill>
        <p:spPr>
          <a:xfrm>
            <a:off x="2484360" y="1557360"/>
            <a:ext cx="44658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4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666666"/>
                </a:solidFill>
                <a:latin typeface="Lucida Sans Unicode"/>
              </a:rPr>
              <a:t>Interdentale reiniging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10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2527200" cy="4737240"/>
          </a:xfrm>
          <a:prstGeom prst="rect">
            <a:avLst/>
          </a:prstGeom>
          <a:ln w="0">
            <a:noFill/>
          </a:ln>
        </p:spPr>
      </p:pic>
      <p:pic>
        <p:nvPicPr>
          <p:cNvPr id="377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achte borst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leine borstelko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vang de tandenborstel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lke drie maanden of eer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666666"/>
                </a:solidFill>
                <a:latin typeface="Lucida Sans Unicode"/>
              </a:rPr>
              <a:t>Flossen</a:t>
            </a: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6" descr="Instructie11"/>
          <p:cNvPicPr/>
          <p:nvPr/>
        </p:nvPicPr>
        <p:blipFill>
          <a:blip r:embed="rId1"/>
          <a:stretch/>
        </p:blipFill>
        <p:spPr>
          <a:xfrm>
            <a:off x="1116000" y="620640"/>
            <a:ext cx="5256360" cy="3530520"/>
          </a:xfrm>
          <a:prstGeom prst="rect">
            <a:avLst/>
          </a:prstGeom>
          <a:ln w="0">
            <a:noFill/>
          </a:ln>
        </p:spPr>
      </p:pic>
      <p:pic>
        <p:nvPicPr>
          <p:cNvPr id="436" name="Rectangle 15" descr=""/>
          <p:cNvPicPr/>
          <p:nvPr/>
        </p:nvPicPr>
        <p:blipFill>
          <a:blip r:embed="rId2"/>
          <a:stretch/>
        </p:blipFill>
        <p:spPr>
          <a:xfrm>
            <a:off x="609480" y="4151160"/>
            <a:ext cx="82296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6" descr="instructie2-contactpunt"/>
          <p:cNvPicPr/>
          <p:nvPr/>
        </p:nvPicPr>
        <p:blipFill>
          <a:blip r:embed="rId1"/>
          <a:stretch/>
        </p:blipFill>
        <p:spPr>
          <a:xfrm>
            <a:off x="1979640" y="2205000"/>
            <a:ext cx="6191280" cy="4280040"/>
          </a:xfrm>
          <a:prstGeom prst="rect">
            <a:avLst/>
          </a:prstGeom>
          <a:ln w="0">
            <a:noFill/>
          </a:ln>
        </p:spPr>
      </p:pic>
      <p:pic>
        <p:nvPicPr>
          <p:cNvPr id="438" name="Rectangle 4" descr=""/>
          <p:cNvPicPr/>
          <p:nvPr/>
        </p:nvPicPr>
        <p:blipFill>
          <a:blip r:embed="rId2"/>
          <a:stretch/>
        </p:blipFill>
        <p:spPr>
          <a:xfrm>
            <a:off x="249120" y="262080"/>
            <a:ext cx="851076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4" descr=""/>
          <p:cNvPicPr/>
          <p:nvPr/>
        </p:nvPicPr>
        <p:blipFill>
          <a:blip r:embed="rId1"/>
          <a:stretch/>
        </p:blipFill>
        <p:spPr>
          <a:xfrm>
            <a:off x="324000" y="4218120"/>
            <a:ext cx="8137440" cy="19447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instructie3draad-om-kies"/>
          <p:cNvPicPr/>
          <p:nvPr/>
        </p:nvPicPr>
        <p:blipFill>
          <a:blip r:embed="rId2"/>
          <a:stretch/>
        </p:blipFill>
        <p:spPr>
          <a:xfrm>
            <a:off x="2771640" y="620640"/>
            <a:ext cx="431964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4" descr=""/>
          <p:cNvPicPr/>
          <p:nvPr/>
        </p:nvPicPr>
        <p:blipFill>
          <a:blip r:embed="rId1"/>
          <a:stretch/>
        </p:blipFill>
        <p:spPr>
          <a:xfrm>
            <a:off x="469800" y="4651200"/>
            <a:ext cx="8217000" cy="17193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6" descr="instructie4-aangrenzende-ki"/>
          <p:cNvPicPr/>
          <p:nvPr/>
        </p:nvPicPr>
        <p:blipFill>
          <a:blip r:embed="rId2"/>
          <a:stretch/>
        </p:blipFill>
        <p:spPr>
          <a:xfrm>
            <a:off x="1042920" y="1413000"/>
            <a:ext cx="4464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4" descr=""/>
          <p:cNvPicPr/>
          <p:nvPr/>
        </p:nvPicPr>
        <p:blipFill>
          <a:blip r:embed="rId1"/>
          <a:stretch/>
        </p:blipFill>
        <p:spPr>
          <a:xfrm>
            <a:off x="542880" y="506520"/>
            <a:ext cx="8229600" cy="16207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instructie5terugbrengen-dra"/>
          <p:cNvPicPr/>
          <p:nvPr/>
        </p:nvPicPr>
        <p:blipFill>
          <a:blip r:embed="rId2"/>
          <a:stretch/>
        </p:blipFill>
        <p:spPr>
          <a:xfrm>
            <a:off x="2484360" y="2421000"/>
            <a:ext cx="63356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4" descr=""/>
          <p:cNvPicPr/>
          <p:nvPr/>
        </p:nvPicPr>
        <p:blipFill>
          <a:blip r:embed="rId1"/>
          <a:stretch/>
        </p:blipFill>
        <p:spPr>
          <a:xfrm>
            <a:off x="-249120" y="476280"/>
            <a:ext cx="5033880" cy="54608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instructie6-nieuw-draad"/>
          <p:cNvPicPr/>
          <p:nvPr/>
        </p:nvPicPr>
        <p:blipFill>
          <a:blip r:embed="rId2"/>
          <a:stretch/>
        </p:blipFill>
        <p:spPr>
          <a:xfrm>
            <a:off x="4427640" y="1268280"/>
            <a:ext cx="41558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2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666666"/>
                </a:solidFill>
                <a:latin typeface="Lucida Sans Unicode"/>
              </a:rPr>
              <a:t>Tandenstoker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Van hou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Driehoekig van vorm me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een platte kant en loopt toe in een pu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Verkrijgbaar in verschillende dikt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Picture 8" descr="Tandenstokers"/>
          <p:cNvPicPr/>
          <p:nvPr/>
        </p:nvPicPr>
        <p:blipFill>
          <a:blip r:embed="rId1"/>
          <a:stretch/>
        </p:blipFill>
        <p:spPr>
          <a:xfrm>
            <a:off x="4859280" y="4005360"/>
            <a:ext cx="3673440" cy="2496960"/>
          </a:xfrm>
          <a:prstGeom prst="rect">
            <a:avLst/>
          </a:prstGeom>
          <a:ln w="0">
            <a:noFill/>
          </a:ln>
        </p:spPr>
      </p:pic>
      <p:pic>
        <p:nvPicPr>
          <p:cNvPr id="451" name="Rectangle 1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Lucida Sans Unicode"/>
              </a:rPr>
              <a:t>Ronde tandenstokers bestaan niet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Na gebruik gooi je de tandenstoker we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Bij dagelijks gebruik verdwijnt de ontsteking en stopt het bloede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Bloedend tandvlees kan ook het gevolg zijn van een verkeerde techniek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4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Lucida Sans Unicode"/>
              </a:rPr>
              <a:t>Handtandenborstel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627552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 de tandenstoker tussen duim en wijsvinger dicht bij de punt va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t de andere vingers steun je tegen de aangrenzende tanden of kiez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ak de punt van de tandenstoker vochtig met speeks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Picture 6" descr="Instructie1-tandenstokers"/>
          <p:cNvPicPr/>
          <p:nvPr/>
        </p:nvPicPr>
        <p:blipFill>
          <a:blip r:embed="rId1"/>
          <a:stretch/>
        </p:blipFill>
        <p:spPr>
          <a:xfrm>
            <a:off x="5580000" y="2276640"/>
            <a:ext cx="3278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6" descr="Instructie2-tandenstokers"/>
          <p:cNvPicPr/>
          <p:nvPr/>
        </p:nvPicPr>
        <p:blipFill>
          <a:blip r:embed="rId1"/>
          <a:stretch/>
        </p:blipFill>
        <p:spPr>
          <a:xfrm>
            <a:off x="324000" y="1700280"/>
            <a:ext cx="4537080" cy="315576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4788000" y="1412640"/>
            <a:ext cx="417672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laats de platte kant van de tandenstoker richting het tandvle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reng de tandenstoker tussen de tanden en de kiez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456840" y="836640"/>
            <a:ext cx="8002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kom prikken in het tandvle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laats de tandenstoker bij de bovenkaak schuin van boven naar beneden, bij de onderkaak schuin van onderen naar bov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8" name="Picture 6" descr="Instructie3-tandenstokers"/>
          <p:cNvPicPr/>
          <p:nvPr/>
        </p:nvPicPr>
        <p:blipFill>
          <a:blip r:embed="rId1"/>
          <a:stretch/>
        </p:blipFill>
        <p:spPr>
          <a:xfrm>
            <a:off x="2987640" y="3141720"/>
            <a:ext cx="5400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uw de tandenstoker drie keer stevig tussen de tanden en kiez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groot het raakvlak met de tand door daarbij van richting t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anderen (X-figuur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Picture 9" descr="Instructie5-tandenstokers"/>
          <p:cNvPicPr/>
          <p:nvPr/>
        </p:nvPicPr>
        <p:blipFill>
          <a:blip r:embed="rId1"/>
          <a:stretch/>
        </p:blipFill>
        <p:spPr>
          <a:xfrm>
            <a:off x="4643280" y="2276640"/>
            <a:ext cx="3630600" cy="41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luit uw mond iets als u de tandenstoker achter in de mond gebruik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2" name="Picture 6" descr="Instructie6-tandenstokers"/>
          <p:cNvPicPr/>
          <p:nvPr/>
        </p:nvPicPr>
        <p:blipFill>
          <a:blip r:embed="rId1"/>
          <a:stretch/>
        </p:blipFill>
        <p:spPr>
          <a:xfrm>
            <a:off x="1042920" y="620640"/>
            <a:ext cx="6481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666666"/>
                </a:solidFill>
                <a:latin typeface="Lucida Sans Unicode"/>
              </a:rPr>
              <a:t>Rager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3850920" y="4005000"/>
            <a:ext cx="504972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De rager volgt de vorm van de ki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6" name="Picture 5" descr="Ragers-volgt-vorm-kies"/>
          <p:cNvPicPr/>
          <p:nvPr/>
        </p:nvPicPr>
        <p:blipFill>
          <a:blip r:embed="rId1"/>
          <a:stretch/>
        </p:blipFill>
        <p:spPr>
          <a:xfrm>
            <a:off x="1042920" y="4437000"/>
            <a:ext cx="2881440" cy="12603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7" descr="Ragers-tekening"/>
          <p:cNvPicPr/>
          <p:nvPr/>
        </p:nvPicPr>
        <p:blipFill>
          <a:blip r:embed="rId2"/>
          <a:stretch/>
        </p:blipFill>
        <p:spPr>
          <a:xfrm>
            <a:off x="5219640" y="1197000"/>
            <a:ext cx="3529080" cy="197172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8"/>
          <p:cNvSpPr/>
          <p:nvPr/>
        </p:nvSpPr>
        <p:spPr>
          <a:xfrm>
            <a:off x="324000" y="620640"/>
            <a:ext cx="5049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Lucida Sans Unicode"/>
              </a:rPr>
              <a:t>Ragers zijn er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Verschillende soorten en dik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Lange spiraalborstel/ kort borstelt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Met of zonder handvat of hou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670716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ak de rager nat onder de kra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en tandpas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ussen duim en wijsving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naf de buitenkant inste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steunen tegen het buurel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kom doorschie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0" name="Picture 11" descr="http://www.ivorenkruis.nl/uploads/images/Instructie1-ragers.jpg"/>
          <p:cNvPicPr/>
          <p:nvPr/>
        </p:nvPicPr>
        <p:blipFill>
          <a:blip r:embed="rId1"/>
          <a:stretch/>
        </p:blipFill>
        <p:spPr>
          <a:xfrm>
            <a:off x="4356000" y="3429000"/>
            <a:ext cx="41054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erstan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talen draad mag niet schu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luit de mond bij het rageren van de achterste elemen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uig de rager een beetje 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Picture 4" descr="http://www.ivorenkruis.nl/uploads/images/Instructie2-ragers.jpg"/>
          <p:cNvPicPr/>
          <p:nvPr/>
        </p:nvPicPr>
        <p:blipFill>
          <a:blip r:embed="rId1"/>
          <a:stretch/>
        </p:blipFill>
        <p:spPr>
          <a:xfrm>
            <a:off x="2627280" y="2986200"/>
            <a:ext cx="568980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kom prikken in het tandvle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laats de rager bij de bovenkaak schuin van boven naar beneden, bij de onderkaak schuin van onderen naar bov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4" name="Picture 5" descr="http://www.ivorenkruis.nl/uploads/images/Instructie3-ragers.jpg"/>
          <p:cNvPicPr/>
          <p:nvPr/>
        </p:nvPicPr>
        <p:blipFill>
          <a:blip r:embed="rId1"/>
          <a:stretch/>
        </p:blipFill>
        <p:spPr>
          <a:xfrm>
            <a:off x="3059280" y="2637000"/>
            <a:ext cx="5113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vergang van tand en tandvle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k van 45 grad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t de borstel vast aan het eind van het handvat tussen uw duim en de toppen van uw vingers voor de juiste hoeveelheid dru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rizontale bewegi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2"/>
          <a:stretch/>
        </p:blipFill>
        <p:spPr>
          <a:xfrm>
            <a:off x="5292720" y="3716280"/>
            <a:ext cx="2649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eweeg de rager een paar keer heen en we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groot het raakvlak met de tand door daarbij van richting t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anderen (X-figuur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uiste ma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schillende mat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aast elka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onische rag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ermalig gebrui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6" name="Picture 4" descr="http://www.ivorenkruis.nl/uploads/images/Instructie4-ragers.jpg"/>
          <p:cNvPicPr/>
          <p:nvPr/>
        </p:nvPicPr>
        <p:blipFill>
          <a:blip r:embed="rId1"/>
          <a:stretch/>
        </p:blipFill>
        <p:spPr>
          <a:xfrm>
            <a:off x="4788000" y="2565360"/>
            <a:ext cx="32083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ttp://www.ivorenkruis.nl/Folders-lezen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Rectangle 4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hou-een-vast-volgorde-aan"/>
          <p:cNvPicPr/>
          <p:nvPr/>
        </p:nvPicPr>
        <p:blipFill>
          <a:blip r:embed="rId2"/>
          <a:stretch/>
        </p:blipFill>
        <p:spPr>
          <a:xfrm>
            <a:off x="2268360" y="1700280"/>
            <a:ext cx="460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Rectangle 7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"/>
          <p:cNvPicPr/>
          <p:nvPr/>
        </p:nvPicPr>
        <p:blipFill>
          <a:blip r:embed="rId2"/>
          <a:stretch/>
        </p:blipFill>
        <p:spPr>
          <a:xfrm>
            <a:off x="2556000" y="1916280"/>
            <a:ext cx="439236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instrcutie2-onderkaak-buite"/>
          <p:cNvPicPr/>
          <p:nvPr/>
        </p:nvPicPr>
        <p:blipFill>
          <a:blip r:embed="rId2"/>
          <a:stretch/>
        </p:blipFill>
        <p:spPr>
          <a:xfrm>
            <a:off x="2771640" y="1628640"/>
            <a:ext cx="44672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instrcutie3-onderkaak-boven"/>
          <p:cNvPicPr/>
          <p:nvPr/>
        </p:nvPicPr>
        <p:blipFill>
          <a:blip r:embed="rId2"/>
          <a:stretch/>
        </p:blipFill>
        <p:spPr>
          <a:xfrm>
            <a:off x="2556000" y="1557360"/>
            <a:ext cx="4537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9:08:39Z</dcterms:created>
  <dc:creator>Eigenaar</dc:creator>
  <dc:description/>
  <dc:language>en-US</dc:language>
  <cp:lastModifiedBy>Franke-van Kleef,G.</cp:lastModifiedBy>
  <dcterms:modified xsi:type="dcterms:W3CDTF">2013-02-03T11:01:11Z</dcterms:modified>
  <cp:revision>22</cp:revision>
  <dc:subject/>
  <dc:title>Piercings in de mond</dc:title>
</cp:coreProperties>
</file>